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-360" y="40035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0108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360" y="40035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01080" y="40035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970000" y="113364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0360" y="113364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-360" y="40035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970000" y="40035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0360" y="40035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113364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01080" y="113364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57360" y="585720"/>
            <a:ext cx="7772400" cy="35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01080" y="113364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-360" y="40035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-360" y="113364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0108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01080" y="40035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0108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-360" y="40035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-360" y="40035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0108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-360" y="40035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01080" y="40035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70000" y="113364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0360" y="113364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-360" y="40035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70000" y="40035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0360" y="40035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01080" y="113364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7360" y="585720"/>
            <a:ext cx="7772400" cy="35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1080" y="113364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-360" y="40035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108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01080" y="40035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0108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-360" y="40035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2560" y="114624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2560" y="114300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-360" y="113364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563680" y="66578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2C1F-BD69-475B-93CA-D3B64AC34E28}" type="slidenum"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234280" y="203040"/>
            <a:ext cx="69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74600" y="258840"/>
            <a:ext cx="833400" cy="4428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7799760" y="874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1120" y="3441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ime Domain Mixed Electromagnetic Circuit Simulation for CoSMoS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0720" y="120024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:Chuanyi Y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sor: Vikram Jandhy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coupling of circuit and EM equations in the tim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nlinear circuits and 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aptive mesh refin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edance and materi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ime domain vis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6240" y="5187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cident Field Coupling to Non-linear Circuit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1790280" y="3809520"/>
            <a:ext cx="266760" cy="104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867040" y="3305160"/>
            <a:ext cx="9360" cy="628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85840" y="1814400"/>
          <a:ext cx="470520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814400"/>
                    <a:ext cx="470520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848120" y="1623960"/>
            <a:ext cx="4038840" cy="2990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MCHW Simulation Resul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09520" y="1238400"/>
            <a:ext cx="3724200" cy="2647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99960" y="3848040"/>
            <a:ext cx="4438800" cy="2781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4809960" y="1181160"/>
            <a:ext cx="4124520" cy="2771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4826160" y="4057560"/>
            <a:ext cx="419400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7360" y="56664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mulation of Current Flow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0" y="3165480"/>
          <a:ext cx="8785080" cy="14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5480"/>
                    <a:ext cx="878508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219240" y="1166760"/>
            <a:ext cx="8619840" cy="66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1000" y="510840"/>
            <a:ext cx="874404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esent Status and Continuing Work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9920" y="1114560"/>
            <a:ext cx="7731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5960" y="119376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-Wave time domain EM simulation for ideal and lossy conductors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to mesher and adaptive refinemen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ling to circuits with restricted linear and non-linear elements / SPICE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ng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region materi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Newton-Raphson Loop for arbitrary non-linear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R-based fast time ste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ime Domain EM Formul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294920"/>
            <a:ext cx="9012240" cy="66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09520" y="1714680"/>
          <a:ext cx="4371840" cy="21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714680"/>
                    <a:ext cx="4371840" cy="21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019840" y="1162080"/>
                <a:ext cx="3832200" cy="34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</m:e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∓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∓</m:t>
                        </m:r>
                        <m:r>
                          <m:t xml:space="preserve">∇</m:t>
                        </m:r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∓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  <m:r>
                          <m:t xml:space="preserve">∇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∓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∓</m:t>
                        </m:r>
                        <m:r>
                          <m:t xml:space="preserve">∇</m:t>
                        </m:r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∓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  <m:r>
                          <m:t xml:space="preserve">∇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J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v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v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ε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e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v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μ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v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258588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33440" y="4194000"/>
                <a:ext cx="4886280" cy="246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e>
                        </m:d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sub>
                            </m:sSub>
                          </m:sup>
                        </m:sSup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e>
                        </m:d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sub>
                            </m:sSub>
                          </m:sup>
                        </m:sSup>
                      </m:e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∇</m:t>
                                </m:r>
                                <m:sSubSup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  <m:sup>
                                    <m:r>
                                      <m:t xml:space="preserve">e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r>
                                  <m:t xml:space="preserve">∇</m:t>
                                </m:r>
                                <m:sSubSup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  <m:sup>
                                    <m:r>
                                      <m:t xml:space="preserve">e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∇</m:t>
                                </m:r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∇</m:t>
                                </m:r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sub>
                            </m:sSub>
                          </m:sup>
                        </m:sSup>
                      </m:e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∇</m:t>
                                </m:r>
                                <m:sSubSup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r>
                                  <m:t xml:space="preserve">∇</m:t>
                                </m:r>
                                <m:sSubSup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∇</m:t>
                                </m:r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∇</m:t>
                                </m:r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sub>
                            </m:sSub>
                          </m:sup>
                        </m:sSup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4087800" y="6026040"/>
            <a:ext cx="3654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ontinuity of the tangential electric and magnetic fields at the dielectric interface is enforc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1480" y="156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irect Coupling Between EM and Circuit Sections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024360"/>
            <a:ext cx="9144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92080" y="2590560"/>
            <a:ext cx="1482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Open 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25560" y="2487240"/>
            <a:ext cx="1620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Closed 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76120" y="1295280"/>
          <a:ext cx="2009880" cy="15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1295280"/>
                    <a:ext cx="200988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838760" y="1236600"/>
          <a:ext cx="1859040" cy="15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38760" y="1236600"/>
                    <a:ext cx="185904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38862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9088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718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638440" y="2017800"/>
                <a:ext cx="14954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790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7229520" y="1292400"/>
                <a:ext cx="16477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42670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664000" y="1438200"/>
                <a:ext cx="13903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W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272360" y="2023920"/>
                <a:ext cx="15620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2" name=""/>
          <p:cNvGrpSpPr/>
          <p:nvPr/>
        </p:nvGrpSpPr>
        <p:grpSpPr>
          <a:xfrm>
            <a:off x="1066680" y="3100320"/>
            <a:ext cx="7495560" cy="3533040"/>
            <a:chOff x="1066680" y="3100320"/>
            <a:chExt cx="7495560" cy="3533040"/>
          </a:xfrm>
        </p:grpSpPr>
        <p:sp>
          <p:nvSpPr>
            <p:cNvPr id="113" name=""/>
            <p:cNvSpPr/>
            <p:nvPr/>
          </p:nvSpPr>
          <p:spPr>
            <a:xfrm>
              <a:off x="1066680" y="3107520"/>
              <a:ext cx="2992680" cy="22392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31360" y="3947040"/>
              <a:ext cx="2343240" cy="9986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nonboundary edg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68120" y="5358600"/>
              <a:ext cx="3382920" cy="306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74120" y="3106080"/>
              <a:ext cx="376920" cy="2252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52480" y="5666040"/>
              <a:ext cx="1117080" cy="892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63360" y="5886000"/>
              <a:ext cx="10162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3300480" y="4014360"/>
              <a:ext cx="185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Boundary ed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48080" y="5297400"/>
              <a:ext cx="21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Boundary ed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68120" y="5679000"/>
              <a:ext cx="3384360" cy="8802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31240" y="3100320"/>
              <a:ext cx="1131840" cy="25862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69480" y="5865480"/>
              <a:ext cx="199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onn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6200000">
              <a:off x="4071600" y="4020120"/>
              <a:ext cx="175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onn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5612760" y="4609080"/>
                  <a:ext cx="983160" cy="49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pSp>
          <p:nvGrpSpPr>
            <p:cNvPr id="126" name=""/>
            <p:cNvGrpSpPr/>
            <p:nvPr/>
          </p:nvGrpSpPr>
          <p:grpSpPr>
            <a:xfrm>
              <a:off x="6211080" y="3117600"/>
              <a:ext cx="665280" cy="3508560"/>
              <a:chOff x="6211080" y="3117600"/>
              <a:chExt cx="665280" cy="3508560"/>
            </a:xfrm>
          </p:grpSpPr>
          <p:sp>
            <p:nvSpPr>
              <p:cNvPr id="127" name=""/>
              <p:cNvSpPr/>
              <p:nvPr/>
            </p:nvSpPr>
            <p:spPr>
              <a:xfrm>
                <a:off x="6211080" y="5707800"/>
                <a:ext cx="665280" cy="8600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6200000">
                <a:off x="6025680" y="5888160"/>
                <a:ext cx="95760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ckt</a:t>
                </a:r>
                <a:br>
                  <a:rPr sz="1800"/>
                </a:b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unknow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211080" y="3117600"/>
                <a:ext cx="663480" cy="258624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6200000">
                <a:off x="6049440" y="4190400"/>
                <a:ext cx="9547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EM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know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7002720" y="4744440"/>
                  <a:ext cx="10922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32" name=""/>
            <p:cNvGrpSpPr/>
            <p:nvPr/>
          </p:nvGrpSpPr>
          <p:grpSpPr>
            <a:xfrm>
              <a:off x="7896960" y="3123720"/>
              <a:ext cx="665280" cy="3509640"/>
              <a:chOff x="7896960" y="3123720"/>
              <a:chExt cx="665280" cy="3509640"/>
            </a:xfrm>
          </p:grpSpPr>
          <p:sp>
            <p:nvSpPr>
              <p:cNvPr id="133" name=""/>
              <p:cNvSpPr/>
              <p:nvPr/>
            </p:nvSpPr>
            <p:spPr>
              <a:xfrm>
                <a:off x="7896960" y="5713560"/>
                <a:ext cx="665280" cy="8600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6200000">
                <a:off x="7730640" y="5879880"/>
                <a:ext cx="9576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Ckt</a:t>
                </a:r>
                <a:br>
                  <a:rPr sz="1800"/>
                </a:b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excitatio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96960" y="3123720"/>
                <a:ext cx="663480" cy="25855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6200000">
                <a:off x="7735320" y="4194720"/>
                <a:ext cx="9604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Field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Histo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" name=""/>
          <p:cNvSpPr/>
          <p:nvPr/>
        </p:nvSpPr>
        <p:spPr>
          <a:xfrm>
            <a:off x="523800" y="4905360"/>
            <a:ext cx="0" cy="3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72080" y="5857920"/>
            <a:ext cx="9720" cy="48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72080" y="5867280"/>
            <a:ext cx="0" cy="55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90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daptive Mesh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155760" y="199800"/>
            <a:ext cx="3570120" cy="24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8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00280" y="371520"/>
            <a:ext cx="914400" cy="6094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38840" y="1562040"/>
            <a:ext cx="2247840" cy="6285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81800" y="1733400"/>
            <a:ext cx="1562040" cy="524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1876320"/>
            <a:ext cx="1285920" cy="4762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53200" y="1447920"/>
            <a:ext cx="1000080" cy="419040"/>
          </a:xfrm>
          <a:prstGeom prst="flowChartProcess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81640" y="2428920"/>
            <a:ext cx="228600" cy="1713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15040" y="2523960"/>
            <a:ext cx="2457360" cy="543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76920" y="2219400"/>
            <a:ext cx="1962360" cy="495360"/>
          </a:xfrm>
          <a:prstGeom prst="flowChartProcess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48320" y="3105000"/>
            <a:ext cx="2448000" cy="524160"/>
          </a:xfrm>
          <a:prstGeom prst="flowChartProcess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14760" y="3867120"/>
            <a:ext cx="2048040" cy="628560"/>
          </a:xfrm>
          <a:prstGeom prst="flowChartDecisi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43880" y="3981600"/>
            <a:ext cx="1866600" cy="752400"/>
          </a:xfrm>
          <a:prstGeom prst="flowChartDecision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86760" y="5076720"/>
            <a:ext cx="895320" cy="381240"/>
          </a:xfrm>
          <a:prstGeom prst="rect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8600" y="4114800"/>
            <a:ext cx="1571760" cy="447840"/>
          </a:xfrm>
          <a:prstGeom prst="flowChartProcess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93920" y="1519200"/>
            <a:ext cx="1703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Initial M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44280" y="2338560"/>
            <a:ext cx="2518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Solve Coupl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65640" y="3205080"/>
            <a:ext cx="309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Generate Refinement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54320" y="4214880"/>
            <a:ext cx="1931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Converg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79040" y="5138640"/>
            <a:ext cx="1337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54360" y="4205160"/>
            <a:ext cx="1770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Refine M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77000" y="1857240"/>
            <a:ext cx="0" cy="3524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05800" y="2724120"/>
            <a:ext cx="0" cy="39060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77000" y="3619440"/>
            <a:ext cx="0" cy="37152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67640" y="4753080"/>
            <a:ext cx="0" cy="34272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219360" y="4352760"/>
            <a:ext cx="5050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438880" y="2486160"/>
            <a:ext cx="0" cy="16286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38880" y="2486160"/>
            <a:ext cx="12380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01960" y="4757760"/>
            <a:ext cx="1144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46480" y="4081320"/>
            <a:ext cx="107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006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81000" y="2452680"/>
            <a:ext cx="2781360" cy="819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80520" y="1896840"/>
            <a:ext cx="4659480" cy="3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</a:rPr>
              <a:t>Refinement Indicator for Individual Triangular 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7920" y="3392640"/>
            <a:ext cx="4402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</a:rPr>
              <a:t>Convergence Criteria Based on Circuit Unknow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8136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57360" y="4067280"/>
                <a:ext cx="267948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st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mple Meshing Exampl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360" y="5095440"/>
            <a:ext cx="1139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c0128"/>
                </a:solidFill>
                <a:latin typeface="Arial"/>
              </a:rPr>
              <a:t>Initial Me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46800" y="5171760"/>
            <a:ext cx="110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c0128"/>
                </a:solidFill>
                <a:latin typeface="Arial"/>
              </a:rPr>
              <a:t>Final Me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8600" y="2238480"/>
            <a:ext cx="4268880" cy="2950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11760" y="2152800"/>
            <a:ext cx="3830760" cy="280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95640" y="5611680"/>
            <a:ext cx="82206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ment indicator : Total current integrated over all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gence criterion : Circuit parameters of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2400" y="3142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imple Validation Example : Transmission Line versus Full-Wave Simulation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622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362240" y="3019320"/>
            <a:ext cx="5333760" cy="359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182520" y="1195560"/>
          <a:ext cx="6383520" cy="176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520" y="1195560"/>
                    <a:ext cx="6383520" cy="17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mplex Via Cross Talk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76440" y="2695320"/>
            <a:ext cx="361800" cy="2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714240" y="3038400"/>
            <a:ext cx="600120" cy="123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7360" y="2644920"/>
            <a:ext cx="409320" cy="88920"/>
          </a:xfrm>
          <a:prstGeom prst="rightArrow">
            <a:avLst>
              <a:gd name="adj1" fmla="val 50000"/>
              <a:gd name="adj2" fmla="val 1150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3320" y="3017880"/>
            <a:ext cx="581040" cy="135000"/>
          </a:xfrm>
          <a:prstGeom prst="rightArrow">
            <a:avLst>
              <a:gd name="adj1" fmla="val 50000"/>
              <a:gd name="adj2" fmla="val 1076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89120" y="5141880"/>
            <a:ext cx="5918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76440" y="2523960"/>
            <a:ext cx="295200" cy="200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76440" y="2552760"/>
            <a:ext cx="266400" cy="16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23960" y="3057480"/>
            <a:ext cx="504720" cy="85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85640" y="2505240"/>
            <a:ext cx="514440" cy="14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04880" y="3038400"/>
            <a:ext cx="495360" cy="11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52400" y="3381480"/>
            <a:ext cx="390600" cy="13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809880" y="3352680"/>
            <a:ext cx="57168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26640" bIns="-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459320" y="1636200"/>
            <a:ext cx="4316400" cy="42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8585280" y="1305000"/>
            <a:ext cx="55440" cy="1288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209520" y="1428840"/>
            <a:ext cx="4467240" cy="23907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181080" y="3800520"/>
            <a:ext cx="4495680" cy="2782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4676760" y="1257480"/>
            <a:ext cx="3962520" cy="26762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4686480" y="3914640"/>
            <a:ext cx="414324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finement Indicator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33200" y="1204920"/>
            <a:ext cx="3990960" cy="29941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165560" y="1743120"/>
            <a:ext cx="3264120" cy="244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803880" y="4325760"/>
            <a:ext cx="1996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 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66080" y="4316400"/>
            <a:ext cx="160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 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3040" y="5450040"/>
            <a:ext cx="7374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or : Time-integrated total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3320" y="48096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daptive Refinement and Convergenc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76440" y="4152960"/>
            <a:ext cx="4954320" cy="2705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04920" y="1352520"/>
            <a:ext cx="4822560" cy="2617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048280" y="1257480"/>
            <a:ext cx="3895560" cy="2485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057640" y="4761000"/>
            <a:ext cx="39340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itial Mesh 1000 patches, 1468 unknow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Final Mesh 3335 patches, 4970 unknow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24T21:48:39Z</dcterms:created>
  <dc:creator>Richard Shi</dc:creator>
  <dc:description/>
  <dc:language>en-US</dc:language>
  <cp:lastModifiedBy>EE/CSE</cp:lastModifiedBy>
  <cp:lastPrinted>2001-05-19T16:33:31Z</cp:lastPrinted>
  <dcterms:modified xsi:type="dcterms:W3CDTF">2002-12-09T19:04:06Z</dcterms:modified>
  <cp:revision>438</cp:revision>
  <dc:subject>DARPA NeoCAD Program Kickoff Presentation</dc:subject>
  <dc:title>CoSMoS Project Overview</dc:title>
</cp:coreProperties>
</file>