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5.png" ContentType="image/png"/>
  <Override PartName="/ppt/media/image10.png" ContentType="image/png"/>
  <Override PartName="/ppt/media/image30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309-5FD1-4D6E-AF79-944C79CE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B26-5FDB-4A7C-B42A-B75E00A4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007-2D84-4123-8ADA-BD6BFACD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B3C-5361-462E-B26B-7CCE1DF7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C9D-9DAA-4D4A-A4AF-F3ECBBC1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0F5-C26F-4B95-AB02-66331EDD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503-081C-4BF9-8E7F-9AF472A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F7F-2C96-487B-BB43-9E9AF50E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CB7-1DA7-4B06-87A7-F1BE9E96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A58-531B-45B3-AFBA-ABD9AC18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91C-A37E-4EBC-81C2-576B071A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0D7-B0C7-4585-A30C-F067682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8E4-779B-43F8-BD15-DF27FFAB1DF3}" type="datetime">
              <a:rPr b="1" i="1" lang="en-US" sz="1400" spc="-1" strike="noStrike">
                <a:solidFill>
                  <a:srgbClr val="333399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760" y="6476760"/>
            <a:ext cx="19047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505320" y="647676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8803-6337-49C9-8F30-7A27F06493C7}" type="slidenum">
              <a:rPr b="1" i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" y="914400"/>
            <a:ext cx="9132840" cy="74520"/>
          </a:xfrm>
          <a:prstGeom prst="rect">
            <a:avLst/>
          </a:prstGeom>
          <a:gradFill rotWithShape="0">
            <a:gsLst>
              <a:gs pos="0">
                <a:srgbClr val="760c04"/>
              </a:gs>
              <a:gs pos="50000">
                <a:srgbClr val="e71909"/>
              </a:gs>
              <a:gs pos="100000">
                <a:srgbClr val="760c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1160" y="990720"/>
            <a:ext cx="9132840" cy="3816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50000">
                <a:srgbClr val="0000b6"/>
              </a:gs>
              <a:gs pos="100000">
                <a:srgbClr val="0000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64F5-1E59-4AA6-A7CB-9E8CB6B0BBFC}" type="datetime">
              <a:rPr b="1" i="1" lang="en-US" sz="1400" spc="-1" strike="noStrike">
                <a:solidFill>
                  <a:srgbClr val="333399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57720" y="311472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2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1.wmf"/><Relationship Id="rId2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2.png"/><Relationship Id="rId13" Type="http://schemas.openxmlformats.org/officeDocument/2006/relationships/image" Target="../media/image12.png"/><Relationship Id="rId14" Type="http://schemas.openxmlformats.org/officeDocument/2006/relationships/image" Target="../media/image2.png"/><Relationship Id="rId15" Type="http://schemas.openxmlformats.org/officeDocument/2006/relationships/image" Target="../media/image12.png"/><Relationship Id="rId16" Type="http://schemas.openxmlformats.org/officeDocument/2006/relationships/image" Target="../media/image2.png"/><Relationship Id="rId17" Type="http://schemas.openxmlformats.org/officeDocument/2006/relationships/image" Target="../media/image12.png"/><Relationship Id="rId18" Type="http://schemas.openxmlformats.org/officeDocument/2006/relationships/image" Target="../media/image2.png"/><Relationship Id="rId19" Type="http://schemas.openxmlformats.org/officeDocument/2006/relationships/image" Target="../media/image12.png"/><Relationship Id="rId20" Type="http://schemas.openxmlformats.org/officeDocument/2006/relationships/image" Target="../media/image2.png"/><Relationship Id="rId21" Type="http://schemas.openxmlformats.org/officeDocument/2006/relationships/image" Target="../media/image12.png"/><Relationship Id="rId22" Type="http://schemas.openxmlformats.org/officeDocument/2006/relationships/image" Target="../media/image2.png"/><Relationship Id="rId23" Type="http://schemas.openxmlformats.org/officeDocument/2006/relationships/image" Target="../media/image12.png"/><Relationship Id="rId24" Type="http://schemas.openxmlformats.org/officeDocument/2006/relationships/image" Target="../media/image2.png"/><Relationship Id="rId25" Type="http://schemas.openxmlformats.org/officeDocument/2006/relationships/image" Target="../media/image12.png"/><Relationship Id="rId26" Type="http://schemas.openxmlformats.org/officeDocument/2006/relationships/image" Target="../media/image2.png"/><Relationship Id="rId27" Type="http://schemas.openxmlformats.org/officeDocument/2006/relationships/image" Target="../media/image12.png"/><Relationship Id="rId28" Type="http://schemas.openxmlformats.org/officeDocument/2006/relationships/image" Target="../media/image2.png"/><Relationship Id="rId29" Type="http://schemas.openxmlformats.org/officeDocument/2006/relationships/image" Target="../media/image12.png"/><Relationship Id="rId30" Type="http://schemas.openxmlformats.org/officeDocument/2006/relationships/image" Target="../media/image2.png"/><Relationship Id="rId31" Type="http://schemas.openxmlformats.org/officeDocument/2006/relationships/image" Target="../media/image12.png"/><Relationship Id="rId32" Type="http://schemas.openxmlformats.org/officeDocument/2006/relationships/image" Target="../media/image2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610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ARASITIC-AWARE DESIGN AND OPTIMIZATION FOR CMOS ULTRA-WIDEBAND AMPLIFIER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Garamond"/>
              </a:rPr>
              <a:t>Jinho Park and Prof. David Allsto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Garamond"/>
              </a:rPr>
              <a:t>Electrical Engineering / University of Washingt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Garamond"/>
              </a:rPr>
              <a:t>Supported by DARPA/NEOC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D9D407-6113-4388-9BC5-3EE79EAB9F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ahoma"/>
              </a:rPr>
              <a:t>Structure of Parasitic-Aware 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Tahoma"/>
              </a:rPr>
              <a:t>Synthesis and Optimiz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68280" y="2000160"/>
          <a:ext cx="1959120" cy="13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8280" y="2000160"/>
                    <a:ext cx="195912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268280" y="4284720"/>
          <a:ext cx="1989360" cy="13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68280" y="4284720"/>
                    <a:ext cx="19893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762520" y="2008080"/>
          <a:ext cx="1951200" cy="130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62520" y="2008080"/>
                    <a:ext cx="195120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459240" y="1163520"/>
            <a:ext cx="2111400" cy="768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Optimization Co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(particle swarm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3459240" y="3390840"/>
            <a:ext cx="2111400" cy="768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Circuit Simul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(HSpice / Spectr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3459240" y="5656320"/>
            <a:ext cx="2111400" cy="768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Parasitic Mode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800680" y="4273560"/>
          <a:ext cx="1990800" cy="133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00680" y="4273560"/>
                    <a:ext cx="19908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90640" y="1508040"/>
          <a:ext cx="768600" cy="57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90640" y="1508040"/>
                    <a:ext cx="7686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708280" y="3236760"/>
          <a:ext cx="749160" cy="62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08280" y="3236760"/>
                    <a:ext cx="74916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612880" y="3774960"/>
          <a:ext cx="768600" cy="574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12880" y="3774960"/>
                    <a:ext cx="7686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728800" y="5541840"/>
          <a:ext cx="749520" cy="628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28800" y="5541840"/>
                    <a:ext cx="7495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51560" y="5541840"/>
          <a:ext cx="749160" cy="574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51560" y="5541840"/>
                    <a:ext cx="749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532480" y="1432080"/>
          <a:ext cx="749160" cy="628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32480" y="1432080"/>
                    <a:ext cx="749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532480" y="3697200"/>
          <a:ext cx="749160" cy="628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32480" y="3697200"/>
                    <a:ext cx="749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532480" y="3236760"/>
          <a:ext cx="749160" cy="574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532480" y="3236760"/>
                    <a:ext cx="749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656640" y="4273560"/>
            <a:ext cx="2569320" cy="1305000"/>
            <a:chOff x="656640" y="4273560"/>
            <a:chExt cx="2569320" cy="1305000"/>
          </a:xfrm>
        </p:grpSpPr>
        <p:sp>
          <p:nvSpPr>
            <p:cNvPr id="171" name=""/>
            <p:cNvSpPr/>
            <p:nvPr/>
          </p:nvSpPr>
          <p:spPr>
            <a:xfrm>
              <a:off x="1268280" y="4273560"/>
              <a:ext cx="195768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6640" y="4465800"/>
              <a:ext cx="1055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Parasiti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18120" y="2008080"/>
            <a:ext cx="2609280" cy="1305000"/>
            <a:chOff x="618120" y="2008080"/>
            <a:chExt cx="2609280" cy="1305000"/>
          </a:xfrm>
        </p:grpSpPr>
        <p:sp>
          <p:nvSpPr>
            <p:cNvPr id="174" name=""/>
            <p:cNvSpPr/>
            <p:nvPr/>
          </p:nvSpPr>
          <p:spPr>
            <a:xfrm>
              <a:off x="1270080" y="2008080"/>
              <a:ext cx="195732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8120" y="2084400"/>
              <a:ext cx="1131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00680" y="4273560"/>
            <a:ext cx="2786760" cy="1305000"/>
            <a:chOff x="5800680" y="4273560"/>
            <a:chExt cx="2786760" cy="1305000"/>
          </a:xfrm>
        </p:grpSpPr>
        <p:sp>
          <p:nvSpPr>
            <p:cNvPr id="177" name=""/>
            <p:cNvSpPr/>
            <p:nvPr/>
          </p:nvSpPr>
          <p:spPr>
            <a:xfrm>
              <a:off x="5800680" y="4273560"/>
              <a:ext cx="195732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31920" y="4427640"/>
              <a:ext cx="1055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Parasiti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762520" y="2008080"/>
            <a:ext cx="2976480" cy="1305000"/>
            <a:chOff x="5762520" y="2008080"/>
            <a:chExt cx="2976480" cy="1305000"/>
          </a:xfrm>
        </p:grpSpPr>
        <p:sp>
          <p:nvSpPr>
            <p:cNvPr id="180" name=""/>
            <p:cNvSpPr/>
            <p:nvPr/>
          </p:nvSpPr>
          <p:spPr>
            <a:xfrm>
              <a:off x="5762520" y="2008080"/>
              <a:ext cx="195732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4480" y="2084400"/>
              <a:ext cx="1244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348680" y="655308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inductor mod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905640" y="4467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CoSMO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3881520" y="4389480"/>
            <a:ext cx="1228680" cy="5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56080" y="408132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78C-3CA0-492B-8670-907943D1712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C4015-E4C0-488D-BADF-6FAD318483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48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Parasitic Inductor Mode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37749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What do we need? – S-parameter data for each ind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(1) Measurement data – Min, Mid,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Used for calibration of EM simul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(2) EM simulator – calibration and interp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(3) SPICE inductor model (freq. and induct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urve fitting (polyf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.g. Rs =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f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f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f +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3 = 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*L+b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85960" y="1085760"/>
            <a:ext cx="7361280" cy="2649600"/>
            <a:chOff x="885960" y="1085760"/>
            <a:chExt cx="7361280" cy="2649600"/>
          </a:xfrm>
        </p:grpSpPr>
        <p:graphicFrame>
          <p:nvGraphicFramePr>
            <p:cNvPr id="189" name=""/>
            <p:cNvGraphicFramePr/>
            <p:nvPr/>
          </p:nvGraphicFramePr>
          <p:xfrm>
            <a:off x="885960" y="1106280"/>
            <a:ext cx="3217680" cy="2629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85960" y="1106280"/>
                      <a:ext cx="3217680" cy="26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5126040" y="1085760"/>
            <a:ext cx="3121200" cy="262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26040" y="1085760"/>
                      <a:ext cx="3121200" cy="26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4322880" y="216036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2288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347960" y="65530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circuit simulat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466-088D-4B0D-92A6-FF6DD096ADA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65854-FDB4-481C-9AEB-FE49496DB6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Particle Swar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spired by a social behavior of a swarm of bees searching for the location of f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change </a:t>
            </a:r>
            <a:r>
              <a:rPr b="0" lang="ko-KR" sz="2800" spc="-1" strike="noStrike">
                <a:solidFill>
                  <a:srgbClr val="ff3300"/>
                </a:solidFill>
                <a:latin typeface="Tahoma"/>
              </a:rPr>
              <a:t>individual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ko-KR" sz="2800" spc="-1" strike="noStrike">
                <a:solidFill>
                  <a:srgbClr val="ff3300"/>
                </a:solidFill>
                <a:latin typeface="Tahoma"/>
              </a:rPr>
              <a:t>grou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formation to find the optimum (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</a:rPr>
              <a:t>Cooperation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Work on a population of potential solution candidates called </a:t>
            </a:r>
            <a:r>
              <a:rPr b="0" i="1" lang="ko-KR" sz="2800" spc="-1" strike="noStrike">
                <a:solidFill>
                  <a:srgbClr val="ff3300"/>
                </a:solidFill>
                <a:latin typeface="Tahoma"/>
              </a:rPr>
              <a:t>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Inherently parallel process (use of pop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Well-balanced between global / local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Very </a:t>
            </a:r>
            <a:r>
              <a:rPr b="0" lang="ko-KR" sz="2400" spc="-1" strike="noStrike">
                <a:solidFill>
                  <a:srgbClr val="ff3300"/>
                </a:solidFill>
                <a:latin typeface="Tahoma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Very </a:t>
            </a:r>
            <a:r>
              <a:rPr b="0" lang="ko-KR" sz="2800" spc="-1" strike="noStrike">
                <a:solidFill>
                  <a:srgbClr val="ff3300"/>
                </a:solidFill>
                <a:latin typeface="Tahoma"/>
              </a:rPr>
              <a:t>Simp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and Easy to be implemented as optimization core for parasitic-aware synthesis and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8CB-5417-442D-89E5-E87A2C9192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FE24D-8A05-4F2C-9710-42F1C6FC13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Swarming Equ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531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Motion of searching agents (Particles) by keeping track of individual and group experience (Competition and Co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inertia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040" y="2900520"/>
                <a:ext cx="8874360" cy="25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 flipH="1" flipV="1" rot="16200000">
            <a:off x="2459880" y="3542400"/>
            <a:ext cx="190440" cy="1114200"/>
          </a:xfrm>
          <a:custGeom>
            <a:avLst/>
            <a:gdLst>
              <a:gd name="textAreaLeft" fmla="*/ 121320 w 190440"/>
              <a:gd name="textAreaRight" fmla="*/ 190440 w 19044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 rot="16200000">
            <a:off x="6243480" y="144972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 rot="5400000">
            <a:off x="5206680" y="298728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8026200" y="6553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be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0AD-D808-4887-AEE4-A2005329389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019D9-6E63-4C94-B2FD-6B841720E5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5440320" y="3313080"/>
            <a:ext cx="614520" cy="46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4863960" y="3005280"/>
            <a:ext cx="1306800" cy="107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4211640" y="2583000"/>
            <a:ext cx="2112840" cy="16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2122560"/>
            <a:ext cx="3419280" cy="249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316160"/>
            <a:ext cx="5068800" cy="368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327560" y="1238400"/>
            <a:ext cx="2855880" cy="5070240"/>
          </a:xfrm>
          <a:custGeom>
            <a:avLst/>
            <a:gdLst/>
            <a:ahLst/>
            <a:rect l="l" t="t" r="r" b="b"/>
            <a:pathLst>
              <a:path w="1799" h="3194">
                <a:moveTo>
                  <a:pt x="1355" y="0"/>
                </a:moveTo>
                <a:cubicBezTo>
                  <a:pt x="1577" y="520"/>
                  <a:pt x="1799" y="1041"/>
                  <a:pt x="1573" y="1573"/>
                </a:cubicBezTo>
                <a:cubicBezTo>
                  <a:pt x="1347" y="2105"/>
                  <a:pt x="673" y="2649"/>
                  <a:pt x="0" y="3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6300720" y="1123920"/>
            <a:ext cx="1382760" cy="5300640"/>
          </a:xfrm>
          <a:custGeom>
            <a:avLst/>
            <a:gdLst/>
            <a:ahLst/>
            <a:rect l="l" t="t" r="r" b="b"/>
            <a:pathLst>
              <a:path w="871" h="3339">
                <a:moveTo>
                  <a:pt x="871" y="0"/>
                </a:moveTo>
                <a:cubicBezTo>
                  <a:pt x="871" y="617"/>
                  <a:pt x="871" y="1234"/>
                  <a:pt x="726" y="1791"/>
                </a:cubicBezTo>
                <a:cubicBezTo>
                  <a:pt x="581" y="2348"/>
                  <a:pt x="290" y="2843"/>
                  <a:pt x="0" y="33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7989840" y="1355760"/>
            <a:ext cx="858960" cy="4954680"/>
          </a:xfrm>
          <a:custGeom>
            <a:avLst/>
            <a:gdLst/>
            <a:ahLst/>
            <a:rect l="l" t="t" r="r" b="b"/>
            <a:pathLst>
              <a:path w="541" h="3121">
                <a:moveTo>
                  <a:pt x="541" y="0"/>
                </a:moveTo>
                <a:cubicBezTo>
                  <a:pt x="351" y="574"/>
                  <a:pt x="162" y="1149"/>
                  <a:pt x="81" y="1669"/>
                </a:cubicBezTo>
                <a:cubicBezTo>
                  <a:pt x="0" y="2189"/>
                  <a:pt x="28" y="2655"/>
                  <a:pt x="57" y="31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149720" y="170028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 flipH="1">
            <a:off x="2266560" y="431172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 rot="936000">
            <a:off x="7299360" y="135540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 rot="20509200">
            <a:off x="7413480" y="4735080"/>
            <a:ext cx="895320" cy="873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70040" y="1163520"/>
            <a:ext cx="0" cy="5337360"/>
          </a:xfrm>
          <a:prstGeom prst="line">
            <a:avLst/>
          </a:prstGeom>
          <a:ln w="28440">
            <a:solidFill>
              <a:srgbClr val="99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6424560"/>
            <a:ext cx="8294760" cy="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0000" y="1163520"/>
            <a:ext cx="2535120" cy="962280"/>
            <a:chOff x="270000" y="1163520"/>
            <a:chExt cx="2535120" cy="962280"/>
          </a:xfrm>
        </p:grpSpPr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1960560" y="1585800"/>
                  <a:ext cx="84456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270000" y="1163520"/>
              <a:ext cx="1766880" cy="9471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Arial"/>
                </a:rPr>
                <a:t>Random 1)position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073320" y="5003640"/>
            <a:ext cx="1268640" cy="114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342960" y="2430360"/>
            <a:ext cx="88092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492600" y="1777680"/>
            <a:ext cx="841320" cy="152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531120" y="5462640"/>
            <a:ext cx="1033200" cy="385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4073400" y="1547640"/>
            <a:ext cx="1036800" cy="1151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5386320" y="2976480"/>
            <a:ext cx="760320" cy="7603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271080" y="2038320"/>
            <a:ext cx="2535480" cy="550800"/>
            <a:chOff x="271080" y="2038320"/>
            <a:chExt cx="2535480" cy="550800"/>
          </a:xfrm>
        </p:grpSpPr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1960560" y="2046240"/>
                  <a:ext cx="8460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271080" y="203832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Arial"/>
                </a:rPr>
                <a:t>2)velocity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B88-87C0-4989-8B47-690D44FD113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37231-5551-4D59-AB80-CEDCAE9677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296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Update of Position &amp; Velocit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5440320" y="3313080"/>
            <a:ext cx="614520" cy="46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863960" y="3005280"/>
            <a:ext cx="1306800" cy="107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583000"/>
            <a:ext cx="2112840" cy="16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2122560"/>
            <a:ext cx="3419280" cy="249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316160"/>
            <a:ext cx="5068800" cy="368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4327560" y="1238400"/>
            <a:ext cx="2855880" cy="5070240"/>
          </a:xfrm>
          <a:custGeom>
            <a:avLst/>
            <a:gdLst/>
            <a:ahLst/>
            <a:rect l="l" t="t" r="r" b="b"/>
            <a:pathLst>
              <a:path w="1799" h="3194">
                <a:moveTo>
                  <a:pt x="1355" y="0"/>
                </a:moveTo>
                <a:cubicBezTo>
                  <a:pt x="1577" y="520"/>
                  <a:pt x="1799" y="1041"/>
                  <a:pt x="1573" y="1573"/>
                </a:cubicBezTo>
                <a:cubicBezTo>
                  <a:pt x="1347" y="2105"/>
                  <a:pt x="673" y="2649"/>
                  <a:pt x="0" y="3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1123920"/>
            <a:ext cx="1382760" cy="5300640"/>
          </a:xfrm>
          <a:custGeom>
            <a:avLst/>
            <a:gdLst/>
            <a:ahLst/>
            <a:rect l="l" t="t" r="r" b="b"/>
            <a:pathLst>
              <a:path w="871" h="3339">
                <a:moveTo>
                  <a:pt x="871" y="0"/>
                </a:moveTo>
                <a:cubicBezTo>
                  <a:pt x="871" y="617"/>
                  <a:pt x="871" y="1234"/>
                  <a:pt x="726" y="1791"/>
                </a:cubicBezTo>
                <a:cubicBezTo>
                  <a:pt x="581" y="2348"/>
                  <a:pt x="290" y="2843"/>
                  <a:pt x="0" y="33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7989840" y="1355760"/>
            <a:ext cx="858960" cy="4954680"/>
          </a:xfrm>
          <a:custGeom>
            <a:avLst/>
            <a:gdLst/>
            <a:ahLst/>
            <a:rect l="l" t="t" r="r" b="b"/>
            <a:pathLst>
              <a:path w="541" h="3121">
                <a:moveTo>
                  <a:pt x="541" y="0"/>
                </a:moveTo>
                <a:cubicBezTo>
                  <a:pt x="351" y="574"/>
                  <a:pt x="162" y="1149"/>
                  <a:pt x="81" y="1669"/>
                </a:cubicBezTo>
                <a:cubicBezTo>
                  <a:pt x="0" y="2189"/>
                  <a:pt x="28" y="2655"/>
                  <a:pt x="57" y="31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149720" y="170028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 flipH="1">
            <a:off x="2266560" y="431172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rot="936000">
            <a:off x="7299360" y="135540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 rot="20509200">
            <a:off x="7413480" y="4735080"/>
            <a:ext cx="895320" cy="873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70040" y="1163520"/>
            <a:ext cx="0" cy="5337360"/>
          </a:xfrm>
          <a:prstGeom prst="line">
            <a:avLst/>
          </a:prstGeom>
          <a:ln w="28440">
            <a:solidFill>
              <a:srgbClr val="99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6424560"/>
            <a:ext cx="8294760" cy="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461880" y="1085760"/>
            <a:ext cx="1997280" cy="520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Vector su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3073320" y="5003640"/>
            <a:ext cx="1268640" cy="114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42960" y="2430360"/>
            <a:ext cx="88092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492600" y="1777680"/>
            <a:ext cx="841320" cy="152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531120" y="5462640"/>
            <a:ext cx="1033200" cy="385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4073400" y="1547640"/>
            <a:ext cx="1036800" cy="1151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073320" y="3928680"/>
            <a:ext cx="654120" cy="99684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7068600" y="4927680"/>
            <a:ext cx="498600" cy="496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568920" y="2122560"/>
            <a:ext cx="844560" cy="115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189240" y="4159080"/>
            <a:ext cx="1420920" cy="804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453000" y="5271840"/>
            <a:ext cx="998280" cy="190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992560" y="2044800"/>
            <a:ext cx="134460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0" y="1608120"/>
                <a:ext cx="33051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5378400" y="2968560"/>
            <a:ext cx="758880" cy="758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85960" y="6194520"/>
            <a:ext cx="8064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85960" y="5349600"/>
            <a:ext cx="0" cy="84276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1640880" y="59641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nerti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196200" y="47736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tendenc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toward the b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471-1A9D-4DAC-BFD2-5C5E0A1AAC5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DD205-C1FF-4070-B462-1FED4FBFF1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74 0.01505 L 0.20313 -0.11389 E">
                                      <p:cBhvr>
                                        <p:cTn id="13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-0.16232 -0.0301 E">
                                      <p:cBhvr>
                                        <p:cTn id="141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9259E-006 L -0.20017 -0.00764 E">
                                      <p:cBhvr>
                                        <p:cTn id="14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-0.11771 0.0169 E">
                                      <p:cBhvr>
                                        <p:cTn id="14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7.40741E-007 C -0.10729 0.02083 -0.19461 0.0419 -0.19114 0.08403 C -0.1875 0.12593 -0.09288 0.18889 0.00209 0.25208 E">
                                      <p:cBhvr>
                                        <p:cTn id="14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270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SA       </a:t>
            </a: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 Particle Swar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hysical process of annea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Old, well stud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Ag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itial point depend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pe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Known to be S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hance to trap in loc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robable in complex tas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aralleliz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ocial behavior of b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w, need to be stud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Ag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itial point depend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pe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Known to be Fa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hance to trap in loc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aralleliz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herently parallel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165240"/>
            <a:ext cx="0" cy="637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910200" y="6553080"/>
            <a:ext cx="22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Apply to MA and D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A6C-27DC-4BE5-8C17-C6B1BF9E29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0E8D0-4779-4BD0-A1EE-6768E8D039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Which technique is bette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Two different parasitic-aware 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imulated Annealing – Conventional optimizatio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article Swarm – New optimizatio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Will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Tahoma"/>
              </a:rPr>
              <a:t>Particle Swarm</a:t>
            </a: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fit parasitic-aware synthe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576440" y="381312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DA (11 variable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5992920" y="3774960"/>
            <a:ext cx="21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MA (16 variable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4610160" y="3929040"/>
            <a:ext cx="0" cy="24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47760" y="4214880"/>
          <a:ext cx="4038480" cy="21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7760" y="4214880"/>
                    <a:ext cx="40384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879800" y="4159080"/>
          <a:ext cx="4038840" cy="264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9800" y="4159080"/>
                    <a:ext cx="403884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7348320" y="655308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design targ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404-188D-4778-A0D4-EAAEC080A8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31C99-7D72-4B0D-8749-27BE372C8D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omparison Resul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08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omparable initial performance for both DA and 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erformance difference increases as the constraints become tighter and the total iterations incr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A performs very poor in complex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article swarm is 1) </a:t>
            </a:r>
            <a:r>
              <a:rPr b="0" lang="ko-KR" sz="2000" spc="-1" strike="noStrike">
                <a:solidFill>
                  <a:srgbClr val="ff3300"/>
                </a:solidFill>
                <a:latin typeface="Tahoma"/>
              </a:rPr>
              <a:t>faster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and more 2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ko-KR" sz="2000" spc="-1" strike="noStrike">
                <a:solidFill>
                  <a:srgbClr val="ff3300"/>
                </a:solidFill>
                <a:latin typeface="Tahoma"/>
              </a:rPr>
              <a:t>effici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-112680" y="3083040"/>
            <a:ext cx="9372600" cy="3495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533840" y="2928960"/>
            <a:ext cx="0" cy="353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7349760" y="65530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MA resul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61880" y="5925960"/>
            <a:ext cx="368784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186520" y="5118120"/>
            <a:ext cx="368748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073320" y="4849920"/>
            <a:ext cx="1497240" cy="580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33ff"/>
                </a:solidFill>
                <a:latin typeface="Arial"/>
              </a:rPr>
              <a:t>Acceptable Solution li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649680" y="5425920"/>
            <a:ext cx="231840" cy="5000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56080" y="5118120"/>
            <a:ext cx="692280" cy="115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B5C-C579-468D-89BC-D8F5130718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C7A16-ECD0-4BBD-9AFC-3021902A54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Optimization Results (MA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-7920" y="1854360"/>
          <a:ext cx="4848120" cy="40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920" y="1854360"/>
                    <a:ext cx="4848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572000" y="1895400"/>
          <a:ext cx="4800600" cy="403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895400"/>
                    <a:ext cx="4800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348680" y="655308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how to optim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140560" y="1623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341040" y="16621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Phase shif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91D-34E1-4A34-ABE5-E75B1F273BD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B3673-8B0A-4B3B-9E94-342E644CDB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1996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Birth of “Parasitic-Aware” Design and Optimization (Dr. David Allstot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design and optimization of CMOS RF ICs by Dr. Ravi Gupta and Dr. Allstot (RFIC symposium / MTT-s / JSSC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1999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CMOS distributed amplifier design using CAD optimization techniques by Ballweber and Dr. Allstot (ISSCC / JSSC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A 0.5-8.5GHz fully-differential CMOS RF distributed amplifier by Dr. Ahn and Dr. Allstot (SSMSD / JSSC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synthesis of RF CMOS switching power amplifiers by Kiyong and Dr. Allstot (ISCAS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design and optimization of CMOS wideband amplifiers by Jinho Park and Dr. Allstot (ASP-DA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optimization of CMOS RF circuits by Jinho Park, Kiyong, and Dr. Allstot (Kluwer Academic Publishers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8C2-6797-4922-9BF4-384A6C65C2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8B5EE-1240-4481-9A7C-2E68648FEF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How to optimiz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gain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in is not added up in phase due to addition of parasitic capacitance (no valid phase synchroniz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istance attenuates the signal propag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ed capacitance / re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design is impossible because of non-linear behavior between parasi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ing using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ain phase synchronization by finding proper values of inductance, capac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350120" y="655308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Final desig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4CD-20FD-4C4E-B0E1-DC1B5A3FB8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23EB5-029F-4CC9-8354-F56395D382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748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Final Design Results 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881520" y="1633680"/>
          <a:ext cx="5607000" cy="42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1520" y="1633680"/>
                    <a:ext cx="560700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9600" y="1671480"/>
          <a:ext cx="3708360" cy="4133880"/>
        </p:xfrm>
        <a:graphic>
          <a:graphicData uri="http://schemas.openxmlformats.org/drawingml/2006/table">
            <a:tbl>
              <a:tblPr/>
              <a:tblGrid>
                <a:gridCol w="1536840"/>
                <a:gridCol w="1085760"/>
                <a:gridCol w="10857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fore opti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ter opti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Gain (S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in flatness (S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d. deviation (S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S11 in pass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S12 in pass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S22 in pass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toff frequency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y-gain freq.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614600" y="2162160"/>
            <a:ext cx="2151000" cy="92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1576440" y="4888080"/>
            <a:ext cx="2151000" cy="920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9D9-7368-4555-8A48-6F45DF63C8B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181AA-9C74-4052-B9C1-9CFAB8B2BB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Tahoma"/>
              </a:rPr>
              <a:t>CMOS matrix amplifier</a:t>
            </a: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achieved very high gain with wide bandwid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~20dB, flat gain over 12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Tahoma"/>
              </a:rPr>
              <a:t>New parasitic-aware synthesis and optimization</a:t>
            </a: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with particle swarm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Very fast / 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Parallel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EFD-450A-4D53-B397-C6A4A7E01A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47AD2-855F-4566-B780-8A1E225BAF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664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an we use CMOS for RF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1085760"/>
          <a:ext cx="8218440" cy="3495240"/>
        </p:xfrm>
        <a:graphic>
          <a:graphicData uri="http://schemas.openxmlformats.org/drawingml/2006/table">
            <a:tbl>
              <a:tblPr/>
              <a:tblGrid>
                <a:gridCol w="2738520"/>
                <a:gridCol w="2741760"/>
                <a:gridCol w="2738160"/>
              </a:tblGrid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-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GHz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0.13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μ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d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eakdown vol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w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s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mi-insul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ly doped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s of pass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~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~12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100M de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.50 per cm</a:t>
                      </a:r>
                      <a:r>
                        <a:rPr b="1" lang="ko-KR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0.25 per cm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09600" y="4773600"/>
            <a:ext cx="8834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Si-CMOS performance limited by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</a:rPr>
              <a:t>active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</a:rPr>
              <a:t>passive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devic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Very low cost / high integration = system-on-chi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946920" y="655308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active improve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572000" y="1585800"/>
            <a:ext cx="192240" cy="690840"/>
            <a:chOff x="4572000" y="1585800"/>
            <a:chExt cx="192240" cy="690840"/>
          </a:xfrm>
        </p:grpSpPr>
        <p:sp>
          <p:nvSpPr>
            <p:cNvPr id="92" name=""/>
            <p:cNvSpPr/>
            <p:nvPr/>
          </p:nvSpPr>
          <p:spPr>
            <a:xfrm>
              <a:off x="4572000" y="158580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204624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33840" y="2506680"/>
            <a:ext cx="192240" cy="23004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0" y="24"/>
                </a:moveTo>
                <a:lnTo>
                  <a:pt x="24" y="145"/>
                </a:lnTo>
                <a:lnTo>
                  <a:pt x="12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2968560"/>
            <a:ext cx="192240" cy="23040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0" y="24"/>
                </a:moveTo>
                <a:lnTo>
                  <a:pt x="24" y="145"/>
                </a:lnTo>
                <a:lnTo>
                  <a:pt x="12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5378400" y="3429000"/>
            <a:ext cx="192240" cy="23004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0" y="24"/>
                </a:moveTo>
                <a:lnTo>
                  <a:pt x="24" y="145"/>
                </a:lnTo>
                <a:lnTo>
                  <a:pt x="12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951680" y="3851280"/>
            <a:ext cx="192240" cy="652320"/>
            <a:chOff x="7951680" y="3851280"/>
            <a:chExt cx="192240" cy="652320"/>
          </a:xfrm>
        </p:grpSpPr>
        <p:sp>
          <p:nvSpPr>
            <p:cNvPr id="98" name=""/>
            <p:cNvSpPr/>
            <p:nvPr/>
          </p:nvSpPr>
          <p:spPr>
            <a:xfrm>
              <a:off x="7951680" y="385128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1680" y="427356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CC9-8E6D-4F91-A3C9-C09543E1801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C31C3-943F-4F0D-81BC-BF053A90F9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MOS DA Example</a:t>
            </a:r>
            <a:r>
              <a:rPr b="0" lang="ko-KR" sz="4400" spc="-1" strike="noStrike" baseline="30000">
                <a:solidFill>
                  <a:srgbClr val="000000"/>
                </a:solidFill>
                <a:latin typeface="Tahoma"/>
              </a:rPr>
              <a:t>[1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92320" y="1300320"/>
          <a:ext cx="6476760" cy="46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2320" y="1300320"/>
                    <a:ext cx="6476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7200" y="5943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[1] B. Kleveland, et al., “Monolithic CMOS distributed amplifier and oscillator”, </a:t>
            </a:r>
            <a:r>
              <a:rPr b="0" i="1" lang="ko-KR" sz="1400" spc="-1" strike="noStrike">
                <a:solidFill>
                  <a:srgbClr val="333399"/>
                </a:solidFill>
                <a:latin typeface="Tahoma"/>
              </a:rPr>
              <a:t>ISSCC99.</a:t>
            </a: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036880" y="1892160"/>
            <a:ext cx="3956040" cy="3303720"/>
          </a:xfrm>
          <a:custGeom>
            <a:avLst/>
            <a:gdLst/>
            <a:ahLst/>
            <a:rect l="l" t="t" r="r" b="b"/>
            <a:pathLst>
              <a:path w="2492" h="2081">
                <a:moveTo>
                  <a:pt x="0" y="0"/>
                </a:moveTo>
                <a:lnTo>
                  <a:pt x="1452" y="0"/>
                </a:lnTo>
                <a:lnTo>
                  <a:pt x="2492" y="2081"/>
                </a:lnTo>
              </a:path>
            </a:pathLst>
          </a:custGeom>
          <a:noFill/>
          <a:ln w="76320">
            <a:solidFill>
              <a:srgbClr val="ff006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42F-1939-4D79-B439-4E2BA76A229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F53EA-8FA4-4C49-B65A-780AE03256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MOS DA Example</a:t>
            </a:r>
            <a:r>
              <a:rPr b="0" lang="ko-KR" sz="4400" spc="-1" strike="noStrike" baseline="30000">
                <a:solidFill>
                  <a:srgbClr val="000000"/>
                </a:solidFill>
                <a:latin typeface="Tahoma"/>
              </a:rPr>
              <a:t>[2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32240" y="1085760"/>
            <a:ext cx="6611760" cy="4667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594360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[2] B.M. Ballweber, R. Gupta, and D.J. Allstot, “A fully integrated 0.5-5.5GHz CMOS distributed amplifier,” </a:t>
            </a:r>
            <a:r>
              <a:rPr b="0" i="1" lang="ko-KR" sz="1400" spc="-1" strike="noStrike">
                <a:solidFill>
                  <a:srgbClr val="333399"/>
                </a:solidFill>
                <a:latin typeface="Tahoma"/>
              </a:rPr>
              <a:t>ISSCC99</a:t>
            </a: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5920" y="2238480"/>
          <a:ext cx="264924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2238480"/>
                    <a:ext cx="26492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93680" y="2084400"/>
            <a:ext cx="2995560" cy="2611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50720" y="2238480"/>
            <a:ext cx="1497240" cy="218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7440" y="1930320"/>
            <a:ext cx="403236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10680" y="167940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Parasitic-laden Induct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EB2-382E-4522-BC32-C13420DFD9B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B1A31-5281-40C3-91C6-0DF35DCF32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MOS DA Example</a:t>
            </a:r>
            <a:r>
              <a:rPr b="0" lang="ko-KR" sz="4400" spc="-1" strike="noStrike" baseline="30000">
                <a:solidFill>
                  <a:srgbClr val="000000"/>
                </a:solidFill>
                <a:latin typeface="Tahoma"/>
              </a:rPr>
              <a:t>[2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1047600"/>
            <a:ext cx="3935520" cy="581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5065560" y="1184400"/>
          <a:ext cx="3462480" cy="26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5560" y="1184400"/>
                    <a:ext cx="346248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111480" y="1163520"/>
            <a:ext cx="130644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42354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114560" y="2122560"/>
            <a:ext cx="1306440" cy="806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114560" y="4927680"/>
            <a:ext cx="1306440" cy="806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56120" y="4119480"/>
          <a:ext cx="3643200" cy="26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6120" y="4119480"/>
                    <a:ext cx="3643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151080" y="44658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4610160" y="1009800"/>
            <a:ext cx="0" cy="549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119160" y="304452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 flipH="1" rot="10800000">
            <a:off x="4647960" y="296820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293-9603-4AB2-99C6-54AED9F4777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9D6A4-9056-46C5-99BF-0A8B4BB3A4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Advantages of CM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ow cost / High integration / Sc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oor performance due to parasi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Tahoma"/>
              </a:rPr>
              <a:t>Solved by parasitic-aware design based on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9933ff"/>
                </a:solidFill>
                <a:latin typeface="Tahoma"/>
              </a:rPr>
              <a:t>Proble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DA using parasitic-aware based on 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ow gain of distributed amplifie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ahoma"/>
              </a:rPr>
              <a:t>CMOS High Gain wideband</a:t>
            </a:r>
            <a:r>
              <a:rPr b="0" i="1" lang="ko-KR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ko-KR" sz="2400" spc="-1" strike="noStrike">
                <a:solidFill>
                  <a:srgbClr val="ff0000"/>
                </a:solidFill>
                <a:latin typeface="Tahoma"/>
              </a:rPr>
              <a:t>Matrix Ampl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ong optimization time (a day with 9 design variables on HP712/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ahoma"/>
              </a:rPr>
              <a:t>A New Parasitic-Aware Optimization Technique based on fast </a:t>
            </a:r>
            <a:r>
              <a:rPr b="1" i="1" lang="ko-KR" sz="2400" spc="-1" strike="noStrike">
                <a:solidFill>
                  <a:srgbClr val="ff0000"/>
                </a:solidFill>
                <a:latin typeface="Tahoma"/>
              </a:rPr>
              <a:t>Particle Swa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60E-D187-4DFE-8478-6F9DE1E975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937CD-7B11-4F29-8598-C6791DD84B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Matrix Amplifi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of 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ve gain (need many s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associated with delay line (Metal resistance + gate / drain resist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um number of sections 4~5 (&lt;10dB S2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Addi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Multiplica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stacking more than one delay lines (2-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is K times bigger in dB than DA with smaller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dela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12880" y="3889440"/>
                <a:ext cx="40323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≃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180200" y="655308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DA/MA summa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844-9403-402D-9D37-6F9CDC8FC0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C1296-DD0E-4E98-A25D-B64BF01CC0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Schematic (2X4 Matrix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pec: S21 ~20dB BW &gt;12GHz in 0.25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 C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Used maximum # of sections: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aximize BW and minimize rip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as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inimize capacitive coupling between delay lines (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Tahoma"/>
              </a:rPr>
              <a:t>gain flatness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mprove reverse iso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Compensate for loss by increasing 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-derived half s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ffering between delay lines and termination resistors (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Tahoma"/>
              </a:rPr>
              <a:t>gain flatness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76480" y="3711600"/>
          <a:ext cx="4800600" cy="31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6480" y="3711600"/>
                    <a:ext cx="480060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422440" y="4657680"/>
            <a:ext cx="4262400" cy="57636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6786000" y="458136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delay l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7348320" y="655308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phase linear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A4C-F60F-40DA-B64B-7F442F118B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0693E-DAAB-4EB4-A5CE-B4792544D7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7:28:41Z</dcterms:created>
  <dc:creator>IBM Admin</dc:creator>
  <dc:description/>
  <dc:language>en-US</dc:language>
  <cp:lastModifiedBy>Jinho Park</cp:lastModifiedBy>
  <dcterms:modified xsi:type="dcterms:W3CDTF">2002-12-09T23:09:11Z</dcterms:modified>
  <cp:revision>735</cp:revision>
  <dc:subject/>
  <dc:title>Slide 1</dc:title>
</cp:coreProperties>
</file>