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EF3-E973-47F2-BD08-2247D98E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15F-FA5E-4560-AEE8-DEF7A59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F11-AC1A-45CF-A412-1877C3DB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81D-9308-4368-A6DA-651A1723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864-BA4D-4519-9134-F4BFE550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FA3-7A10-4EAD-B807-67EB62BC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097-BF57-4B42-8329-724CE4A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E51-F564-424D-BBBA-7735E360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E4C5-1EA1-4701-A35E-3126223C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DA3A-769D-42AC-A200-24F6A79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5F44-8CE5-46B3-A480-0674AF8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62B-6067-4242-A9BB-5BFB6EF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6E8F-C5C1-45F4-B1A8-BFE16F0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5451-EF97-49E5-9B11-1A25C0B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22DC-8515-40B3-8143-2C0BB8A6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FFD-3F71-45C1-B2FD-D48D0E29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B4EC-9566-4FF7-87E5-A90D7BB5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28-2C6C-4292-B7EF-EA3E6021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364-E6E6-47E9-AD9B-256F229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F69-9392-4DE0-9F6F-D2E2378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8AD-4A21-4A5D-B0E4-BE4CEEE7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323-0177-4E64-9DF5-167737A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E48-CCDF-40BA-94FB-B26B722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272-B5F3-4C35-BD31-6F708FD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Dec. 10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6EB-C790-4548-B541-F7448E8E4796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1480" cy="4510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1006-2511-4110-9D37-992D13BF56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2133720"/>
            <a:ext cx="7086600" cy="3657600"/>
          </a:xfrm>
          <a:prstGeom prst="rect">
            <a:avLst/>
          </a:prstGeom>
          <a:gradFill rotWithShape="0">
            <a:gsLst>
              <a:gs pos="0">
                <a:srgbClr val="436870"/>
              </a:gs>
              <a:gs pos="50000">
                <a:srgbClr val="93e2f5"/>
              </a:gs>
              <a:gs pos="100000">
                <a:srgbClr val="4368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Mos Solver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514600"/>
            <a:ext cx="5943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Guoyong Shi (L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hao Li, Bo Hu, Bo Wan, Lili Z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Mixed Signal CAD Research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Electrical Engineering De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University of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20E-0F53-4D64-A1BE-4D6FDB73B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e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2133720"/>
          <a:ext cx="4343400" cy="371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434340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603-CFFF-4725-8CAB-F5C81A57B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514600"/>
          <a:ext cx="7010280" cy="286704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Order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2306f8"/>
                          </a:solidFill>
                          <a:latin typeface="Tahoma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19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5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1240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6f8"/>
                </a:solidFill>
                <a:latin typeface="Tahoma"/>
              </a:rPr>
              <a:t>Sparse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56272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der circuits, matrices are tridiag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in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4F9-D217-4CE1-B30B-AF2AF122F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38480" y="3124080"/>
            <a:ext cx="1600200" cy="2362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3880" y="3124080"/>
            <a:ext cx="5640480" cy="2362320"/>
            <a:chOff x="1523880" y="3124080"/>
            <a:chExt cx="5640480" cy="2362320"/>
          </a:xfrm>
        </p:grpSpPr>
        <p:grpSp>
          <p:nvGrpSpPr>
            <p:cNvPr id="139" name=""/>
            <p:cNvGrpSpPr/>
            <p:nvPr/>
          </p:nvGrpSpPr>
          <p:grpSpPr>
            <a:xfrm>
              <a:off x="1527120" y="3125880"/>
              <a:ext cx="5634000" cy="2358360"/>
              <a:chOff x="1527120" y="3125880"/>
              <a:chExt cx="5634000" cy="23583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527120" y="3125880"/>
                <a:ext cx="1004760" cy="471600"/>
                <a:chOff x="1527120" y="3125880"/>
                <a:chExt cx="1004760" cy="471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595520" y="3125880"/>
                  <a:ext cx="8683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27120" y="3125880"/>
                  <a:ext cx="10047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531880" y="3125880"/>
                <a:ext cx="1543320" cy="471600"/>
                <a:chOff x="2531880" y="3125880"/>
                <a:chExt cx="1543320" cy="471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60028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rder+Factor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31880" y="3125880"/>
                  <a:ext cx="1543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075200" y="3125880"/>
                <a:ext cx="1542960" cy="471600"/>
                <a:chOff x="4075200" y="3125880"/>
                <a:chExt cx="1542960" cy="4716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14324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archPivot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7520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618160" y="3125880"/>
                <a:ext cx="1542960" cy="471600"/>
                <a:chOff x="5618160" y="3125880"/>
                <a:chExt cx="1542960" cy="471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68620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imimation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1816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527120" y="3597480"/>
                <a:ext cx="1004760" cy="377280"/>
                <a:chOff x="1527120" y="3597480"/>
                <a:chExt cx="1004760" cy="377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95520" y="35974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527120" y="35974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531880" y="3597480"/>
                <a:ext cx="1543320" cy="377280"/>
                <a:chOff x="2531880" y="3597480"/>
                <a:chExt cx="1543320" cy="377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60028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6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531880" y="35974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075200" y="3597480"/>
                <a:ext cx="1542960" cy="377280"/>
                <a:chOff x="4075200" y="3597480"/>
                <a:chExt cx="1542960" cy="377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14324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3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7520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618160" y="3597480"/>
                <a:ext cx="1542960" cy="377280"/>
                <a:chOff x="5618160" y="3597480"/>
                <a:chExt cx="1542960" cy="377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68620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61816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527120" y="3974760"/>
                <a:ext cx="1004760" cy="377280"/>
                <a:chOff x="1527120" y="3974760"/>
                <a:chExt cx="1004760" cy="377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595520" y="39747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527120" y="39747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531880" y="3974760"/>
                <a:ext cx="1543320" cy="377280"/>
                <a:chOff x="2531880" y="3974760"/>
                <a:chExt cx="1543320" cy="377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60028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31880" y="39747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75200" y="3974760"/>
                <a:ext cx="1542960" cy="377280"/>
                <a:chOff x="4075200" y="3974760"/>
                <a:chExt cx="1542960" cy="377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14324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0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520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18160" y="3974760"/>
                <a:ext cx="1542960" cy="377280"/>
                <a:chOff x="5618160" y="3974760"/>
                <a:chExt cx="1542960" cy="377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68620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61816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27120" y="4352040"/>
                <a:ext cx="1004760" cy="377280"/>
                <a:chOff x="1527120" y="4352040"/>
                <a:chExt cx="1004760" cy="377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95520" y="435204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27120" y="435204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31880" y="4352040"/>
                <a:ext cx="1543320" cy="377280"/>
                <a:chOff x="2531880" y="4352040"/>
                <a:chExt cx="1543320" cy="3772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0028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1.3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31880" y="435204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075200" y="4352040"/>
                <a:ext cx="1542960" cy="377280"/>
                <a:chOff x="4075200" y="4352040"/>
                <a:chExt cx="1542960" cy="377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14324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0.3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07520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18160" y="4352040"/>
                <a:ext cx="1542960" cy="377280"/>
                <a:chOff x="5618160" y="4352040"/>
                <a:chExt cx="1542960" cy="377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68620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1816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27120" y="4729680"/>
                <a:ext cx="1004760" cy="377280"/>
                <a:chOff x="1527120" y="4729680"/>
                <a:chExt cx="1004760" cy="377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95520" y="47296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27120" y="47296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531880" y="4729680"/>
                <a:ext cx="1543320" cy="377280"/>
                <a:chOff x="2531880" y="4729680"/>
                <a:chExt cx="1543320" cy="37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60028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8.6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31880" y="47296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075200" y="4729680"/>
                <a:ext cx="1542960" cy="377280"/>
                <a:chOff x="4075200" y="4729680"/>
                <a:chExt cx="1542960" cy="377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14324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7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7520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618160" y="4729680"/>
                <a:ext cx="1542960" cy="377280"/>
                <a:chOff x="5618160" y="4729680"/>
                <a:chExt cx="1542960" cy="377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68620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61816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27120" y="5106960"/>
                <a:ext cx="1004760" cy="377280"/>
                <a:chOff x="1527120" y="5106960"/>
                <a:chExt cx="1004760" cy="377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595520" y="51069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527120" y="51069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531880" y="5106960"/>
                <a:ext cx="1543320" cy="377280"/>
                <a:chOff x="2531880" y="5106960"/>
                <a:chExt cx="1543320" cy="377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0028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2.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31880" y="51069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075200" y="5106960"/>
                <a:ext cx="1542960" cy="377280"/>
                <a:chOff x="4075200" y="5106960"/>
                <a:chExt cx="1542960" cy="377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14324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9.2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07520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618160" y="5106960"/>
                <a:ext cx="1542960" cy="377280"/>
                <a:chOff x="5618160" y="5106960"/>
                <a:chExt cx="1542960" cy="377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68620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3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1816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1523880" y="3124080"/>
              <a:ext cx="5640480" cy="2362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plit of Order+Factor (Sparse 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5DC-B1CA-43DE-B60F-9CEB6BEC19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- searching piv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98880" y="3011400"/>
          <a:ext cx="4419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3011400"/>
                    <a:ext cx="4419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621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parse 1.3 – Not efficient in searching a p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diagonal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adratic growt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791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x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048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7A5-774E-4D87-B753-3ABF368B0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LU - Preord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286000"/>
            <a:ext cx="6781680" cy="212832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que:  </a:t>
            </a:r>
            <a:r>
              <a:rPr b="1" lang="en-US" sz="2400" spc="-1" strike="noStrike">
                <a:solidFill>
                  <a:srgbClr val="9c009c"/>
                </a:solidFill>
                <a:latin typeface="Tahoma"/>
              </a:rPr>
              <a:t>Column Eliminat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better in most cases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uld be incorporated in Sparse 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* Column ordering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s 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ey issu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n the speed of direct sol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A5B-35CD-4900-AA8E-457857C20A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51460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03848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Potential solvers for EM and coupled EM/C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796-E805-475C-99C8-0622E1DB3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E Solver - DAS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2860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AS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 develop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Linda R. Petz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983, widely us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9AD-4135-4110-BE2B-6186C6B0B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2286000"/>
            <a:ext cx="6629400" cy="3505320"/>
          </a:xfrm>
          <a:prstGeom prst="rect">
            <a:avLst/>
          </a:prstGeom>
          <a:gradFill rotWithShape="0">
            <a:gsLst>
              <a:gs pos="0">
                <a:srgbClr val="00976f"/>
              </a:gs>
              <a:gs pos="50000">
                <a:srgbClr val="00e4a8"/>
              </a:gs>
              <a:gs pos="100000">
                <a:srgbClr val="0097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ation of Solv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89548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irec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Iterativ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A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EM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127-4637-4E27-A92F-20114EFCA6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 solvers and CKT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71800" y="2684520"/>
                <a:ext cx="1981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914400" y="2057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matrix with CKT and EM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114800"/>
            <a:ext cx="7239240" cy="138168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M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Iterative, precondition, sparse/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KT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rect (LU), more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5627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54100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bd20"/>
                </a:solidFill>
                <a:latin typeface="Tahoma"/>
              </a:rPr>
              <a:t>Need an integrated solver to solve the whole system efficientl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FEE-431E-4A8A-90AB-EE12657747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28600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36232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to speedup Sparse 1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chniques in SuperLU are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E solvers and iterative solvers ar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with EM solvers i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 prototype design for inte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F2A-4FB9-4966-B0EC-DF52E321E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057400"/>
            <a:ext cx="7315200" cy="31240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b38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ear and Nonlinear Solve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 CoSM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334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on of public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ovative nonlinear/time-domain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09680"/>
            <a:ext cx="7010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ECHNICAL OBJECTIV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inear Solver:  speed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lver integration: circuit and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timized nonlinear/time-domain for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ccuracy (wide dynamic ranges: deriva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E3D-4E7B-4807-B84B-DCBB272E6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dule on Linear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057400"/>
            <a:ext cx="70866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Quarter (Jan – Mar,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up Sparse 1.3 (pivoting efficienc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orporate some features of SuperLU in Sp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inish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direct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6 months (-- June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 of Iterative solvers, DAE solvers, and EM s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integrated CKT/EM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year (-- Dec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, debug, enhanced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C9B-200A-4514-A605-314BE7A9B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1189080"/>
            <a:ext cx="684828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nalysi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73248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f. 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z2000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57240" y="531720"/>
            <a:ext cx="7162920" cy="662040"/>
            <a:chOff x="957240" y="531720"/>
            <a:chExt cx="7162920" cy="662040"/>
          </a:xfrm>
        </p:grpSpPr>
        <p:sp>
          <p:nvSpPr>
            <p:cNvPr id="247" name=""/>
            <p:cNvSpPr/>
            <p:nvPr/>
          </p:nvSpPr>
          <p:spPr>
            <a:xfrm>
              <a:off x="957240" y="531720"/>
              <a:ext cx="7162920" cy="66204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57240" y="652320"/>
              <a:ext cx="7162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Arial"/>
                </a:rPr>
                <a:t>CoSMoS Time-Domain Nonlinear Sol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289-3F2F-4B30-8331-34ADDBBB4D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73357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2174400"/>
            <a:ext cx="8119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Time-domain simulation is essential for the final verification of System-On-Chip (SOC) designs. Numerical integration is typically implemented in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methods are applied to achieve a balance between # of actual simulation points and accuracy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LU factorization and MNA matrix load are needed for each simula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Fixed-time-step methods are applied to reduce the LU factorization and MNA matrix load cost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A relatively small time step is required to ensure accurac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E10-1266-4BA3-844A-60912531F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br>
              <a:rPr sz="3600"/>
            </a:b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– Our 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3800" y="2335320"/>
            <a:ext cx="736416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Keep using variable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troduce a new semi-implicit integration formula to exploit the benefit of fixed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pply an iterative linear solver to ensure simulation stability and achieve more relax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BE9-816A-488D-BF2F-ABA7A2385F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717480"/>
            <a:ext cx="6962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emi-Implicit Trapezoid Formul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85800" y="5105520"/>
                <a:ext cx="4013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0240" y="4678200"/>
            <a:ext cx="407880" cy="546120"/>
          </a:xfrm>
          <a:custGeom>
            <a:avLst/>
            <a:gdLst/>
            <a:ahLst/>
            <a:rect l="l" t="t" r="r" b="b"/>
            <a:pathLst>
              <a:path w="1139" h="1523">
                <a:moveTo>
                  <a:pt x="283" y="0"/>
                </a:moveTo>
                <a:lnTo>
                  <a:pt x="283" y="1141"/>
                </a:lnTo>
                <a:lnTo>
                  <a:pt x="0" y="1141"/>
                </a:lnTo>
                <a:lnTo>
                  <a:pt x="568" y="1522"/>
                </a:lnTo>
                <a:lnTo>
                  <a:pt x="1138" y="1141"/>
                </a:lnTo>
                <a:lnTo>
                  <a:pt x="854" y="1141"/>
                </a:lnTo>
                <a:lnTo>
                  <a:pt x="854" y="0"/>
                </a:lnTo>
                <a:lnTo>
                  <a:pt x="283" y="0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3948120"/>
                <a:ext cx="3009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29200" y="4190760"/>
            <a:ext cx="384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rapezoid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165280"/>
            <a:ext cx="3914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formula for variable-time-step integration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is the variable-time-step factor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2361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666880" y="5562720"/>
            <a:ext cx="2438640" cy="12952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6095520"/>
            <a:ext cx="144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LU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252-D6A6-4A48-90A0-A64807BB6B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3040" y="950400"/>
            <a:ext cx="73900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Direct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7200" y="2209680"/>
            <a:ext cx="8318520" cy="1600200"/>
            <a:chOff x="457200" y="2209680"/>
            <a:chExt cx="8318520" cy="1600200"/>
          </a:xfrm>
        </p:grpSpPr>
        <p:sp>
          <p:nvSpPr>
            <p:cNvPr id="276" name=""/>
            <p:cNvSpPr/>
            <p:nvPr/>
          </p:nvSpPr>
          <p:spPr>
            <a:xfrm>
              <a:off x="457200" y="2209680"/>
              <a:ext cx="8318520" cy="160020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" y="2209680"/>
              <a:ext cx="8318520" cy="13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ensure simulation stability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must be less than 1 in the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satisfy the LTE requirement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should be close t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can only be varied between 0.9 and 1.05, the relaxed SPICE can achieve this to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749840" cy="2289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733920" cy="293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82A-90C9-4832-8C13-428E123B7B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659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Iterative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3276720"/>
            <a:ext cx="8318520" cy="3014640"/>
            <a:chOff x="457200" y="3276720"/>
            <a:chExt cx="8318520" cy="3014640"/>
          </a:xfrm>
        </p:grpSpPr>
        <p:sp>
          <p:nvSpPr>
            <p:cNvPr id="289" name=""/>
            <p:cNvSpPr/>
            <p:nvPr/>
          </p:nvSpPr>
          <p:spPr>
            <a:xfrm>
              <a:off x="457200" y="3276720"/>
              <a:ext cx="8318520" cy="30146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276720"/>
              <a:ext cx="831852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The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Semi-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is used as an initial guess for an iterative solver to find a final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Stability and accuracy are ensured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can be varied more widely </a:t>
              </a:r>
              <a:r>
                <a:rPr b="1" lang="en-GB" sz="2400" spc="-1" strike="noStrike">
                  <a:solidFill>
                    <a:srgbClr val="fc0128"/>
                  </a:solidFill>
                  <a:latin typeface="Arial"/>
                </a:rPr>
                <a:t>(between 0.667 and 2)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more relaxation is achie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2133720"/>
                <a:ext cx="58183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2CD-9516-47F3-8A18-38C5D07CCC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2680" y="717480"/>
            <a:ext cx="71614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Linear Circuit Analysis Exam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2133720"/>
            <a:ext cx="8683560" cy="1852560"/>
            <a:chOff x="304920" y="2133720"/>
            <a:chExt cx="8683560" cy="1852560"/>
          </a:xfrm>
        </p:grpSpPr>
        <p:sp>
          <p:nvSpPr>
            <p:cNvPr id="301" name=""/>
            <p:cNvSpPr/>
            <p:nvPr/>
          </p:nvSpPr>
          <p:spPr>
            <a:xfrm>
              <a:off x="304920" y="2133720"/>
              <a:ext cx="868356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133720"/>
              <a:ext cx="868356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 stiff circuit example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itial time step 0.01 sec, simulation interval 160 sec, 16001 simulation points are needed for fixed-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3679920" cy="1981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3505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092-F86B-415F-89FD-72912D8CE8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65556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CoSMoS Linear Time-Domain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" y="5410080"/>
            <a:ext cx="8318520" cy="990720"/>
            <a:chOff x="457200" y="5410080"/>
            <a:chExt cx="8318520" cy="990720"/>
          </a:xfrm>
        </p:grpSpPr>
        <p:sp>
          <p:nvSpPr>
            <p:cNvPr id="315" name=""/>
            <p:cNvSpPr/>
            <p:nvPr/>
          </p:nvSpPr>
          <p:spPr>
            <a:xfrm>
              <a:off x="457200" y="5410080"/>
              <a:ext cx="8318520" cy="99072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5410080"/>
              <a:ext cx="83185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lthough more iterations are introduced for linear circuit solving, its overhead may be decreased when combined with nonlinear circuit sol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04920" y="1981080"/>
            <a:ext cx="8606880" cy="3276360"/>
            <a:chOff x="304920" y="1981080"/>
            <a:chExt cx="8606880" cy="3276360"/>
          </a:xfrm>
        </p:grpSpPr>
        <p:grpSp>
          <p:nvGrpSpPr>
            <p:cNvPr id="318" name=""/>
            <p:cNvGrpSpPr/>
            <p:nvPr/>
          </p:nvGrpSpPr>
          <p:grpSpPr>
            <a:xfrm>
              <a:off x="7010280" y="4640760"/>
              <a:ext cx="1895040" cy="606240"/>
              <a:chOff x="7010280" y="4640760"/>
              <a:chExt cx="1895040" cy="606240"/>
            </a:xfrm>
          </p:grpSpPr>
          <p:sp>
            <p:nvSpPr>
              <p:cNvPr id="319" name=""/>
              <p:cNvSpPr/>
              <p:nvPr/>
            </p:nvSpPr>
            <p:spPr>
              <a:xfrm>
                <a:off x="7010280" y="464076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0280" y="464076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3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216760" y="4640760"/>
              <a:ext cx="1787760" cy="606240"/>
              <a:chOff x="5216760" y="4640760"/>
              <a:chExt cx="1787760" cy="606240"/>
            </a:xfrm>
          </p:grpSpPr>
          <p:sp>
            <p:nvSpPr>
              <p:cNvPr id="322" name=""/>
              <p:cNvSpPr/>
              <p:nvPr/>
            </p:nvSpPr>
            <p:spPr>
              <a:xfrm>
                <a:off x="5216760" y="464076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16760" y="464076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15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006360" y="4640760"/>
              <a:ext cx="2204280" cy="606240"/>
              <a:chOff x="3006360" y="4640760"/>
              <a:chExt cx="2204280" cy="606240"/>
            </a:xfrm>
          </p:grpSpPr>
          <p:sp>
            <p:nvSpPr>
              <p:cNvPr id="325" name=""/>
              <p:cNvSpPr/>
              <p:nvPr/>
            </p:nvSpPr>
            <p:spPr>
              <a:xfrm>
                <a:off x="3006360" y="464076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06360" y="464076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7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04920" y="4640760"/>
              <a:ext cx="2693880" cy="610200"/>
              <a:chOff x="304920" y="4640760"/>
              <a:chExt cx="2693880" cy="61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304920" y="4640760"/>
                <a:ext cx="2693880" cy="60300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4920" y="464076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Iterative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10280" y="4023720"/>
              <a:ext cx="1895040" cy="606240"/>
              <a:chOff x="7010280" y="4023720"/>
              <a:chExt cx="1895040" cy="60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7010280" y="402372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10280" y="40237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26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216760" y="4023720"/>
              <a:ext cx="1787760" cy="606240"/>
              <a:chOff x="5216760" y="4023720"/>
              <a:chExt cx="1787760" cy="606240"/>
            </a:xfrm>
          </p:grpSpPr>
          <p:sp>
            <p:nvSpPr>
              <p:cNvPr id="334" name=""/>
              <p:cNvSpPr/>
              <p:nvPr/>
            </p:nvSpPr>
            <p:spPr>
              <a:xfrm>
                <a:off x="5216760" y="402372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16760" y="40237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89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006360" y="4023720"/>
              <a:ext cx="2204280" cy="606240"/>
              <a:chOff x="3006360" y="4023720"/>
              <a:chExt cx="2204280" cy="606240"/>
            </a:xfrm>
          </p:grpSpPr>
          <p:sp>
            <p:nvSpPr>
              <p:cNvPr id="337" name=""/>
              <p:cNvSpPr/>
              <p:nvPr/>
            </p:nvSpPr>
            <p:spPr>
              <a:xfrm>
                <a:off x="3006360" y="402372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006360" y="40237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04920" y="4023720"/>
              <a:ext cx="2693880" cy="610200"/>
              <a:chOff x="304920" y="4023720"/>
              <a:chExt cx="2693880" cy="6102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4023720"/>
                <a:ext cx="2693880" cy="6058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402372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Direct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10280" y="3463920"/>
              <a:ext cx="1895040" cy="553680"/>
              <a:chOff x="7010280" y="3463920"/>
              <a:chExt cx="1895040" cy="553680"/>
            </a:xfrm>
          </p:grpSpPr>
          <p:sp>
            <p:nvSpPr>
              <p:cNvPr id="343" name=""/>
              <p:cNvSpPr/>
              <p:nvPr/>
            </p:nvSpPr>
            <p:spPr>
              <a:xfrm>
                <a:off x="7010280" y="3463920"/>
                <a:ext cx="189504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280" y="34639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216760" y="3463920"/>
              <a:ext cx="1787760" cy="553680"/>
              <a:chOff x="5216760" y="3463920"/>
              <a:chExt cx="1787760" cy="553680"/>
            </a:xfrm>
          </p:grpSpPr>
          <p:sp>
            <p:nvSpPr>
              <p:cNvPr id="346" name=""/>
              <p:cNvSpPr/>
              <p:nvPr/>
            </p:nvSpPr>
            <p:spPr>
              <a:xfrm>
                <a:off x="5216760" y="3463920"/>
                <a:ext cx="178776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6760" y="34639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006360" y="3463920"/>
              <a:ext cx="2204280" cy="553680"/>
              <a:chOff x="3006360" y="3463920"/>
              <a:chExt cx="2204280" cy="553680"/>
            </a:xfrm>
          </p:grpSpPr>
          <p:sp>
            <p:nvSpPr>
              <p:cNvPr id="349" name=""/>
              <p:cNvSpPr/>
              <p:nvPr/>
            </p:nvSpPr>
            <p:spPr>
              <a:xfrm>
                <a:off x="3006360" y="3463920"/>
                <a:ext cx="22042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6360" y="34639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04920" y="3463920"/>
              <a:ext cx="2693880" cy="553680"/>
              <a:chOff x="304920" y="3463920"/>
              <a:chExt cx="2693880" cy="553680"/>
            </a:xfrm>
          </p:grpSpPr>
          <p:sp>
            <p:nvSpPr>
              <p:cNvPr id="352" name=""/>
              <p:cNvSpPr/>
              <p:nvPr/>
            </p:nvSpPr>
            <p:spPr>
              <a:xfrm>
                <a:off x="304920" y="3463920"/>
                <a:ext cx="26938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4920" y="346392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elaxed 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010280" y="2919600"/>
              <a:ext cx="1895040" cy="535680"/>
              <a:chOff x="7010280" y="2919600"/>
              <a:chExt cx="1895040" cy="535680"/>
            </a:xfrm>
          </p:grpSpPr>
          <p:sp>
            <p:nvSpPr>
              <p:cNvPr id="355" name=""/>
              <p:cNvSpPr/>
              <p:nvPr/>
            </p:nvSpPr>
            <p:spPr>
              <a:xfrm>
                <a:off x="7010280" y="2919600"/>
                <a:ext cx="189504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0280" y="291960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63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216760" y="2919600"/>
              <a:ext cx="1787760" cy="535680"/>
              <a:chOff x="5216760" y="2919600"/>
              <a:chExt cx="1787760" cy="535680"/>
            </a:xfrm>
          </p:grpSpPr>
          <p:sp>
            <p:nvSpPr>
              <p:cNvPr id="358" name=""/>
              <p:cNvSpPr/>
              <p:nvPr/>
            </p:nvSpPr>
            <p:spPr>
              <a:xfrm>
                <a:off x="5216760" y="2919600"/>
                <a:ext cx="178776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16760" y="291960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006360" y="2919600"/>
              <a:ext cx="2204280" cy="535680"/>
              <a:chOff x="3006360" y="2919600"/>
              <a:chExt cx="2204280" cy="535680"/>
            </a:xfrm>
          </p:grpSpPr>
          <p:sp>
            <p:nvSpPr>
              <p:cNvPr id="361" name=""/>
              <p:cNvSpPr/>
              <p:nvPr/>
            </p:nvSpPr>
            <p:spPr>
              <a:xfrm>
                <a:off x="3006360" y="2919600"/>
                <a:ext cx="22042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06360" y="291960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04920" y="2919600"/>
              <a:ext cx="2693880" cy="535680"/>
              <a:chOff x="304920" y="2919600"/>
              <a:chExt cx="2693880" cy="535680"/>
            </a:xfrm>
          </p:grpSpPr>
          <p:sp>
            <p:nvSpPr>
              <p:cNvPr id="364" name=""/>
              <p:cNvSpPr/>
              <p:nvPr/>
            </p:nvSpPr>
            <p:spPr>
              <a:xfrm>
                <a:off x="304920" y="2919600"/>
                <a:ext cx="26938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920" y="291960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010280" y="1981080"/>
              <a:ext cx="1895040" cy="927720"/>
              <a:chOff x="7010280" y="1981080"/>
              <a:chExt cx="1895040" cy="927720"/>
            </a:xfrm>
          </p:grpSpPr>
          <p:sp>
            <p:nvSpPr>
              <p:cNvPr id="367" name=""/>
              <p:cNvSpPr/>
              <p:nvPr/>
            </p:nvSpPr>
            <p:spPr>
              <a:xfrm>
                <a:off x="7010280" y="1981080"/>
                <a:ext cx="189504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10280" y="198108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216760" y="1981080"/>
              <a:ext cx="1787760" cy="927720"/>
              <a:chOff x="5216760" y="1981080"/>
              <a:chExt cx="1787760" cy="927720"/>
            </a:xfrm>
          </p:grpSpPr>
          <p:sp>
            <p:nvSpPr>
              <p:cNvPr id="370" name=""/>
              <p:cNvSpPr/>
              <p:nvPr/>
            </p:nvSpPr>
            <p:spPr>
              <a:xfrm>
                <a:off x="5216760" y="1981080"/>
                <a:ext cx="178776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16760" y="198108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006360" y="1981080"/>
              <a:ext cx="2204280" cy="927720"/>
              <a:chOff x="3006360" y="1981080"/>
              <a:chExt cx="2204280" cy="927720"/>
            </a:xfrm>
          </p:grpSpPr>
          <p:sp>
            <p:nvSpPr>
              <p:cNvPr id="373" name=""/>
              <p:cNvSpPr/>
              <p:nvPr/>
            </p:nvSpPr>
            <p:spPr>
              <a:xfrm>
                <a:off x="3006360" y="1981080"/>
                <a:ext cx="22042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06360" y="1981080"/>
                <a:ext cx="220428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Simulati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oi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04920" y="1981080"/>
              <a:ext cx="2693880" cy="927720"/>
              <a:chOff x="304920" y="1981080"/>
              <a:chExt cx="2693880" cy="927720"/>
            </a:xfrm>
          </p:grpSpPr>
          <p:sp>
            <p:nvSpPr>
              <p:cNvPr id="376" name=""/>
              <p:cNvSpPr/>
              <p:nvPr/>
            </p:nvSpPr>
            <p:spPr>
              <a:xfrm>
                <a:off x="304920" y="1981080"/>
                <a:ext cx="26938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4920" y="198108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04920" y="198108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920" y="291960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34639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920" y="40237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920" y="464076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920" y="525744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92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063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1028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1180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B08-335E-43E6-B347-322F46F919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120" y="950760"/>
            <a:ext cx="67741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594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In SPICE-like simulators Newton-Raphson (NR) iteration is implemented. But its drawbacks are well-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s must be continuous and (at least) first-order different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U factorization is needed at each it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 derivatives evaluation and related MNA matrix load are required at each iteration (solved by CoSMoS BMAC!!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s quadratic convergence rate is ruined due to practical consid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ADA-8324-48A0-AF96-06B853E8CE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279440" y="201456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514600"/>
            <a:ext cx="556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irect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PIC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L (DA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9B4-7463-4631-A914-B9055E605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4760" y="666360"/>
            <a:ext cx="64688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 Altern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5200" y="1940040"/>
            <a:ext cx="75895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uccessive Chord (SC), or piece-wise weakly nonlinear, method to speed up the nonlinear simulation –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U onc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iecewise linear (PWL) method is used to find DC operating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fc0128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Tahoma"/>
              </a:rPr>
              <a:t>Our goal – DC operation point guess is found with the PWL method. The rest analysis is achieved by the variable SC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87D-C4DA-47DD-8A30-240E0B1CE5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4440" y="728280"/>
            <a:ext cx="723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Variable Successive Chord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2084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609480" y="5257800"/>
            <a:ext cx="8074080" cy="1293840"/>
            <a:chOff x="609480" y="5257800"/>
            <a:chExt cx="8074080" cy="1293840"/>
          </a:xfrm>
        </p:grpSpPr>
        <p:sp>
          <p:nvSpPr>
            <p:cNvPr id="397" name=""/>
            <p:cNvSpPr/>
            <p:nvPr/>
          </p:nvSpPr>
          <p:spPr>
            <a:xfrm>
              <a:off x="609480" y="5257800"/>
              <a:ext cx="8074080" cy="129384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5257800"/>
              <a:ext cx="807408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Different chords are used for different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chieve a balance between convergence speed and LU factorization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62720" y="2209680"/>
            <a:ext cx="3276360" cy="2438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123360"/>
            <a:ext cx="2133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Rank-1 update to reduce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88F-D197-41EB-A305-A934268A7E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717480"/>
            <a:ext cx="711504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Four CoSMoS Nonlinear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66680" y="4952880"/>
            <a:ext cx="7005600" cy="1185840"/>
            <a:chOff x="1066680" y="4952880"/>
            <a:chExt cx="7005600" cy="1185840"/>
          </a:xfrm>
        </p:grpSpPr>
        <p:sp>
          <p:nvSpPr>
            <p:cNvPr id="410" name=""/>
            <p:cNvSpPr/>
            <p:nvPr/>
          </p:nvSpPr>
          <p:spPr>
            <a:xfrm>
              <a:off x="1066680" y="4952880"/>
              <a:ext cx="700560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4952880"/>
              <a:ext cx="7005600" cy="10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+ Including the iterative semi-implicit linear sol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* Dependent on practical applications, typically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same as #It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33520" y="2286000"/>
            <a:ext cx="8305200" cy="2389320"/>
            <a:chOff x="533520" y="2286000"/>
            <a:chExt cx="8305200" cy="2389320"/>
          </a:xfrm>
        </p:grpSpPr>
        <p:grpSp>
          <p:nvGrpSpPr>
            <p:cNvPr id="413" name=""/>
            <p:cNvGrpSpPr/>
            <p:nvPr/>
          </p:nvGrpSpPr>
          <p:grpSpPr>
            <a:xfrm>
              <a:off x="7003800" y="3876840"/>
              <a:ext cx="1826640" cy="414360"/>
              <a:chOff x="7003800" y="3876840"/>
              <a:chExt cx="1826640" cy="414360"/>
            </a:xfrm>
          </p:grpSpPr>
          <p:sp>
            <p:nvSpPr>
              <p:cNvPr id="414" name=""/>
              <p:cNvSpPr/>
              <p:nvPr/>
            </p:nvSpPr>
            <p:spPr>
              <a:xfrm>
                <a:off x="7003800" y="3878280"/>
                <a:ext cx="18266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3800" y="38768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9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271480" y="3876840"/>
              <a:ext cx="1726200" cy="414360"/>
              <a:chOff x="5271480" y="3876840"/>
              <a:chExt cx="1726200" cy="414360"/>
            </a:xfrm>
          </p:grpSpPr>
          <p:sp>
            <p:nvSpPr>
              <p:cNvPr id="417" name=""/>
              <p:cNvSpPr/>
              <p:nvPr/>
            </p:nvSpPr>
            <p:spPr>
              <a:xfrm>
                <a:off x="5271480" y="3878280"/>
                <a:ext cx="172620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271480" y="38768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8903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140640" y="3876840"/>
              <a:ext cx="2124720" cy="414360"/>
              <a:chOff x="3140640" y="3876840"/>
              <a:chExt cx="2124720" cy="414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40640" y="3878280"/>
                <a:ext cx="212472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40640" y="38768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5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33520" y="3876840"/>
              <a:ext cx="2598840" cy="414360"/>
              <a:chOff x="533520" y="3876840"/>
              <a:chExt cx="2598840" cy="414360"/>
            </a:xfrm>
          </p:grpSpPr>
          <p:sp>
            <p:nvSpPr>
              <p:cNvPr id="423" name=""/>
              <p:cNvSpPr/>
              <p:nvPr/>
            </p:nvSpPr>
            <p:spPr>
              <a:xfrm>
                <a:off x="533520" y="3878280"/>
                <a:ext cx="25988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3520" y="38768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003800" y="4297320"/>
              <a:ext cx="1826640" cy="373320"/>
              <a:chOff x="7003800" y="4297320"/>
              <a:chExt cx="1826640" cy="373320"/>
            </a:xfrm>
          </p:grpSpPr>
          <p:sp>
            <p:nvSpPr>
              <p:cNvPr id="426" name=""/>
              <p:cNvSpPr/>
              <p:nvPr/>
            </p:nvSpPr>
            <p:spPr>
              <a:xfrm>
                <a:off x="7003800" y="4297320"/>
                <a:ext cx="18266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03800" y="42973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6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271480" y="4297320"/>
              <a:ext cx="1726200" cy="373320"/>
              <a:chOff x="5271480" y="4297320"/>
              <a:chExt cx="1726200" cy="373320"/>
            </a:xfrm>
          </p:grpSpPr>
          <p:sp>
            <p:nvSpPr>
              <p:cNvPr id="429" name=""/>
              <p:cNvSpPr/>
              <p:nvPr/>
            </p:nvSpPr>
            <p:spPr>
              <a:xfrm>
                <a:off x="5271480" y="4297320"/>
                <a:ext cx="172620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71480" y="42973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756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140640" y="4297320"/>
              <a:ext cx="2124720" cy="373320"/>
              <a:chOff x="3140640" y="4297320"/>
              <a:chExt cx="2124720" cy="373320"/>
            </a:xfrm>
          </p:grpSpPr>
          <p:sp>
            <p:nvSpPr>
              <p:cNvPr id="432" name=""/>
              <p:cNvSpPr/>
              <p:nvPr/>
            </p:nvSpPr>
            <p:spPr>
              <a:xfrm>
                <a:off x="3140640" y="4297320"/>
                <a:ext cx="212472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40640" y="42973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218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533520" y="4297320"/>
              <a:ext cx="2598840" cy="373320"/>
              <a:chOff x="533520" y="4297320"/>
              <a:chExt cx="2598840" cy="373320"/>
            </a:xfrm>
          </p:grpSpPr>
          <p:sp>
            <p:nvSpPr>
              <p:cNvPr id="435" name=""/>
              <p:cNvSpPr/>
              <p:nvPr/>
            </p:nvSpPr>
            <p:spPr>
              <a:xfrm>
                <a:off x="533520" y="4297320"/>
                <a:ext cx="25988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42973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003800" y="3473640"/>
              <a:ext cx="1826640" cy="399960"/>
              <a:chOff x="7003800" y="3473640"/>
              <a:chExt cx="1826640" cy="399960"/>
            </a:xfrm>
          </p:grpSpPr>
          <p:sp>
            <p:nvSpPr>
              <p:cNvPr id="438" name=""/>
              <p:cNvSpPr/>
              <p:nvPr/>
            </p:nvSpPr>
            <p:spPr>
              <a:xfrm>
                <a:off x="7003800" y="3473640"/>
                <a:ext cx="18266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03800" y="34736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64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271480" y="3473640"/>
              <a:ext cx="1726200" cy="399960"/>
              <a:chOff x="5271480" y="3473640"/>
              <a:chExt cx="1726200" cy="399960"/>
            </a:xfrm>
          </p:grpSpPr>
          <p:sp>
            <p:nvSpPr>
              <p:cNvPr id="441" name=""/>
              <p:cNvSpPr/>
              <p:nvPr/>
            </p:nvSpPr>
            <p:spPr>
              <a:xfrm>
                <a:off x="5271480" y="3473640"/>
                <a:ext cx="172620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71480" y="34736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458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140640" y="3473640"/>
              <a:ext cx="2124720" cy="399960"/>
              <a:chOff x="3140640" y="3473640"/>
              <a:chExt cx="2124720" cy="399960"/>
            </a:xfrm>
          </p:grpSpPr>
          <p:sp>
            <p:nvSpPr>
              <p:cNvPr id="444" name=""/>
              <p:cNvSpPr/>
              <p:nvPr/>
            </p:nvSpPr>
            <p:spPr>
              <a:xfrm>
                <a:off x="3140640" y="3473640"/>
                <a:ext cx="212472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40640" y="34736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75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33520" y="3473640"/>
              <a:ext cx="2598840" cy="399960"/>
              <a:chOff x="533520" y="3473640"/>
              <a:chExt cx="2598840" cy="399960"/>
            </a:xfrm>
          </p:grpSpPr>
          <p:sp>
            <p:nvSpPr>
              <p:cNvPr id="447" name=""/>
              <p:cNvSpPr/>
              <p:nvPr/>
            </p:nvSpPr>
            <p:spPr>
              <a:xfrm>
                <a:off x="533520" y="3473640"/>
                <a:ext cx="25988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3520" y="34736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003800" y="3102120"/>
              <a:ext cx="1826640" cy="366840"/>
              <a:chOff x="7003800" y="3102120"/>
              <a:chExt cx="1826640" cy="366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003800" y="310212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03800" y="31021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549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5271480" y="3102120"/>
              <a:ext cx="1726200" cy="366840"/>
              <a:chOff x="5271480" y="3102120"/>
              <a:chExt cx="1726200" cy="366840"/>
            </a:xfrm>
          </p:grpSpPr>
          <p:sp>
            <p:nvSpPr>
              <p:cNvPr id="453" name=""/>
              <p:cNvSpPr/>
              <p:nvPr/>
            </p:nvSpPr>
            <p:spPr>
              <a:xfrm>
                <a:off x="5271480" y="310212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480" y="31021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784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140640" y="3102120"/>
              <a:ext cx="2124720" cy="366840"/>
              <a:chOff x="3140640" y="3102120"/>
              <a:chExt cx="2124720" cy="366840"/>
            </a:xfrm>
          </p:grpSpPr>
          <p:sp>
            <p:nvSpPr>
              <p:cNvPr id="456" name=""/>
              <p:cNvSpPr/>
              <p:nvPr/>
            </p:nvSpPr>
            <p:spPr>
              <a:xfrm>
                <a:off x="3140640" y="310212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40640" y="31021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3520" y="3102120"/>
              <a:ext cx="2598840" cy="366840"/>
              <a:chOff x="533520" y="3102120"/>
              <a:chExt cx="2598840" cy="366840"/>
            </a:xfrm>
          </p:grpSpPr>
          <p:sp>
            <p:nvSpPr>
              <p:cNvPr id="459" name=""/>
              <p:cNvSpPr/>
              <p:nvPr/>
            </p:nvSpPr>
            <p:spPr>
              <a:xfrm>
                <a:off x="533520" y="310212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3520" y="31021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003800" y="2730600"/>
              <a:ext cx="1826640" cy="366840"/>
              <a:chOff x="7003800" y="2730600"/>
              <a:chExt cx="1826640" cy="3668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03800" y="273060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3800" y="27306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271480" y="2730600"/>
              <a:ext cx="1726200" cy="366840"/>
              <a:chOff x="5271480" y="2730600"/>
              <a:chExt cx="1726200" cy="366840"/>
            </a:xfrm>
          </p:grpSpPr>
          <p:sp>
            <p:nvSpPr>
              <p:cNvPr id="465" name=""/>
              <p:cNvSpPr/>
              <p:nvPr/>
            </p:nvSpPr>
            <p:spPr>
              <a:xfrm>
                <a:off x="5271480" y="273060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71480" y="273060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3556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40640" y="2730600"/>
              <a:ext cx="2124720" cy="366840"/>
              <a:chOff x="3140640" y="2730600"/>
              <a:chExt cx="2124720" cy="366840"/>
            </a:xfrm>
          </p:grpSpPr>
          <p:sp>
            <p:nvSpPr>
              <p:cNvPr id="468" name=""/>
              <p:cNvSpPr/>
              <p:nvPr/>
            </p:nvSpPr>
            <p:spPr>
              <a:xfrm>
                <a:off x="3140640" y="273060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40640" y="273060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09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33520" y="2730600"/>
              <a:ext cx="2598840" cy="366840"/>
              <a:chOff x="533520" y="2730600"/>
              <a:chExt cx="2598840" cy="366840"/>
            </a:xfrm>
          </p:grpSpPr>
          <p:sp>
            <p:nvSpPr>
              <p:cNvPr id="471" name=""/>
              <p:cNvSpPr/>
              <p:nvPr/>
            </p:nvSpPr>
            <p:spPr>
              <a:xfrm>
                <a:off x="533520" y="273060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520" y="27306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003800" y="2286000"/>
              <a:ext cx="1826640" cy="439920"/>
              <a:chOff x="7003800" y="2286000"/>
              <a:chExt cx="1826640" cy="439920"/>
            </a:xfrm>
          </p:grpSpPr>
          <p:sp>
            <p:nvSpPr>
              <p:cNvPr id="474" name=""/>
              <p:cNvSpPr/>
              <p:nvPr/>
            </p:nvSpPr>
            <p:spPr>
              <a:xfrm>
                <a:off x="7003800" y="2286000"/>
                <a:ext cx="18266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03800" y="22860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271480" y="2286000"/>
              <a:ext cx="1726200" cy="439920"/>
              <a:chOff x="5271480" y="2286000"/>
              <a:chExt cx="1726200" cy="439920"/>
            </a:xfrm>
          </p:grpSpPr>
          <p:sp>
            <p:nvSpPr>
              <p:cNvPr id="477" name=""/>
              <p:cNvSpPr/>
              <p:nvPr/>
            </p:nvSpPr>
            <p:spPr>
              <a:xfrm>
                <a:off x="5271480" y="2286000"/>
                <a:ext cx="172620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1480" y="2286000"/>
                <a:ext cx="172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140640" y="2286000"/>
              <a:ext cx="2124720" cy="439920"/>
              <a:chOff x="3140640" y="2286000"/>
              <a:chExt cx="2124720" cy="4399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40640" y="2286000"/>
                <a:ext cx="212472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40640" y="2286000"/>
                <a:ext cx="2122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Simulation poi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3520" y="2286000"/>
              <a:ext cx="2598840" cy="439920"/>
              <a:chOff x="533520" y="2286000"/>
              <a:chExt cx="2598840" cy="43992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2286000"/>
                <a:ext cx="25988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22860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33520" y="228600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73060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1021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520" y="347364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20" y="387828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520" y="467532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5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064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7148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0380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8387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520" y="42973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80E-F92A-46E7-AB5D-420DA8A3F5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7978680" cy="28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ILCA –  A prototype of Time-domain Nonlinear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numerical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erative Semi-Implicit sol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WL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 SC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849240" y="333000"/>
            <a:ext cx="8089920" cy="12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nclusion on Linear and Nonlinear Time-Domain Solv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437120" y="536724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Orders of magnitud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Work without derivatives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0C2-A6CB-47E9-AAE4-94E4A02023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8824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chedule on NonLinear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1743120"/>
            <a:ext cx="7081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Quarter (Jan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Mar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ank-one update for the variable S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Table-look-up MOSFE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June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nonlinear capac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PWL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Optimize the solve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(Finish 1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ahoma"/>
              </a:rPr>
              <a:t>s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version of nonlinear 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year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tegration with VHDL-AM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79E-3478-4C48-A76E-80A4967D36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of SuperLU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Developed by Berkeley, Xerox Palo Alto Research Center, NERSC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362320"/>
            <a:ext cx="6248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nod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elimination tree for pre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/Complex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77D-367C-4DB7-9C09-7529055C3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1337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weakness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35268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circuit-specific direct solver (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general purpose direct solv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407-26F5-4942-B62A-346A4166E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7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057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3200"/>
            <a:ext cx="327672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parse 1.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order/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arkowitz) 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743200"/>
            <a:ext cx="350496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order by elim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upernode based 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+re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9C0-2083-4975-9649-5C64A9B7F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ars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&amp;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erL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133720"/>
            <a:ext cx="5943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Matrix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urce: Many Circuits, FE/FD, Arti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ype:    Dense, sparse, real,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ize:      1k – 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Internal matrix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parse:   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perLU:  Column compress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29E-7EF0-4146-9EF6-F54AC5B7A3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36232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Numerical factorization and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o great differe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 aver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Ordering and 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able dif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mos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rkowitz-based preordering migh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 efficient as implemented in Sp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Sparse vs 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C99-FDA5-4B53-9C7B-8764DA694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erical Factor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33720" y="2133720"/>
          <a:ext cx="4495680" cy="37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44956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772-EB27-4837-8161-4A366BCAAA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cjshi</cp:lastModifiedBy>
  <dcterms:modified xsi:type="dcterms:W3CDTF">2002-12-10T06:00:10Z</dcterms:modified>
  <cp:revision>57</cp:revision>
  <dc:subject/>
  <dc:title>Solver Development</dc:title>
</cp:coreProperties>
</file>