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png" ContentType="image/png"/>
  <Override PartName="/ppt/media/image2.png" ContentType="image/png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6.wmf" ContentType="image/x-wmf"/>
  <Override PartName="/ppt/media/image3.png" ContentType="image/png"/>
  <Override PartName="/ppt/media/image47.wmf" ContentType="image/x-wmf"/>
  <Override PartName="/ppt/media/image51.wmf" ContentType="image/x-wmf"/>
  <Override PartName="/ppt/media/image12.wmf" ContentType="image/x-wmf"/>
  <Override PartName="/ppt/media/image49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F25A03-B167-424B-B53C-0E5CAF84F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4AC727-D4E7-4DC7-9733-6C80D8C0A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043E-2A49-40A7-95FF-27A943471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C282-7008-4639-A9A5-6422AE78C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4FB2-86C8-4892-91D5-156034B7A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5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81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840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0B26-4882-4C50-9863-F4EB1FD47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496C3-6F51-4577-908C-D2F5BE25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7EDA-8A6D-4E97-8CA8-76C0BB05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189D0-5EFB-4417-B06F-A73015FF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CEB94-FFF0-4E9A-B4E5-FB8ADF5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FEE17-01E7-48CF-BE4D-6DCD9293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437D3-7D33-48EF-9359-C0A617D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5AE5A-5C2A-4AC8-8A98-9ADDB9D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597A-509F-4C8A-938B-287FBE7DF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FF986-494D-470F-90DE-D4181C9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F019-D781-430D-BFCC-892F206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98243-6609-4393-8EF3-1B820C35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3AFC9-5B12-4C3C-B750-6B67C109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6900-A763-4E19-9E9F-392391B8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ECD8-DC7C-4C17-B229-43B6468E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4C42-C2B2-4E1D-B7C2-13CF54645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DB57-4596-4314-8D35-5EB972379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B400-D3E8-4856-86D1-056FCF5DC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5FF7-5D8E-4E34-8DCA-538620925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83C8-2687-4387-BDE7-9620964C9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5EF7-BC7D-46E6-859F-3A13D67CB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cc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75080" y="6533640"/>
            <a:ext cx="19810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icia Manthe/</a:t>
            </a:r>
            <a:fld id="{BCE15D4B-4E2C-4F1B-9E55-B7C4095EA8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471D-789A-496E-8892-AC3B807A4D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19200"/>
            <a:ext cx="77724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cc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DD-based Symbolic Circuit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9640" y="2663640"/>
            <a:ext cx="496728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.D. Candidate: Alicia Man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.D. Student: Zhao 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isor: C.-J. Richard S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38440" y="454824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36840" y="4730760"/>
            <a:ext cx="114588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53000" y="4657680"/>
            <a:ext cx="7351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ant Decision 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731960"/>
          <a:ext cx="426708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1960"/>
                    <a:ext cx="426708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80880" y="396252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571320" y="33908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93760" y="4603680"/>
                <a:ext cx="343548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5046840" y="1676520"/>
          <a:ext cx="1506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6840" y="1676520"/>
                    <a:ext cx="1506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398760" y="3962520"/>
            <a:ext cx="109692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91120"/>
            <a:ext cx="1828800" cy="380880"/>
          </a:xfrm>
          <a:prstGeom prst="rightArrow">
            <a:avLst>
              <a:gd name="adj1" fmla="val 50000"/>
              <a:gd name="adj2" fmla="val 120038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4191120"/>
            <a:ext cx="2438640" cy="380880"/>
          </a:xfrm>
          <a:prstGeom prst="rightArrow">
            <a:avLst>
              <a:gd name="adj1" fmla="val 50000"/>
              <a:gd name="adj2" fmla="val 16006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391968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257800" y="5504040"/>
                <a:ext cx="3657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rot="5400000">
            <a:off x="7124400" y="49482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25760" y="1868400"/>
            <a:ext cx="2927520" cy="3778200"/>
          </a:xfrm>
          <a:custGeom>
            <a:avLst/>
            <a:gdLst/>
            <a:ahLst/>
            <a:rect l="l" t="t" r="r" b="b"/>
            <a:pathLst>
              <a:path w="1844" h="2380">
                <a:moveTo>
                  <a:pt x="675" y="126"/>
                </a:moveTo>
                <a:cubicBezTo>
                  <a:pt x="663" y="63"/>
                  <a:pt x="651" y="0"/>
                  <a:pt x="574" y="64"/>
                </a:cubicBezTo>
                <a:cubicBezTo>
                  <a:pt x="497" y="128"/>
                  <a:pt x="261" y="273"/>
                  <a:pt x="211" y="512"/>
                </a:cubicBezTo>
                <a:cubicBezTo>
                  <a:pt x="161" y="751"/>
                  <a:pt x="0" y="1185"/>
                  <a:pt x="272" y="1496"/>
                </a:cubicBezTo>
                <a:cubicBezTo>
                  <a:pt x="544" y="1807"/>
                  <a:pt x="1194" y="2093"/>
                  <a:pt x="1844" y="23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1565280"/>
            <a:ext cx="3130560" cy="4390920"/>
          </a:xfrm>
          <a:custGeom>
            <a:avLst/>
            <a:gdLst/>
            <a:ahLst/>
            <a:rect l="l" t="t" r="r" b="b"/>
            <a:pathLst>
              <a:path w="1972" h="2766">
                <a:moveTo>
                  <a:pt x="0" y="93"/>
                </a:moveTo>
                <a:cubicBezTo>
                  <a:pt x="10" y="51"/>
                  <a:pt x="20" y="9"/>
                  <a:pt x="117" y="49"/>
                </a:cubicBezTo>
                <a:cubicBezTo>
                  <a:pt x="214" y="89"/>
                  <a:pt x="306" y="0"/>
                  <a:pt x="581" y="334"/>
                </a:cubicBezTo>
                <a:cubicBezTo>
                  <a:pt x="856" y="668"/>
                  <a:pt x="1562" y="1651"/>
                  <a:pt x="1767" y="2056"/>
                </a:cubicBezTo>
                <a:cubicBezTo>
                  <a:pt x="1972" y="2461"/>
                  <a:pt x="1891" y="2613"/>
                  <a:pt x="1811" y="27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3909-6F7F-4CF2-8CF2-CAA5F0E11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16400" y="1762200"/>
            <a:ext cx="3706920" cy="36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64320" y="460224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7760" y="468936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43640" y="4923000"/>
            <a:ext cx="5220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446724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440" y="44337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Complex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3840" y="2108160"/>
                <a:ext cx="15238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1" name=""/>
          <p:cNvGraphicFramePr/>
          <p:nvPr/>
        </p:nvGraphicFramePr>
        <p:xfrm>
          <a:off x="3414600" y="2144880"/>
          <a:ext cx="145728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144880"/>
                    <a:ext cx="14572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514520" y="363852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695520" y="3462840"/>
            <a:ext cx="698400" cy="871560"/>
          </a:xfrm>
          <a:custGeom>
            <a:avLst/>
            <a:gdLst>
              <a:gd name="textAreaLeft" fmla="*/ 209880 w 698400"/>
              <a:gd name="textAreaRight" fmla="*/ 646200 w 698400"/>
              <a:gd name="textAreaTop" fmla="*/ 590400 h 871560"/>
              <a:gd name="textAreaBottom" fmla="*/ 80640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6251"/>
                </a:moveTo>
                <a:lnTo>
                  <a:pt x="14630" y="16251"/>
                </a:lnTo>
                <a:lnTo>
                  <a:pt x="14630" y="6491"/>
                </a:lnTo>
                <a:lnTo>
                  <a:pt x="13009" y="6491"/>
                </a:lnTo>
                <a:lnTo>
                  <a:pt x="17305" y="0"/>
                </a:lnTo>
                <a:lnTo>
                  <a:pt x="21600" y="6491"/>
                </a:lnTo>
                <a:lnTo>
                  <a:pt x="19979" y="6491"/>
                </a:lnTo>
                <a:lnTo>
                  <a:pt x="199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51040" y="3876840"/>
            <a:ext cx="790560" cy="380880"/>
          </a:xfrm>
          <a:prstGeom prst="rightArrow">
            <a:avLst>
              <a:gd name="adj1" fmla="val 50000"/>
              <a:gd name="adj2" fmla="val 5189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64080" y="191772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7328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64080" y="191772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32880" y="495144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4080" y="495144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46408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6408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8880" y="49338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0696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0696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95000" y="49338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164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164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10244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0244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692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64712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4712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9304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18820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8820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3592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73288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3288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204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64080" y="4951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18480" y="4951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64080" y="49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702640" y="49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68880" y="481824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05320" y="47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64080" y="4835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718480" y="4835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64080" y="47721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718480" y="47721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64080" y="4719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18480" y="4719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4080" y="4683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718480" y="4683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64080" y="4657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718480" y="4657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4080" y="4629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718480" y="4629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64080" y="4611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718480" y="4611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64080" y="4584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718480" y="4584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64080" y="45673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718480" y="45673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64080" y="45673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702640" y="45673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44323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05320" y="43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64080" y="4460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718480" y="44607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4080" y="4390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718480" y="4390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64080" y="4346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718480" y="434664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4311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18480" y="431172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64080" y="4275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718480" y="4275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64080" y="4248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718480" y="4248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64080" y="4230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718480" y="423072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64080" y="4213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8718480" y="421308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64080" y="4194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718480" y="4194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4080" y="4194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702640" y="4194000"/>
            <a:ext cx="30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68880" y="405936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05320" y="4010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64080" y="4078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718480" y="407844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64080" y="4008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718480" y="4008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64080" y="3962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8718480" y="3962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64080" y="3927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8718480" y="3927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64080" y="3900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718480" y="3900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4080" y="3873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8718480" y="3873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64080" y="3848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718480" y="3848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64080" y="3828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718480" y="3828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64080" y="3811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718480" y="3811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64080" y="38116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702640" y="38116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68880" y="36781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05320" y="362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64080" y="3695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718480" y="36957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4080" y="3633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718480" y="3633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64080" y="3579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718480" y="3579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64080" y="3544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718480" y="3544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4080" y="35193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718480" y="35193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64080" y="3490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718480" y="3490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64080" y="3471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718480" y="3471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64080" y="3448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718480" y="3448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64080" y="34383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718480" y="34383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64080" y="3438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702640" y="3438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68880" y="33037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05320" y="325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64080" y="3321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718480" y="33210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64080" y="32511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718480" y="32511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64080" y="3205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718480" y="3205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4080" y="3171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718480" y="3171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64080" y="3137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8718480" y="3137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64080" y="3110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718480" y="3110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64080" y="3090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718480" y="3090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64080" y="30751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718480" y="30751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64080" y="3056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718480" y="3056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4080" y="30560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702640" y="30560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68880" y="292248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287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4080" y="29401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718480" y="29401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64080" y="28782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718480" y="28782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64080" y="28242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718480" y="28242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64080" y="27874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718480" y="27874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64080" y="2762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718480" y="2762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64080" y="2735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718480" y="2735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64080" y="2708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718480" y="2708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64080" y="2692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718480" y="2692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64080" y="2671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718480" y="2671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64080" y="2671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702640" y="2671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68880" y="253836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05320" y="248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64080" y="2557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718480" y="2557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64080" y="2495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718480" y="2495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64080" y="2451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718480" y="2451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64080" y="2406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718480" y="2406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64080" y="2379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718480" y="2379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4080" y="2352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718480" y="2352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64080" y="23353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8718480" y="23353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64080" y="23194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8718480" y="23194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64080" y="23004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718480" y="23004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4080" y="23004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702640" y="23004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8880" y="21636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05320" y="211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64080" y="2182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718480" y="2182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64080" y="21114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718480" y="211140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64080" y="2066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718480" y="206676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4080" y="2031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718480" y="203184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64080" y="1996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718480" y="199692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1979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718480" y="19796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64080" y="1952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8718480" y="19526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64080" y="1935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718480" y="19350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64080" y="1917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718480" y="19177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64080" y="19177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702640" y="19177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68880" y="17827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05320" y="173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64080" y="191772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7328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64080" y="495144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32880" y="191772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38960" y="4951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70640" y="4916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3080" y="48355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83320" y="479916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59280" y="477216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89520" y="473724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72320" y="468324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02200" y="46483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78520" y="461160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06960" y="457668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1200" y="453240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21440" y="449748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97760" y="445140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6200" y="441792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02520" y="437184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32400" y="433692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15200" y="429084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6880" y="425592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21400" y="42130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51640" y="417528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35880" y="413244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65760" y="409572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38840" y="40528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70520" y="40165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3320" y="397188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83560" y="39369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59520" y="389268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88320" y="38559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72200" y="38116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02440" y="377820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78760" y="373212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09000" y="369576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84960" y="366084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627360"/>
            <a:ext cx="0" cy="6840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96200" y="357984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26440" y="35449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00960" y="35002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31200" y="346536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15080" y="341964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47120" y="33847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1640" y="334008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51880" y="330516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34320" y="32590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64560" y="32241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9080" y="318276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70760" y="314496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45280" y="31003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7320" y="306396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59760" y="302112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88200" y="298296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4520" y="29401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94760" y="290520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77200" y="286056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407440" y="282420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483760" y="278748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13640" y="27525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597880" y="27082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26320" y="267192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02640" y="26290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732880" y="25923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7880" y="5137200"/>
            <a:ext cx="185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 dimension --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38960" y="4951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70640" y="4916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38960" y="4916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538960" y="4916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53080" y="4719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83320" y="468324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3080" y="468324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653080" y="468324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584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89520" y="454968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4549680"/>
            <a:ext cx="604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759280" y="4549680"/>
            <a:ext cx="604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872320" y="446076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02200" y="442764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72320" y="442764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872320" y="442764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78520" y="434664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06960" y="43117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978520" y="43117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978160" y="43117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91200" y="423072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21440" y="419400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91200" y="419400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91200" y="419400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97760" y="413244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26200" y="409572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409572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197400" y="409572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02520" y="4024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3989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02520" y="3989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02520" y="3989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415200" y="392760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46880" y="38926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15200" y="389268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14840" y="389268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21400" y="38289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1640" y="379404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21400" y="379404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521400" y="379404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35880" y="374184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65760" y="37069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35880" y="37069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635520" y="37069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38840" y="36432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0520" y="360828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38840" y="3608280"/>
            <a:ext cx="619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738840" y="3608280"/>
            <a:ext cx="619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3320" y="355428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83560" y="351936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3320" y="3519360"/>
            <a:ext cx="586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852960" y="3519360"/>
            <a:ext cx="586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59520" y="345600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88320" y="341964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59520" y="341964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959160" y="341964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336708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02440" y="333216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72200" y="333216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72200" y="333216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178760" y="327672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209000" y="32418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78760" y="3241800"/>
            <a:ext cx="601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178400" y="3241800"/>
            <a:ext cx="601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84960" y="319104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315200" y="315432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284960" y="315432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284960" y="315432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96200" y="310032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426440" y="306396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6200" y="306396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95840" y="306396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00960" y="30114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31200" y="29764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00960" y="297648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00960" y="297648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15080" y="29242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47120" y="288612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15080" y="288612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615080" y="288612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21640" y="284328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751880" y="28083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21640" y="280836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721280" y="280836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34320" y="27525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864560" y="27162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834320" y="27162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834320" y="27162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39080" y="26640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970760" y="262908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939080" y="262908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939080" y="262908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45280" y="25750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25401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45280" y="25401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045280" y="25401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159760" y="249552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188200" y="245916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159760" y="2459160"/>
            <a:ext cx="586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159400" y="2459160"/>
            <a:ext cx="586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4520" y="2406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94760" y="23716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4520" y="237168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264520" y="237168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77200" y="23194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407440" y="22827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377200" y="22827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8377200" y="22827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483760" y="223668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513640" y="220176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483760" y="2201760"/>
            <a:ext cx="601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8483400" y="2201760"/>
            <a:ext cx="601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7880" y="21477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26320" y="21114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597880" y="21114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8597880" y="21114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702640" y="206676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32880" y="203184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02640" y="2031840"/>
            <a:ext cx="619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8702640" y="2031840"/>
            <a:ext cx="619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77000" y="4538520"/>
            <a:ext cx="5220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83200" y="4502160"/>
            <a:ext cx="493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07200" y="441468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19880" y="438948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26080" y="43704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40560" y="435276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43880" y="4343400"/>
            <a:ext cx="5220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0" y="432576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64200" y="431784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77240" y="4297320"/>
            <a:ext cx="5220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183440" y="42894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89640" y="4281480"/>
            <a:ext cx="511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400880" y="427356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507440" y="426240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425448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26320" y="4245120"/>
            <a:ext cx="50760" cy="601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39000" y="42372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943760" y="4227480"/>
            <a:ext cx="525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50320" y="421956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164440" y="4219560"/>
            <a:ext cx="493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69200" y="42102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381880" y="420048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488440" y="41925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602560" y="41925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707320" y="4181400"/>
            <a:ext cx="525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62720" y="2000160"/>
            <a:ext cx="205740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Product-Term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#Product-Terms) x 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#DDD-Ve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34000" y="21877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65680" y="215100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634000" y="23814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665680" y="234468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34000" y="234468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634000" y="234468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45160" y="254952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4520" y="5264280"/>
            <a:ext cx="61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orders of magnitude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der Circuits: Linear time complexity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36760" y="195912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tex Ord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DFC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C2B8-1FB0-47C8-B847-7B876CC8DE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25F1-4684-4BC6-AF1D-FA2518398E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Complex DDD-base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-Expanded DDD-base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DD5A-CE97-4B24-A58A-07C02E324F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66640" y="3271680"/>
            <a:ext cx="81964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dominant th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simplifi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de Contraction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14720" y="1849320"/>
                <a:ext cx="4265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624120" y="4067280"/>
                <a:ext cx="15591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223A-90BB-485A-B055-C23E6D70A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: Node Contr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47560" y="1898640"/>
          <a:ext cx="80010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898640"/>
                    <a:ext cx="80010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476280" y="5351400"/>
            <a:ext cx="81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uit structure reduction –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tracted and all devices connected to it are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FF8D-5252-4B4E-83DB-58B2A7184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66640" y="3271680"/>
            <a:ext cx="81964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&amp;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dominant th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simplifi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000160" y="1906560"/>
                <a:ext cx="3576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511280" y="3297240"/>
                <a:ext cx="544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314880" y="4464000"/>
                <a:ext cx="15588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486160" y="3311640"/>
                <a:ext cx="482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7919-9868-4C51-88F1-B509AD337F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: Device Eli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93640" y="2168640"/>
          <a:ext cx="817560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2168640"/>
                    <a:ext cx="81756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87360" y="5191200"/>
            <a:ext cx="81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uit structure reduction – Branches betwe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98E3-7ACC-489B-8A0D-FFA7CC5E58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/>
          <p:nvPr/>
        </p:nvSpPr>
        <p:spPr>
          <a:xfrm>
            <a:off x="415800" y="1752480"/>
            <a:ext cx="83473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x DDD-base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-Expanded DDD-base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926F-E0A3-4C4A-A932-D33E952664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1009800" y="1698480"/>
          <a:ext cx="72482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698480"/>
                    <a:ext cx="72482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-Expanded D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39CC-D36A-4BBF-AAE1-653A9E77C9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ul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og Design Fl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B93C-7D81-4E9A-9385-ACBCFF61B4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752480" y="2190600"/>
                <a:ext cx="486252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6640" y="3616200"/>
            <a:ext cx="81964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ibution o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x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i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i="1" lang="en-US" sz="3000" spc="-1" strike="noStrike" baseline="30000">
                <a:solidFill>
                  <a:srgbClr val="cc0000"/>
                </a:solidFill>
                <a:latin typeface="Verdana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numerator and denominator are different and frequency 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ically, higher-order powers o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an be igno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769F-7744-4BB7-A3E4-36CF6CFD0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6520" y="1762200"/>
            <a:ext cx="819612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ting dominant terms without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ly degrades output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cancellation on different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ed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NA form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vice matc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a*b*c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cels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–a*d*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=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=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A577-CE72-4984-AD19-F4B42C8E96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1447920" y="2057400"/>
          <a:ext cx="6400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400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ancellation: 2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6520" y="4614840"/>
            <a:ext cx="8196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e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product term contain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here exists a corresponding canceling product term contain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CD08-EFB5-44E9-9599-76D9107EFB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752480" y="2190600"/>
                <a:ext cx="486252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4280" y="3492360"/>
            <a:ext cx="8196480" cy="30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 specific coefficient, it’s commonly dominated by a small number of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can be done coefficient by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800" indent="-37944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tice that it can’t be related to circuit reduction since different devices will be eliminated for different coeffici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66F5-9470-4BBD-B930-93AD283802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1680" y="1724040"/>
            <a:ext cx="8196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mall-signal characteristics dominated by a small number of produc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*b + c*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omin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*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magnitude of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, b, c, 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re 1e3, 1e0, 1e0, 1e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ction of k most significant product terms can be transformed to the problem of finding k shortest path weighted in D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specifie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9D39-92D0-426E-9A76-FA10CF9CCC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2249640" y="1600200"/>
          <a:ext cx="5902200" cy="48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9640" y="1600200"/>
                    <a:ext cx="59022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Breakthrough 1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ction of k significant term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781920" y="2101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’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4676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ime algorithm O(kn) (exponential, previously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151760" y="4848120"/>
            <a:ext cx="314280" cy="102708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A43E-881D-4E34-8542-7A3D86709D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271440" y="1839960"/>
          <a:ext cx="8629560" cy="4406760"/>
        </p:xfrm>
        <a:graphic>
          <a:graphicData uri="http://schemas.openxmlformats.org/drawingml/2006/table">
            <a:tbl>
              <a:tblPr/>
              <a:tblGrid>
                <a:gridCol w="1371600"/>
                <a:gridCol w="1295280"/>
                <a:gridCol w="1143000"/>
                <a:gridCol w="1371600"/>
                <a:gridCol w="1143000"/>
                <a:gridCol w="1143000"/>
                <a:gridCol w="1162080"/>
              </a:tblGrid>
              <a:tr h="581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Terms in 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of s in 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Terms in 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of s in 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Err in M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Err i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.98e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.39e+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69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20e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 E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82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2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eff E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t of Domin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.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4C9E-E26E-4122-9016-B45C019B0C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190440" y="254304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483080" y="2386080"/>
            <a:ext cx="4657680" cy="36385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014F-0D0B-4BD5-8140-BD9A600C2C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800600" cy="45720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7F25-7192-43FF-906B-5A8EBBEAC7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0CD9-375D-40EC-A3BB-0F3E080328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ulat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erical Simulators: SPICE, Spect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Simulators: SCAPP, ISSA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1440" y="2438280"/>
          <a:ext cx="259056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2438280"/>
                    <a:ext cx="25905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81600" y="2460240"/>
            <a:ext cx="129024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8320" y="2895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2895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521400" y="2241720"/>
          <a:ext cx="1681200" cy="18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21400" y="2241720"/>
                    <a:ext cx="16812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006440" y="4822560"/>
            <a:ext cx="122328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mb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72200" y="5105520"/>
                <a:ext cx="281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09480" y="4648320"/>
          <a:ext cx="2590920" cy="14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648320"/>
                    <a:ext cx="25909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F32B-948A-4F1D-AAD7-19CA83E48D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Vertex Order Depend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82520" y="1779480"/>
          <a:ext cx="2583000" cy="36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1779480"/>
                    <a:ext cx="258300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5692680" y="2241720"/>
          <a:ext cx="182880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2680" y="2241720"/>
                    <a:ext cx="18288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606600" y="5429160"/>
            <a:ext cx="321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 D F G H B E I 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51600" y="5370480"/>
            <a:ext cx="321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 D F B G H E I 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21352200">
            <a:off x="3987360" y="1779120"/>
            <a:ext cx="4205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w do we choose this ord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1F33-DD98-4FEF-B2C0-116D69E363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er of vertices influences size of DD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ear to exponential in siz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s evaluation time &amp; space complex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size of DD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s manipulation time &amp; space complex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size of DD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nthesis: reduces complexity of 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hardware c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8D14-76FB-4856-8057-5006EBF908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gorithms for BDD Optim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w/lower b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f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w/lower b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me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 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4226040" y="1771560"/>
            <a:ext cx="4044960" cy="4011840"/>
            <a:chOff x="4226040" y="1771560"/>
            <a:chExt cx="4044960" cy="4011840"/>
          </a:xfrm>
        </p:grpSpPr>
        <p:sp>
          <p:nvSpPr>
            <p:cNvPr id="700" name=""/>
            <p:cNvSpPr/>
            <p:nvPr/>
          </p:nvSpPr>
          <p:spPr>
            <a:xfrm>
              <a:off x="4226040" y="1771560"/>
              <a:ext cx="1096920" cy="4011840"/>
            </a:xfrm>
            <a:custGeom>
              <a:avLst/>
              <a:gdLst>
                <a:gd name="textAreaLeft" fmla="*/ 0 w 1096920"/>
                <a:gd name="textAreaRight" fmla="*/ 396000 w 1096920"/>
                <a:gd name="textAreaTop" fmla="*/ 104400 h 4011840"/>
                <a:gd name="textAreaBottom" fmla="*/ 3907440 h 401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02160" y="2868480"/>
              <a:ext cx="2868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ynamic Variable Reorder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F2D9-62DC-4842-877B-3F96633065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602080" y="1760400"/>
          <a:ext cx="270648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080" y="1760400"/>
                    <a:ext cx="270648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306600" y="2457360"/>
          <a:ext cx="1914840" cy="28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6600" y="2457360"/>
                    <a:ext cx="191484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4341960" y="2481120"/>
          <a:ext cx="103824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2481120"/>
                    <a:ext cx="10382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4776840" y="3052800"/>
          <a:ext cx="58716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76840" y="3052800"/>
                    <a:ext cx="5871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784760" y="3027240"/>
          <a:ext cx="633240" cy="81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4760" y="3027240"/>
                    <a:ext cx="633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VR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351000" y="1741320"/>
                <a:ext cx="16570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 rot="5399400">
            <a:off x="801360" y="3627360"/>
            <a:ext cx="1158840" cy="895320"/>
          </a:xfrm>
          <a:custGeom>
            <a:avLst/>
            <a:gdLst>
              <a:gd name="textAreaLeft" fmla="*/ 386280 w 1158840"/>
              <a:gd name="textAreaRight" fmla="*/ 992520 w 1158840"/>
              <a:gd name="textAreaTop" fmla="*/ 515520 h 895320"/>
              <a:gd name="textAreaBottom" fmla="*/ 766800 h 895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322880" y="5481720"/>
          <a:ext cx="2314440" cy="76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22880" y="5481720"/>
                    <a:ext cx="23144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675480" y="1838160"/>
          <a:ext cx="2030400" cy="346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5480" y="1838160"/>
                    <a:ext cx="203040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 rot="1255200">
            <a:off x="4812840" y="2892240"/>
            <a:ext cx="585720" cy="1164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9652400">
            <a:off x="4401720" y="2354040"/>
            <a:ext cx="920880" cy="12110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9063800">
            <a:off x="4551480" y="2905200"/>
            <a:ext cx="576000" cy="106020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20930400">
            <a:off x="2817360" y="2533680"/>
            <a:ext cx="576360" cy="106056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667480" y="3492360"/>
            <a:ext cx="857160" cy="400320"/>
          </a:xfrm>
          <a:prstGeom prst="rightArrow">
            <a:avLst>
              <a:gd name="adj1" fmla="val 50000"/>
              <a:gd name="adj2" fmla="val 5353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 rot="21352200">
            <a:off x="5393880" y="1294920"/>
            <a:ext cx="4205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Reduced by 3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E917-AE0D-4A54-8FC1-13341E7EB2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Lower B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63080" y="1828440"/>
            <a:ext cx="8828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ining the possible DVR scenario’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mma 1: Each label must be represented at least once in the DDD, theref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#vertices’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mma 2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Local exchanges between label order i and i+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½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#vertices’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2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½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#vertices’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2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295920" y="5855400"/>
            <a:ext cx="2657160" cy="685800"/>
          </a:xfrm>
          <a:prstGeom prst="wedgeRectCallout">
            <a:avLst>
              <a:gd name="adj1" fmla="val -67148"/>
              <a:gd name="adj2" fmla="val 1122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#nodes with label x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Times New Roman"/>
              </a:rPr>
              <a:t>i+1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 DDD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efore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re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5180760" y="5714280"/>
            <a:ext cx="2590920" cy="685800"/>
          </a:xfrm>
          <a:prstGeom prst="wedgeRectCallout">
            <a:avLst>
              <a:gd name="adj1" fmla="val 61578"/>
              <a:gd name="adj2" fmla="val 1076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#nodes with label x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Times New Roman"/>
              </a:rPr>
              <a:t>i+1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 DDD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re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9991-6731-4A97-91EF-106DF1790E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wer B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fting down a label (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33520" y="2855880"/>
                <a:ext cx="8082000" cy="23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vertices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rtice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+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d>
                                  <m:dPr>
                                    <m:begChr m:val="⌈"/>
                                    <m:endChr m:val="⌉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rtice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nary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ertices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BA41-9C50-42AA-BE86-F74BF0306A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fting w/lower bounds 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138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 several different types of circui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plifiers, RLC circuits, Fil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% decrease in #nodes is highly dependent on original order cho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330200" y="3565440"/>
          <a:ext cx="6188040" cy="31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3565440"/>
                    <a:ext cx="618804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9C6F-33D2-4447-BA42-8AE7EB02C2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c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3432240" y="231840"/>
          <a:ext cx="5645160" cy="6291360"/>
        </p:xfrm>
        <a:graphic>
          <a:graphicData uri="http://schemas.openxmlformats.org/drawingml/2006/table">
            <a:tbl>
              <a:tblPr/>
              <a:tblGrid>
                <a:gridCol w="984240"/>
                <a:gridCol w="430200"/>
                <a:gridCol w="696960"/>
                <a:gridCol w="574560"/>
                <a:gridCol w="487440"/>
                <a:gridCol w="973080"/>
                <a:gridCol w="973080"/>
                <a:gridCol w="52560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Vert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Swa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Pr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Pr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x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9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x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1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2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S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4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301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90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39" name=""/>
          <p:cNvSpPr/>
          <p:nvPr/>
        </p:nvSpPr>
        <p:spPr>
          <a:xfrm>
            <a:off x="152280" y="1739880"/>
            <a:ext cx="319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several different types of circu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fiers, RL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matrices with differing symbol locations, number of symbols, and size of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number of permutations kept in memory some cases were unable to finish, represented b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F11F-BDB3-489F-88C4-23E5C2A0ED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Optimization 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66280" y="1926720"/>
            <a:ext cx="80010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the DDD LB method can significantly reduce the number of vert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lower bounds during sifting can dramatically decrease computation cost by an average of 50%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DDD lower bounds vs. BDD lower bounds can decrease computation time up to 8%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ct DDD minimization reduced DDDs between 10-40% for some already reduced DDD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wer/Upper bounds requires less than 5% computation than withou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AE3D-4103-44E0-A616-60FC77D775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 Circuit Analysis Opti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1670040"/>
          <a:ext cx="358164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0040"/>
                    <a:ext cx="3581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5" name=""/>
          <p:cNvGrpSpPr/>
          <p:nvPr/>
        </p:nvGrpSpPr>
        <p:grpSpPr>
          <a:xfrm>
            <a:off x="3276720" y="1600200"/>
            <a:ext cx="2971800" cy="3124080"/>
            <a:chOff x="3276720" y="1600200"/>
            <a:chExt cx="2971800" cy="3124080"/>
          </a:xfrm>
        </p:grpSpPr>
        <p:graphicFrame>
          <p:nvGraphicFramePr>
            <p:cNvPr id="746" name=""/>
            <p:cNvGraphicFramePr/>
            <p:nvPr/>
          </p:nvGraphicFramePr>
          <p:xfrm>
            <a:off x="4892760" y="1600200"/>
            <a:ext cx="1355760" cy="2262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2760" y="1600200"/>
                      <a:ext cx="13557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8" name=""/>
            <p:cNvSpPr/>
            <p:nvPr/>
          </p:nvSpPr>
          <p:spPr>
            <a:xfrm>
              <a:off x="411480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28600" y="2819520"/>
            <a:ext cx="4038480" cy="1904760"/>
            <a:chOff x="228600" y="2819520"/>
            <a:chExt cx="4038480" cy="1904760"/>
          </a:xfrm>
        </p:grpSpPr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2057400" y="2819520"/>
                  <a:ext cx="22096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2" name=""/>
            <p:cNvSpPr/>
            <p:nvPr/>
          </p:nvSpPr>
          <p:spPr>
            <a:xfrm>
              <a:off x="22860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266040" y="316224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990720" y="2895480"/>
                  <a:ext cx="1066680" cy="94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  <m:e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F</m:t>
                                </m:r>
                              </m:e>
                              <m:e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"/>
          <p:cNvGrpSpPr/>
          <p:nvPr/>
        </p:nvGrpSpPr>
        <p:grpSpPr>
          <a:xfrm>
            <a:off x="5257800" y="1600200"/>
            <a:ext cx="2757600" cy="3124080"/>
            <a:chOff x="5257800" y="1600200"/>
            <a:chExt cx="2757600" cy="3124080"/>
          </a:xfrm>
        </p:grpSpPr>
        <p:graphicFrame>
          <p:nvGraphicFramePr>
            <p:cNvPr id="756" name=""/>
            <p:cNvGraphicFramePr/>
            <p:nvPr/>
          </p:nvGraphicFramePr>
          <p:xfrm>
            <a:off x="6934320" y="1600200"/>
            <a:ext cx="1081080" cy="228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1600200"/>
                      <a:ext cx="10810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8" name=""/>
            <p:cNvSpPr/>
            <p:nvPr/>
          </p:nvSpPr>
          <p:spPr>
            <a:xfrm>
              <a:off x="5943600" y="3886200"/>
              <a:ext cx="1143000" cy="838080"/>
            </a:xfrm>
            <a:prstGeom prst="flowChartTerminator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Optim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D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5780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673680" y="3886200"/>
            <a:ext cx="2419560" cy="2008080"/>
            <a:chOff x="6673680" y="3886200"/>
            <a:chExt cx="2419560" cy="2008080"/>
          </a:xfrm>
        </p:grpSpPr>
        <p:sp>
          <p:nvSpPr>
            <p:cNvPr id="761" name=""/>
            <p:cNvSpPr/>
            <p:nvPr/>
          </p:nvSpPr>
          <p:spPr>
            <a:xfrm>
              <a:off x="7086600" y="411480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2" name=""/>
                <p:cNvSpPr txBox="1"/>
                <p:nvPr/>
              </p:nvSpPr>
              <p:spPr>
                <a:xfrm>
                  <a:off x="6673680" y="5351400"/>
                  <a:ext cx="24195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EF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DG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EF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"/>
            <p:cNvSpPr/>
            <p:nvPr/>
          </p:nvSpPr>
          <p:spPr>
            <a:xfrm>
              <a:off x="762012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000">
              <a:off x="7924680" y="480060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87280" y="3886200"/>
            <a:ext cx="2989440" cy="2722680"/>
            <a:chOff x="287280" y="3886200"/>
            <a:chExt cx="2989440" cy="2722680"/>
          </a:xfrm>
        </p:grpSpPr>
        <p:sp>
          <p:nvSpPr>
            <p:cNvPr id="766" name=""/>
            <p:cNvSpPr/>
            <p:nvPr/>
          </p:nvSpPr>
          <p:spPr>
            <a:xfrm>
              <a:off x="137160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57400" y="3886200"/>
              <a:ext cx="1219320" cy="838080"/>
            </a:xfrm>
            <a:prstGeom prst="flowChartTerminator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Symbo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Approx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2437920" y="4724280"/>
              <a:ext cx="38124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87280" y="5079960"/>
              <a:ext cx="2862360" cy="1528920"/>
              <a:chOff x="287280" y="5079960"/>
              <a:chExt cx="2862360" cy="1528920"/>
            </a:xfrm>
          </p:grpSpPr>
          <p:graphicFrame>
            <p:nvGraphicFramePr>
              <p:cNvPr id="770" name=""/>
              <p:cNvGraphicFramePr/>
              <p:nvPr/>
            </p:nvGraphicFramePr>
            <p:xfrm>
              <a:off x="287280" y="5079960"/>
              <a:ext cx="2862360" cy="1039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7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87280" y="5079960"/>
                        <a:ext cx="2862360" cy="103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2" name=""/>
              <p:cNvSpPr txBox="1"/>
              <p:nvPr/>
            </p:nvSpPr>
            <p:spPr>
              <a:xfrm rot="5400000">
                <a:off x="562320" y="5409360"/>
                <a:ext cx="4143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X</a:t>
                </a:r>
                <a:endPara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"/>
                  <p:cNvSpPr txBox="1"/>
                  <p:nvPr/>
                </p:nvSpPr>
                <p:spPr>
                  <a:xfrm>
                    <a:off x="352440" y="6219720"/>
                    <a:ext cx="243828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74" name=""/>
              <p:cNvSpPr txBox="1"/>
              <p:nvPr/>
            </p:nvSpPr>
            <p:spPr>
              <a:xfrm rot="5400000">
                <a:off x="792720" y="6247440"/>
                <a:ext cx="261720" cy="381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X</a:t>
                </a:r>
                <a:endPara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3258720" y="4649760"/>
            <a:ext cx="1334520" cy="1682640"/>
            <a:chOff x="3258720" y="4649760"/>
            <a:chExt cx="1334520" cy="1682640"/>
          </a:xfrm>
        </p:grpSpPr>
        <p:sp>
          <p:nvSpPr>
            <p:cNvPr id="776" name=""/>
            <p:cNvSpPr/>
            <p:nvPr/>
          </p:nvSpPr>
          <p:spPr>
            <a:xfrm>
              <a:off x="3258720" y="5506920"/>
              <a:ext cx="133452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50-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81400" y="4649760"/>
              <a:ext cx="392040" cy="65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236200" y="4692600"/>
            <a:ext cx="1401480" cy="1368360"/>
            <a:chOff x="5236200" y="4692600"/>
            <a:chExt cx="1401480" cy="1368360"/>
          </a:xfrm>
        </p:grpSpPr>
        <p:sp>
          <p:nvSpPr>
            <p:cNvPr id="779" name=""/>
            <p:cNvSpPr/>
            <p:nvPr/>
          </p:nvSpPr>
          <p:spPr>
            <a:xfrm>
              <a:off x="5236200" y="5235480"/>
              <a:ext cx="14014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10%-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753160" y="4692600"/>
              <a:ext cx="179280" cy="47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6480000" y="1812960"/>
            <a:ext cx="1293840" cy="3668760"/>
          </a:xfrm>
          <a:custGeom>
            <a:avLst/>
            <a:gdLst/>
            <a:ahLst/>
            <a:rect l="l" t="t" r="r" b="b"/>
            <a:pathLst>
              <a:path w="1844" h="2380">
                <a:moveTo>
                  <a:pt x="675" y="126"/>
                </a:moveTo>
                <a:cubicBezTo>
                  <a:pt x="663" y="63"/>
                  <a:pt x="651" y="0"/>
                  <a:pt x="574" y="64"/>
                </a:cubicBezTo>
                <a:cubicBezTo>
                  <a:pt x="497" y="128"/>
                  <a:pt x="261" y="273"/>
                  <a:pt x="211" y="512"/>
                </a:cubicBezTo>
                <a:cubicBezTo>
                  <a:pt x="161" y="751"/>
                  <a:pt x="0" y="1185"/>
                  <a:pt x="272" y="1496"/>
                </a:cubicBezTo>
                <a:cubicBezTo>
                  <a:pt x="544" y="1807"/>
                  <a:pt x="1194" y="2093"/>
                  <a:pt x="1844" y="23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59560" y="1468440"/>
            <a:ext cx="1690920" cy="4230720"/>
          </a:xfrm>
          <a:custGeom>
            <a:avLst/>
            <a:gdLst/>
            <a:ahLst/>
            <a:rect l="l" t="t" r="r" b="b"/>
            <a:pathLst>
              <a:path w="1972" h="2766">
                <a:moveTo>
                  <a:pt x="0" y="93"/>
                </a:moveTo>
                <a:cubicBezTo>
                  <a:pt x="10" y="51"/>
                  <a:pt x="20" y="9"/>
                  <a:pt x="117" y="49"/>
                </a:cubicBezTo>
                <a:cubicBezTo>
                  <a:pt x="214" y="89"/>
                  <a:pt x="306" y="0"/>
                  <a:pt x="581" y="334"/>
                </a:cubicBezTo>
                <a:cubicBezTo>
                  <a:pt x="856" y="668"/>
                  <a:pt x="1562" y="1651"/>
                  <a:pt x="1767" y="2056"/>
                </a:cubicBezTo>
                <a:cubicBezTo>
                  <a:pt x="1972" y="2461"/>
                  <a:pt x="1891" y="2613"/>
                  <a:pt x="1811" y="27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60F6-5ECD-491F-8CDB-11D80F139E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og Design Flo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6240" y="2644920"/>
            <a:ext cx="2867040" cy="3788280"/>
            <a:chOff x="1146240" y="2644920"/>
            <a:chExt cx="2867040" cy="3788280"/>
          </a:xfrm>
        </p:grpSpPr>
        <p:graphicFrame>
          <p:nvGraphicFramePr>
            <p:cNvPr id="113" name=""/>
            <p:cNvGraphicFramePr/>
            <p:nvPr/>
          </p:nvGraphicFramePr>
          <p:xfrm>
            <a:off x="1189080" y="2644920"/>
            <a:ext cx="1931760" cy="347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9080" y="2644920"/>
                      <a:ext cx="1931760" cy="34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1146240" y="6095880"/>
              <a:ext cx="28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 Design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1146240" y="1668600"/>
          <a:ext cx="16351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1668600"/>
                    <a:ext cx="16351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4876920" y="1579680"/>
            <a:ext cx="3230280" cy="4960080"/>
            <a:chOff x="4876920" y="1579680"/>
            <a:chExt cx="3230280" cy="4960080"/>
          </a:xfrm>
        </p:grpSpPr>
        <p:graphicFrame>
          <p:nvGraphicFramePr>
            <p:cNvPr id="119" name=""/>
            <p:cNvGraphicFramePr/>
            <p:nvPr/>
          </p:nvGraphicFramePr>
          <p:xfrm>
            <a:off x="5140440" y="1579680"/>
            <a:ext cx="2966760" cy="444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40440" y="1579680"/>
                      <a:ext cx="2966760" cy="44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4876920" y="6075360"/>
              <a:ext cx="298296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 Design Process wit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mbolic Circuit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 rot="21352200">
            <a:off x="4373640" y="1213920"/>
            <a:ext cx="387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ymbolic Circuit Analysis Fits I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84200" y="2430360"/>
          <a:ext cx="127980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84200" y="2430360"/>
                    <a:ext cx="1279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79440" y="3346560"/>
          <a:ext cx="1530360" cy="100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79440" y="3346560"/>
                    <a:ext cx="1530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95440" y="4089240"/>
          <a:ext cx="1054080" cy="141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95440" y="4089240"/>
                    <a:ext cx="105408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A6E9-1493-4956-89F5-E73D7CBAD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liminary 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9CC5-BB6C-465A-843A-FB1D972B26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og Design Crite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formance 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function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 consum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Linea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Limits value of largest usefu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Noise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Limits value of smallest usefu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3430440"/>
            <a:ext cx="274320" cy="1721160"/>
          </a:xfrm>
          <a:custGeom>
            <a:avLst/>
            <a:gdLst>
              <a:gd name="textAreaLeft" fmla="*/ 0 w 274320"/>
              <a:gd name="textAreaRight" fmla="*/ 99000 w 274320"/>
              <a:gd name="textAreaTop" fmla="*/ 44640 h 1721160"/>
              <a:gd name="textAreaBottom" fmla="*/ 1676520 h 172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34440" y="345276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667F-5455-491C-998E-EB4D2BF799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4128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rd-Ord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modulation Distortion Rat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1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s third-order distortion compon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minants in fully differential circu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344520" y="2806560"/>
                <a:ext cx="3887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"/>
          <p:cNvSpPr/>
          <p:nvPr/>
        </p:nvSpPr>
        <p:spPr>
          <a:xfrm>
            <a:off x="2152800" y="3562200"/>
            <a:ext cx="1263600" cy="83844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14600" y="3835440"/>
            <a:ext cx="1596960" cy="347760"/>
          </a:xfrm>
          <a:prstGeom prst="rightArrow">
            <a:avLst>
              <a:gd name="adj1" fmla="val 42704"/>
              <a:gd name="adj2" fmla="val 109871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91120" y="3548160"/>
                <a:ext cx="376380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860400" y="5370480"/>
                <a:ext cx="11304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878040" y="4583160"/>
                <a:ext cx="2735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 rot="5400000">
            <a:off x="1194120" y="3309120"/>
            <a:ext cx="968400" cy="871560"/>
          </a:xfrm>
          <a:custGeom>
            <a:avLst/>
            <a:gdLst>
              <a:gd name="textAreaLeft" fmla="*/ 322200 w 968400"/>
              <a:gd name="textAreaRight" fmla="*/ 808200 w 968400"/>
              <a:gd name="textAreaTop" fmla="*/ 597240 h 871560"/>
              <a:gd name="textAreaBottom" fmla="*/ 72720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8378"/>
                </a:moveTo>
                <a:lnTo>
                  <a:pt x="14801" y="18378"/>
                </a:lnTo>
                <a:lnTo>
                  <a:pt x="14801" y="7190"/>
                </a:lnTo>
                <a:lnTo>
                  <a:pt x="11224" y="7190"/>
                </a:lnTo>
                <a:lnTo>
                  <a:pt x="16412" y="0"/>
                </a:lnTo>
                <a:lnTo>
                  <a:pt x="21600" y="7190"/>
                </a:lnTo>
                <a:lnTo>
                  <a:pt x="18023" y="7190"/>
                </a:lnTo>
                <a:lnTo>
                  <a:pt x="180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92080" y="6488280"/>
            <a:ext cx="51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s &amp; Martin, Analog Integrated Circuit Design, John Wiley &amp; Sons, New York, 199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78520" y="2932200"/>
                <a:ext cx="3327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  <m:sup>
                        <m:r>
                          <m:t xml:space="preserve">3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0121-5B43-4D07-BFC7-27D57D16B9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-Order Intercept-poin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14640" y="1752480"/>
            <a:ext cx="5011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Higher the Intercept point the more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order harmonics are suppres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very 1dB A is decreased I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mproves by 2d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233280" y="1784520"/>
          <a:ext cx="3529080" cy="32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784520"/>
                    <a:ext cx="3529080" cy="32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546120" y="5343480"/>
                <a:ext cx="223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>
            <a:off x="2765520" y="27748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16207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56080" y="5394240"/>
            <a:ext cx="491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resented by a transfer function and in terms of a D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8781-558E-4110-B5E4-6E0994CAEEF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nlinear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66280" y="211428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ong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logic controlling the operations of analog/RF front-e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ads to abrupt behavior chang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havioral models for system-on-chip simulation characterized by PWL mod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ak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excursions around the quiescent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402B-DDC3-4C6B-9BF9-250CFA341F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akly Nonlinea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umerical Algo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monic Bal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oting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lgo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er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n obtain closed-formed explicit expressions to represent harmonic and intermodulation distortion ter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5680-2788-40BA-B085-D114B18742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olterra Series Approa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66640" y="2955600"/>
            <a:ext cx="832968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linear element has controlling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s can be regarded as sum of harmonics and intermodulation produc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x,m,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hasor of component of voltage at node x 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m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n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595520" y="3459240"/>
                <a:ext cx="5641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5" name=""/>
          <p:cNvGrpSpPr/>
          <p:nvPr/>
        </p:nvGrpSpPr>
        <p:grpSpPr>
          <a:xfrm>
            <a:off x="2409840" y="1805040"/>
            <a:ext cx="4175280" cy="1143000"/>
            <a:chOff x="2409840" y="1805040"/>
            <a:chExt cx="4175280" cy="1143000"/>
          </a:xfrm>
        </p:grpSpPr>
        <p:sp>
          <p:nvSpPr>
            <p:cNvPr id="816" name=""/>
            <p:cNvSpPr/>
            <p:nvPr/>
          </p:nvSpPr>
          <p:spPr>
            <a:xfrm>
              <a:off x="3670560" y="1805040"/>
              <a:ext cx="144756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n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5403960" y="2109960"/>
              <a:ext cx="533160" cy="533160"/>
              <a:chOff x="5403960" y="2109960"/>
              <a:chExt cx="533160" cy="533160"/>
            </a:xfrm>
          </p:grpSpPr>
          <p:sp>
            <p:nvSpPr>
              <p:cNvPr id="818" name=""/>
              <p:cNvSpPr/>
              <p:nvPr/>
            </p:nvSpPr>
            <p:spPr>
              <a:xfrm>
                <a:off x="5403960" y="2109960"/>
                <a:ext cx="533160" cy="5331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670720" y="22622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2845080" y="2135160"/>
              <a:ext cx="533160" cy="533520"/>
              <a:chOff x="2845080" y="2135160"/>
              <a:chExt cx="533160" cy="533520"/>
            </a:xfrm>
          </p:grpSpPr>
          <p:sp>
            <p:nvSpPr>
              <p:cNvPr id="821" name=""/>
              <p:cNvSpPr/>
              <p:nvPr/>
            </p:nvSpPr>
            <p:spPr>
              <a:xfrm>
                <a:off x="2845080" y="2135160"/>
                <a:ext cx="533160" cy="5335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311184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V="1">
              <a:off x="3100680" y="191916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0680" y="1913040"/>
              <a:ext cx="55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100680" y="2674800"/>
              <a:ext cx="552240" cy="216000"/>
              <a:chOff x="3100680" y="2674800"/>
              <a:chExt cx="552240" cy="216000"/>
            </a:xfrm>
          </p:grpSpPr>
          <p:sp>
            <p:nvSpPr>
              <p:cNvPr id="826" name=""/>
              <p:cNvSpPr/>
              <p:nvPr/>
            </p:nvSpPr>
            <p:spPr>
              <a:xfrm>
                <a:off x="3100680" y="267480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00680" y="289080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13080" y="1893960"/>
              <a:ext cx="552600" cy="977400"/>
              <a:chOff x="5113080" y="1893960"/>
              <a:chExt cx="552600" cy="977400"/>
            </a:xfrm>
          </p:grpSpPr>
          <p:sp>
            <p:nvSpPr>
              <p:cNvPr id="829" name=""/>
              <p:cNvSpPr/>
              <p:nvPr/>
            </p:nvSpPr>
            <p:spPr>
              <a:xfrm flipV="1">
                <a:off x="5665680" y="1900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5113080" y="1893960"/>
                <a:ext cx="5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5113080" y="2656440"/>
                <a:ext cx="552600" cy="214920"/>
                <a:chOff x="5113080" y="2656440"/>
                <a:chExt cx="552600" cy="2149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665680" y="2656440"/>
                  <a:ext cx="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5113080" y="287136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4" name=""/>
            <p:cNvSpPr/>
            <p:nvPr/>
          </p:nvSpPr>
          <p:spPr>
            <a:xfrm>
              <a:off x="2409840" y="2139840"/>
              <a:ext cx="65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29560" y="2185920"/>
              <a:ext cx="655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2803680" y="5416560"/>
                <a:ext cx="3824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152280" y="6318360"/>
            <a:ext cx="40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Fernandez, A. Rodriguez-Vazquez, J. Huertas, G. Gielen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ymbolic Analysis Techniqu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New Jersey: IEEE Press, 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935E-03E3-4F17-89D7-F130C58A97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earize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640" y="3722400"/>
            <a:ext cx="83152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nonlinear current source to linearize nonlinear elements in circu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s higher order distortion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ression based on previous calculation of node volt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311720" y="1785960"/>
            <a:ext cx="4579920" cy="1659600"/>
            <a:chOff x="4311720" y="1785960"/>
            <a:chExt cx="4579920" cy="1659600"/>
          </a:xfrm>
        </p:grpSpPr>
        <p:sp>
          <p:nvSpPr>
            <p:cNvPr id="841" name=""/>
            <p:cNvSpPr/>
            <p:nvPr/>
          </p:nvSpPr>
          <p:spPr>
            <a:xfrm>
              <a:off x="4633920" y="1838520"/>
              <a:ext cx="3942000" cy="157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11720" y="19875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43640" y="2421000"/>
              <a:ext cx="48888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88080" y="2571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95920" y="2419560"/>
              <a:ext cx="48888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0360" y="2556000"/>
              <a:ext cx="0" cy="2286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946840" y="21459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46840" y="28767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688080" y="21459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688080" y="28767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56200" y="31514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954760" y="21510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54640" y="31482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69040" y="20574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59600" y="313848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12080" y="1785960"/>
              <a:ext cx="26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4760" y="2500560"/>
              <a:ext cx="168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i,1,+/-1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,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j,1,+/-1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754160" y="21384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702320" y="308628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92640" y="30384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40520" y="209556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92720" y="191952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45200" y="290520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1640" y="2428920"/>
              <a:ext cx="87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Verdana"/>
                </a:rPr>
                <a:t>i</a:t>
              </a:r>
              <a:r>
                <a:rPr b="0" lang="en-US" sz="1400" spc="-1" strike="noStrike" baseline="-25000">
                  <a:solidFill>
                    <a:srgbClr val="cc0000"/>
                  </a:solidFill>
                  <a:latin typeface="Verdana"/>
                </a:rPr>
                <a:t>NL2g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22880" y="33260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567640" y="1976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578800" y="33148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0" y="1949400"/>
                <a:ext cx="4656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nlinearities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A3F8-C7B2-456F-B89E-47F4045B701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Strong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ecewise Linear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66280" y="2233080"/>
            <a:ext cx="8001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strongly nonlinear behavi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witching operating reg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dden changes of device phys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any piecewise linear fun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-V character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473D-EB10-4677-BEFC-2D7623B836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1" name=""/>
          <p:cNvGraphicFramePr/>
          <p:nvPr/>
        </p:nvGraphicFramePr>
        <p:xfrm>
          <a:off x="5694480" y="1857240"/>
          <a:ext cx="193356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4480" y="1857240"/>
                    <a:ext cx="193356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WL Concep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ew”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tho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 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j = 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to mo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WL behavi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"/>
          <p:cNvSpPr/>
          <p:nvPr/>
        </p:nvSpPr>
        <p:spPr>
          <a:xfrm rot="14631600">
            <a:off x="5010120" y="3819240"/>
            <a:ext cx="920880" cy="380880"/>
          </a:xfrm>
          <a:prstGeom prst="rightArrow">
            <a:avLst>
              <a:gd name="adj1" fmla="val 50000"/>
              <a:gd name="adj2" fmla="val 6044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856120" y="401004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ty opposite of an ideal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338720" y="2090880"/>
          <a:ext cx="1368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8720" y="2090880"/>
                    <a:ext cx="1368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1E7A-9E22-47FC-ACF1-0B036A8EB26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ally Characteriz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R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e-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ortion/Harmo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ept points (IP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3B2F-96CF-479D-B6FD-5265FC057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ing PWL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"/>
          <p:cNvSpPr/>
          <p:nvPr/>
        </p:nvSpPr>
        <p:spPr>
          <a:xfrm>
            <a:off x="4546440" y="5943600"/>
            <a:ext cx="321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enaerts &amp; Bokhoven, Piecewise Linear Modeling and Analysis, Kluwer Academic Publishers, 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291960" y="3675240"/>
                <a:ext cx="2786040" cy="28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u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for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2" name=""/>
          <p:cNvGrpSpPr/>
          <p:nvPr/>
        </p:nvGrpSpPr>
        <p:grpSpPr>
          <a:xfrm>
            <a:off x="4361040" y="1917720"/>
            <a:ext cx="3357360" cy="3227400"/>
            <a:chOff x="4361040" y="1917720"/>
            <a:chExt cx="3357360" cy="3227400"/>
          </a:xfrm>
        </p:grpSpPr>
        <p:graphicFrame>
          <p:nvGraphicFramePr>
            <p:cNvPr id="883" name=""/>
            <p:cNvGraphicFramePr/>
            <p:nvPr/>
          </p:nvGraphicFramePr>
          <p:xfrm>
            <a:off x="4361040" y="1917720"/>
            <a:ext cx="3357360" cy="32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61040" y="1917720"/>
                      <a:ext cx="3357360" cy="32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85" name=""/>
                <p:cNvSpPr txBox="1"/>
                <p:nvPr/>
              </p:nvSpPr>
              <p:spPr>
                <a:xfrm>
                  <a:off x="5251320" y="2855880"/>
                  <a:ext cx="40320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5340240" y="4281480"/>
                  <a:ext cx="39852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7" name=""/>
          <p:cNvGrpSpPr/>
          <p:nvPr/>
        </p:nvGrpSpPr>
        <p:grpSpPr>
          <a:xfrm>
            <a:off x="5961240" y="2519280"/>
            <a:ext cx="661680" cy="2603520"/>
            <a:chOff x="5961240" y="2519280"/>
            <a:chExt cx="661680" cy="2603520"/>
          </a:xfrm>
        </p:grpSpPr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6288120" y="2830320"/>
                  <a:ext cx="29988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6345360" y="4478040"/>
                  <a:ext cx="2775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90" name=""/>
            <p:cNvGraphicFramePr/>
            <p:nvPr/>
          </p:nvGraphicFramePr>
          <p:xfrm>
            <a:off x="5961240" y="2519280"/>
            <a:ext cx="45216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61240" y="2519280"/>
                      <a:ext cx="45216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2" name=""/>
          <p:cNvGrpSpPr/>
          <p:nvPr/>
        </p:nvGrpSpPr>
        <p:grpSpPr>
          <a:xfrm>
            <a:off x="6772320" y="2535120"/>
            <a:ext cx="682560" cy="2603520"/>
            <a:chOff x="6772320" y="2535120"/>
            <a:chExt cx="682560" cy="2603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7042320" y="2830320"/>
                  <a:ext cx="339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7155000" y="4468680"/>
                  <a:ext cx="299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95" name=""/>
            <p:cNvGraphicFramePr/>
            <p:nvPr/>
          </p:nvGraphicFramePr>
          <p:xfrm>
            <a:off x="6772320" y="2535120"/>
            <a:ext cx="452520" cy="260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72320" y="2535120"/>
                      <a:ext cx="45252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7" name=""/>
          <p:cNvGrpSpPr/>
          <p:nvPr/>
        </p:nvGrpSpPr>
        <p:grpSpPr>
          <a:xfrm>
            <a:off x="7454880" y="2527200"/>
            <a:ext cx="698400" cy="2603520"/>
            <a:chOff x="7454880" y="2527200"/>
            <a:chExt cx="698400" cy="2603520"/>
          </a:xfrm>
        </p:grpSpPr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7723080" y="2827080"/>
                  <a:ext cx="3193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7854840" y="4483080"/>
                  <a:ext cx="2984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00" name=""/>
            <p:cNvGraphicFramePr/>
            <p:nvPr/>
          </p:nvGraphicFramePr>
          <p:xfrm>
            <a:off x="7454880" y="2527200"/>
            <a:ext cx="452520" cy="2603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54880" y="2527200"/>
                      <a:ext cx="45252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2" name=""/>
          <p:cNvGrpSpPr/>
          <p:nvPr/>
        </p:nvGrpSpPr>
        <p:grpSpPr>
          <a:xfrm>
            <a:off x="939960" y="2457360"/>
            <a:ext cx="955440" cy="827280"/>
            <a:chOff x="939960" y="2457360"/>
            <a:chExt cx="955440" cy="827280"/>
          </a:xfrm>
        </p:grpSpPr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1182600" y="2476440"/>
                  <a:ext cx="3160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4" name=""/>
                <p:cNvSpPr txBox="1"/>
                <p:nvPr/>
              </p:nvSpPr>
              <p:spPr>
                <a:xfrm>
                  <a:off x="939960" y="2970360"/>
                  <a:ext cx="258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5" name=""/>
            <p:cNvSpPr/>
            <p:nvPr/>
          </p:nvSpPr>
          <p:spPr>
            <a:xfrm flipV="1">
              <a:off x="1031760" y="2457360"/>
              <a:ext cx="863640" cy="15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039680" y="2603160"/>
              <a:ext cx="7920" cy="338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758960" y="2195640"/>
            <a:ext cx="565200" cy="1071360"/>
            <a:chOff x="1758960" y="2195640"/>
            <a:chExt cx="565200" cy="1071360"/>
          </a:xfrm>
        </p:grpSpPr>
        <mc:AlternateContent>
          <mc:Choice xmlns:a14="http://schemas.microsoft.com/office/drawing/2010/main" Requires="a14">
            <p:sp>
              <p:nvSpPr>
                <p:cNvPr id="908" name=""/>
                <p:cNvSpPr txBox="1"/>
                <p:nvPr/>
              </p:nvSpPr>
              <p:spPr>
                <a:xfrm>
                  <a:off x="1949400" y="2195640"/>
                  <a:ext cx="33660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1758960" y="2954160"/>
                  <a:ext cx="276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1893960" y="2457360"/>
              <a:ext cx="430200" cy="209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1889280" y="2481120"/>
              <a:ext cx="7920" cy="463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209680" y="2092320"/>
            <a:ext cx="576360" cy="1208160"/>
            <a:chOff x="2209680" y="2092320"/>
            <a:chExt cx="576360" cy="1208160"/>
          </a:xfrm>
        </p:grpSpPr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397240" y="2092320"/>
                  <a:ext cx="320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2209680" y="2968560"/>
                  <a:ext cx="2764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 flipV="1">
              <a:off x="2322360" y="2317680"/>
              <a:ext cx="463680" cy="349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313000" y="2676600"/>
              <a:ext cx="7920" cy="30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28520" y="1644480"/>
            <a:ext cx="2924280" cy="1680840"/>
            <a:chOff x="128520" y="1644480"/>
            <a:chExt cx="2924280" cy="168084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2857680" y="2871720"/>
                  <a:ext cx="19512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9" name=""/>
            <p:cNvSpPr/>
            <p:nvPr/>
          </p:nvSpPr>
          <p:spPr>
            <a:xfrm flipV="1">
              <a:off x="1544760" y="1839600"/>
              <a:ext cx="0" cy="148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6200" y="2971800"/>
              <a:ext cx="24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1" name=""/>
                <p:cNvSpPr txBox="1"/>
                <p:nvPr/>
              </p:nvSpPr>
              <p:spPr>
                <a:xfrm>
                  <a:off x="1566720" y="1787400"/>
                  <a:ext cx="23832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2" name=""/>
                <p:cNvSpPr txBox="1"/>
                <p:nvPr/>
              </p:nvSpPr>
              <p:spPr>
                <a:xfrm>
                  <a:off x="1325520" y="1644480"/>
                  <a:ext cx="19692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3" name=""/>
            <p:cNvSpPr/>
            <p:nvPr/>
          </p:nvSpPr>
          <p:spPr>
            <a:xfrm flipV="1">
              <a:off x="1036800" y="2082960"/>
              <a:ext cx="509400" cy="52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128520" y="2890800"/>
                  <a:ext cx="3207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5" name=""/>
            <p:cNvSpPr/>
            <p:nvPr/>
          </p:nvSpPr>
          <p:spPr>
            <a:xfrm flipV="1">
              <a:off x="365040" y="2614320"/>
              <a:ext cx="668520" cy="703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1441-85E8-4A66-97E2-94F49494C61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NA Stamping Ru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ct macro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2766960" y="4170240"/>
          <a:ext cx="3252960" cy="11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6960" y="4170240"/>
                    <a:ext cx="325296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"/>
          <p:cNvGraphicFramePr/>
          <p:nvPr/>
        </p:nvGraphicFramePr>
        <p:xfrm>
          <a:off x="1773360" y="1849320"/>
          <a:ext cx="4844880" cy="25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3360" y="1849320"/>
                    <a:ext cx="48448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1104-5B58-4CAA-9980-69D153BC14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NA Formu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66280" y="3765240"/>
            <a:ext cx="80010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bout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2395440" y="1839960"/>
                <a:ext cx="339084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o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8" name=""/>
          <p:cNvSpPr txBox="1"/>
          <p:nvPr/>
        </p:nvSpPr>
        <p:spPr>
          <a:xfrm>
            <a:off x="239760" y="4549680"/>
            <a:ext cx="86137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ixed Linear Complementarity Problem!?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1A75-3D0E-4F7E-8F50-181A7E0AC8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licit Solu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ear Complementarity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659772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rtho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 &gt; 0 then j = -q/d, u =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0 then j = 0, u = q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q/d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u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74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e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-Dimen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4319640" y="1969920"/>
          <a:ext cx="163980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1969920"/>
                    <a:ext cx="163980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724120" y="4349880"/>
                <a:ext cx="157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 flipV="1">
            <a:off x="6781680" y="2728440"/>
            <a:ext cx="71928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072200" y="2698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321680" y="3656160"/>
            <a:ext cx="198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940440" y="334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-u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996240" y="257796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4381560" y="2921040"/>
          <a:ext cx="16207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2921040"/>
                    <a:ext cx="16207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"/>
          <p:cNvSpPr/>
          <p:nvPr/>
        </p:nvSpPr>
        <p:spPr>
          <a:xfrm>
            <a:off x="6027840" y="2560680"/>
            <a:ext cx="447480" cy="285840"/>
          </a:xfrm>
          <a:prstGeom prst="rightArrow">
            <a:avLst>
              <a:gd name="adj1" fmla="val 50000"/>
              <a:gd name="adj2" fmla="val 3913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41880" y="3517920"/>
            <a:ext cx="447840" cy="285840"/>
          </a:xfrm>
          <a:prstGeom prst="rightArrow">
            <a:avLst>
              <a:gd name="adj1" fmla="val 50000"/>
              <a:gd name="adj2" fmla="val 3916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1120680" y="5392800"/>
                <a:ext cx="28018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606920" y="5099040"/>
                <a:ext cx="432756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4022640" y="5613480"/>
            <a:ext cx="447840" cy="285840"/>
          </a:xfrm>
          <a:prstGeom prst="rightArrow">
            <a:avLst>
              <a:gd name="adj1" fmla="val 50000"/>
              <a:gd name="adj2" fmla="val 3916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897520" y="1673280"/>
                <a:ext cx="847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j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6777000" y="3668760"/>
            <a:ext cx="198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9123-FA64-46DA-A5DF-94C0E122403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6680" y="304920"/>
            <a:ext cx="8115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plementarity Decision Diagr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64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n efficient diagram to represent the explicit solution to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-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-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343240" y="4235400"/>
                <a:ext cx="20556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4232160" y="2585880"/>
          <a:ext cx="79560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2160" y="2585880"/>
                    <a:ext cx="7956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"/>
          <p:cNvGraphicFramePr/>
          <p:nvPr/>
        </p:nvGraphicFramePr>
        <p:xfrm>
          <a:off x="5075280" y="3749760"/>
          <a:ext cx="2151000" cy="27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5280" y="3749760"/>
                    <a:ext cx="215100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266920" y="2703600"/>
                <a:ext cx="946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5578560" y="2003040"/>
            <a:ext cx="3494160" cy="2354400"/>
          </a:xfrm>
          <a:prstGeom prst="star5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0C22-0266-4C55-AD2A-F9ED357D9B9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9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PWL Analysis 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ongly Nonlinear Circu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1263600" y="3025800"/>
          <a:ext cx="109692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3025800"/>
                    <a:ext cx="10969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0" y="1622520"/>
          <a:ext cx="207324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2520"/>
                    <a:ext cx="20732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0" y="34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42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646440" y="4152960"/>
            <a:ext cx="4000680" cy="2528640"/>
            <a:chOff x="3646440" y="4152960"/>
            <a:chExt cx="4000680" cy="2528640"/>
          </a:xfrm>
        </p:grpSpPr>
        <p:graphicFrame>
          <p:nvGraphicFramePr>
            <p:cNvPr id="981" name=""/>
            <p:cNvGraphicFramePr/>
            <p:nvPr/>
          </p:nvGraphicFramePr>
          <p:xfrm>
            <a:off x="5869080" y="4779000"/>
            <a:ext cx="1778040" cy="176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9080" y="4779000"/>
                      <a:ext cx="1778040" cy="176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3646440" y="5447160"/>
                  <a:ext cx="182880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4" name=""/>
                <p:cNvSpPr txBox="1"/>
                <p:nvPr/>
              </p:nvSpPr>
              <p:spPr>
                <a:xfrm>
                  <a:off x="3932280" y="4831200"/>
                  <a:ext cx="133992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⌊"/>
                          <m:endChr m:val="⌋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5" name=""/>
            <p:cNvSpPr/>
            <p:nvPr/>
          </p:nvSpPr>
          <p:spPr>
            <a:xfrm>
              <a:off x="5253120" y="4152960"/>
              <a:ext cx="1143000" cy="105984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52800" y="4494240"/>
              <a:ext cx="1276560" cy="367560"/>
            </a:xfrm>
            <a:prstGeom prst="rightArrow">
              <a:avLst>
                <a:gd name="adj1" fmla="val 50000"/>
                <a:gd name="adj2" fmla="val 86827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00800" y="4508280"/>
              <a:ext cx="1195560" cy="367200"/>
            </a:xfrm>
            <a:prstGeom prst="rightArrow">
              <a:avLst>
                <a:gd name="adj1" fmla="val 50000"/>
                <a:gd name="adj2" fmla="val 81397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488960" y="3025800"/>
            <a:ext cx="3293640" cy="2302920"/>
            <a:chOff x="1488960" y="3025800"/>
            <a:chExt cx="3293640" cy="2302920"/>
          </a:xfrm>
        </p:grpSpPr>
        <mc:AlternateContent>
          <mc:Choice xmlns:a14="http://schemas.microsoft.com/office/drawing/2010/main" Requires="a14">
            <p:sp>
              <p:nvSpPr>
                <p:cNvPr id="989" name=""/>
                <p:cNvSpPr txBox="1"/>
                <p:nvPr/>
              </p:nvSpPr>
              <p:spPr>
                <a:xfrm>
                  <a:off x="2289960" y="3025800"/>
                  <a:ext cx="249264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90" name=""/>
            <p:cNvSpPr/>
            <p:nvPr/>
          </p:nvSpPr>
          <p:spPr>
            <a:xfrm>
              <a:off x="1503000" y="4392360"/>
              <a:ext cx="1275120" cy="321480"/>
            </a:xfrm>
            <a:prstGeom prst="rightArrow">
              <a:avLst>
                <a:gd name="adj1" fmla="val 50000"/>
                <a:gd name="adj2" fmla="val 9916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12680" y="4113720"/>
              <a:ext cx="1126440" cy="92700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C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107520" y="3681000"/>
              <a:ext cx="502200" cy="375120"/>
            </a:xfrm>
            <a:prstGeom prst="rightArrow">
              <a:avLst>
                <a:gd name="adj1" fmla="val 50000"/>
                <a:gd name="adj2" fmla="val 3346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3" name=""/>
                <p:cNvSpPr txBox="1"/>
                <p:nvPr/>
              </p:nvSpPr>
              <p:spPr>
                <a:xfrm>
                  <a:off x="1488960" y="4762080"/>
                  <a:ext cx="129852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o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4" name=""/>
          <p:cNvGrpSpPr/>
          <p:nvPr/>
        </p:nvGrpSpPr>
        <p:grpSpPr>
          <a:xfrm>
            <a:off x="3529080" y="1557360"/>
            <a:ext cx="5548320" cy="3705120"/>
            <a:chOff x="3529080" y="1557360"/>
            <a:chExt cx="5548320" cy="370512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529080" y="1916280"/>
                  <a:ext cx="2957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6" name=""/>
            <p:cNvSpPr/>
            <p:nvPr/>
          </p:nvSpPr>
          <p:spPr>
            <a:xfrm>
              <a:off x="6330960" y="2262240"/>
              <a:ext cx="31428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37400" y="4164120"/>
              <a:ext cx="1440000" cy="109836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8" name="" descr=""/>
            <p:cNvPicPr/>
            <p:nvPr/>
          </p:nvPicPr>
          <p:blipFill>
            <a:blip r:embed="rId7"/>
            <a:stretch/>
          </p:blipFill>
          <p:spPr>
            <a:xfrm>
              <a:off x="6632640" y="1557360"/>
              <a:ext cx="2181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 rot="16200000">
              <a:off x="8103960" y="3777840"/>
              <a:ext cx="387360" cy="381240"/>
            </a:xfrm>
            <a:prstGeom prst="rightArrow">
              <a:avLst>
                <a:gd name="adj1" fmla="val 50000"/>
                <a:gd name="adj2" fmla="val 25401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219240" y="3006720"/>
            <a:ext cx="2716200" cy="3525840"/>
            <a:chOff x="219240" y="3006720"/>
            <a:chExt cx="2716200" cy="3525840"/>
          </a:xfrm>
        </p:grpSpPr>
        <p:sp>
          <p:nvSpPr>
            <p:cNvPr id="1002" name=""/>
            <p:cNvSpPr/>
            <p:nvPr/>
          </p:nvSpPr>
          <p:spPr>
            <a:xfrm>
              <a:off x="336600" y="4005360"/>
              <a:ext cx="1143000" cy="109836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N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430560" y="3300840"/>
              <a:ext cx="969840" cy="381240"/>
            </a:xfrm>
            <a:prstGeom prst="rightArrow">
              <a:avLst>
                <a:gd name="adj1" fmla="val 50000"/>
                <a:gd name="adj2" fmla="val 6359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603360" y="5210280"/>
              <a:ext cx="552240" cy="380880"/>
            </a:xfrm>
            <a:prstGeom prst="rightArrow">
              <a:avLst>
                <a:gd name="adj1" fmla="val 50000"/>
                <a:gd name="adj2" fmla="val 3624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219240" y="5742000"/>
                  <a:ext cx="27162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M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o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5BA6-3715-4AA6-A984-F252854BBDD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741 Behavioral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4211640" y="2163600"/>
            <a:ext cx="4815000" cy="39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9" name=""/>
          <p:cNvGraphicFramePr/>
          <p:nvPr/>
        </p:nvGraphicFramePr>
        <p:xfrm>
          <a:off x="120600" y="2727360"/>
          <a:ext cx="4067280" cy="21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2727360"/>
                    <a:ext cx="40672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7BB9-684B-4FC1-B6A5-1786E1E92A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WL 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ed circuits with hard nonlinearities using PWL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-based procedure for converting MLCP to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graph-based form of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ed on several different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741, mixer, et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393B-16A0-4771-BC92-BC2E459A6ED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e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timization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EAAB-86F6-45DD-ADD6-98161A19CAA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liminary Schedu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566640" y="1752480"/>
          <a:ext cx="8001000" cy="4592880"/>
        </p:xfrm>
        <a:graphic>
          <a:graphicData uri="http://schemas.openxmlformats.org/drawingml/2006/table">
            <a:tbl>
              <a:tblPr/>
              <a:tblGrid>
                <a:gridCol w="5176800"/>
                <a:gridCol w="2824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ze solution to LCP in freq. do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ter – Spring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x. corners of PWL for volterra partial deriv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ter – Spring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y implement PWL/Volterra inte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ng – 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on a various analog desig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ng – 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-based approx. of symbolic expr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symbolic/numeric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ient symbolic pole/zero genera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31CB-9A9A-4165-86DA-A39D42C2CBB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 Design In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Space Expl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itivity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al Model 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t De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ortion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784B-4E2F-44E5-BF7A-DEF429ABE7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Determinant Decision Dia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amer’s 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DD Vertex Expan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DD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94C4-ED99-4509-AEE5-63EB216C81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amer’s Ru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95840" y="3413160"/>
          <a:ext cx="3206880" cy="252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5840" y="3413160"/>
                    <a:ext cx="320688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50840" y="3372840"/>
            <a:ext cx="5708520" cy="2345400"/>
          </a:xfrm>
          <a:prstGeom prst="irregularSeal2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Exponential Growth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94360" y="2195640"/>
                <a:ext cx="35114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79320" y="1747800"/>
                <a:ext cx="330840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396200" y="1679400"/>
                <a:ext cx="947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510160" y="1681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E2D7-2DF8-4C50-85C1-B093EE6D8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Vertex Expan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821120" y="1676520"/>
                <a:ext cx="1219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35320" y="5025960"/>
                <a:ext cx="914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735520" y="4800600"/>
                <a:ext cx="1295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897440" y="3200400"/>
            <a:ext cx="89388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34120" y="289512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00600" y="4038480"/>
            <a:ext cx="533520" cy="685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038480"/>
            <a:ext cx="53316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7360" y="2938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ed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7440" y="34290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5812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0415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i &amp; Tan, TCAD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20720" y="4662360"/>
                <a:ext cx="15242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25640" y="472428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7040" y="487692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9760" y="5114880"/>
            <a:ext cx="790920" cy="380880"/>
          </a:xfrm>
          <a:prstGeom prst="rightArrow">
            <a:avLst>
              <a:gd name="adj1" fmla="val 50000"/>
              <a:gd name="adj2" fmla="val 51914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096560" y="3153960"/>
            <a:ext cx="785880" cy="32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112760" y="3552480"/>
            <a:ext cx="757440" cy="4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91160" y="4017960"/>
            <a:ext cx="47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99080" y="403380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76640" y="476244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6120" y="569268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C3EA-5549-4089-B117-EBCB9AC33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39:40Z</dcterms:created>
  <dc:creator>Alicia Manthe</dc:creator>
  <dc:description/>
  <dc:language>en-US</dc:language>
  <cp:lastModifiedBy>Alicia Manthe</cp:lastModifiedBy>
  <dcterms:modified xsi:type="dcterms:W3CDTF">2002-12-12T15:25:00Z</dcterms:modified>
  <cp:revision>292</cp:revision>
  <dc:subject/>
  <dc:title>Symbolic Circuit Analysis of Strongly Nonlinear Circui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04929143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darpa presentation prepared for send out</vt:lpwstr>
  </property>
</Properties>
</file>