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6520" y="2109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904F-06A6-4647-A684-BC9327C83B54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lassCBasisAggregates__coll__graph" descr=""/>
          <p:cNvPicPr/>
          <p:nvPr/>
        </p:nvPicPr>
        <p:blipFill>
          <a:blip r:embed="rId1"/>
          <a:stretch/>
        </p:blipFill>
        <p:spPr>
          <a:xfrm>
            <a:off x="504720" y="1177920"/>
            <a:ext cx="8089920" cy="548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SMoS Coupled EM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bas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++ shared libraries containing EM and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coupling portions of CoSMoS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es stable API to other CoSMo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 and running using various test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atrix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 conditioning due to electrically small size successfully addressed by using scaled loop-star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questions in loop-star implementation only partially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rovement in ill conditioning due to geometric structure by using matrix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gains should result from improved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established for electrically small systems at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for systems which are not electrically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 poor due to phase variation of system matri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nteraction of circuit connections most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ion extended to be compatible with scaled loop-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aled Loop-Star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onditioning with similarly sized system matri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1/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scaling to loops to uplift vec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length parameter describing physical size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using largest dimension of system’s boundin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cale EM block of coupled system matrix to match circuit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conditioner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DARPA examples at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precondi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improve to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re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 related research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Gope : Geometric preconditi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. Chakraborty : Frequency 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6480" y="3429000"/>
            <a:ext cx="432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lassCStar__coll__graph" descr=""/>
          <p:cNvPicPr/>
          <p:nvPr/>
        </p:nvPicPr>
        <p:blipFill>
          <a:blip r:embed="rId1"/>
          <a:stretch/>
        </p:blipFill>
        <p:spPr>
          <a:xfrm>
            <a:off x="2154240" y="1565280"/>
            <a:ext cx="67914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CStar_8cpp__incl" descr=""/>
          <p:cNvPicPr/>
          <p:nvPr/>
        </p:nvPicPr>
        <p:blipFill>
          <a:blip r:embed="rId2"/>
          <a:stretch/>
        </p:blipFill>
        <p:spPr>
          <a:xfrm>
            <a:off x="514440" y="3957480"/>
            <a:ext cx="7377120" cy="2413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4640" y="411012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ed EM code using multiregion EFIE formulation with surface impedance ready for CoSMoS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completed research into CoSMoS 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research into improving system 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FMM for electrically smal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in cod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562608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080" y="471312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9280" y="37400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88920" y="408780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86040" y="506088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193480" y="40863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6440" y="4087800"/>
            <a:ext cx="152892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05360" y="2252520"/>
            <a:ext cx="21909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1640" y="140796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01880" y="2733840"/>
            <a:ext cx="2105280" cy="9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440" y="233532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10160" y="32972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96920" y="3471840"/>
            <a:ext cx="171612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4406760"/>
            <a:ext cx="21909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0240" y="1384200"/>
            <a:ext cx="35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95680" y="59691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634920" y="408456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67080" y="1784520"/>
            <a:ext cx="2024280" cy="2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13120" y="2762280"/>
            <a:ext cx="14601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lassCCoupledSystem__coll__graph" descr=""/>
          <p:cNvPicPr/>
          <p:nvPr/>
        </p:nvPicPr>
        <p:blipFill>
          <a:blip r:embed="rId1"/>
          <a:stretch/>
        </p:blipFill>
        <p:spPr>
          <a:xfrm>
            <a:off x="5487840" y="3994200"/>
            <a:ext cx="3529080" cy="2414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import and manipulation of geometry and associ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field solv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basis functions for circuit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of coupl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MNA circuit matrix generation for testing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pled circuit compatible, scaled loop-sta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ization of EM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tal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build and documentati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ll established library of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RPA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EM structur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shing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360" y="1220760"/>
            <a:ext cx="57848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supported by coupled EM cod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terminals and EM materi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, automatic, and selective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er is capable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way to specify terminals, no EM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sel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files are 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losure of file format would be help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hing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proble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orough evaluation will b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ventor" descr=""/>
          <p:cNvPicPr/>
          <p:nvPr/>
        </p:nvPicPr>
        <p:blipFill>
          <a:blip r:embed="rId1"/>
          <a:stretch/>
        </p:blipFill>
        <p:spPr>
          <a:xfrm>
            <a:off x="552600" y="3871800"/>
            <a:ext cx="2614320" cy="2579760"/>
          </a:xfrm>
          <a:prstGeom prst="rect">
            <a:avLst/>
          </a:prstGeom>
          <a:ln w="0">
            <a:noFill/>
          </a:ln>
        </p:spPr>
      </p:pic>
      <p:pic>
        <p:nvPicPr>
          <p:cNvPr id="112" name="ansoft" descr=""/>
          <p:cNvPicPr/>
          <p:nvPr/>
        </p:nvPicPr>
        <p:blipFill>
          <a:blip r:embed="rId2"/>
          <a:stretch/>
        </p:blipFill>
        <p:spPr>
          <a:xfrm>
            <a:off x="317520" y="1317600"/>
            <a:ext cx="2843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lassCBasisFunction__inherit__graph" descr=""/>
          <p:cNvPicPr/>
          <p:nvPr/>
        </p:nvPicPr>
        <p:blipFill>
          <a:blip r:embed="rId1"/>
          <a:stretch/>
        </p:blipFill>
        <p:spPr>
          <a:xfrm>
            <a:off x="6450120" y="2567160"/>
            <a:ext cx="2349360" cy="849240"/>
          </a:xfrm>
          <a:prstGeom prst="rect">
            <a:avLst/>
          </a:prstGeom>
          <a:ln w="0">
            <a:noFill/>
          </a:ln>
        </p:spPr>
      </p:pic>
      <p:pic>
        <p:nvPicPr>
          <p:cNvPr id="114" name="classCEFIEmatrix__inherit__graph" descr=""/>
          <p:cNvPicPr/>
          <p:nvPr/>
        </p:nvPicPr>
        <p:blipFill>
          <a:blip r:embed="rId2"/>
          <a:stretch/>
        </p:blipFill>
        <p:spPr>
          <a:xfrm>
            <a:off x="6789600" y="5202360"/>
            <a:ext cx="1974960" cy="1328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velopment Dire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ongo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tioners to handle ill conditioning due to geometric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ultipole method for electrically smal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region PMCHW formulation (Swagato Chakrabo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R fast solver (Dipanjan G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of code in other languages to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ildmonkey and automated buil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and performanc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ventor mesh im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lassCBasisAggregate__inherit__graph" descr=""/>
          <p:cNvPicPr/>
          <p:nvPr/>
        </p:nvPicPr>
        <p:blipFill>
          <a:blip r:embed="rId3"/>
          <a:stretch/>
        </p:blipFill>
        <p:spPr>
          <a:xfrm>
            <a:off x="6611760" y="4110120"/>
            <a:ext cx="23590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ome Examp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5788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25788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40056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3973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533520" y="481968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257880" y="4819680"/>
            <a:ext cx="2395440" cy="17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11400" y="5351400"/>
            <a:ext cx="28321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imulation capacity than first set of NeoCAD bench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99400" cy="719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520" y="644364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12680" y="-9360"/>
            <a:ext cx="9588600" cy="7191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0" y="644508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0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05200" y="119052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4240" y="11905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4240" y="39337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05200" y="3933720"/>
            <a:ext cx="3648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</cp:lastModifiedBy>
  <cp:lastPrinted>2001-05-19T16:33:31Z</cp:lastPrinted>
  <dcterms:modified xsi:type="dcterms:W3CDTF">2002-12-09T08:16:49Z</dcterms:modified>
  <cp:revision>303</cp:revision>
  <dc:subject>DARPA NeoCAD Program Kickoff Presentation</dc:subject>
  <dc:title>CoSMoS Project Overview</dc:title>
</cp:coreProperties>
</file>