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28.png" ContentType="image/png"/>
  <Override PartName="/ppt/media/image16.png" ContentType="image/png"/>
  <Override PartName="/ppt/media/image27.png" ContentType="image/png"/>
  <Override PartName="/ppt/media/image15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634-15E3-4C64-A22D-03DB5EE4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894F-39C9-48BD-95FE-13F38E96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5E2D-7AC1-42B7-9ED5-45B4049F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FCB-37D9-4DAB-AA29-FC494F96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6912-D426-4649-AD15-27AD6CD7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E6E-5292-4861-956A-312507CA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6F2-1D43-4349-83F5-16045287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3A95-0D96-4DF1-905B-56E04FC7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983-6EE0-4D4F-B7AE-B7391169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A37-6482-408F-977A-B6B16496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C459-0EA0-4E59-8C54-0E85B82B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BE6-B931-4F88-A89A-84797A09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11FE-8A19-46DE-899C-FAC3DC9B7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280" y="66600"/>
            <a:ext cx="8977320" cy="66088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560" y="11174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4600" y="401760"/>
            <a:ext cx="1042920" cy="45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1280" y="66600"/>
            <a:ext cx="8977320" cy="66088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2560" y="111456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63680" y="66294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27B4-260B-4F1C-94CC-FB19462236D1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799760" y="58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8880" y="114480"/>
            <a:ext cx="767088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ast Iterative Solver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oupled EM-Circuit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6000" y="1146240"/>
            <a:ext cx="8785080" cy="54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: Dipanjan G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isor: Vikram Jandhy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R based, Fast Iterative Solver for Circuit-EM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es and accelerates large scale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ble to infinite multi-dielectric Green’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applied to expedite Finite Dielectr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ness: Amenable to Fast Direct Solver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6120" y="3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est Structures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2746080" cy="1949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58720" y="3289320"/>
            <a:ext cx="29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piral I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2779560" cy="1844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321200" y="57150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l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683160" y="4140360"/>
            <a:ext cx="2047680" cy="16048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832200" y="569268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 I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172200" y="4114800"/>
            <a:ext cx="2598840" cy="1617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677640" y="56545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m1s2w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935680" y="1365120"/>
            <a:ext cx="2979720" cy="2043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676200" y="334332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a-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3657600" y="1676520"/>
            <a:ext cx="2300400" cy="1628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486960" y="3178080"/>
            <a:ext cx="28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Spiral I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erformance Chart (60,000 edges)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89000" y="1295280"/>
          <a:ext cx="8691480" cy="4222800"/>
        </p:xfrm>
        <a:graphic>
          <a:graphicData uri="http://schemas.openxmlformats.org/drawingml/2006/table">
            <a:tbl>
              <a:tblPr/>
              <a:tblGrid>
                <a:gridCol w="1144440"/>
                <a:gridCol w="1071720"/>
                <a:gridCol w="1041480"/>
                <a:gridCol w="1089000"/>
                <a:gridCol w="1087200"/>
                <a:gridCol w="1146240"/>
                <a:gridCol w="1147680"/>
                <a:gridCol w="963720"/>
              </a:tblGrid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        set-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          set-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-co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/L-fr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ve time(H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u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9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9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 Spi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5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5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9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9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der 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5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2 /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lea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6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6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 /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o Spir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3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7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6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/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a 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7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3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8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3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228600" y="563076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5715000"/>
            <a:ext cx="8610480" cy="100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 solver :                       54GB memory  ||  32hrs to setup   ||   1200days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low Iterative Solver :    54GB memory  ||  32hrs to setup   ||   126hrs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1000" y="510840"/>
            <a:ext cx="87440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resent Status and Continuing Work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9920" y="1114560"/>
            <a:ext cx="7731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960" y="119376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it and solve large problem s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ork with arbitrary Green’s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Pre-conditioner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ession of interior medium Green’s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to MFIE and PMCH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Direct Solver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796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EM-Circuit Matrix Solver Scheme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663200"/>
            <a:ext cx="8751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pled System Matrix: Different scalings lead to ill-cond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1337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7200" y="2590920"/>
            <a:ext cx="8238960" cy="1066320"/>
            <a:chOff x="457200" y="2590920"/>
            <a:chExt cx="8238960" cy="1066320"/>
          </a:xfrm>
        </p:grpSpPr>
        <p:graphicFrame>
          <p:nvGraphicFramePr>
            <p:cNvPr id="54" name=""/>
            <p:cNvGraphicFramePr/>
            <p:nvPr/>
          </p:nvGraphicFramePr>
          <p:xfrm>
            <a:off x="5562720" y="2765520"/>
            <a:ext cx="3133440" cy="488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62720" y="2765520"/>
                      <a:ext cx="3133440" cy="48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6" name=""/>
            <p:cNvGrpSpPr/>
            <p:nvPr/>
          </p:nvGrpSpPr>
          <p:grpSpPr>
            <a:xfrm>
              <a:off x="457200" y="2590920"/>
              <a:ext cx="4863960" cy="1066320"/>
              <a:chOff x="457200" y="2590920"/>
              <a:chExt cx="4863960" cy="106632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457200" y="2590920"/>
                <a:ext cx="1143000" cy="1066320"/>
                <a:chOff x="457200" y="2590920"/>
                <a:chExt cx="1143000" cy="10663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457200" y="2594880"/>
                  <a:ext cx="889200" cy="7966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457200" y="3391560"/>
                  <a:ext cx="889200" cy="2656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346400" y="3391560"/>
                  <a:ext cx="253800" cy="2656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344600" y="2590920"/>
                  <a:ext cx="255240" cy="800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62" name=""/>
              <p:cNvGraphicFramePr/>
              <p:nvPr/>
            </p:nvGraphicFramePr>
            <p:xfrm>
              <a:off x="2428920" y="2590920"/>
              <a:ext cx="2143080" cy="968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28920" y="2590920"/>
                        <a:ext cx="2143080" cy="96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4" name=""/>
              <p:cNvSpPr/>
              <p:nvPr/>
            </p:nvSpPr>
            <p:spPr>
              <a:xfrm>
                <a:off x="1689120" y="304812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635360" y="307332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304920" y="4038480"/>
            <a:ext cx="8381880" cy="1092240"/>
            <a:chOff x="304920" y="4038480"/>
            <a:chExt cx="8381880" cy="1092240"/>
          </a:xfrm>
        </p:grpSpPr>
        <p:sp>
          <p:nvSpPr>
            <p:cNvPr id="67" name=""/>
            <p:cNvSpPr/>
            <p:nvPr/>
          </p:nvSpPr>
          <p:spPr>
            <a:xfrm>
              <a:off x="304920" y="4114800"/>
              <a:ext cx="83818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rcuit part pre-solved by Sparse Solver to obtai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aining problem solved by Fast QR Iterative meth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" name=""/>
            <p:cNvGraphicFramePr/>
            <p:nvPr/>
          </p:nvGraphicFramePr>
          <p:xfrm>
            <a:off x="6781680" y="4038480"/>
            <a:ext cx="392400" cy="457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81680" y="4038480"/>
                      <a:ext cx="3924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R Iterative Solver Scheme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57200" y="1523880"/>
            <a:ext cx="8034480" cy="2349720"/>
            <a:chOff x="457200" y="1523880"/>
            <a:chExt cx="8034480" cy="2349720"/>
          </a:xfrm>
        </p:grpSpPr>
        <p:sp>
          <p:nvSpPr>
            <p:cNvPr id="72" name=""/>
            <p:cNvSpPr/>
            <p:nvPr/>
          </p:nvSpPr>
          <p:spPr>
            <a:xfrm>
              <a:off x="6781680" y="3048120"/>
              <a:ext cx="100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=1... 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81680" y="350532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 &lt; (m,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" y="1733400"/>
              <a:ext cx="965160" cy="8654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30720" y="1776240"/>
              <a:ext cx="965160" cy="8654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30360" y="2097000"/>
              <a:ext cx="173988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7" name=""/>
            <p:cNvGraphicFramePr/>
            <p:nvPr/>
          </p:nvGraphicFramePr>
          <p:xfrm>
            <a:off x="1959120" y="1614600"/>
            <a:ext cx="863280" cy="473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59120" y="1614600"/>
                      <a:ext cx="86328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555480" y="2811600"/>
              <a:ext cx="1117800" cy="102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77760" y="3138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19200" y="2811600"/>
              <a:ext cx="457200" cy="102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90760" y="2817720"/>
              <a:ext cx="965160" cy="49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"/>
            <p:cNvGraphicFramePr/>
            <p:nvPr/>
          </p:nvGraphicFramePr>
          <p:xfrm>
            <a:off x="723960" y="3048120"/>
            <a:ext cx="790560" cy="43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23960" y="3048120"/>
                      <a:ext cx="790560" cy="4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" name=""/>
            <p:cNvGraphicFramePr/>
            <p:nvPr/>
          </p:nvGraphicFramePr>
          <p:xfrm>
            <a:off x="3438360" y="2833560"/>
            <a:ext cx="682920" cy="408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38360" y="2833560"/>
                      <a:ext cx="682920" cy="40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"/>
            <p:cNvGraphicFramePr/>
            <p:nvPr/>
          </p:nvGraphicFramePr>
          <p:xfrm>
            <a:off x="2284560" y="2998800"/>
            <a:ext cx="745920" cy="46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4560" y="2998800"/>
                      <a:ext cx="74592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9" name=""/>
            <p:cNvGrpSpPr/>
            <p:nvPr/>
          </p:nvGrpSpPr>
          <p:grpSpPr>
            <a:xfrm>
              <a:off x="558720" y="2039400"/>
              <a:ext cx="761760" cy="284040"/>
              <a:chOff x="558720" y="2039400"/>
              <a:chExt cx="761760" cy="284040"/>
            </a:xfrm>
          </p:grpSpPr>
          <p:sp>
            <p:nvSpPr>
              <p:cNvPr id="90" name=""/>
              <p:cNvSpPr/>
              <p:nvPr/>
            </p:nvSpPr>
            <p:spPr>
              <a:xfrm flipV="1">
                <a:off x="558720" y="2044440"/>
                <a:ext cx="203040" cy="108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558720" y="2206800"/>
                <a:ext cx="203040" cy="108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1117440" y="2206800"/>
                <a:ext cx="203040" cy="108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807120" y="2214720"/>
                <a:ext cx="203040" cy="108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838080" y="2039040"/>
                <a:ext cx="203040" cy="108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1117440" y="2044440"/>
                <a:ext cx="203040" cy="108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3425760" y="2043000"/>
              <a:ext cx="761760" cy="282240"/>
              <a:chOff x="3425760" y="2043000"/>
              <a:chExt cx="761760" cy="282240"/>
            </a:xfrm>
          </p:grpSpPr>
          <p:sp>
            <p:nvSpPr>
              <p:cNvPr id="97" name=""/>
              <p:cNvSpPr/>
              <p:nvPr/>
            </p:nvSpPr>
            <p:spPr>
              <a:xfrm flipV="1">
                <a:off x="3425760" y="2048400"/>
                <a:ext cx="203040" cy="1072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3425760" y="2210040"/>
                <a:ext cx="203040" cy="1072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3984480" y="2210040"/>
                <a:ext cx="203040" cy="1072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3674160" y="2217960"/>
                <a:ext cx="203040" cy="1072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3705120" y="2043000"/>
                <a:ext cx="203040" cy="1072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3984480" y="2048400"/>
                <a:ext cx="203040" cy="1072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03" name=""/>
            <p:cNvGraphicFramePr/>
            <p:nvPr/>
          </p:nvGraphicFramePr>
          <p:xfrm>
            <a:off x="6095880" y="1523880"/>
            <a:ext cx="2395800" cy="62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95880" y="1523880"/>
                      <a:ext cx="2395800" cy="625680"/>
                    </a:xfrm>
                    <a:prstGeom prst="rect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553080" y="2362320"/>
            <a:ext cx="1300320" cy="461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553080" y="2362320"/>
                      <a:ext cx="1300320" cy="461880"/>
                    </a:xfrm>
                    <a:prstGeom prst="rect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7" name=""/>
          <p:cNvSpPr/>
          <p:nvPr/>
        </p:nvSpPr>
        <p:spPr>
          <a:xfrm>
            <a:off x="457200" y="1219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5000" y="1268280"/>
            <a:ext cx="11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1560" y="1295280"/>
            <a:ext cx="14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ob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8840" y="4281480"/>
            <a:ext cx="6817680" cy="28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Gram-Schmidt approach for QR de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Structure uses tight bound, k-d trees unlike Fast Multi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and P structures compressed separ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matrix compressed patch by p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matrix compressed 3*patch by 3*p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works independent of Green’s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1170000"/>
            <a:ext cx="7305840" cy="5479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ypical Matrix Structure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656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ime and Memory Complexity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648320" cy="380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05920" y="5230800"/>
            <a:ext cx="8754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verhead of storing the pre-conditioner and the 3 times patch X 3 times pat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matrix is more than overcome by the compression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the set up and solve time of the FAST QR SOLVER is O(Nlog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4267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ear-Field Preconditioner Example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4920" y="1130400"/>
            <a:ext cx="3886200" cy="2325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12880" y="3378240"/>
            <a:ext cx="28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by 5 Bus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724280" y="1130400"/>
            <a:ext cx="3705480" cy="2450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639400" y="336852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st level bo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68280" y="3718080"/>
            <a:ext cx="3919680" cy="2644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48240" y="621036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ighbors of a smallest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16200" y="4800600"/>
            <a:ext cx="304560" cy="30636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76840" y="2044800"/>
            <a:ext cx="152640" cy="152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809880"/>
            <a:ext cx="236196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552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8120" y="4265640"/>
            <a:ext cx="154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rted EF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rix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ighborh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92640" y="5943600"/>
            <a:ext cx="32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rows belonging to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st box under consid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re-conditioner Characteristics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4043160" cy="3703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76920" y="1311120"/>
            <a:ext cx="3873240" cy="3667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24200" y="5229360"/>
            <a:ext cx="57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gen Value Distribution is made better by pre-condit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81320" y="148752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 number = 1e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15440" y="152568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 number =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11360" y="34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reconditioner Performance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224240" cy="3429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03600" y="5688000"/>
            <a:ext cx="731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UMBER OF ITERATIONS FOR PRECONDITIONED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PRECONDIONED MATR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03200" y="1465200"/>
            <a:ext cx="4415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Validation Example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859200" cy="3808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876920" y="3886200"/>
            <a:ext cx="3733560" cy="2489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925880" y="1155600"/>
            <a:ext cx="3581640" cy="2845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52280" y="5445000"/>
            <a:ext cx="49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DUCTANCE VALUE CONVER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INCREASING NUMBER OF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19:21:35Z</dcterms:created>
  <dc:creator>Vikram Jandhyala</dc:creator>
  <dc:description/>
  <dc:language>en-US</dc:language>
  <cp:lastModifiedBy>EE</cp:lastModifiedBy>
  <dcterms:modified xsi:type="dcterms:W3CDTF">2002-12-09T08:16:35Z</dcterms:modified>
  <cp:revision>15</cp:revision>
  <dc:subject/>
  <dc:title>PowerPoint Presentation</dc:title>
</cp:coreProperties>
</file>