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.wmf" ContentType="image/x-wmf"/>
  <Override PartName="/ppt/media/image1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D4E-5E2F-4202-B96F-AD3FA15747C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0EA-50D8-4B83-8A27-A07AA5F5C79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7E0-694D-4383-B4A9-EB7E238B6D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F79-C8DA-4913-9EA9-9EE6980928E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334-42FE-4028-ABCB-9493FD8D87C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1761-CFAA-4237-9DD2-DFF58383205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956-2F23-4D76-99AE-1BA098D22A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of system with random (1) position and (2) velocity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717C-F1E4-4819-889B-A7FC005F826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best among the group.  Decide the Gbest vector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C75-2DAD-462F-BC6A-EA940575D7E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movement of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9E9-26B6-4280-890C-B719F8F4611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and update G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5C8-BDA5-48CD-B665-D5854077763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ing for global optim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16A-A239-4177-99A6-D4F4690BF0C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653E-7B87-4A72-8C42-DA96CD4FD35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C84-46A4-4AB8-BDEE-64227B0D641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36C-8AB2-4A5C-8146-33CFB017EE2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447-1F96-47D6-9F10-F96BB3C50DB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8161-3914-413B-B8B6-44B305EBCC4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980-FF73-4F26-89C7-F8FFAAA5122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25E-5509-4B42-B1B0-C765C8FAB6C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B6D-5AF4-488E-9650-11103AA1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4BE-045D-4C3F-82AF-5C50BB86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457-76F3-43AA-A54C-D07B985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081-90FD-4D3F-A376-C4BD6C01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C1E-A5AF-4D69-AE53-C5279A6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0D3-0F30-42E2-9409-AB3B3B7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5CF-B417-4F87-9840-1DC373F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A99-62F1-4746-B6BC-18B4AA2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012-A43A-4C6B-9C5E-58D4793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12F-0474-4C37-9952-1CEAC96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809-A6B3-4213-91B3-3387061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34B-97F3-4294-B836-696FC89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061-1D63-4170-A01E-FAF8E1E7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arasitic-Aware Analog/RF Synthesis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J. Alls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ircuit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ircuit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Spice/Spectre (No simplified circuit simul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radeof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굴림"/>
              </a:rPr>
              <a:t>optimizatio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굴림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ttleneck in the overall optimization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Only way to reduce the optimization time i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reduce the total number of iteratio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ed a fast and efficient optimiz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0040" y="6553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s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ngle criterion whether evaluated circuit is good or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xpressed as weighted sum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.g. broadband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st = 50%*(target_gain – gain) + 50%*fla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F optimization =&gt; Minimiz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06440" y="3273480"/>
                <a:ext cx="6927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formanc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jectiv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350120" y="65530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Simulated 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788000" cy="33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d annea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hance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more time to fin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: Temperature 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: to control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: to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246640" y="1446120"/>
            <a:ext cx="3457800" cy="2438640"/>
            <a:chOff x="5246640" y="1446120"/>
            <a:chExt cx="3457800" cy="2438640"/>
          </a:xfrm>
        </p:grpSpPr>
        <p:sp>
          <p:nvSpPr>
            <p:cNvPr id="280" name=""/>
            <p:cNvSpPr/>
            <p:nvPr/>
          </p:nvSpPr>
          <p:spPr>
            <a:xfrm>
              <a:off x="5275440" y="1522440"/>
              <a:ext cx="3429000" cy="2362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37560" y="2055960"/>
              <a:ext cx="2057400" cy="939600"/>
            </a:xfrm>
            <a:custGeom>
              <a:avLst/>
              <a:gdLst/>
              <a:ahLst/>
              <a:rect l="l" t="t" r="r" b="b"/>
              <a:pathLst>
                <a:path w="3408" h="2896">
                  <a:moveTo>
                    <a:pt x="0" y="288"/>
                  </a:moveTo>
                  <a:cubicBezTo>
                    <a:pt x="196" y="1172"/>
                    <a:pt x="392" y="2056"/>
                    <a:pt x="576" y="2208"/>
                  </a:cubicBezTo>
                  <a:cubicBezTo>
                    <a:pt x="760" y="2360"/>
                    <a:pt x="920" y="1096"/>
                    <a:pt x="1104" y="1200"/>
                  </a:cubicBezTo>
                  <a:cubicBezTo>
                    <a:pt x="1288" y="1304"/>
                    <a:pt x="1472" y="2896"/>
                    <a:pt x="1680" y="2832"/>
                  </a:cubicBezTo>
                  <a:cubicBezTo>
                    <a:pt x="1888" y="2768"/>
                    <a:pt x="2176" y="944"/>
                    <a:pt x="2352" y="816"/>
                  </a:cubicBezTo>
                  <a:cubicBezTo>
                    <a:pt x="2528" y="688"/>
                    <a:pt x="2560" y="2200"/>
                    <a:pt x="2736" y="2064"/>
                  </a:cubicBezTo>
                  <a:cubicBezTo>
                    <a:pt x="2912" y="1928"/>
                    <a:pt x="3160" y="964"/>
                    <a:pt x="34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4920" y="1598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84920" y="31989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6640" y="210348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18640" y="2738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3000" y="2890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5120" y="2665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3520" y="228456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5120" y="1446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7040" y="15224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83480" y="16747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5240" y="16747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58920" y="16747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49480" y="3317760"/>
              <a:ext cx="305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l minima and global minim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86040" y="4468680"/>
                <a:ext cx="28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d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1554120" y="5357880"/>
          <a:ext cx="609588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5357880"/>
                    <a:ext cx="6095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254640" y="47480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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ost=costnew-cost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ed Annealin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iteration to climb up the h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re is no min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lot of iterations when # of parameter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next simulation point randomly                                      (not to stuck at local min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parameters 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000,000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emp coefficient manu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low : fast, but easy to stuck at local min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high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re ch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d global min, but t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with tunneling proces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with 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is too slow (1 day per transis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 is 4X to 10X faster than hill climbing proces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mparison%20of%20SA%20and%20NSA" descr=""/>
          <p:cNvPicPr/>
          <p:nvPr/>
        </p:nvPicPr>
        <p:blipFill>
          <a:blip r:embed="rId1"/>
          <a:stretch/>
        </p:blipFill>
        <p:spPr>
          <a:xfrm>
            <a:off x="458640" y="2968560"/>
            <a:ext cx="8229600" cy="2600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14320" y="543888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ill climb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Simulated anne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4240" y="5607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1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pired by a social behavior of a swarm of bees searching for the location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chang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information to find the 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ork on a population of potential solution candidates calle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ell-balanced between global / loc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fast / accurate (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Easy to be implemented as optimization core for parasitic-aware synthesis an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2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like simulated annealing i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) Initialized with a population of rando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) Assigned a random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) Potential solutions flying through proble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best – each particle keeps track of best solution it has experie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best – best solution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nverge towar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t each iteration, changing the velocity of each particle toward its Pbest and Gbe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sition (particle location, Pbest, G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locity (next position – current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49760" y="655308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PSO eq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Equa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tion of searching agents (Particles) by keeping track of individual and group experience (Competition and Coop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erti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Process: Initial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70000" y="1123920"/>
            <a:ext cx="8488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70000" y="1114560"/>
            <a:ext cx="841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1111320"/>
            <a:ext cx="75837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—parasitic-aware desig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imulated Annealing with Tunn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warm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T/Particle Swarm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Noise Amplifier Synthesi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Flying particl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Updat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void trapping in local minim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184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A    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 Particle Swar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Which technique is better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0840" y="850680"/>
            <a:ext cx="8496360" cy="43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wo different parasitic-aware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Particle Sw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it parasitic-aware syn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9800" y="4159080"/>
          <a:ext cx="403884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4159080"/>
                    <a:ext cx="40388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Design Targ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-stage Distributed 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3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6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8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1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-by-4 Matrix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2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20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12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6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1163520"/>
            <a:ext cx="0" cy="510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mparis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parable initial performance for both DA and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formance difference increases as the constraints become tighter and the total iterations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 performs very poor in complex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is 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mor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9440" y="3083040"/>
            <a:ext cx="8242200" cy="349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73240" y="5925960"/>
            <a:ext cx="2976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  <a:ea typeface="굴림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Optimization Results (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LNA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289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F = 3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IP3 =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ain = 2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put and Output                                matching &lt;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bility factor 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ias current &lt;4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448160" y="1817640"/>
            <a:ext cx="46958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in HSPI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60560" y="1123920"/>
            <a:ext cx="5722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MOS for 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08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s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integration capability (Small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oo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F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transconductance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rg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breakdown voltage (gate oxide / drain j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ducting substrate (highly doped lossy subst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or on-chip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simulation resul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2720" y="1862280"/>
            <a:ext cx="5038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07680" y="533160"/>
            <a:ext cx="600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"/>
              </a:rPr>
              <a:t>Saving optimization time by skipping IIP3 simulatio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700360" y="1219320"/>
            <a:ext cx="403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913040" y="1959120"/>
                <a:ext cx="5149800" cy="37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F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in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746600" y="1290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is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7880" y="1519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20200" y="29606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0" y="3462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I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89360" y="54291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7440" y="5595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863880" y="1736640"/>
            <a:ext cx="14479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06800" y="1920960"/>
            <a:ext cx="71604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74880" y="3543120"/>
            <a:ext cx="8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438600" y="3208320"/>
            <a:ext cx="12193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094200" y="5037120"/>
            <a:ext cx="45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364000" y="5356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ummary of LN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85800" y="1219320"/>
          <a:ext cx="7772400" cy="4929120"/>
        </p:xfrm>
        <a:graphic>
          <a:graphicData uri="http://schemas.openxmlformats.org/drawingml/2006/table">
            <a:tbl>
              <a:tblPr/>
              <a:tblGrid>
                <a:gridCol w="1144080"/>
                <a:gridCol w="1729800"/>
                <a:gridCol w="1608840"/>
                <a:gridCol w="1644840"/>
                <a:gridCol w="1644840"/>
              </a:tblGrid>
              <a:tr h="886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deal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parasitic laden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out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3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94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.3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.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.7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I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3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2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3.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B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1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9520" y="1432080"/>
          <a:ext cx="6118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1432080"/>
                    <a:ext cx="6118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1] B. Kleveland, et al., “Monolithic CMOS distributed amplifier and oscillator”,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SSCC99.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2] B.M. Ballweber, R. Gupta, and D.J. Allstot, “A fully integrated 0.5-5.5GHz CMOS distributed amplifier,”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EEE J. Solid-State Circuits,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vol. 35, pp.231-239, Feb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38560" y="1325520"/>
          <a:ext cx="327024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8560" y="1325520"/>
                    <a:ext cx="32702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asitic-Aware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8640" y="1763640"/>
            <a:ext cx="8385480" cy="4165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1840" y="5157720"/>
            <a:ext cx="2803320" cy="806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laden Spiral inductor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27212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about 4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xide Thick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rate resistivity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sig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 cente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: metal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u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: spacing between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21160" y="2820960"/>
            <a:ext cx="4571640" cy="1980360"/>
            <a:chOff x="4421160" y="2820960"/>
            <a:chExt cx="4571640" cy="1980360"/>
          </a:xfrm>
        </p:grpSpPr>
        <p:sp>
          <p:nvSpPr>
            <p:cNvPr id="94" name=""/>
            <p:cNvSpPr/>
            <p:nvPr/>
          </p:nvSpPr>
          <p:spPr>
            <a:xfrm>
              <a:off x="4421160" y="3831840"/>
              <a:ext cx="2217240" cy="58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21160" y="3600000"/>
              <a:ext cx="221724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3520" y="3312000"/>
              <a:ext cx="1447560" cy="28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34640" y="3059280"/>
              <a:ext cx="204840" cy="174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34640" y="2820960"/>
              <a:ext cx="1445400" cy="238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80040" y="2820960"/>
              <a:ext cx="212400" cy="1516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69520" y="4337640"/>
              <a:ext cx="1223280" cy="235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69520" y="3464640"/>
              <a:ext cx="228960" cy="87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69520" y="3188520"/>
              <a:ext cx="722520" cy="27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03760" y="3464640"/>
              <a:ext cx="188280" cy="523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72320" y="31827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e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0040" y="3493800"/>
              <a:ext cx="414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97800" y="399996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-waf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 flipV="1">
              <a:off x="4999320" y="400824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V="1">
              <a:off x="4999320" y="418140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 flipH="1" flipV="1">
              <a:off x="4998960" y="394956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 flipH="1" flipV="1">
              <a:off x="4998960" y="412272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/>
            <p:nvPr/>
          </p:nvCxnSpPr>
          <p:spPr>
            <a:xfrm flipH="1" flipV="1">
              <a:off x="49993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>
              <a:off x="509724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9724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96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96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9996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9724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/>
            <p:nvPr/>
          </p:nvCxnSpPr>
          <p:spPr>
            <a:xfrm flipV="1">
              <a:off x="6059520" y="400824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V="1">
              <a:off x="6059520" y="418140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 flipV="1">
              <a:off x="6059160" y="394956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 flipV="1">
              <a:off x="6059160" y="412272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 flipV="1">
              <a:off x="60595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615708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5708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598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98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0598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5708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2280" y="3426480"/>
              <a:ext cx="9792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0560" y="3426480"/>
              <a:ext cx="9504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0" y="3426480"/>
              <a:ext cx="9720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5080" y="3479400"/>
              <a:ext cx="336960" cy="79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7240" y="348516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8848400">
              <a:off x="5616000" y="3436920"/>
              <a:ext cx="117000" cy="9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8848400">
              <a:off x="5760720" y="3436920"/>
              <a:ext cx="117000" cy="9504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848400">
              <a:off x="5905800" y="3435840"/>
              <a:ext cx="117000" cy="9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3320" y="3493800"/>
              <a:ext cx="443880" cy="9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8200" y="348516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92720" y="404964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ubst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3320" y="2932920"/>
              <a:ext cx="5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20720" y="29329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91640" y="3755880"/>
              <a:ext cx="297720" cy="2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3775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0800" y="3964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45600" y="3764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1080" y="4528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96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6120" y="4646160"/>
              <a:ext cx="9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3080" y="45284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598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4646160"/>
              <a:ext cx="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0360" y="3482640"/>
              <a:ext cx="1393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94200" y="3667320"/>
              <a:ext cx="26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255200" y="46879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piral Inductor cross-section and Top vi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36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92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1684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1289160"/>
            <a:ext cx="4678200" cy="2776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Parasitic inductor model extra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4878360"/>
            <a:ext cx="3068640" cy="747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" y="3909960"/>
            <a:ext cx="2292480" cy="673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59480" y="4222800"/>
            <a:ext cx="4647600" cy="2518920"/>
            <a:chOff x="4659480" y="4222800"/>
            <a:chExt cx="4647600" cy="2518920"/>
          </a:xfrm>
        </p:grpSpPr>
        <p:sp>
          <p:nvSpPr>
            <p:cNvPr id="164" name=""/>
            <p:cNvSpPr/>
            <p:nvPr/>
          </p:nvSpPr>
          <p:spPr>
            <a:xfrm>
              <a:off x="4735440" y="4241880"/>
              <a:ext cx="457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subckt spind in1 in2 g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1 in1b in2b ‘sl*1e-9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1 in1 a1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3 a1 gnd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2 in2 a2  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4 a2 gnd 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1 in1 in1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2 in2 in2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e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9480" y="4222800"/>
              <a:ext cx="4130280" cy="2448000"/>
            </a:xfrm>
            <a:prstGeom prst="flowChartAlternate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25280" y="1700280"/>
            <a:ext cx="593640" cy="164520"/>
            <a:chOff x="1925280" y="1700280"/>
            <a:chExt cx="593640" cy="164520"/>
          </a:xfrm>
        </p:grpSpPr>
        <p:grpSp>
          <p:nvGrpSpPr>
            <p:cNvPr id="167" name=""/>
            <p:cNvGrpSpPr/>
            <p:nvPr/>
          </p:nvGrpSpPr>
          <p:grpSpPr>
            <a:xfrm>
              <a:off x="2272320" y="1700280"/>
              <a:ext cx="98280" cy="164160"/>
              <a:chOff x="2272320" y="1700280"/>
              <a:chExt cx="98280" cy="16416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2321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272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73320" y="1700280"/>
              <a:ext cx="98280" cy="164160"/>
              <a:chOff x="2173320" y="1700280"/>
              <a:chExt cx="98280" cy="164160"/>
            </a:xfrm>
          </p:grpSpPr>
          <p:sp>
            <p:nvSpPr>
              <p:cNvPr id="171" name=""/>
              <p:cNvSpPr/>
              <p:nvPr/>
            </p:nvSpPr>
            <p:spPr>
              <a:xfrm flipH="1" flipV="1">
                <a:off x="2222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173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073960" y="1700280"/>
              <a:ext cx="99000" cy="164160"/>
              <a:chOff x="2073960" y="1700280"/>
              <a:chExt cx="99000" cy="164160"/>
            </a:xfrm>
          </p:grpSpPr>
          <p:sp>
            <p:nvSpPr>
              <p:cNvPr id="174" name=""/>
              <p:cNvSpPr/>
              <p:nvPr/>
            </p:nvSpPr>
            <p:spPr>
              <a:xfrm flipH="1" flipV="1">
                <a:off x="212364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073960" y="1700280"/>
                <a:ext cx="4968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37060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2528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42680" y="1878120"/>
            <a:ext cx="299160" cy="677520"/>
            <a:chOff x="742680" y="1878120"/>
            <a:chExt cx="299160" cy="677520"/>
          </a:xfrm>
        </p:grpSpPr>
        <p:sp>
          <p:nvSpPr>
            <p:cNvPr id="179" name=""/>
            <p:cNvSpPr/>
            <p:nvPr/>
          </p:nvSpPr>
          <p:spPr>
            <a:xfrm>
              <a:off x="889560" y="187812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2080" y="2216880"/>
              <a:ext cx="2520" cy="33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2680" y="2159640"/>
              <a:ext cx="29844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576000">
              <a:off x="743040" y="2216880"/>
              <a:ext cx="298440" cy="56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327400" y="3062160"/>
            <a:ext cx="298440" cy="405000"/>
            <a:chOff x="2327400" y="3062160"/>
            <a:chExt cx="298440" cy="405000"/>
          </a:xfrm>
        </p:grpSpPr>
        <p:sp>
          <p:nvSpPr>
            <p:cNvPr id="184" name=""/>
            <p:cNvSpPr/>
            <p:nvPr/>
          </p:nvSpPr>
          <p:spPr>
            <a:xfrm>
              <a:off x="2476440" y="3062160"/>
              <a:ext cx="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27400" y="33656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7080" y="341640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6760" y="346716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52600" y="1727280"/>
            <a:ext cx="518760" cy="269640"/>
            <a:chOff x="1452600" y="1727280"/>
            <a:chExt cx="518760" cy="269640"/>
          </a:xfrm>
        </p:grpSpPr>
        <p:grpSp>
          <p:nvGrpSpPr>
            <p:cNvPr id="189" name=""/>
            <p:cNvGrpSpPr/>
            <p:nvPr/>
          </p:nvGrpSpPr>
          <p:grpSpPr>
            <a:xfrm>
              <a:off x="1549080" y="1727280"/>
              <a:ext cx="346680" cy="269640"/>
              <a:chOff x="1549080" y="1727280"/>
              <a:chExt cx="346680" cy="2696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740240" y="1727280"/>
                <a:ext cx="155520" cy="260640"/>
                <a:chOff x="1740240" y="1727280"/>
                <a:chExt cx="155520" cy="2606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5238600">
                  <a:off x="169020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5238600">
                  <a:off x="169128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44480" y="1731960"/>
                <a:ext cx="155520" cy="260640"/>
                <a:chOff x="1644480" y="1731960"/>
                <a:chExt cx="155520" cy="26064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5238600">
                  <a:off x="159444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 rot="5238600">
                  <a:off x="159552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549080" y="1736280"/>
                <a:ext cx="155160" cy="260640"/>
                <a:chOff x="1549080" y="1736280"/>
                <a:chExt cx="155160" cy="26064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5238600">
                  <a:off x="149904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 rot="5238600">
                  <a:off x="149976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 rot="5238600">
                <a:off x="1744560" y="185868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238600">
                <a:off x="1648800" y="1858680"/>
                <a:ext cx="5004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884240" y="1857600"/>
              <a:ext cx="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2600" y="1877400"/>
              <a:ext cx="10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02880" y="1717200"/>
            <a:ext cx="593640" cy="165240"/>
            <a:chOff x="902880" y="1717200"/>
            <a:chExt cx="593640" cy="165240"/>
          </a:xfrm>
        </p:grpSpPr>
        <p:grpSp>
          <p:nvGrpSpPr>
            <p:cNvPr id="204" name=""/>
            <p:cNvGrpSpPr/>
            <p:nvPr/>
          </p:nvGrpSpPr>
          <p:grpSpPr>
            <a:xfrm>
              <a:off x="1249920" y="1717200"/>
              <a:ext cx="98280" cy="164880"/>
              <a:chOff x="1249920" y="1717200"/>
              <a:chExt cx="98280" cy="164880"/>
            </a:xfrm>
          </p:grpSpPr>
          <p:sp>
            <p:nvSpPr>
              <p:cNvPr id="205" name=""/>
              <p:cNvSpPr/>
              <p:nvPr/>
            </p:nvSpPr>
            <p:spPr>
              <a:xfrm flipH="1" flipV="1">
                <a:off x="1299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249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50920" y="1717200"/>
              <a:ext cx="98280" cy="164880"/>
              <a:chOff x="1150920" y="1717200"/>
              <a:chExt cx="98280" cy="164880"/>
            </a:xfrm>
          </p:grpSpPr>
          <p:sp>
            <p:nvSpPr>
              <p:cNvPr id="208" name=""/>
              <p:cNvSpPr/>
              <p:nvPr/>
            </p:nvSpPr>
            <p:spPr>
              <a:xfrm flipH="1" flipV="1">
                <a:off x="1200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150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051560" y="1717200"/>
              <a:ext cx="99000" cy="164880"/>
              <a:chOff x="1051560" y="1717200"/>
              <a:chExt cx="99000" cy="164880"/>
            </a:xfrm>
          </p:grpSpPr>
          <p:sp>
            <p:nvSpPr>
              <p:cNvPr id="211" name=""/>
              <p:cNvSpPr/>
              <p:nvPr/>
            </p:nvSpPr>
            <p:spPr>
              <a:xfrm flipH="1" flipV="1">
                <a:off x="1101240" y="171720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051560" y="1717560"/>
                <a:ext cx="4968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34820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0288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330280" y="1857240"/>
            <a:ext cx="298800" cy="675000"/>
            <a:chOff x="2330280" y="1857240"/>
            <a:chExt cx="298800" cy="675000"/>
          </a:xfrm>
        </p:grpSpPr>
        <p:sp>
          <p:nvSpPr>
            <p:cNvPr id="216" name=""/>
            <p:cNvSpPr/>
            <p:nvPr/>
          </p:nvSpPr>
          <p:spPr>
            <a:xfrm>
              <a:off x="2494440" y="185724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0040" y="2193840"/>
              <a:ext cx="216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330280" y="2138760"/>
              <a:ext cx="29700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576000">
              <a:off x="2331720" y="2193840"/>
              <a:ext cx="297000" cy="572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1240" y="3029040"/>
            <a:ext cx="298440" cy="404640"/>
            <a:chOff x="741240" y="3029040"/>
            <a:chExt cx="298440" cy="404640"/>
          </a:xfrm>
        </p:grpSpPr>
        <p:sp>
          <p:nvSpPr>
            <p:cNvPr id="221" name=""/>
            <p:cNvSpPr/>
            <p:nvPr/>
          </p:nvSpPr>
          <p:spPr>
            <a:xfrm>
              <a:off x="890280" y="302904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1240" y="33321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0920" y="338292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0600" y="343368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77880" y="2438640"/>
            <a:ext cx="146160" cy="673200"/>
            <a:chOff x="2477880" y="2438640"/>
            <a:chExt cx="146160" cy="673200"/>
          </a:xfrm>
        </p:grpSpPr>
        <p:grpSp>
          <p:nvGrpSpPr>
            <p:cNvPr id="226" name=""/>
            <p:cNvGrpSpPr/>
            <p:nvPr/>
          </p:nvGrpSpPr>
          <p:grpSpPr>
            <a:xfrm>
              <a:off x="2477880" y="2831400"/>
              <a:ext cx="146160" cy="111960"/>
              <a:chOff x="2477880" y="2831400"/>
              <a:chExt cx="146160" cy="11196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2478240" y="288756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2477880" y="283140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477880" y="2719080"/>
              <a:ext cx="146160" cy="111960"/>
              <a:chOff x="2477880" y="2719080"/>
              <a:chExt cx="146160" cy="11196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2478240" y="277524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2477880" y="271908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477880" y="2607120"/>
              <a:ext cx="146160" cy="111960"/>
              <a:chOff x="2477880" y="2607120"/>
              <a:chExt cx="146160" cy="11196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478240" y="266328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2477880" y="260712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477880" y="294372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77880" y="243864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30080" y="2429280"/>
            <a:ext cx="160200" cy="673200"/>
            <a:chOff x="730080" y="2429280"/>
            <a:chExt cx="160200" cy="673200"/>
          </a:xfrm>
        </p:grpSpPr>
        <p:grpSp>
          <p:nvGrpSpPr>
            <p:cNvPr id="238" name=""/>
            <p:cNvGrpSpPr/>
            <p:nvPr/>
          </p:nvGrpSpPr>
          <p:grpSpPr>
            <a:xfrm>
              <a:off x="730080" y="2822040"/>
              <a:ext cx="159840" cy="111960"/>
              <a:chOff x="730080" y="2822040"/>
              <a:chExt cx="159840" cy="111960"/>
            </a:xfrm>
          </p:grpSpPr>
          <p:sp>
            <p:nvSpPr>
              <p:cNvPr id="239" name=""/>
              <p:cNvSpPr/>
              <p:nvPr/>
            </p:nvSpPr>
            <p:spPr>
              <a:xfrm flipH="1" flipV="1">
                <a:off x="730080" y="287820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30080" y="282204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30080" y="2709720"/>
              <a:ext cx="159840" cy="111960"/>
              <a:chOff x="730080" y="2709720"/>
              <a:chExt cx="159840" cy="11196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730080" y="276588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0080" y="270972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30080" y="2597760"/>
              <a:ext cx="159840" cy="111960"/>
              <a:chOff x="730080" y="2597760"/>
              <a:chExt cx="159840" cy="111960"/>
            </a:xfrm>
          </p:grpSpPr>
          <p:sp>
            <p:nvSpPr>
              <p:cNvPr id="245" name=""/>
              <p:cNvSpPr/>
              <p:nvPr/>
            </p:nvSpPr>
            <p:spPr>
              <a:xfrm flipH="1" flipV="1">
                <a:off x="730080" y="265392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730080" y="259776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90280" y="293436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90280" y="242928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95800" y="1368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99360" y="13413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9440" y="1362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16480" y="2057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2360" y="26208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u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760" y="390204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bricate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280" y="48909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 and interp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using EM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70120" y="5899320"/>
            <a:ext cx="1744560" cy="506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8040" y="59054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ve 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780800">
            <a:off x="3315960" y="3808440"/>
            <a:ext cx="1028520" cy="619200"/>
          </a:xfrm>
          <a:prstGeom prst="rightArrow">
            <a:avLst>
              <a:gd name="adj1" fmla="val 50000"/>
              <a:gd name="adj2" fmla="val 415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12880" y="4560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8480" y="56275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3160" y="189216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16480" y="164448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5840" y="144936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99000" y="28130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32680" y="26906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1680" y="256860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13400" y="3648240"/>
            <a:ext cx="10620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57880" y="3714840"/>
            <a:ext cx="10656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374004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alued Sony Customer</cp:lastModifiedBy>
  <cp:lastPrinted>2002-02-05T19:22:32Z</cp:lastPrinted>
  <dcterms:modified xsi:type="dcterms:W3CDTF">2003-06-18T19:29:08Z</dcterms:modified>
  <cp:revision>138</cp:revision>
  <dc:subject>ITC '01 Electronic presentation guide/template</dc:subject>
  <dc:title>Presentation Guide</dc:title>
</cp:coreProperties>
</file>