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C6D0-1E60-47F1-ADE7-73F18E111BA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ample presentation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95B6-6E66-4DF0-A55D-D3E9ED5F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50120"/>
            <a:ext cx="77724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9FB2-0CE7-4F39-BA75-921EAEC5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50120"/>
            <a:ext cx="37926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50120"/>
            <a:ext cx="37926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17F9-C4F0-4FE1-AAF7-4889A564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50120"/>
            <a:ext cx="250236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50120"/>
            <a:ext cx="250236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50120"/>
            <a:ext cx="250236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AC5-AD7F-4767-8894-62DEFEF6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13E1-AAA8-4F45-9077-BAAC5BB1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040C-8F8E-44D3-9490-EED0B68B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9EBC-76EF-4F2E-842F-54462C52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94B4-3653-4D7B-8D63-855224D2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A6C4-6617-4B44-A868-58B761EA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50120"/>
            <a:ext cx="37926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30F8-9D8F-4AA2-B5E8-F09683F1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50120"/>
            <a:ext cx="37926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C2C3-9C27-4A26-9879-DD8E6D2E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50120"/>
            <a:ext cx="77724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46F7-7561-4A05-B1A5-509A643C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41AB-E857-45DC-A32E-BADA51782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53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2760" y="2118960"/>
            <a:ext cx="750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ast Frequen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omain Simulation of Coupled Systems</a:t>
            </a:r>
            <a:endParaRPr b="1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17560" y="6032520"/>
            <a:ext cx="14479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4175280" y="5956200"/>
          <a:ext cx="82044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5280" y="5956200"/>
                    <a:ext cx="8204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7324560" y="5978520"/>
            <a:ext cx="746280" cy="762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95080" y="3654360"/>
            <a:ext cx="7132680" cy="62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d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6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LAFMA for a DARPA test case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NCSU 0.25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 spiral pair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 makes fast solution challe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ades FMM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other FMM codes to resort to “cheat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U normally faster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0–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3290760"/>
            <a:ext cx="4743360" cy="3567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08560" y="3297240"/>
            <a:ext cx="473544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classCFieldSolverIterative__coll__graph" descr=""/>
          <p:cNvPicPr/>
          <p:nvPr/>
        </p:nvPicPr>
        <p:blipFill>
          <a:blip r:embed="rId1"/>
          <a:stretch/>
        </p:blipFill>
        <p:spPr>
          <a:xfrm>
            <a:off x="911160" y="1846440"/>
            <a:ext cx="5475240" cy="35208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search Direction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imulate current analog RF de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 baseline on EM and circuit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 FMM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is fast convergence of circuit coupled F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dynamic preconditioning not well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nditioning of coupled systems unexpl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ontinue tuning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st approximat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MM accelerated P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 expa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638760" y="4554360"/>
            <a:ext cx="2033640" cy="2033640"/>
            <a:chOff x="6638760" y="4554360"/>
            <a:chExt cx="2033640" cy="2033640"/>
          </a:xfrm>
        </p:grpSpPr>
        <p:sp>
          <p:nvSpPr>
            <p:cNvPr id="129" name=""/>
            <p:cNvSpPr/>
            <p:nvPr/>
          </p:nvSpPr>
          <p:spPr>
            <a:xfrm>
              <a:off x="6940080" y="4855680"/>
              <a:ext cx="716040" cy="7160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88520" y="4697640"/>
              <a:ext cx="1017720" cy="10177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56480" y="4855680"/>
              <a:ext cx="716760" cy="7160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04920" y="4700160"/>
              <a:ext cx="1017720" cy="10177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37560" y="5572080"/>
              <a:ext cx="716040" cy="7160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86000" y="5420880"/>
              <a:ext cx="1017720" cy="10177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53960" y="5572080"/>
              <a:ext cx="716760" cy="7160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02400" y="5423400"/>
              <a:ext cx="1017720" cy="10177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38760" y="4554360"/>
              <a:ext cx="2033640" cy="20336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1120" y="195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311f5"/>
                </a:solidFill>
                <a:latin typeface="Arial"/>
              </a:rPr>
              <a:t>Parting Sho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82680" y="61164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brid FMM solution of NCSU spi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physics: different sol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use best available solver for each part of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iterative solver for 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se LU for circu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606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ackup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Hybrid Solver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428840" y="2655720"/>
                <a:ext cx="7029360" cy="129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0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C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0</m:t>
                                  </m:r>
                                </m:e>
                              </m:acc>
                            </m:e>
                            <m:e>
                              <m:sSup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</m:acc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A</m:t>
                                  </m:r>
                                </m:e>
                              </m:ba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kt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m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kt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Z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C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sSup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</m:acc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A</m:t>
                                  </m:r>
                                </m:e>
                              </m:ba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kt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em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kt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447920" y="5095800"/>
                <a:ext cx="478944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NA</m:t>
                                </m:r>
                              </m:e>
                            </m:ba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m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s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A</m:t>
                            </m:r>
                          </m:e>
                        </m:ba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k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368520" y="5783400"/>
                <a:ext cx="28800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kt</m:t>
                    </m:r>
                    <m:r>
                      <m:t xml:space="preserve">=</m:t>
                    </m:r>
                    <m:s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A</m:t>
                            </m:r>
                          </m:e>
                        </m:ba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kt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ed form of system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exploration of variations in circuit or EM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order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solution of entir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685800" y="606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ackup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duced System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382760" y="2684520"/>
                <a:ext cx="478944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NA</m:t>
                                </m:r>
                              </m:e>
                            </m:ba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m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s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A</m:t>
                            </m:r>
                          </m:e>
                        </m:ba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k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405080" y="3435480"/>
                <a:ext cx="466092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A</m:t>
                            </m:r>
                          </m:e>
                        </m:bar>
                        <m:r>
                          <m:t xml:space="preserve">−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rPr>
                        <m:lit/>
                        <m:nor/>
                      </m:rPr>
                      <m:t xml:space="preserve">ck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kt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447920" y="4836960"/>
                <a:ext cx="662148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Z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C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sSup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</m:acc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A</m:t>
                                  </m:r>
                                </m:e>
                              </m:ba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kt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em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kt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acc>
                          <m:accPr>
                            <m:chr m:val="¯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452600" y="5487840"/>
                <a:ext cx="594360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≃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ξγ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ξγ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ξγ</m:t>
                            </m:r>
                          </m:e>
                        </m:d>
                      </m:e>
                      <m:sup>
                        <m:r>
                          <m:t xml:space="preserve">k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ξγ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ξγ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0200" cy="6954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004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in AF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Field Solver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ess in last six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y FMM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s for next six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lassCFieldSolverFMM__coll__graph" descr=""/>
          <p:cNvPicPr/>
          <p:nvPr/>
        </p:nvPicPr>
        <p:blipFill>
          <a:blip r:embed="rId1"/>
          <a:stretch/>
        </p:blipFill>
        <p:spPr>
          <a:xfrm>
            <a:off x="1600200" y="711360"/>
            <a:ext cx="6321600" cy="5989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3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hysics simulation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operates in frequency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circuits and electromag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y mod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add new electromagnetic for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ble to time domain, thermals, other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s workstation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” computing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d on fast sol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04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dvanced Field Solver Architectur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6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ecember 2002 POR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Arial"/>
              </a:rPr>
              <a:t>–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Frequency Domain Modul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5800" y="5570640"/>
            <a:ext cx="2190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geometry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1360" y="465768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quadrature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52560" y="3684600"/>
            <a:ext cx="2190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field solver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122200" y="4032360"/>
            <a:ext cx="996840" cy="627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119320" y="5005440"/>
            <a:ext cx="1440" cy="55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426760" y="4030560"/>
            <a:ext cx="1173240" cy="153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80080" y="4032360"/>
            <a:ext cx="1528560" cy="59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39000" y="2197080"/>
            <a:ext cx="219060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ntroller/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(Matlab test dri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74920" y="1352520"/>
            <a:ext cx="3111480" cy="5097600"/>
          </a:xfrm>
          <a:custGeom>
            <a:avLst/>
            <a:gdLst/>
            <a:ahLst/>
            <a:rect l="l" t="t" r="r" b="b"/>
            <a:pathLst>
              <a:path w="1960" h="3211">
                <a:moveTo>
                  <a:pt x="0" y="0"/>
                </a:moveTo>
                <a:cubicBezTo>
                  <a:pt x="248" y="252"/>
                  <a:pt x="1334" y="1127"/>
                  <a:pt x="1488" y="1514"/>
                </a:cubicBezTo>
                <a:cubicBezTo>
                  <a:pt x="1642" y="1901"/>
                  <a:pt x="843" y="2040"/>
                  <a:pt x="922" y="2323"/>
                </a:cubicBezTo>
                <a:cubicBezTo>
                  <a:pt x="1001" y="2606"/>
                  <a:pt x="1744" y="3026"/>
                  <a:pt x="1960" y="3211"/>
                </a:cubicBezTo>
              </a:path>
            </a:pathLst>
          </a:custGeom>
          <a:noFill/>
          <a:ln w="38160">
            <a:solidFill>
              <a:srgbClr val="9b31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935160" y="2678040"/>
            <a:ext cx="2104920" cy="998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9720" y="2279520"/>
            <a:ext cx="351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upled EM code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43800" y="324180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SMoS sol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930560" y="3416400"/>
            <a:ext cx="1716120" cy="38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18360" y="4351320"/>
            <a:ext cx="219060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pice/HDL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(circuit test dri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03880" y="1328760"/>
            <a:ext cx="35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SMoS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28960" y="5913360"/>
            <a:ext cx="227808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EM and EM to circuit coupling matr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868200" y="4029120"/>
            <a:ext cx="173160" cy="187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500720" y="1728360"/>
            <a:ext cx="2023920" cy="3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246040" y="2706840"/>
            <a:ext cx="14605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93640" y="5392800"/>
            <a:ext cx="2190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9200" y="447984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quad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54240" y="359244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EM field sol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701720" y="3954600"/>
            <a:ext cx="34920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8200" y="4834080"/>
            <a:ext cx="0" cy="55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960" y="157968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velop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31000" y="358920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ircui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75160" y="262584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oupled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5960" y="191916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Mat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32480" y="1579680"/>
            <a:ext cx="2190960" cy="33732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abb9"/>
                </a:solidFill>
                <a:latin typeface="Arial"/>
              </a:rPr>
              <a:t>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32480" y="1919160"/>
            <a:ext cx="2190960" cy="33732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aaaea"/>
                </a:solidFill>
                <a:latin typeface="Arial"/>
              </a:rPr>
              <a:t>Windows G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11440" y="613728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BLAS, LAP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62640" y="611820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uper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138120" y="2978280"/>
            <a:ext cx="438120" cy="608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69000" y="2970360"/>
            <a:ext cx="438120" cy="61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60600" y="3956040"/>
            <a:ext cx="0" cy="2176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70640" y="3940200"/>
            <a:ext cx="0" cy="2174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03680" y="2266920"/>
            <a:ext cx="766440" cy="351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776560" y="2263680"/>
            <a:ext cx="655560" cy="355680"/>
          </a:xfrm>
          <a:prstGeom prst="line">
            <a:avLst/>
          </a:prstGeom>
          <a:ln w="1260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693520" y="4853160"/>
            <a:ext cx="38916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079800" y="3956040"/>
            <a:ext cx="0" cy="90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3598920"/>
            <a:ext cx="2190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hybrid sol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394812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24200" y="3949560"/>
            <a:ext cx="0" cy="21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97280" y="2975040"/>
            <a:ext cx="0" cy="61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6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urrent POR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Arial"/>
              </a:rPr>
              <a:t>–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Standalone Frequency Domain Simulator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classCFMMoperatorQuasistatic__coll__graph" descr=""/>
          <p:cNvPicPr/>
          <p:nvPr/>
        </p:nvPicPr>
        <p:blipFill>
          <a:blip r:embed="rId1"/>
          <a:stretch/>
        </p:blipFill>
        <p:spPr>
          <a:xfrm>
            <a:off x="2879640" y="3611520"/>
            <a:ext cx="6264360" cy="3246480"/>
          </a:xfrm>
          <a:prstGeom prst="rect">
            <a:avLst/>
          </a:prstGeom>
          <a:ln w="0">
            <a:noFill/>
          </a:ln>
        </p:spPr>
      </p:pic>
      <p:pic>
        <p:nvPicPr>
          <p:cNvPr id="108" name="classCEMblockMapped__coll__graph" descr=""/>
          <p:cNvPicPr/>
          <p:nvPr/>
        </p:nvPicPr>
        <p:blipFill>
          <a:blip r:embed="rId2"/>
          <a:stretch/>
        </p:blipFill>
        <p:spPr>
          <a:xfrm>
            <a:off x="657360" y="879480"/>
            <a:ext cx="4354200" cy="2664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rchitectural Improvement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&lt;source|Green’s function|tes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lexible quadrature extensible to equivalence principle EFIE, PMCH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pgrades of entire object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chitecture is 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de unified into a singl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6,500 lines of 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PI refinements and improved robus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roaching beta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classCFMMoctTree__coll__graph" descr=""/>
          <p:cNvPicPr/>
          <p:nvPr/>
        </p:nvPicPr>
        <p:blipFill>
          <a:blip r:embed="rId1"/>
          <a:stretch/>
        </p:blipFill>
        <p:spPr>
          <a:xfrm>
            <a:off x="3162240" y="154080"/>
            <a:ext cx="5864400" cy="6572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New Featur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level adaptive fast multipol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sistatic E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veral preconditioners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calable to full wave, equivalence principle EFIE, PMCHW, electrostatics, and magnetost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ybrid s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 dense LU solution, circuit sparse LU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 iterative solution, circuit sparse LU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astly improved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I, configuration files, and physics for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classCEMsystem__coll__graph" descr=""/>
          <p:cNvPicPr/>
          <p:nvPr/>
        </p:nvPicPr>
        <p:blipFill>
          <a:blip r:embed="rId1"/>
          <a:stretch/>
        </p:blipFill>
        <p:spPr>
          <a:xfrm>
            <a:off x="482760" y="1122480"/>
            <a:ext cx="8332560" cy="5257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search Statu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amental infrastructure in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y for true coupled system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ing test suite of analog RF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analysis of FMM performanc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with on-die system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ructures and algorithms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nditioners surveyed (need faster 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solver for coupl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ing preconditioner survey for hybrid F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6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ultilevel Adaptive Fast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ultipole Algorithm (MLAFMA)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08560" y="3297240"/>
            <a:ext cx="4735440" cy="3560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3297240"/>
            <a:ext cx="4735440" cy="3560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 method for fast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ing derived from electromagnetic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s clustering to mesh and system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MMs best understood class of EM fast so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6T05:25:42Z</dcterms:created>
  <dc:creator>Art Downey</dc:creator>
  <dc:description>V4.0 12/23/01 changes for 2001
V4.1 05/13/01 remove references to '97 and 4
V4.2 05/18/01 feedback from select meeting</dc:description>
  <dc:language>en-US</dc:language>
  <cp:lastModifiedBy>twest</cp:lastModifiedBy>
  <cp:lastPrinted>2002-02-05T19:22:32Z</cp:lastPrinted>
  <dcterms:modified xsi:type="dcterms:W3CDTF">2003-06-19T21:31:27Z</dcterms:modified>
  <cp:revision>151</cp:revision>
  <dc:subject>ITC '01 Electronic presentation guide/template</dc:subject>
  <dc:title>Presentation Guide</dc:title>
</cp:coreProperties>
</file>