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1468-A851-4DFF-A23A-5953F962B5C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DB9-F07A-4F8C-85CD-E7019944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85D-393B-47B3-9E02-88E449B6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BD1-D5E1-43F9-B550-8141C3D9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1DF-0477-4A5A-86A7-1D113270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7D0-B24B-47F1-80A8-D79B2C76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2FE-5C39-4C9D-9552-9AED1E80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73F-6A39-4105-9384-A85A4858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9B6-3D9B-471F-9756-7FC27C7D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855-9ADA-4194-A8CE-5FFD80C1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7F0-1043-4AE9-AED9-1FA99C00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357-93CB-4960-9D28-78B7A46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8F4-BE3A-40BB-AABE-8764CE3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98EF-6325-4790-BDA8-6AA3A047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511200"/>
            <a:ext cx="845820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Progress on VHDL-AMS extension for EM and mixed-technology modeling 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178160"/>
            <a:ext cx="77724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Nik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s and Tool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 and I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scatter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ster (Ansoft Simplor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AC (MC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ransmission Line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3800" y="1968480"/>
            <a:ext cx="4419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ar interconnect connected to a simpl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EM mode, Maxwell’s equations can be reduced to Telegrapher’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0" y="1554120"/>
          <a:ext cx="404640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54120"/>
                    <a:ext cx="40464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ransmission Line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6080" y="4356000"/>
                <a:ext cx="1882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58080" y="4280040"/>
                <a:ext cx="1568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714760" y="4132440"/>
                <a:ext cx="29559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3" name=""/>
          <p:cNvGraphicFramePr/>
          <p:nvPr/>
        </p:nvGraphicFramePr>
        <p:xfrm>
          <a:off x="266760" y="1398600"/>
          <a:ext cx="861048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398600"/>
                    <a:ext cx="861048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DTD/Circuit coupl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67040" y="4280040"/>
                <a:ext cx="548640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dx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671400" y="1231920"/>
          <a:ext cx="739152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231920"/>
                    <a:ext cx="739152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ircuit Model and Finite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fference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79520" y="2409840"/>
          <a:ext cx="4584960" cy="29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9520" y="2409840"/>
                    <a:ext cx="458496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969240" y="2460600"/>
                <a:ext cx="200016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178680" y="5246640"/>
            <a:ext cx="27781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discretized P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" y="5478480"/>
            <a:ext cx="276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ped circuit KCL/KV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01680" y="2408400"/>
                <a:ext cx="200016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801960" y="1487520"/>
                <a:ext cx="1081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 Simulation 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36680" y="1784520"/>
            <a:ext cx="6816600" cy="4240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359160" y="1163520"/>
            <a:ext cx="242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al Model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05120"/>
            <a:ext cx="408924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</a:rPr>
              <a:t>------------------- Thermoelectric resistor 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LIBRAR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SCIPLINES;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LIBRAR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EE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SCIPLINES.ELECTROMAGNETIC_SYSTEM.ALL;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SCIPLINES.THERMAL_SYSTEM.ALL;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EEE.MATH_REAL.ALL;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NTI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rmoelectric_resistor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IC  (resistance, alpha: REAL)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POR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ERMINAL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, b  : ELECTRICAL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ERMINAL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: THERMAL)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RCHITECTUR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ehav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OF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rmoelectric_resistor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QUANTI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v_r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CROS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_r THROUGH a TO b;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QUANTI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emp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CROS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heatflow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HROUGH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 to thermal_ground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CONSTA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ref : REAL := 273.00; -- temperature at which resistance is defi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BEGI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_r == v_r/ (resistance + alpha * (temp - tref) 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tflow == i_r*v_r;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ehav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" y="2879640"/>
            <a:ext cx="3770280" cy="2189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1241280"/>
            <a:ext cx="303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-AM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0480" y="2160720"/>
            <a:ext cx="303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al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8120" y="4535640"/>
          <a:ext cx="32842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535640"/>
                    <a:ext cx="3284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993600" y="1487520"/>
          <a:ext cx="6966000" cy="25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3600" y="1487520"/>
                    <a:ext cx="69660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784600" y="415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Heat Balanc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o-Electrical intera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44720" y="1670040"/>
          <a:ext cx="525456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670040"/>
                    <a:ext cx="525456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scretization: Control Volume Method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133720"/>
          <a:ext cx="42037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4203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28600" y="4572000"/>
          <a:ext cx="861048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0"/>
                    <a:ext cx="86104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0880" y="4038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internal n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5520" y="1447920"/>
          <a:ext cx="3510000" cy="33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447920"/>
                    <a:ext cx="3510000" cy="33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/time domai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emperature Distribu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1600" y="1498680"/>
            <a:ext cx="6399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7" name="hAMSter_plot_2" descr=""/>
          <p:cNvPicPr/>
          <p:nvPr/>
        </p:nvPicPr>
        <p:blipFill>
          <a:blip r:embed="rId1"/>
          <a:stretch/>
        </p:blipFill>
        <p:spPr>
          <a:xfrm>
            <a:off x="846000" y="1716120"/>
            <a:ext cx="7450200" cy="4221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36840" y="1108080"/>
            <a:ext cx="606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variable pow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M Scattering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43200" y="4829040"/>
                <a:ext cx="47102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∇</m:t>
                            </m:r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381560" y="3792600"/>
            <a:ext cx="347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omain E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44720" y="1685880"/>
          <a:ext cx="463536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685880"/>
                    <a:ext cx="46353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65040" y="1147680"/>
            <a:ext cx="164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scretization support in VHDL-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operators (gradient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existing PDE solvers and multiphysics packages (FEM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physics Syste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5960" y="1227240"/>
          <a:ext cx="737064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227240"/>
                    <a:ext cx="737064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ckgrou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1076.1 behavioral languag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time domain simulation of mixed circuits and simple multiple physics via DAE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erarchical system description independent of solv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an have different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actical language extension is need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technology support (distributed 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model exchange between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equency-time domain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5680" y="1395360"/>
          <a:ext cx="60926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395360"/>
                    <a:ext cx="609264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838080" y="388620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ays to co-sim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 con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equency domain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88620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eded VHDL-AMS ext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omai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16240" y="3592440"/>
            <a:ext cx="6620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65920" y="3637080"/>
            <a:ext cx="6620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1230480"/>
          <a:ext cx="645336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30480"/>
                    <a:ext cx="64533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me domain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88620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eded VHDL-AMS ext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operator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6520" y="3637080"/>
            <a:ext cx="2287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E, dis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04960" y="3624120"/>
            <a:ext cx="2274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E, PDE, 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5680" y="1149480"/>
          <a:ext cx="6092640" cy="26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149480"/>
                    <a:ext cx="609264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stributed Physics in 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patial differential and integral operators support in VHDL-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o ODE’s via spatial discretization (leave time discretization to VHDL-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DE Support Requirements for 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77956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’s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’s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and 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424160" y="1847880"/>
                <a:ext cx="62942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nikitin</cp:lastModifiedBy>
  <cp:lastPrinted>2002-02-05T19:22:32Z</cp:lastPrinted>
  <dcterms:modified xsi:type="dcterms:W3CDTF">2003-06-19T19:46:07Z</dcterms:modified>
  <cp:revision>250</cp:revision>
  <dc:subject>ITC '01 Electronic presentation guide/template</dc:subject>
  <dc:title>Presentation Guide</dc:title>
</cp:coreProperties>
</file>