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5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73A-493D-479F-A225-E287F2D7D8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B44-F901-42D8-B623-11848BB2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9D3-A421-43DF-B83D-F124C35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6D1-4E67-41F4-A7F1-B98F7C91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EE2-1091-4F8E-9BEF-1947B708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89B-8906-483D-AFCE-CD96C744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5EDA-CBBA-4F28-A680-130F59F2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C1E9-9C4F-475F-9C90-135A5AF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4EF9-7E11-444A-AC7C-1A8EE55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933E-D220-475E-8C05-BFF5609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C3B-8F38-42A4-8082-2292972F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C7BE-C693-4060-91BA-D577FF9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F30-C8F6-4FC3-BEDC-1E1FAC2B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2561-4414-4F1E-866F-BE2254C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88B-9608-4E3C-823A-4DC5559C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F464-C157-426B-B5AA-03366727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564-8D41-488A-9F14-7EC41849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DF2B-1BF8-4F2D-966C-3D52520D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063-2798-4D1D-9132-94B314DB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C7F-FEDE-44C8-B7F5-EC0B513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1B0-D711-47DC-982F-163F09A8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10A-239B-4DE9-A96C-C59EFC43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0E3-92DC-4C92-A48F-FBA1CE9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4BB-3DBB-4C3D-A9F9-EA62412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33E-7BA2-4BEA-8E03-352E4F88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F916-7645-47D4-89D9-03320931B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B20-9156-443D-A6C9-6599E24AE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24200" y="3733920"/>
            <a:ext cx="64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 Chuany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5160" y="107280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ime Domain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urface Integral Technique  for Mixed Electromagnetic and Circuit Sim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5440" y="6170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Cross-talk Simulation with the Presence  of Subs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1640" y="1859040"/>
            <a:ext cx="3086280" cy="2314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870520" y="1881360"/>
            <a:ext cx="3273480" cy="2327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994120" y="421632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985000" y="4246560"/>
            <a:ext cx="3159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Cross-talk Simulation with the Presence  of Subs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3220920"/>
            <a:ext cx="3044880" cy="18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78520" y="1870200"/>
            <a:ext cx="3165480" cy="236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951280" y="1839960"/>
            <a:ext cx="3081240" cy="234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091200" y="4307040"/>
            <a:ext cx="3052800" cy="2550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925720" y="4260960"/>
            <a:ext cx="32022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onclusion and Next Stage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96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esented Solver Is Capable of Full Wave Modeling of PEC or Lossy Conductors Under High Frequ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alerkin Testing  Higher Order Gauss Quadrature Integration Rule Leads to Ensured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lusion of Finite Sized Dielectric Material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xt Stag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of Lossy Medium in Time Do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ast Time Domain Integral Solver based on QR-F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19240" y="21193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000" y="2208240"/>
            <a:ext cx="8793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roduction and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 Implicit Time Domain Surface Integral Formulation Utilizing Equival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 Direct Coupling to Modified Nod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c. Stabilization of Time Domain Integral Equation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Improvement on Late Time Stability Associated with T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Differential Pair with Split Ground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c.Cross-talk Simulation with the Presence of Subs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xt Stage Research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Modeling of Lossy Medium in Tim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Fast Algorithm for the Coupl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ime Domain Integral   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3670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3048120"/>
          <a:ext cx="34243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048120"/>
                    <a:ext cx="34243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72120" y="2089080"/>
                <a:ext cx="427644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8628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338720" y="3894120"/>
                <a:ext cx="438768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c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c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Direct Coupling to M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68160" y="2774880"/>
          <a:ext cx="477396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774880"/>
                    <a:ext cx="477396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490680" y="1844640"/>
            <a:ext cx="2843640" cy="4188960"/>
            <a:chOff x="490680" y="1844640"/>
            <a:chExt cx="2843640" cy="4188960"/>
          </a:xfrm>
        </p:grpSpPr>
        <p:grpSp>
          <p:nvGrpSpPr>
            <p:cNvPr id="127" name=""/>
            <p:cNvGrpSpPr/>
            <p:nvPr/>
          </p:nvGrpSpPr>
          <p:grpSpPr>
            <a:xfrm>
              <a:off x="490680" y="1844640"/>
              <a:ext cx="2233440" cy="1170000"/>
              <a:chOff x="490680" y="1844640"/>
              <a:chExt cx="2233440" cy="117000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6960" y="1844640"/>
                <a:ext cx="941040" cy="76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0680" y="1929600"/>
                <a:ext cx="851040" cy="69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6920" y="2205720"/>
                <a:ext cx="817200" cy="6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209600" y="2715840"/>
                <a:ext cx="69480" cy="290880"/>
              </a:xfrm>
              <a:prstGeom prst="downArrow">
                <a:avLst>
                  <a:gd name="adj1" fmla="val 50000"/>
                  <a:gd name="adj2" fmla="val 10466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636200">
                <a:off x="1379160" y="2582280"/>
                <a:ext cx="68040" cy="432000"/>
              </a:xfrm>
              <a:prstGeom prst="downArrow">
                <a:avLst>
                  <a:gd name="adj1" fmla="val 50000"/>
                  <a:gd name="adj2" fmla="val 15873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4530800">
                <a:off x="1662840" y="2475000"/>
                <a:ext cx="70920" cy="692640"/>
              </a:xfrm>
              <a:prstGeom prst="downArrow">
                <a:avLst>
                  <a:gd name="adj1" fmla="val 50000"/>
                  <a:gd name="adj2" fmla="val 244162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614600" y="5086080"/>
              <a:ext cx="1719720" cy="947520"/>
              <a:chOff x="1614600" y="5086080"/>
              <a:chExt cx="1719720" cy="9475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614600" y="5086080"/>
                <a:ext cx="1719720" cy="947520"/>
                <a:chOff x="1614600" y="5086080"/>
                <a:chExt cx="1719720" cy="94752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1614600" y="5543280"/>
                  <a:ext cx="895680" cy="291960"/>
                  <a:chOff x="1614600" y="5543280"/>
                  <a:chExt cx="895680" cy="29196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1882080" y="5543280"/>
                    <a:ext cx="356400" cy="291960"/>
                    <a:chOff x="1882080" y="5543280"/>
                    <a:chExt cx="356400" cy="2919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 rot="21570600">
                      <a:off x="1883160" y="554544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21570600">
                      <a:off x="1971720" y="554472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rot="21570600">
                      <a:off x="2060280" y="554400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21570600">
                      <a:off x="2148840" y="554328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 flipV="1">
                    <a:off x="2244240" y="5685480"/>
                    <a:ext cx="266040" cy="25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1614600" y="5690880"/>
                    <a:ext cx="264600" cy="25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502000" y="5637960"/>
                  <a:ext cx="458640" cy="321840"/>
                  <a:chOff x="2502000" y="5637960"/>
                  <a:chExt cx="458640" cy="32184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668320" y="5637960"/>
                    <a:ext cx="81360" cy="321840"/>
                    <a:chOff x="2668320" y="5637960"/>
                    <a:chExt cx="81360" cy="32184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668320" y="5637960"/>
                      <a:ext cx="0" cy="321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749680" y="5637960"/>
                      <a:ext cx="0" cy="321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" name=""/>
                  <p:cNvSpPr/>
                  <p:nvPr/>
                </p:nvSpPr>
                <p:spPr>
                  <a:xfrm flipH="1">
                    <a:off x="2502000" y="5806440"/>
                    <a:ext cx="166320" cy="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744280" y="5806440"/>
                    <a:ext cx="216360" cy="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2999520" y="5086080"/>
                  <a:ext cx="334800" cy="947520"/>
                  <a:chOff x="2999520" y="5086080"/>
                  <a:chExt cx="334800" cy="94752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999520" y="5313600"/>
                    <a:ext cx="334800" cy="431280"/>
                    <a:chOff x="2999520" y="5313600"/>
                    <a:chExt cx="334800" cy="43128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999520" y="5313600"/>
                      <a:ext cx="334800" cy="286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169080" y="5335560"/>
                      <a:ext cx="0" cy="348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125880" y="5635800"/>
                      <a:ext cx="856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360">
                          <a:moveTo>
                            <a:pt x="0" y="0"/>
                          </a:moveTo>
                          <a:lnTo>
                            <a:pt x="510" y="0"/>
                          </a:lnTo>
                          <a:lnTo>
                            <a:pt x="255" y="36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999520" y="5458680"/>
                      <a:ext cx="334800" cy="286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035160" y="5968080"/>
                    <a:ext cx="261720" cy="65520"/>
                    <a:chOff x="3035160" y="5968080"/>
                    <a:chExt cx="261720" cy="655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flipH="1">
                      <a:off x="3035160" y="5968080"/>
                      <a:ext cx="26172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flipH="1">
                      <a:off x="3098520" y="6000840"/>
                      <a:ext cx="1353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flipH="1">
                      <a:off x="3134880" y="6033600"/>
                      <a:ext cx="6300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" name=""/>
                  <p:cNvSpPr/>
                  <p:nvPr/>
                </p:nvSpPr>
                <p:spPr>
                  <a:xfrm>
                    <a:off x="3166560" y="5086080"/>
                    <a:ext cx="2880" cy="27396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166560" y="5736240"/>
                    <a:ext cx="0" cy="23184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2538720" y="5187960"/>
                  <a:ext cx="86760" cy="385200"/>
                </a:xfrm>
                <a:prstGeom prst="upArrow">
                  <a:avLst>
                    <a:gd name="adj1" fmla="val 50000"/>
                    <a:gd name="adj2" fmla="val 110996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rot="2640000">
                <a:off x="2192760" y="5079960"/>
                <a:ext cx="86760" cy="454320"/>
              </a:xfrm>
              <a:prstGeom prst="upArrow">
                <a:avLst>
                  <a:gd name="adj1" fmla="val 50000"/>
                  <a:gd name="adj2" fmla="val 13091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448000">
                <a:off x="2857680" y="5232960"/>
                <a:ext cx="88200" cy="208080"/>
              </a:xfrm>
              <a:prstGeom prst="upArrow">
                <a:avLst>
                  <a:gd name="adj1" fmla="val 50000"/>
                  <a:gd name="adj2" fmla="val 5898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5" name=""/>
          <p:cNvGraphicFramePr/>
          <p:nvPr/>
        </p:nvGraphicFramePr>
        <p:xfrm>
          <a:off x="5700600" y="2265480"/>
          <a:ext cx="1859040" cy="153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00600" y="2265480"/>
                    <a:ext cx="18590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13280" y="3971880"/>
          <a:ext cx="1627200" cy="6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3280" y="3971880"/>
                    <a:ext cx="1627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53240" y="4651200"/>
                <a:ext cx="1562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210200" y="5475240"/>
            <a:ext cx="49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 coupling enable us to get things done by the best tools for each part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5680" y="69192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22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33480" y="2352600"/>
                <a:ext cx="5756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0384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36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71560" y="3129120"/>
                <a:ext cx="5499000" cy="21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 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W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09640" y="5514840"/>
            <a:ext cx="697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For a marching on time system, where the unknowns at current time can be described in terms of unknowns of earlier time, if the system is a stable one the eigenvalues of above matrix should be enclosed in a unit circl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48960" y="1137960"/>
            <a:ext cx="586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7760" y="2173320"/>
            <a:ext cx="3256200" cy="187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68760" y="1787400"/>
            <a:ext cx="3995640" cy="230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6480" y="4102200"/>
            <a:ext cx="3884760" cy="255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16280" y="4094280"/>
            <a:ext cx="36608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054080"/>
            <a:ext cx="7792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87560"/>
            <a:ext cx="3144960" cy="2378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70240" y="2030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1040" y="4476600"/>
            <a:ext cx="3733920" cy="2381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216320" y="44197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ircuit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4120" y="1833480"/>
            <a:ext cx="3463920" cy="1692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422280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591080" y="1832040"/>
            <a:ext cx="3886200" cy="213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692600" y="4211640"/>
            <a:ext cx="3801960" cy="236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52480" y="3679920"/>
            <a:ext cx="22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mall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55440" y="1145880"/>
            <a:ext cx="81882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Differential Pair Over Split Ground Pla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9080" y="2046240"/>
            <a:ext cx="3409920" cy="2867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356000" y="1820880"/>
            <a:ext cx="4570560" cy="2198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429080" y="4203720"/>
            <a:ext cx="4570560" cy="2468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8120" y="5184720"/>
            <a:ext cx="3733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CES IEEE/EMC Society TC9        2001 Challenging Problem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Find:Volt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etween Line+ and CM Ground Point 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</cp:lastModifiedBy>
  <cp:lastPrinted>2002-02-05T19:22:32Z</cp:lastPrinted>
  <dcterms:modified xsi:type="dcterms:W3CDTF">2003-06-18T21:33:58Z</dcterms:modified>
  <cp:revision>149</cp:revision>
  <dc:subject>ITC '01 Electronic presentation guide/template</dc:subject>
  <dc:title>Presentation Guide</dc:title>
</cp:coreProperties>
</file>