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6.wmf" ContentType="image/x-wmf"/>
  <Override PartName="/ppt/media/image11.png" ContentType="image/png"/>
  <Override PartName="/ppt/media/image5.wmf" ContentType="image/x-wmf"/>
  <Override PartName="/ppt/media/image10.png" ContentType="image/png"/>
  <Override PartName="/ppt/media/image4.wmf" ContentType="image/x-wmf"/>
  <Override PartName="/ppt/media/image3.png" ContentType="image/png"/>
  <Override PartName="/ppt/media/image26.png" ContentType="image/png"/>
  <Override PartName="/ppt/media/image2.wmf" ContentType="image/x-wmf"/>
  <Override PartName="/ppt/media/image1.png" ContentType="image/png"/>
  <Override PartName="/ppt/media/image24.png" ContentType="image/png"/>
  <Override PartName="/ppt/media/image28.png" ContentType="image/png"/>
  <Override PartName="/ppt/media/image16.png" ContentType="image/png"/>
  <Override PartName="/ppt/media/image27.png" ContentType="image/png"/>
  <Override PartName="/ppt/media/image15.png" ContentType="image/png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4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9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-36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388584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54E72-277E-43BA-9FAE-188E61F02282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Img"/>
          </p:nvPr>
        </p:nvSpPr>
        <p:spPr>
          <a:xfrm>
            <a:off x="1130040" y="690120"/>
            <a:ext cx="4599000" cy="3449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 sample presentation templ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f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78D09-5D29-486D-B000-EEF15442B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9656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23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794400"/>
            <a:ext cx="7772400" cy="23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BD0C3-5E8A-4F99-A143-255C219A8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9656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94400"/>
            <a:ext cx="3792600" cy="23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794400"/>
            <a:ext cx="3792600" cy="23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5FBDC-98C9-42AC-9C77-F2649A10D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9656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2502360" cy="23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219320"/>
            <a:ext cx="2502360" cy="23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219320"/>
            <a:ext cx="2502360" cy="23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794400"/>
            <a:ext cx="2502360" cy="23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794400"/>
            <a:ext cx="2502360" cy="23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794400"/>
            <a:ext cx="2502360" cy="23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67382-DF74-4037-97FF-6DB928174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9656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219320"/>
            <a:ext cx="77724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41173-0801-482D-BFC7-A741832B1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9656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2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F893A-6D1F-4A11-B4D3-35509560B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9656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492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492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EB0B7-F52C-4201-8569-4445A32FE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9656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9CEEA-BBA3-4222-B4BB-03469CFA9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B8CE5-23B7-44CF-AD6C-909EEE7F8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9656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492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794400"/>
            <a:ext cx="3792600" cy="23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998F9-341A-4A54-93DE-32F43935C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9656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492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794400"/>
            <a:ext cx="3792600" cy="23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7D6E4-0D30-4D95-810F-6D4C50C26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9656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794400"/>
            <a:ext cx="7772400" cy="23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875E5-4D18-4986-8B0C-907F130A6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ED575-4008-4B36-8FAE-3417999BC2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85800" y="1219320"/>
            <a:ext cx="7772400" cy="492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19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28760" y="2285640"/>
            <a:ext cx="83469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  <a:ea typeface="Times New Roman"/>
              </a:rPr>
              <a:t>Superfast Parasitic Extraction for Frequency Domain EM-Circuit Simulation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lnSpc>
                <a:spcPct val="12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S200Adviso3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/RFIC200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95160" y="5776920"/>
            <a:ext cx="1447920" cy="604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1" name=""/>
          <p:cNvGraphicFramePr/>
          <p:nvPr/>
        </p:nvGraphicFramePr>
        <p:xfrm>
          <a:off x="4352760" y="5700600"/>
          <a:ext cx="820800" cy="838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352760" y="5700600"/>
                    <a:ext cx="820800" cy="8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7480440" y="5700600"/>
            <a:ext cx="745920" cy="762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623880" y="1674720"/>
            <a:ext cx="7834320" cy="44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 anchorCtr="1">
            <a:noAutofit/>
          </a:bodyPr>
          <a:p>
            <a:pPr algn="ctr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panjan G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Merged Interaction List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792000" y="1652760"/>
            <a:ext cx="6891120" cy="1253880"/>
            <a:chOff x="792000" y="1652760"/>
            <a:chExt cx="6891120" cy="1253880"/>
          </a:xfrm>
        </p:grpSpPr>
        <p:grpSp>
          <p:nvGrpSpPr>
            <p:cNvPr id="138" name=""/>
            <p:cNvGrpSpPr/>
            <p:nvPr/>
          </p:nvGrpSpPr>
          <p:grpSpPr>
            <a:xfrm>
              <a:off x="792000" y="1656000"/>
              <a:ext cx="1666800" cy="1250640"/>
              <a:chOff x="792000" y="1656000"/>
              <a:chExt cx="1666800" cy="1250640"/>
            </a:xfrm>
          </p:grpSpPr>
          <p:pic>
            <p:nvPicPr>
              <p:cNvPr id="139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792000" y="1656000"/>
                <a:ext cx="1666800" cy="1250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0" name=""/>
              <p:cNvSpPr/>
              <p:nvPr/>
            </p:nvSpPr>
            <p:spPr>
              <a:xfrm>
                <a:off x="1331640" y="2000520"/>
                <a:ext cx="328680" cy="266400"/>
              </a:xfrm>
              <a:prstGeom prst="rect">
                <a:avLst/>
              </a:prstGeom>
              <a:noFill/>
              <a:ln w="38160">
                <a:solidFill>
                  <a:srgbClr val="d9319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" name=""/>
            <p:cNvGrpSpPr/>
            <p:nvPr/>
          </p:nvGrpSpPr>
          <p:grpSpPr>
            <a:xfrm>
              <a:off x="2508120" y="1652760"/>
              <a:ext cx="1698480" cy="1235160"/>
              <a:chOff x="2508120" y="1652760"/>
              <a:chExt cx="1698480" cy="1235160"/>
            </a:xfrm>
          </p:grpSpPr>
          <p:pic>
            <p:nvPicPr>
              <p:cNvPr id="142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2508120" y="1652760"/>
                <a:ext cx="1698480" cy="1235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3" name=""/>
              <p:cNvSpPr/>
              <p:nvPr/>
            </p:nvSpPr>
            <p:spPr>
              <a:xfrm>
                <a:off x="3055680" y="1997280"/>
                <a:ext cx="318960" cy="248760"/>
              </a:xfrm>
              <a:prstGeom prst="rect">
                <a:avLst/>
              </a:prstGeom>
              <a:noFill/>
              <a:ln w="38160">
                <a:solidFill>
                  <a:srgbClr val="d9319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4" name=""/>
            <p:cNvGrpSpPr/>
            <p:nvPr/>
          </p:nvGrpSpPr>
          <p:grpSpPr>
            <a:xfrm>
              <a:off x="4296960" y="1654200"/>
              <a:ext cx="1724040" cy="1243080"/>
              <a:chOff x="4296960" y="1654200"/>
              <a:chExt cx="1724040" cy="1243080"/>
            </a:xfrm>
          </p:grpSpPr>
          <p:pic>
            <p:nvPicPr>
              <p:cNvPr id="145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4296960" y="1654200"/>
                <a:ext cx="1724040" cy="124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6" name=""/>
              <p:cNvSpPr/>
              <p:nvPr/>
            </p:nvSpPr>
            <p:spPr>
              <a:xfrm>
                <a:off x="4844880" y="1995840"/>
                <a:ext cx="350640" cy="246600"/>
              </a:xfrm>
              <a:prstGeom prst="rect">
                <a:avLst/>
              </a:prstGeom>
              <a:noFill/>
              <a:ln w="38160">
                <a:solidFill>
                  <a:srgbClr val="d9319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" name=""/>
            <p:cNvGrpSpPr/>
            <p:nvPr/>
          </p:nvGrpSpPr>
          <p:grpSpPr>
            <a:xfrm>
              <a:off x="6060960" y="1656000"/>
              <a:ext cx="1622160" cy="1247760"/>
              <a:chOff x="6060960" y="1656000"/>
              <a:chExt cx="1622160" cy="1247760"/>
            </a:xfrm>
          </p:grpSpPr>
          <p:pic>
            <p:nvPicPr>
              <p:cNvPr id="148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060960" y="1656000"/>
                <a:ext cx="1622160" cy="1247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9" name=""/>
              <p:cNvSpPr/>
              <p:nvPr/>
            </p:nvSpPr>
            <p:spPr>
              <a:xfrm>
                <a:off x="6598800" y="1990800"/>
                <a:ext cx="319320" cy="257040"/>
              </a:xfrm>
              <a:prstGeom prst="rect">
                <a:avLst/>
              </a:prstGeom>
              <a:noFill/>
              <a:ln w="38160">
                <a:solidFill>
                  <a:srgbClr val="d9319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0" name=""/>
            <p:cNvSpPr/>
            <p:nvPr/>
          </p:nvSpPr>
          <p:spPr>
            <a:xfrm>
              <a:off x="1014120" y="1744920"/>
              <a:ext cx="650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014120" y="2751120"/>
              <a:ext cx="6492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"/>
          <p:cNvSpPr/>
          <p:nvPr/>
        </p:nvSpPr>
        <p:spPr>
          <a:xfrm>
            <a:off x="725040" y="1122480"/>
            <a:ext cx="663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50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08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5008"/>
                </a:solidFill>
                <a:latin typeface="Arial"/>
              </a:rPr>
              <a:t>Siblings have common cubes in their interaction 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41160" y="3151080"/>
            <a:ext cx="784332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50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08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5008"/>
                </a:solidFill>
                <a:latin typeface="Arial"/>
              </a:rPr>
              <a:t>Merging sibling observers and common cube 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Based on maximum memory compre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Identifying merged interaction list for 1 sibling combin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Same pattern repeats for all sibling combinations and across lev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Merged interaction list replaces “rank-map” of IES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Merged interaction list possible due to regular geome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5"/>
          <a:stretch/>
        </p:blipFill>
        <p:spPr>
          <a:xfrm>
            <a:off x="1312920" y="4952880"/>
            <a:ext cx="2158920" cy="161928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3534840" y="5581800"/>
            <a:ext cx="365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e entry of Merged Interaction Li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Merged Interaction Lists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569880" y="1022400"/>
            <a:ext cx="7993080" cy="555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9720" y="228240"/>
            <a:ext cx="90154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Time and Memory Scaling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14013000" y="10665000"/>
            <a:ext cx="3794040" cy="2528640"/>
          </a:xfrm>
          <a:prstGeom prst="rect">
            <a:avLst/>
          </a:prstGeom>
          <a:ln w="0">
            <a:noFill/>
          </a:ln>
        </p:spPr>
      </p:pic>
      <p:grpSp>
        <p:nvGrpSpPr>
          <p:cNvPr id="160" name=""/>
          <p:cNvGrpSpPr/>
          <p:nvPr/>
        </p:nvGrpSpPr>
        <p:grpSpPr>
          <a:xfrm>
            <a:off x="665280" y="1081080"/>
            <a:ext cx="2965320" cy="2232720"/>
            <a:chOff x="665280" y="1081080"/>
            <a:chExt cx="2965320" cy="2232720"/>
          </a:xfrm>
        </p:grpSpPr>
        <p:pic>
          <p:nvPicPr>
            <p:cNvPr id="161" name="" descr=""/>
            <p:cNvPicPr/>
            <p:nvPr/>
          </p:nvPicPr>
          <p:blipFill>
            <a:blip r:embed="rId2"/>
            <a:stretch/>
          </p:blipFill>
          <p:spPr>
            <a:xfrm>
              <a:off x="665280" y="1081080"/>
              <a:ext cx="2965320" cy="20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1079640" y="3006720"/>
              <a:ext cx="2000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imple 5 X 5 bu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63" name=""/>
          <p:cNvGraphicFramePr/>
          <p:nvPr/>
        </p:nvGraphicFramePr>
        <p:xfrm>
          <a:off x="909720" y="3686040"/>
          <a:ext cx="4017960" cy="1452600"/>
        </p:xfrm>
        <a:graphic>
          <a:graphicData uri="http://schemas.openxmlformats.org/drawingml/2006/table">
            <a:tbl>
              <a:tblPr/>
              <a:tblGrid>
                <a:gridCol w="984240"/>
                <a:gridCol w="1027440"/>
                <a:gridCol w="1002960"/>
                <a:gridCol w="1003320"/>
              </a:tblGrid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su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stCa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CO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MB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mo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G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9G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2G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7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2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0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6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 siz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mill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7mill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6mill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64" name=""/>
          <p:cNvGrpSpPr/>
          <p:nvPr/>
        </p:nvGrpSpPr>
        <p:grpSpPr>
          <a:xfrm>
            <a:off x="5197320" y="866880"/>
            <a:ext cx="3335400" cy="5518080"/>
            <a:chOff x="5197320" y="866880"/>
            <a:chExt cx="3335400" cy="5518080"/>
          </a:xfrm>
        </p:grpSpPr>
        <p:grpSp>
          <p:nvGrpSpPr>
            <p:cNvPr id="165" name=""/>
            <p:cNvGrpSpPr/>
            <p:nvPr/>
          </p:nvGrpSpPr>
          <p:grpSpPr>
            <a:xfrm>
              <a:off x="5197320" y="866880"/>
              <a:ext cx="3335400" cy="5518080"/>
              <a:chOff x="5197320" y="866880"/>
              <a:chExt cx="3335400" cy="5518080"/>
            </a:xfrm>
          </p:grpSpPr>
          <p:pic>
            <p:nvPicPr>
              <p:cNvPr id="16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5329080" y="3598920"/>
                <a:ext cx="3203640" cy="2786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5311800" y="866880"/>
                <a:ext cx="3190680" cy="2770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8" name=""/>
              <p:cNvSpPr/>
              <p:nvPr/>
            </p:nvSpPr>
            <p:spPr>
              <a:xfrm>
                <a:off x="5197320" y="3618000"/>
                <a:ext cx="3311640" cy="921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360" bIns="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9" name=""/>
            <p:cNvSpPr/>
            <p:nvPr/>
          </p:nvSpPr>
          <p:spPr>
            <a:xfrm flipV="1">
              <a:off x="7704000" y="3286080"/>
              <a:ext cx="0" cy="3794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836760" y="2652840"/>
              <a:ext cx="106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mor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132680" y="54212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2973240" y="4098960"/>
            <a:ext cx="871560" cy="1019160"/>
          </a:xfrm>
          <a:prstGeom prst="rect">
            <a:avLst/>
          </a:prstGeom>
          <a:noFill/>
          <a:ln w="25560">
            <a:solidFill>
              <a:srgbClr val="ff50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16040" y="4078440"/>
            <a:ext cx="88920" cy="693720"/>
          </a:xfrm>
          <a:custGeom>
            <a:avLst/>
            <a:gdLst>
              <a:gd name="textAreaLeft" fmla="*/ 56880 w 88920"/>
              <a:gd name="textAreaRight" fmla="*/ 89280 w 88920"/>
              <a:gd name="textAreaTop" fmla="*/ 18000 h 693720"/>
              <a:gd name="textAreaBottom" fmla="*/ 675720 h 693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63240" y="4232160"/>
            <a:ext cx="3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886680" y="5178600"/>
            <a:ext cx="234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cc99"/>
                </a:solidFill>
                <a:latin typeface="Arial"/>
              </a:rPr>
              <a:t>* At 0.4 million unknow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41080" y="5865840"/>
            <a:ext cx="493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08"/>
                </a:solidFill>
                <a:latin typeface="Arial"/>
              </a:rPr>
              <a:t>SAME ACCURACY IN 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3406680" y="1398600"/>
          <a:ext cx="1978200" cy="1096920"/>
        </p:xfrm>
        <a:graphic>
          <a:graphicData uri="http://schemas.openxmlformats.org/drawingml/2006/table">
            <a:tbl>
              <a:tblPr/>
              <a:tblGrid>
                <a:gridCol w="660600"/>
                <a:gridCol w="657000"/>
                <a:gridCol w="66060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G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TU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MR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e-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e-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M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=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e-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Time Scaling with number of RHS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639720" y="1298520"/>
            <a:ext cx="4122720" cy="425916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1851120" y="6039000"/>
            <a:ext cx="585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01,600 patches 14 lead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424480" y="1011240"/>
            <a:ext cx="276264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ff5008"/>
                </a:solidFill>
                <a:latin typeface="Arial"/>
              </a:rPr>
              <a:t>Mem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Fast-Cap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78M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RMBT-QR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45M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DICOT-QR       441M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84760" y="2374920"/>
            <a:ext cx="4284720" cy="34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DARPA Test Example (ic_hrl_tc1)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757080" y="1252440"/>
            <a:ext cx="3637080" cy="353700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4716360" y="1165320"/>
            <a:ext cx="3086280" cy="223200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3"/>
          <a:stretch/>
        </p:blipFill>
        <p:spPr>
          <a:xfrm>
            <a:off x="4705200" y="3429000"/>
            <a:ext cx="3086280" cy="285768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958680" y="4900680"/>
            <a:ext cx="3362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0.1 million patc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 RHS sol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1325160" y="2075040"/>
            <a:ext cx="2475360" cy="1763640"/>
            <a:chOff x="1325160" y="2075040"/>
            <a:chExt cx="2475360" cy="1763640"/>
          </a:xfrm>
        </p:grpSpPr>
        <p:sp>
          <p:nvSpPr>
            <p:cNvPr id="189" name=""/>
            <p:cNvSpPr/>
            <p:nvPr/>
          </p:nvSpPr>
          <p:spPr>
            <a:xfrm flipH="1">
              <a:off x="1325160" y="2085840"/>
              <a:ext cx="986040" cy="134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335240" y="3429000"/>
              <a:ext cx="1469880" cy="393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flipH="1">
              <a:off x="2782440" y="2495520"/>
              <a:ext cx="986040" cy="134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311560" y="2075040"/>
              <a:ext cx="1488960" cy="412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7149960" y="1612800"/>
            <a:ext cx="595440" cy="354240"/>
            <a:chOff x="7149960" y="1612800"/>
            <a:chExt cx="595440" cy="354240"/>
          </a:xfrm>
        </p:grpSpPr>
        <p:sp>
          <p:nvSpPr>
            <p:cNvPr id="194" name=""/>
            <p:cNvSpPr/>
            <p:nvPr/>
          </p:nvSpPr>
          <p:spPr>
            <a:xfrm flipH="1">
              <a:off x="7149960" y="1612800"/>
              <a:ext cx="185760" cy="27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161120" y="1859040"/>
              <a:ext cx="432000" cy="92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313760" y="1620720"/>
              <a:ext cx="431640" cy="92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flipH="1">
              <a:off x="7521480" y="1689120"/>
              <a:ext cx="185760" cy="27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"/>
          <p:cNvSpPr/>
          <p:nvPr/>
        </p:nvSpPr>
        <p:spPr>
          <a:xfrm rot="8343600">
            <a:off x="7684200" y="2319480"/>
            <a:ext cx="932040" cy="984240"/>
          </a:xfrm>
          <a:custGeom>
            <a:avLst/>
            <a:gdLst>
              <a:gd name="textAreaLeft" fmla="*/ 0 w 932040"/>
              <a:gd name="textAreaRight" fmla="*/ 932400 w 932040"/>
              <a:gd name="textAreaTop" fmla="*/ 0 h 984240"/>
              <a:gd name="textAreaBottom" fmla="*/ 984600 h 984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503520" y="2849400"/>
            <a:ext cx="1068480" cy="514440"/>
          </a:xfrm>
          <a:prstGeom prst="rightArrow">
            <a:avLst>
              <a:gd name="adj1" fmla="val 50000"/>
              <a:gd name="adj2" fmla="val 51924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Performance Comparison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469800" y="1461960"/>
            <a:ext cx="4997520" cy="4216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02" name=""/>
          <p:cNvGraphicFramePr/>
          <p:nvPr/>
        </p:nvGraphicFramePr>
        <p:xfrm>
          <a:off x="5364000" y="1827360"/>
          <a:ext cx="3456000" cy="3085920"/>
        </p:xfrm>
        <a:graphic>
          <a:graphicData uri="http://schemas.openxmlformats.org/drawingml/2006/table">
            <a:tbl>
              <a:tblPr/>
              <a:tblGrid>
                <a:gridCol w="1152720"/>
                <a:gridCol w="1150920"/>
                <a:gridCol w="1152360"/>
              </a:tblGrid>
              <a:tr h="747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Algorith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Memo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Ti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9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COT-Q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5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m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9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MBT-Q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0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m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9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ST-C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m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3" name=""/>
          <p:cNvSpPr/>
          <p:nvPr/>
        </p:nvSpPr>
        <p:spPr>
          <a:xfrm>
            <a:off x="5495760" y="2646360"/>
            <a:ext cx="3165480" cy="663480"/>
          </a:xfrm>
          <a:prstGeom prst="rect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" name=""/>
          <p:cNvGrpSpPr/>
          <p:nvPr/>
        </p:nvGrpSpPr>
        <p:grpSpPr>
          <a:xfrm>
            <a:off x="822240" y="936720"/>
            <a:ext cx="7478640" cy="5422680"/>
            <a:chOff x="822240" y="936720"/>
            <a:chExt cx="7478640" cy="5422680"/>
          </a:xfrm>
        </p:grpSpPr>
        <p:grpSp>
          <p:nvGrpSpPr>
            <p:cNvPr id="205" name=""/>
            <p:cNvGrpSpPr/>
            <p:nvPr/>
          </p:nvGrpSpPr>
          <p:grpSpPr>
            <a:xfrm>
              <a:off x="822240" y="936720"/>
              <a:ext cx="7478640" cy="5422680"/>
              <a:chOff x="822240" y="936720"/>
              <a:chExt cx="7478640" cy="5422680"/>
            </a:xfrm>
          </p:grpSpPr>
          <p:pic>
            <p:nvPicPr>
              <p:cNvPr id="206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822240" y="1233360"/>
                <a:ext cx="7478640" cy="5126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7" name=""/>
              <p:cNvSpPr/>
              <p:nvPr/>
            </p:nvSpPr>
            <p:spPr>
              <a:xfrm>
                <a:off x="2036880" y="936720"/>
                <a:ext cx="5031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828200"/>
                    </a:solidFill>
                    <a:latin typeface="Arial"/>
                  </a:rPr>
                  <a:t>30 copies of ic_hrl_tc1 placed in 10 X 3 array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8" name=""/>
            <p:cNvSpPr/>
            <p:nvPr/>
          </p:nvSpPr>
          <p:spPr>
            <a:xfrm>
              <a:off x="3822840" y="2957400"/>
              <a:ext cx="739800" cy="16858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"/>
          <p:cNvGrpSpPr/>
          <p:nvPr/>
        </p:nvGrpSpPr>
        <p:grpSpPr>
          <a:xfrm>
            <a:off x="822240" y="987480"/>
            <a:ext cx="7489800" cy="5433840"/>
            <a:chOff x="822240" y="987480"/>
            <a:chExt cx="7489800" cy="5433840"/>
          </a:xfrm>
        </p:grpSpPr>
        <p:grpSp>
          <p:nvGrpSpPr>
            <p:cNvPr id="210" name=""/>
            <p:cNvGrpSpPr/>
            <p:nvPr/>
          </p:nvGrpSpPr>
          <p:grpSpPr>
            <a:xfrm>
              <a:off x="822240" y="987480"/>
              <a:ext cx="7489800" cy="5433840"/>
              <a:chOff x="822240" y="987480"/>
              <a:chExt cx="7489800" cy="5433840"/>
            </a:xfrm>
          </p:grpSpPr>
          <p:grpSp>
            <p:nvGrpSpPr>
              <p:cNvPr id="211" name=""/>
              <p:cNvGrpSpPr/>
              <p:nvPr/>
            </p:nvGrpSpPr>
            <p:grpSpPr>
              <a:xfrm>
                <a:off x="822240" y="987480"/>
                <a:ext cx="7489800" cy="5433840"/>
                <a:chOff x="822240" y="987480"/>
                <a:chExt cx="7489800" cy="5433840"/>
              </a:xfrm>
            </p:grpSpPr>
            <p:sp>
              <p:nvSpPr>
                <p:cNvPr id="212" name=""/>
                <p:cNvSpPr/>
                <p:nvPr/>
              </p:nvSpPr>
              <p:spPr>
                <a:xfrm>
                  <a:off x="822240" y="987480"/>
                  <a:ext cx="7489800" cy="54338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213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1359000" y="1058400"/>
                  <a:ext cx="6369120" cy="20390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214" name=""/>
              <p:cNvSpPr/>
              <p:nvPr/>
            </p:nvSpPr>
            <p:spPr>
              <a:xfrm>
                <a:off x="1965960" y="3438360"/>
                <a:ext cx="5203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0.9 million patches; 1200 nets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5" name=""/>
            <p:cNvSpPr/>
            <p:nvPr/>
          </p:nvSpPr>
          <p:spPr>
            <a:xfrm>
              <a:off x="1878840" y="5799240"/>
              <a:ext cx="535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QR Tolerance 1e-3; GMRES Tolerance 1e-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Capability of Superfast DICOT-QR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801720" y="955800"/>
            <a:ext cx="7499160" cy="54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1149480" y="4024440"/>
          <a:ext cx="6825960" cy="1763640"/>
        </p:xfrm>
        <a:graphic>
          <a:graphicData uri="http://schemas.openxmlformats.org/drawingml/2006/table">
            <a:tbl>
              <a:tblPr/>
              <a:tblGrid>
                <a:gridCol w="1708200"/>
                <a:gridCol w="1706400"/>
                <a:gridCol w="1706400"/>
                <a:gridCol w="1704960"/>
              </a:tblGrid>
              <a:tr h="453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gorith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mo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t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lve (3RH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6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COT-Q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3G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m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m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6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MBT-Q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uld Not Fit in Memo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6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STC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uld Not Fit in Memo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19" name=""/>
          <p:cNvSpPr/>
          <p:nvPr/>
        </p:nvSpPr>
        <p:spPr>
          <a:xfrm>
            <a:off x="1633680" y="588636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Conclusions and Future Work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801720" y="1278000"/>
            <a:ext cx="8153280" cy="23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50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08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5008"/>
                </a:solidFill>
                <a:latin typeface="Arial"/>
              </a:rPr>
              <a:t>Superfast QR Iterative solver based on “best of both algorithm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Memory optimized as in IES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Solve time optimized as in IES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Setup time drastically reduced from that of IES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3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FMM fea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784440" y="3281400"/>
            <a:ext cx="6857280" cy="23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50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08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5008"/>
                </a:solidFill>
                <a:latin typeface="Arial"/>
              </a:rPr>
              <a:t>Versatile application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828200"/>
                </a:solidFill>
                <a:latin typeface="Arial"/>
              </a:rPr>
              <a:t>- Parasitic capacitance extraction (electro-static): pres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Parasitic inductance extraction (magneto-static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Layered medi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Electric field integral equations coupled to circu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Magnetic field integral equations coupled to circu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PMCHW coupled to circu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Time domain QR fast solv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803880" y="1486080"/>
            <a:ext cx="76921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asitic Extraction in Cutting-edge Circuit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isting Fast Algorith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50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08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5008"/>
                </a:solidFill>
                <a:latin typeface="Arial"/>
              </a:rPr>
              <a:t>Superfast Parasitic Extr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arative Study with Existing Algorith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plication to Practical Layou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clusions and Future Wor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Parasitic Extraction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1203480"/>
            <a:ext cx="784224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50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08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5008"/>
                </a:solidFill>
                <a:latin typeface="Arial"/>
              </a:rPr>
              <a:t>Deep Sub-micron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High aspect ratio to reduce wire resist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Minimum wire spac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Wire delay exceeds gate del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ff50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08"/>
                </a:solidFill>
                <a:latin typeface="Arial"/>
              </a:rPr>
              <a:t>High Frequency Appl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Delay analysis critic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Delay computed from parasitic mod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014600" y="1447920"/>
            <a:ext cx="1486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28200"/>
                </a:solidFill>
                <a:latin typeface="Arial"/>
              </a:rPr>
              <a:t>Increase 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28200"/>
                </a:solidFill>
                <a:latin typeface="Arial"/>
              </a:rPr>
              <a:t>parasiti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28200"/>
                </a:solidFill>
                <a:latin typeface="Arial"/>
              </a:rPr>
              <a:t>capaci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669000" y="1390680"/>
            <a:ext cx="154080" cy="1079640"/>
          </a:xfrm>
          <a:custGeom>
            <a:avLst/>
            <a:gdLst>
              <a:gd name="textAreaLeft" fmla="*/ 0 w 154080"/>
              <a:gd name="textAreaRight" fmla="*/ 55440 w 1540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667560" y="2639880"/>
            <a:ext cx="139680" cy="1094040"/>
          </a:xfrm>
          <a:custGeom>
            <a:avLst/>
            <a:gdLst>
              <a:gd name="textAreaLeft" fmla="*/ 0 w 139680"/>
              <a:gd name="textAreaRight" fmla="*/ 50400 w 139680"/>
              <a:gd name="textAreaTop" fmla="*/ 28440 h 1094040"/>
              <a:gd name="textAreaBottom" fmla="*/ 1065600 h 1094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921720" y="2733840"/>
            <a:ext cx="1526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28200"/>
                </a:solidFill>
                <a:latin typeface="Arial"/>
              </a:rPr>
              <a:t>Extrac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28200"/>
                </a:solidFill>
                <a:latin typeface="Arial"/>
              </a:rPr>
              <a:t>of parasi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28200"/>
                </a:solidFill>
                <a:latin typeface="Arial"/>
              </a:rPr>
              <a:t>impera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841480" y="4083120"/>
            <a:ext cx="361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08"/>
                </a:solidFill>
                <a:latin typeface="Arial"/>
              </a:rPr>
              <a:t>SIA97: SRC’s 10 year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1595520" y="4549680"/>
          <a:ext cx="5951520" cy="1785960"/>
        </p:xfrm>
        <a:graphic>
          <a:graphicData uri="http://schemas.openxmlformats.org/drawingml/2006/table">
            <a:tbl>
              <a:tblPr/>
              <a:tblGrid>
                <a:gridCol w="2071440"/>
                <a:gridCol w="1963800"/>
                <a:gridCol w="1916280"/>
              </a:tblGrid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nimum Feature siz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0n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n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n Spac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0n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n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pect Rat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8: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7: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te Dela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75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29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cm Wire Dela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12 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53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5" name=""/>
          <p:cNvSpPr/>
          <p:nvPr/>
        </p:nvSpPr>
        <p:spPr>
          <a:xfrm>
            <a:off x="1692360" y="5670720"/>
            <a:ext cx="5670360" cy="617400"/>
          </a:xfrm>
          <a:prstGeom prst="rect">
            <a:avLst/>
          </a:prstGeom>
          <a:noFill/>
          <a:ln w="25560">
            <a:solidFill>
              <a:srgbClr val="ff50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0892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Fast Extraction Algorithms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027320" y="223848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42880" y="1206360"/>
            <a:ext cx="8097840" cy="26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50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08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5008"/>
                </a:solidFill>
                <a:latin typeface="Arial"/>
              </a:rPr>
              <a:t>Numerical Methods requi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3D complex on-chip/package/board geomet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High accuracy solu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50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08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5008"/>
                </a:solidFill>
                <a:latin typeface="Arial"/>
              </a:rPr>
              <a:t>Integral Equation based Solvers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.g. Method of Moments (Mo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Smaller sized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Well conditioned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Dense system of equa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 flipV="1">
            <a:off x="6421320" y="2908440"/>
            <a:ext cx="20880" cy="264960"/>
          </a:xfrm>
          <a:prstGeom prst="line">
            <a:avLst/>
          </a:prstGeom>
          <a:ln w="63360">
            <a:solidFill>
              <a:srgbClr val="0033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 flipV="1">
            <a:off x="6429240" y="3219480"/>
            <a:ext cx="20880" cy="264960"/>
          </a:xfrm>
          <a:prstGeom prst="line">
            <a:avLst/>
          </a:prstGeom>
          <a:ln w="63360">
            <a:solidFill>
              <a:srgbClr val="0033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438240" y="3559320"/>
            <a:ext cx="6840" cy="303120"/>
          </a:xfrm>
          <a:prstGeom prst="line">
            <a:avLst/>
          </a:prstGeom>
          <a:ln w="63360">
            <a:solidFill>
              <a:srgbClr val="ff5008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1933560" y="4151160"/>
          <a:ext cx="5091120" cy="1887840"/>
        </p:xfrm>
        <a:graphic>
          <a:graphicData uri="http://schemas.openxmlformats.org/drawingml/2006/table">
            <a:tbl>
              <a:tblPr/>
              <a:tblGrid>
                <a:gridCol w="1697040"/>
                <a:gridCol w="1697040"/>
                <a:gridCol w="1697040"/>
              </a:tblGrid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lver Typ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mo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re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G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month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erati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G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h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st Iterati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M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m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3" name=""/>
          <p:cNvSpPr/>
          <p:nvPr/>
        </p:nvSpPr>
        <p:spPr>
          <a:xfrm>
            <a:off x="503280" y="4081320"/>
            <a:ext cx="8412120" cy="250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50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08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5008"/>
                </a:solidFill>
                <a:latin typeface="Arial"/>
              </a:rPr>
              <a:t>Fast Solvers for Method of Moments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(N)-O(NlogN) memory and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Fast Multipole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Pre-corrected FFT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QR based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49280" y="228240"/>
            <a:ext cx="817416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IES</a:t>
            </a:r>
            <a:r>
              <a:rPr b="1" lang="en-US" sz="3600" spc="-1" strike="noStrike" baseline="30000">
                <a:solidFill>
                  <a:srgbClr val="3333cc"/>
                </a:solidFill>
                <a:latin typeface="Arial"/>
              </a:rPr>
              <a:t>3</a:t>
            </a: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: QR based Fast Solver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58240" y="1216080"/>
            <a:ext cx="490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50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08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5008"/>
                </a:solidFill>
                <a:latin typeface="Arial"/>
              </a:rPr>
              <a:t>QR decomposition of a far-inter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1544400" y="2174760"/>
            <a:ext cx="2840040" cy="1021680"/>
            <a:chOff x="1544400" y="2174760"/>
            <a:chExt cx="2840040" cy="1021680"/>
          </a:xfrm>
        </p:grpSpPr>
        <p:grpSp>
          <p:nvGrpSpPr>
            <p:cNvPr id="77" name=""/>
            <p:cNvGrpSpPr/>
            <p:nvPr/>
          </p:nvGrpSpPr>
          <p:grpSpPr>
            <a:xfrm>
              <a:off x="1778040" y="2174760"/>
              <a:ext cx="2257560" cy="687600"/>
              <a:chOff x="1778040" y="2174760"/>
              <a:chExt cx="2257560" cy="687600"/>
            </a:xfrm>
          </p:grpSpPr>
          <p:sp>
            <p:nvSpPr>
              <p:cNvPr id="78" name=""/>
              <p:cNvSpPr/>
              <p:nvPr/>
            </p:nvSpPr>
            <p:spPr>
              <a:xfrm>
                <a:off x="1778040" y="2174760"/>
                <a:ext cx="770040" cy="677880"/>
              </a:xfrm>
              <a:prstGeom prst="rect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2548080" y="2494080"/>
                <a:ext cx="7189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3265560" y="2184480"/>
                <a:ext cx="770040" cy="677880"/>
              </a:xfrm>
              <a:prstGeom prst="rect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1" name=""/>
              <p:cNvGrpSpPr/>
              <p:nvPr/>
            </p:nvGrpSpPr>
            <p:grpSpPr>
              <a:xfrm>
                <a:off x="1824120" y="2352600"/>
                <a:ext cx="660240" cy="257040"/>
                <a:chOff x="1824120" y="2352600"/>
                <a:chExt cx="660240" cy="257040"/>
              </a:xfrm>
            </p:grpSpPr>
            <p:sp>
              <p:nvSpPr>
                <p:cNvPr id="82" name=""/>
                <p:cNvSpPr/>
                <p:nvPr/>
              </p:nvSpPr>
              <p:spPr>
                <a:xfrm flipV="1">
                  <a:off x="1824120" y="2357640"/>
                  <a:ext cx="175680" cy="9792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040" bIns="-14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 flipV="1">
                  <a:off x="1824120" y="2504520"/>
                  <a:ext cx="175680" cy="9792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040" bIns="-14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 flipV="1">
                  <a:off x="2308320" y="2504520"/>
                  <a:ext cx="176040" cy="9792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040" bIns="-14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 flipV="1">
                  <a:off x="2039400" y="2511720"/>
                  <a:ext cx="175680" cy="9792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040" bIns="-14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 flipV="1">
                  <a:off x="2066040" y="2352600"/>
                  <a:ext cx="175680" cy="9792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040" bIns="-14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 flipV="1">
                  <a:off x="2308320" y="2357640"/>
                  <a:ext cx="176040" cy="9792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040" bIns="-14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8" name=""/>
              <p:cNvGrpSpPr/>
              <p:nvPr/>
            </p:nvGrpSpPr>
            <p:grpSpPr>
              <a:xfrm>
                <a:off x="3322800" y="2371680"/>
                <a:ext cx="660240" cy="257040"/>
                <a:chOff x="3322800" y="2371680"/>
                <a:chExt cx="660240" cy="257040"/>
              </a:xfrm>
            </p:grpSpPr>
            <p:sp>
              <p:nvSpPr>
                <p:cNvPr id="89" name=""/>
                <p:cNvSpPr/>
                <p:nvPr/>
              </p:nvSpPr>
              <p:spPr>
                <a:xfrm flipV="1">
                  <a:off x="3322800" y="2376720"/>
                  <a:ext cx="175680" cy="9792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040" bIns="-14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 flipV="1">
                  <a:off x="3322800" y="2523600"/>
                  <a:ext cx="175680" cy="9792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040" bIns="-14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 flipV="1">
                  <a:off x="3807000" y="2523600"/>
                  <a:ext cx="176040" cy="9792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040" bIns="-14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 flipV="1">
                  <a:off x="3538080" y="2530800"/>
                  <a:ext cx="175680" cy="9792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040" bIns="-14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 flipV="1">
                  <a:off x="3564720" y="2371680"/>
                  <a:ext cx="175680" cy="9792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040" bIns="-14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 flipV="1">
                  <a:off x="3807000" y="2376720"/>
                  <a:ext cx="176040" cy="9792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040" bIns="-14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5" name=""/>
            <p:cNvSpPr/>
            <p:nvPr/>
          </p:nvSpPr>
          <p:spPr>
            <a:xfrm>
              <a:off x="1544400" y="2859120"/>
              <a:ext cx="1194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n sourc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41560" y="2857680"/>
              <a:ext cx="1442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 observer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5559480" y="2174760"/>
            <a:ext cx="1965240" cy="1015920"/>
            <a:chOff x="5559480" y="2174760"/>
            <a:chExt cx="1965240" cy="1015920"/>
          </a:xfrm>
        </p:grpSpPr>
        <p:grpSp>
          <p:nvGrpSpPr>
            <p:cNvPr id="98" name=""/>
            <p:cNvGrpSpPr/>
            <p:nvPr/>
          </p:nvGrpSpPr>
          <p:grpSpPr>
            <a:xfrm>
              <a:off x="5559480" y="2174760"/>
              <a:ext cx="1909440" cy="615600"/>
              <a:chOff x="5559480" y="2174760"/>
              <a:chExt cx="1909440" cy="615600"/>
            </a:xfrm>
          </p:grpSpPr>
          <p:sp>
            <p:nvSpPr>
              <p:cNvPr id="99" name=""/>
              <p:cNvSpPr/>
              <p:nvPr/>
            </p:nvSpPr>
            <p:spPr>
              <a:xfrm>
                <a:off x="5559480" y="2174760"/>
                <a:ext cx="576000" cy="615600"/>
              </a:xfrm>
              <a:prstGeom prst="rect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203160" y="2224800"/>
                <a:ext cx="2811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6521040" y="2174760"/>
                <a:ext cx="236160" cy="615600"/>
              </a:xfrm>
              <a:prstGeom prst="rect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970680" y="2177640"/>
                <a:ext cx="498240" cy="298080"/>
              </a:xfrm>
              <a:prstGeom prst="rect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aphicFrame>
          <p:nvGraphicFramePr>
            <p:cNvPr id="103" name=""/>
            <p:cNvGraphicFramePr/>
            <p:nvPr/>
          </p:nvGraphicFramePr>
          <p:xfrm>
            <a:off x="5627880" y="2773080"/>
            <a:ext cx="534960" cy="4176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0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627880" y="2773080"/>
                      <a:ext cx="534960" cy="417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5" name=""/>
            <p:cNvGraphicFramePr/>
            <p:nvPr/>
          </p:nvGraphicFramePr>
          <p:xfrm>
            <a:off x="6451560" y="2809800"/>
            <a:ext cx="560520" cy="3618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0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451560" y="2809800"/>
                      <a:ext cx="560520" cy="36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7" name=""/>
            <p:cNvGraphicFramePr/>
            <p:nvPr/>
          </p:nvGraphicFramePr>
          <p:xfrm>
            <a:off x="7061400" y="2773080"/>
            <a:ext cx="463320" cy="4176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8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061400" y="2773080"/>
                      <a:ext cx="463320" cy="417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09" name=""/>
          <p:cNvSpPr/>
          <p:nvPr/>
        </p:nvSpPr>
        <p:spPr>
          <a:xfrm>
            <a:off x="2315520" y="1816200"/>
            <a:ext cx="12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ome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033240" y="182880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tr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89200" y="3656160"/>
            <a:ext cx="68846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50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08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5008"/>
                </a:solidFill>
                <a:latin typeface="Arial"/>
              </a:rPr>
              <a:t>Geometry recursively subdivided to form a binary tr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08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3d box divided along its largest coord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Resultant boxes of unequal shapes, sizes and sep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017720" y="4314960"/>
            <a:ext cx="6472080" cy="285480"/>
          </a:xfrm>
          <a:prstGeom prst="rect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77680" y="5051520"/>
            <a:ext cx="66621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50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08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5008"/>
                </a:solidFill>
                <a:latin typeface="Arial"/>
              </a:rPr>
              <a:t>Rank-Map oriented matrix 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Rank-map provides the starting point of matrix 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Fine tuned by merges/spl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914400" y="1170000"/>
            <a:ext cx="7305840" cy="5479920"/>
            <a:chOff x="914400" y="1170000"/>
            <a:chExt cx="7305840" cy="5479920"/>
          </a:xfrm>
        </p:grpSpPr>
        <p:pic>
          <p:nvPicPr>
            <p:cNvPr id="115" name="" descr=""/>
            <p:cNvPicPr/>
            <p:nvPr/>
          </p:nvPicPr>
          <p:blipFill>
            <a:blip r:embed="rId7"/>
            <a:stretch/>
          </p:blipFill>
          <p:spPr>
            <a:xfrm>
              <a:off x="914400" y="1170000"/>
              <a:ext cx="7305840" cy="547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"/>
            <p:cNvSpPr/>
            <p:nvPr/>
          </p:nvSpPr>
          <p:spPr>
            <a:xfrm>
              <a:off x="2454840" y="5680080"/>
              <a:ext cx="4232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Typical Matrix Structur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Algorithm flow of IES</a:t>
            </a:r>
            <a:r>
              <a:rPr b="1" lang="en-US" sz="3600" spc="-1" strike="noStrike" baseline="30000">
                <a:solidFill>
                  <a:srgbClr val="3333cc"/>
                </a:solidFill>
                <a:latin typeface="Arial"/>
              </a:rPr>
              <a:t>3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250920" y="857160"/>
            <a:ext cx="8640720" cy="58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Merits and Demerits of IES</a:t>
            </a:r>
            <a:r>
              <a:rPr b="1" lang="en-US" sz="3600" spc="-1" strike="noStrike" baseline="30000">
                <a:solidFill>
                  <a:srgbClr val="3333cc"/>
                </a:solidFill>
                <a:latin typeface="Arial"/>
              </a:rPr>
              <a:t>3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26200" y="1092240"/>
            <a:ext cx="7902720" cy="27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50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08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5008"/>
                </a:solidFill>
                <a:latin typeface="Arial"/>
              </a:rPr>
              <a:t>Kernel Independent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Directly applicable to multi-layered medi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50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08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5008"/>
                </a:solidFill>
                <a:latin typeface="Arial"/>
              </a:rPr>
              <a:t>Low Frequency St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Unlike FMM applicable to small electrical struc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50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08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5008"/>
                </a:solidFill>
                <a:latin typeface="Arial"/>
              </a:rPr>
              <a:t>Less Memory and Number of Matrix Vector product oper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Even for free-space capacitance extraction probl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615960" y="1243080"/>
            <a:ext cx="0" cy="2185920"/>
          </a:xfrm>
          <a:prstGeom prst="line">
            <a:avLst/>
          </a:prstGeom>
          <a:ln w="50760">
            <a:solidFill>
              <a:srgbClr val="0000ff"/>
            </a:solidFill>
            <a:miter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93880" y="435276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837360" y="4317840"/>
            <a:ext cx="7936560" cy="20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50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08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5008"/>
                </a:solidFill>
                <a:latin typeface="Arial"/>
              </a:rPr>
              <a:t>High Setup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Ideal Rank-map impossible to constru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Conservative Rank-map will necessitate more mer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Liberal Rank-map will waste time doing unacceptable Q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Bad choice for large problems with interest in limited number of n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2720" y="4370400"/>
            <a:ext cx="0" cy="1428840"/>
          </a:xfrm>
          <a:prstGeom prst="line">
            <a:avLst/>
          </a:prstGeom>
          <a:ln w="50760">
            <a:solidFill>
              <a:srgbClr val="ff5008"/>
            </a:solidFill>
            <a:miter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66840" y="228240"/>
            <a:ext cx="8408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DICOT-QR: Superfast Iterative solver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880" y="1206360"/>
            <a:ext cx="8823240" cy="46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D</a:t>
            </a:r>
            <a:r>
              <a:rPr b="1" lang="en-US" sz="2000" spc="-1" strike="noStrike">
                <a:solidFill>
                  <a:srgbClr val="ff5008"/>
                </a:solidFill>
                <a:latin typeface="Arial"/>
              </a:rPr>
              <a:t>eterministic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I</a:t>
            </a:r>
            <a:r>
              <a:rPr b="1" lang="en-US" sz="2000" spc="-1" strike="noStrike">
                <a:solidFill>
                  <a:srgbClr val="ff5008"/>
                </a:solidFill>
                <a:latin typeface="Arial"/>
              </a:rPr>
              <a:t>nteraction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C</a:t>
            </a:r>
            <a:r>
              <a:rPr b="1" lang="en-US" sz="2000" spc="-1" strike="noStrike">
                <a:solidFill>
                  <a:srgbClr val="ff5008"/>
                </a:solidFill>
                <a:latin typeface="Arial"/>
              </a:rPr>
              <a:t>apacitated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O</a:t>
            </a:r>
            <a:r>
              <a:rPr b="1" lang="en-US" sz="2000" spc="-1" strike="noStrike">
                <a:solidFill>
                  <a:srgbClr val="ff5008"/>
                </a:solidFill>
                <a:latin typeface="Arial"/>
              </a:rPr>
              <a:t>ct-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T</a:t>
            </a:r>
            <a:r>
              <a:rPr b="1" lang="en-US" sz="2000" spc="-1" strike="noStrike">
                <a:solidFill>
                  <a:srgbClr val="ff5008"/>
                </a:solidFill>
                <a:latin typeface="Arial"/>
              </a:rPr>
              <a:t>ree Based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Q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ff5008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08"/>
                </a:solidFill>
                <a:latin typeface="Arial"/>
              </a:rPr>
              <a:t>A smart mix of the best of both 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QR decomposition of low-rank interaction matrices     : IES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Oct-Tree based regular geometry of levels of cubes     : F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08"/>
                </a:solidFill>
                <a:latin typeface="Arial"/>
              </a:rPr>
              <a:t>2.   Optimum compression through merged interaction 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FMM interaction shells merged FMM shells and QR flexibilit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8282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28200"/>
                </a:solidFill>
                <a:latin typeface="Arial"/>
              </a:rPr>
              <a:t>Maintain the compression of IES</a:t>
            </a:r>
            <a:r>
              <a:rPr b="1" lang="en-US" sz="2000" spc="-1" strike="noStrike" baseline="30000">
                <a:solidFill>
                  <a:srgbClr val="828200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828200"/>
                </a:solidFill>
                <a:latin typeface="Arial"/>
              </a:rPr>
              <a:t> with faster set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Accurate matrix structure pre-determined by Merged Interaction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Deterministic matrix structure precludes merges an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unwanted Q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3760920" y="3057480"/>
            <a:ext cx="1628640" cy="122076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33440" y="228240"/>
            <a:ext cx="83772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Geometry and shell structure of FMM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3027240" y="1633680"/>
            <a:ext cx="3089160" cy="1100160"/>
            <a:chOff x="3027240" y="1633680"/>
            <a:chExt cx="3089160" cy="1100160"/>
          </a:xfrm>
        </p:grpSpPr>
        <p:pic>
          <p:nvPicPr>
            <p:cNvPr id="130" name="" descr=""/>
            <p:cNvPicPr/>
            <p:nvPr/>
          </p:nvPicPr>
          <p:blipFill>
            <a:blip r:embed="rId2"/>
            <a:stretch/>
          </p:blipFill>
          <p:spPr>
            <a:xfrm>
              <a:off x="4538520" y="1633680"/>
              <a:ext cx="1577880" cy="1100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" name="" descr=""/>
            <p:cNvPicPr/>
            <p:nvPr/>
          </p:nvPicPr>
          <p:blipFill>
            <a:blip r:embed="rId3"/>
            <a:stretch/>
          </p:blipFill>
          <p:spPr>
            <a:xfrm>
              <a:off x="3027240" y="1680120"/>
              <a:ext cx="1440720" cy="1004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2" name=""/>
          <p:cNvSpPr/>
          <p:nvPr/>
        </p:nvSpPr>
        <p:spPr>
          <a:xfrm>
            <a:off x="1404720" y="1103400"/>
            <a:ext cx="633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08"/>
                </a:solidFill>
                <a:latin typeface="Arial"/>
              </a:rPr>
              <a:t>Oct-Tree decomposition in 3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Each cube is broken into equal sized 8 children cub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67520" y="2795760"/>
            <a:ext cx="580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08"/>
                </a:solidFill>
                <a:latin typeface="Arial"/>
              </a:rPr>
              <a:t>Geometry recursively decomposed into leve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214000" y="4324320"/>
            <a:ext cx="471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08"/>
                </a:solidFill>
                <a:latin typeface="Arial"/>
              </a:rPr>
              <a:t>FMM interaction shell for each cub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08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Similar shell for all cubes across lev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3567240" y="5075280"/>
            <a:ext cx="2008080" cy="139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1-26T05:25:42Z</dcterms:created>
  <dc:creator>Art Downey</dc:creator>
  <dc:description>V4.0 12/23/01 changes for 2001
V4.1 05/13/01 remove references to '97 and 4
V4.2 05/18/01 feedback from select meeting</dc:description>
  <dc:language>en-US</dc:language>
  <cp:lastModifiedBy>Vikram Jandhyala</cp:lastModifiedBy>
  <cp:lastPrinted>2002-02-05T19:22:32Z</cp:lastPrinted>
  <dcterms:modified xsi:type="dcterms:W3CDTF">2003-06-18T23:23:58Z</dcterms:modified>
  <cp:revision>154</cp:revision>
  <dc:subject>ITC '01 Electronic presentation guide/template</dc:subject>
  <dc:title>Presentation Guide</dc:title>
</cp:coreProperties>
</file>