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0B9-2A2D-4F29-8094-7FDBAB0C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D11-A831-4266-B361-F849D64A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348-D6BF-4F79-BD21-130EAA5C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49C-9DF8-4703-9945-7EA34708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E71-E570-4E44-87E6-D714CD13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B75-095B-4358-B7D6-FBF4A23E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0FA-DCF7-4D21-96D1-B7BC97EC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DA5-E494-49CF-8901-FC06DD6C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02A-0ABA-46EE-88AD-FEC9F39F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14A-4657-451C-AE8D-B7DEA581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C7E-02BC-4845-914F-9D9C1EC5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121-3A8F-4B16-A48F-34D90546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2560" cy="14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25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D74-896D-49B6-B5F9-5A4FA786A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606240" cy="66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1145880" cy="642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35053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O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717480" cy="73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3920" y="6188040"/>
            <a:ext cx="3252600" cy="52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00600" y="2971800"/>
            <a:ext cx="35053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171360" tIns="84240" bIns="842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om Fridd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ssociate Technical Fellow,  Microelectronic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oeing Electronic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eattle, 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hone: (253) 773-9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1752480"/>
            <a:ext cx="411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Presented to D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June 19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04920"/>
            <a:ext cx="6934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eing CoSMoS Too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_sm" descr="NeoCad Logo"/>
          <p:cNvPicPr/>
          <p:nvPr/>
        </p:nvPicPr>
        <p:blipFill>
          <a:blip r:embed="rId5"/>
          <a:stretch/>
        </p:blipFill>
        <p:spPr>
          <a:xfrm>
            <a:off x="1600200" y="1600200"/>
            <a:ext cx="14461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ROST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xtract high-level netlist from layout databas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mulation of gate-level behavioral model much faster than transistor-level simul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lexible, process-independent input fil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pplicabili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ayout verification by simul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343400" y="3048120"/>
          <a:ext cx="4495680" cy="35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48120"/>
                    <a:ext cx="4495680" cy="35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876920" y="198108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Applications:  Verification, DMS Part Reverse 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572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st Hierarchy Extraction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PRAI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alog library retargeting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reserves expert knowledge from existing layout by feature recognition, e.g. symmetry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cales and compacts layout to new technology rul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pplicabili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ows reuse of handcrafted analog layouts in new proces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486400" y="1752480"/>
          <a:ext cx="345456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752480"/>
                    <a:ext cx="345456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800600" y="60199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Applications:  Library port between compatible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1447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5627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chnology Fi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z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803200" y="3924000"/>
            <a:ext cx="990720" cy="1219320"/>
          </a:xfrm>
          <a:custGeom>
            <a:avLst/>
            <a:gdLst>
              <a:gd name="textAreaLeft" fmla="*/ 330120 w 990720"/>
              <a:gd name="textAreaRight" fmla="*/ 848520 w 990720"/>
              <a:gd name="textAreaTop" fmla="*/ 702360 h 1219320"/>
              <a:gd name="textAreaBottom" fmla="*/ 1044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410080"/>
            <a:ext cx="19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ully-Routed Re-Sized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9960" y="4495680"/>
            <a:ext cx="1143000" cy="457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P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4120" y="50292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572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lectual Property Reuse Analog IC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MAC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uto-generate simulator model code from high-level languag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ows expression of device behavior in high-level languag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ves much time generating all files necessary for simulator integr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irtually eliminates debug time as code is generated correctl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6" name="bmac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282888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562720" y="13716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Applications:  Foundry process setup, modeling accel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133720"/>
            <a:ext cx="1143000" cy="457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2666880"/>
            <a:ext cx="457200" cy="533520"/>
          </a:xfrm>
          <a:prstGeom prst="downArrow">
            <a:avLst>
              <a:gd name="adj1" fmla="val 57639"/>
              <a:gd name="adj2" fmla="val 48967"/>
            </a:avLst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438960" y="2095560"/>
            <a:ext cx="457200" cy="533520"/>
          </a:xfrm>
          <a:prstGeom prst="downArrow">
            <a:avLst>
              <a:gd name="adj1" fmla="val 53472"/>
              <a:gd name="adj2" fmla="val 53489"/>
            </a:avLst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HDL-AM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60958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PIC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57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havioral Modeling Analyzer 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valuation Result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82880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267080"/>
            <a:ext cx="8229600" cy="20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oductivity Improvemen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All tools are capable of reducing engineering flow time for their function.  IPRAIL can greatly reduce library port time between compatible processes – may require adjustments for new parasit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oduction Readines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Some user documentation and initial setup effort remains.  File structure changes needed for integration into production environ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kill Level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No difficult skill requir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otential for reducing engineering error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FROSTY could augment existing design verification, IPRAIL eliminates manual layout work in porting libra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36232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oduction Read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289548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kill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42900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rror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82880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5 – 10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29528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RO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36232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89548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342900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18288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2952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P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36232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28954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4290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8288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12952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236232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28954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34290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valuation Comment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 tools performed their function – Actual hands-on work needed for a final evalu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e-release versions evaluated represent an initial capability with growth potential, e.g. number of circuits recognized by Fros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ome tools would benefit from integration with a design database system like Milkyway or DFII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maining Task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vide continuing design center support to develop additional CoSMoS functionality as it becomes availabl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stallation of CoSMoS tool set at Boein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4Q03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nds-on benchmark CoSMoS tools against existing and other automated design tools to quantify design time and error reduc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1Q04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nal repor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2Q04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cription of the Evalua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ols Evaluate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emaining work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447920"/>
            <a:ext cx="83055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oeing is in a unique position to evaluate EDA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ctively using a state-of-the-art military ASIC development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elated program involvement – e.g. ACME, DTRA-RHM, VD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ot foundry-captive:  Foundry-flexible design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ot EDA vendor-ca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apability ranges from front-end to back-end and test, RF, Analog, Digital, and mixed-sign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chnology background:  Sub-micron, SiGe, SOI, Bipolar, CMO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oeing Role on CoS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ntribute test cases, user feedback, and design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valuate tool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ovide EDA deployment test 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7" name="big%20chart%20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4479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of Orora Tools to Avoid a Desig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  (Cont’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BoeSTM Problem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8b 40 MHz Pipelined ADC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design did not function on first pas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fficult to diagnos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epeatability issue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equired experienc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esign, test, or process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ause:  Routing via mismatch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795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  (Cont’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f Arana/Arsyn had Been Used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the test diagnosis stage: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horter analysis/test time – parasitic effect analysi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Quicker to find a solu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the design review stage: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mis-matching problem was spotted by the very experienced designers, however, thought to be OK (only 1 or 2 ohms)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ools could have avoided a second pas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 in the design stage: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nsitivity analysis helps designers spot critical design point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rsyn helps obtain more robust design – larger design space explored, what if analysis, automated search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  (Cont’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mpact of  Arana/Arsy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test use by Boeing SS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design time in half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expertise needed for succes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expensive debugging and additional pas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800600"/>
            <a:ext cx="792504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876920"/>
            <a:ext cx="739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ana/Arsyn has become a key part of the Boeing mixed-signal design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3886200"/>
            <a:ext cx="7620120" cy="0"/>
          </a:xfrm>
          <a:prstGeom prst="line">
            <a:avLst/>
          </a:prstGeom>
          <a:ln w="7632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stablish Evaluation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752480"/>
            <a:ext cx="0" cy="30492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666880"/>
            <a:ext cx="0" cy="38124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464832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057400"/>
            <a:ext cx="32767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epare Design Developmen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304812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SMoS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30481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st CoSMoS at Boe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502920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SMoS Bench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638680"/>
            <a:ext cx="0" cy="38124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601992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inal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OSTY, IPRAIL, BM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657600"/>
            <a:ext cx="1219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Rounded MT Bold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roduction:  Boeing Task Overview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1911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aining CoSMoS Functionality &amp; Final Ver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scription of the Evalua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ed three tools from the CoSMoS toolse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MAC, Frosty, and IPRAIL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ion Criteria: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ngineering time saving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uitability for production engineering design flow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ase of use and skill requiremen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otential for reducing engineering err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ion team:  5 Digital/Analog/RF/EDA Boeing enginee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ion included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W presentation and tool demonstr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stallation from scratch on a clean system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20:08:07Z</dcterms:created>
  <dc:creator>Amort, Anthony L</dc:creator>
  <dc:description/>
  <dc:language>en-US</dc:language>
  <cp:lastModifiedBy>Friddell, Thomas H</cp:lastModifiedBy>
  <dcterms:modified xsi:type="dcterms:W3CDTF">2003-06-19T00:10:27Z</dcterms:modified>
  <cp:revision>15</cp:revision>
  <dc:subject/>
  <dc:title>Tom, put a title on this</dc:title>
</cp:coreProperties>
</file>