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7.wmf" ContentType="image/x-wmf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20.png" ContentType="image/png"/>
  <Override PartName="/ppt/media/image2.wmf" ContentType="image/x-wmf"/>
  <Override PartName="/ppt/media/image3.png" ContentType="image/png"/>
  <Override PartName="/ppt/media/image19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360E-B1FF-4913-986A-7A65187A7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8169-03C1-4518-8FE7-1E594839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07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07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2E03-05C8-4BAF-8F6C-182C0C409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660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37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660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37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7737-DF6A-40DE-B832-5DF9764C7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6B42-2DBD-4FCA-B6A9-274EFCBBF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0E6F-037F-4DA7-A173-E6A4B8D3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5EFD-1633-4641-907E-50184786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07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08E5E-87DC-4747-AB2B-46939098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1761-A30A-48A1-A959-C64F2CE4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1F53-8984-4907-8705-7A47F94C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07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DF3F-9223-49D2-BA80-CFF60C3A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004A-7399-4485-9AFA-1B5EC3AA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07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3924-FEC4-46DB-811E-0B00F26E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80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77A7E-03FA-4544-93B3-0F8B8A42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80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422D-3CD2-4E66-A3DD-CBD02684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07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80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07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1565C-9B26-4399-B4F3-88DDDB617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660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37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80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660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937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344B-FD08-4FEE-A90E-E1664BBD6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EBA9-4155-4F9F-BD5B-D7504BC9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07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D37F-6418-49B2-8076-ED17D482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4544-E320-4DD5-8B23-43DD84BC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9891-FD04-49FF-8821-3DDDDDF0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07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CA66-0AA1-4F10-9DD2-41341D77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07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07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5D92-6E29-4CAD-A7A6-3290AA20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07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04CF-7C9E-4958-8BBF-FDE39B6D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f01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Tahoma"/>
              </a:rPr>
              <a:t>&lt;date/time&gt;</a:t>
            </a:r>
            <a:r>
              <a:rPr b="0" lang="en-US" sz="1200" spc="-1" strike="noStrike">
                <a:solidFill>
                  <a:srgbClr val="75d1ff"/>
                </a:solidFill>
                <a:latin typeface="Tahoma"/>
              </a:rPr>
              <a:t>Jun. 19~20,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6400440" y="624852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f01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Tahoma"/>
              </a:rPr>
              <a:t>&lt;footer&gt;</a:t>
            </a:r>
            <a:r>
              <a:rPr b="0" lang="en-US" sz="1200" spc="-1" strike="noStrike">
                <a:solidFill>
                  <a:srgbClr val="75d1ff"/>
                </a:solidFill>
                <a:latin typeface="Tahoma"/>
              </a:rPr>
              <a:t>NeoCAD Quarterly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3962160" y="6324120"/>
            <a:ext cx="5331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5d1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AD60-5A99-43F7-960D-168D8385721F}" type="slidenum">
              <a:rPr b="0" lang="en-US" sz="1200" spc="-1" strike="noStrike">
                <a:solidFill>
                  <a:srgbClr val="75d1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D41B-C320-4AEE-B504-FF8E34E802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1114560"/>
            <a:ext cx="754380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Tahoma"/>
              </a:rPr>
              <a:t>Progress on Linear Solv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2894040"/>
            <a:ext cx="779616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85760" indent="-185760"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Research Team Memb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Dr. Guoyong S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Zhao Li, Bo 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ctr">
              <a:lnSpc>
                <a:spcPct val="100000"/>
              </a:lnSpc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Mixed Signal CAD Research Lab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Department of Electrical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University of Washington, Seattle  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95160" y="5776920"/>
            <a:ext cx="1447920" cy="60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4038480" y="5638680"/>
          <a:ext cx="820800" cy="83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8480" y="5638680"/>
                    <a:ext cx="8208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7480440" y="5700600"/>
            <a:ext cx="745920" cy="76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0901-507C-4DA8-B993-8C618FDC738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8960" y="765000"/>
            <a:ext cx="662940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Proposed Linear Centric Circuit Analysis Method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3800" y="2057040"/>
            <a:ext cx="736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407880" indent="-30636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Improve numerical integration formulae to keep circuit matrices constant for a large tim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6040" indent="-2725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mi-implicit integration formulae as a predic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6040" indent="-2725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terative integration formulae as a correc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07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407880" indent="-30636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Improve nonlinear iteration methods to keep circuit matrices constant for a large voltage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6040" indent="-2725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uccessive variable chord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6040" indent="-2725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ank-one update techni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4D63-4276-4179-8821-B20677A898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723888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Semi-Implicit Trapezoid (SI-TRAP) Formul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533520" y="4714920"/>
                <a:ext cx="403992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limUpp>
                              <m:e>
                                <m:r>
                                  <m:t xml:space="preserve">x</m:t>
                                </m:r>
                              </m:e>
                              <m:lim/>
                            </m:limUpp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limUpp>
                          <m:e>
                            <m:r>
                              <m:t xml:space="preserve">x</m:t>
                            </m:r>
                          </m:e>
                          <m:lim/>
                        </m:limUpp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∗</m:t>
                        </m:r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4724280" y="4678560"/>
            <a:ext cx="38102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Variable-step integration formula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– </a:t>
            </a:r>
            <a:r>
              <a:rPr b="0" i="1" lang="en-GB" sz="2400" spc="-1" strike="noStrike">
                <a:solidFill>
                  <a:srgbClr val="fc0128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fc0128"/>
                </a:solidFill>
                <a:latin typeface="Arial"/>
              </a:rPr>
              <a:t> is the basis time step size, </a:t>
            </a:r>
            <a:r>
              <a:rPr b="0" i="1" lang="en-GB" sz="2400" spc="-1" strike="noStrike">
                <a:solidFill>
                  <a:srgbClr val="fc0128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fc0128"/>
                </a:solidFill>
                <a:latin typeface="Arial"/>
              </a:rPr>
              <a:t> is the variable-step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cap_comp_model_si" descr=""/>
          <p:cNvPicPr/>
          <p:nvPr/>
        </p:nvPicPr>
        <p:blipFill>
          <a:blip r:embed="rId1"/>
          <a:stretch/>
        </p:blipFill>
        <p:spPr>
          <a:xfrm>
            <a:off x="1066680" y="1724040"/>
            <a:ext cx="6934320" cy="2612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066680" y="4648320"/>
            <a:ext cx="533520" cy="9144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191120"/>
            <a:ext cx="3276720" cy="457200"/>
          </a:xfrm>
          <a:prstGeom prst="wedgeRectCallout">
            <a:avLst>
              <a:gd name="adj1" fmla="val -68120"/>
              <a:gd name="adj2" fmla="val 50347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Constant conduc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8D73-6EBB-4239-BD21-578D44B67B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81160" y="6170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Numerical Stability of SI-TR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636200" y="483084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22286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222286"/>
                </a:solidFill>
                <a:latin typeface="Tahoma"/>
              </a:rPr>
              <a:t>= 0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35260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im_stb" descr=""/>
          <p:cNvPicPr/>
          <p:nvPr/>
        </p:nvPicPr>
        <p:blipFill>
          <a:blip r:embed="rId1"/>
          <a:stretch/>
        </p:blipFill>
        <p:spPr>
          <a:xfrm>
            <a:off x="838080" y="1654200"/>
            <a:ext cx="3581640" cy="34750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235260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ex_stb2" descr=""/>
          <p:cNvPicPr/>
          <p:nvPr/>
        </p:nvPicPr>
        <p:blipFill>
          <a:blip r:embed="rId2"/>
          <a:stretch/>
        </p:blipFill>
        <p:spPr>
          <a:xfrm>
            <a:off x="4648320" y="1622520"/>
            <a:ext cx="3581280" cy="3471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791320" y="479124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22286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222286"/>
                </a:solidFill>
                <a:latin typeface="Tahoma"/>
              </a:rPr>
              <a:t>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6400" y="5356080"/>
            <a:ext cx="8077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SI-TRAP is only A-stable when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 &lt; 1,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宋体"/>
              </a:rPr>
              <a:t> so it is only used as a predictor </a:t>
            </a: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when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 &l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051440" y="3867120"/>
                <a:ext cx="11174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8402-284F-4AB0-9CA9-ECB1170807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723888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Iterative Trapezoid (IR-TRAP) Formul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209680" y="4419720"/>
            <a:ext cx="533520" cy="9144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29000" y="5334120"/>
            <a:ext cx="3276720" cy="457200"/>
          </a:xfrm>
          <a:prstGeom prst="wedgeRectCallout">
            <a:avLst>
              <a:gd name="adj1" fmla="val -73740"/>
              <a:gd name="adj2" fmla="val -57291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Constant conduc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cap_comp_model_ir" descr=""/>
          <p:cNvPicPr/>
          <p:nvPr/>
        </p:nvPicPr>
        <p:blipFill>
          <a:blip r:embed="rId1"/>
          <a:stretch/>
        </p:blipFill>
        <p:spPr>
          <a:xfrm>
            <a:off x="647640" y="1752480"/>
            <a:ext cx="7925040" cy="2687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752480" y="4343400"/>
                <a:ext cx="510876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limUpp>
                          <m:e>
                            <m:r>
                              <m:t xml:space="preserve">x</m:t>
                            </m:r>
                          </m:e>
                          <m:lim/>
                        </m:limUpp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αh</m:t>
                        </m:r>
                      </m:den>
                    </m:f>
                    <m:r>
                      <m:t xml:space="preserve">−</m:t>
                    </m:r>
                    <m:limUpp>
                      <m:e>
                        <m:r>
                          <m:t xml:space="preserve">x</m:t>
                        </m:r>
                      </m:e>
                      <m:lim/>
                    </m:limUpp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990720" y="59436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LTE is the same as TRAP if converge successfu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6E1D-D80A-41FA-9556-07B2F9661E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81160" y="6170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Numerical Stability of IR-TR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636560" y="4830840"/>
            <a:ext cx="16401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0.6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35260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35260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1320" y="4791240"/>
            <a:ext cx="1218960" cy="8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ir_trap1_2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733920" cy="2801880"/>
          </a:xfrm>
          <a:prstGeom prst="rect">
            <a:avLst/>
          </a:prstGeom>
          <a:ln w="0">
            <a:noFill/>
          </a:ln>
        </p:spPr>
      </p:pic>
      <p:pic>
        <p:nvPicPr>
          <p:cNvPr id="157" name="ir_trap2" descr=""/>
          <p:cNvPicPr/>
          <p:nvPr/>
        </p:nvPicPr>
        <p:blipFill>
          <a:blip r:embed="rId2"/>
          <a:stretch/>
        </p:blipFill>
        <p:spPr>
          <a:xfrm>
            <a:off x="4648320" y="2057400"/>
            <a:ext cx="3733560" cy="2800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865680" y="3867120"/>
                <a:ext cx="11174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1662120" y="578628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bsolute stability region is related to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DC65-7CF8-4767-9B1F-E3C46C7D56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81160" y="6170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Numerical Stability of IR-TR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36560" y="4876920"/>
            <a:ext cx="1640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0.6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5791320" y="4876920"/>
            <a:ext cx="1218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5729400"/>
            <a:ext cx="64771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bsolute stability region approaches to that of standard TRAP method with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ir_trap1_10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3733560" cy="2803320"/>
          </a:xfrm>
          <a:prstGeom prst="rect">
            <a:avLst/>
          </a:prstGeom>
          <a:ln w="0">
            <a:noFill/>
          </a:ln>
        </p:spPr>
      </p:pic>
      <p:pic>
        <p:nvPicPr>
          <p:cNvPr id="165" name="ir_trap2_10" descr=""/>
          <p:cNvPicPr/>
          <p:nvPr/>
        </p:nvPicPr>
        <p:blipFill>
          <a:blip r:embed="rId2"/>
          <a:stretch/>
        </p:blipFill>
        <p:spPr>
          <a:xfrm>
            <a:off x="4800600" y="2133720"/>
            <a:ext cx="3657600" cy="2760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865680" y="3867120"/>
                <a:ext cx="11174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F3AB-08A8-4759-BCF4-917D0CE02F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240" y="1218960"/>
            <a:ext cx="6627960" cy="52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Linear Circuit Analysis Examp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57200" y="1990800"/>
            <a:ext cx="8077320" cy="1852560"/>
            <a:chOff x="457200" y="1990800"/>
            <a:chExt cx="8077320" cy="1852560"/>
          </a:xfrm>
        </p:grpSpPr>
        <p:sp>
          <p:nvSpPr>
            <p:cNvPr id="169" name=""/>
            <p:cNvSpPr/>
            <p:nvPr/>
          </p:nvSpPr>
          <p:spPr>
            <a:xfrm>
              <a:off x="457200" y="1990800"/>
              <a:ext cx="8077320" cy="1852560"/>
            </a:xfrm>
            <a:prstGeom prst="roundRect">
              <a:avLst>
                <a:gd name="adj" fmla="val 8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1990800"/>
              <a:ext cx="8077320" cy="98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420840" indent="-316080">
                <a:lnSpc>
                  <a:spcPct val="100000"/>
                </a:lnSpc>
                <a:spcBef>
                  <a:spcPts val="524"/>
                </a:spcBef>
                <a:buClr>
                  <a:srgbClr val="3333cc"/>
                </a:buClr>
                <a:buSzPct val="84000"/>
                <a:buFont typeface="Wingdings" charset="2"/>
                <a:buChar char=""/>
                <a:tabLst>
                  <a:tab algn="l" pos="420840"/>
                  <a:tab algn="l" pos="878040"/>
                  <a:tab algn="l" pos="1335240"/>
                  <a:tab algn="l" pos="1792440"/>
                  <a:tab algn="l" pos="2249640"/>
                  <a:tab algn="l" pos="2706840"/>
                  <a:tab algn="l" pos="3164040"/>
                  <a:tab algn="l" pos="3621240"/>
                  <a:tab algn="l" pos="4078440"/>
                  <a:tab algn="l" pos="4535640"/>
                  <a:tab algn="l" pos="4992840"/>
                  <a:tab algn="l" pos="5450040"/>
                  <a:tab algn="l" pos="5907240"/>
                  <a:tab algn="l" pos="6364440"/>
                  <a:tab algn="l" pos="6821640"/>
                  <a:tab algn="l" pos="7278840"/>
                  <a:tab algn="l" pos="7736040"/>
                  <a:tab algn="l" pos="8193240"/>
                  <a:tab algn="l" pos="8650440"/>
                  <a:tab algn="l" pos="9107640"/>
                  <a:tab algn="l" pos="9564840"/>
                  <a:tab algn="l" pos="10058400"/>
                </a:tabLst>
              </a:pPr>
              <a:r>
                <a:rPr b="0" lang="en-GB" sz="2000" spc="-1" strike="noStrike">
                  <a:solidFill>
                    <a:srgbClr val="3333cc"/>
                  </a:solidFill>
                  <a:latin typeface="Tahoma"/>
                </a:rPr>
                <a:t>Two RCL circuits with 100X time constant differ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20840" indent="-316080">
                <a:lnSpc>
                  <a:spcPct val="100000"/>
                </a:lnSpc>
                <a:spcBef>
                  <a:spcPts val="524"/>
                </a:spcBef>
                <a:buClr>
                  <a:srgbClr val="3333cc"/>
                </a:buClr>
                <a:buSzPct val="84000"/>
                <a:buFont typeface="Wingdings" charset="2"/>
                <a:buChar char=""/>
                <a:tabLst>
                  <a:tab algn="l" pos="420840"/>
                  <a:tab algn="l" pos="878040"/>
                  <a:tab algn="l" pos="1335240"/>
                  <a:tab algn="l" pos="1792440"/>
                  <a:tab algn="l" pos="2249640"/>
                  <a:tab algn="l" pos="2706840"/>
                  <a:tab algn="l" pos="3164040"/>
                  <a:tab algn="l" pos="3621240"/>
                  <a:tab algn="l" pos="4078440"/>
                  <a:tab algn="l" pos="4535640"/>
                  <a:tab algn="l" pos="4992840"/>
                  <a:tab algn="l" pos="5450040"/>
                  <a:tab algn="l" pos="5907240"/>
                  <a:tab algn="l" pos="6364440"/>
                  <a:tab algn="l" pos="6821640"/>
                  <a:tab algn="l" pos="7278840"/>
                  <a:tab algn="l" pos="7736040"/>
                  <a:tab algn="l" pos="8193240"/>
                  <a:tab algn="l" pos="8650440"/>
                  <a:tab algn="l" pos="9107640"/>
                  <a:tab algn="l" pos="9564840"/>
                  <a:tab algn="l" pos="10058400"/>
                </a:tabLst>
              </a:pPr>
              <a:r>
                <a:rPr b="0" lang="en-GB" sz="2000" spc="-1" strike="noStrike">
                  <a:solidFill>
                    <a:srgbClr val="3333cc"/>
                  </a:solidFill>
                  <a:latin typeface="Tahoma"/>
                </a:rPr>
                <a:t>Initial time step size 0.01 sec, simulation interval 160 sec, 16001 simulation points for fixed time-step metho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724040" y="3166920"/>
            <a:ext cx="5486400" cy="16765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57200" y="4565520"/>
            <a:ext cx="3832200" cy="20638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4800600" y="4681440"/>
            <a:ext cx="3733920" cy="19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A233-07D8-41AB-ADE7-DAF14CCC76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4920" y="61704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Time Step Size Distribu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18960" y="5791320"/>
            <a:ext cx="6629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ss than 3000 simulation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st time step sizes between 0.05 and 0.2 s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stiff_time1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335560" cy="399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80A3-25B6-4F56-8E7B-C07D704627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4920" y="61704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Basis Time Step Size Distribu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8" name="stiff_time2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88200" cy="411336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3000" y="58669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nstant basis time step size means constant equivalent conduc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5C21-8C25-4807-A7FF-19898ED4C42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94920" y="617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pplications of Successive Chord Ite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6"/>
                </a:solidFill>
                <a:latin typeface="Tahoma"/>
              </a:rPr>
              <a:t>Weakly nonlinear analysis for Analog/RF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in harmonic balance analysis (CMU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6"/>
                </a:solidFill>
                <a:latin typeface="Tahoma"/>
              </a:rPr>
              <a:t>Timing analysis of single-stage logic gate driving interconnec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TA (CMU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Main drawback – A chord ensuring convergence generally leads to a slow convergence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70D2-AC01-47CC-9363-ED537C64F9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8960" y="11426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CoSMoS Linear Solver Candida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1198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spcBef>
                <a:spcPts val="437"/>
              </a:spcBef>
              <a:buNone/>
              <a:tabLst>
                <a:tab algn="l" pos="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852480" indent="-282600">
              <a:spcBef>
                <a:spcPts val="476"/>
              </a:spcBef>
              <a:buClr>
                <a:srgbClr val="3333cc"/>
              </a:buClr>
              <a:buSzPct val="84000"/>
              <a:buFont typeface="StarBats" charset="2"/>
              <a:buChar char="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SPARSE1.3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Direct solver in SP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52480" indent="-282600">
              <a:spcBef>
                <a:spcPts val="476"/>
              </a:spcBef>
              <a:buClr>
                <a:srgbClr val="3333cc"/>
              </a:buClr>
              <a:buSzPct val="84000"/>
              <a:buFont typeface="StarBats" charset="2"/>
              <a:buChar char="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SuperLU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Direct solv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52480" indent="-282600">
              <a:spcBef>
                <a:spcPts val="476"/>
              </a:spcBef>
              <a:buClr>
                <a:srgbClr val="3333cc"/>
              </a:buClr>
              <a:buSzPct val="84000"/>
              <a:buFont typeface="StarBats" charset="2"/>
              <a:buChar char="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AZTEC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Direct and iterative solv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52480" indent="-282600">
              <a:spcBef>
                <a:spcPts val="476"/>
              </a:spcBef>
              <a:buClr>
                <a:srgbClr val="3333cc"/>
              </a:buClr>
              <a:buSzPct val="84000"/>
              <a:buFont typeface="StarBats" charset="2"/>
              <a:buChar char="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HYPRE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Direct and iterative solv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52480" indent="-282600">
              <a:spcBef>
                <a:spcPts val="476"/>
              </a:spcBef>
              <a:buClr>
                <a:srgbClr val="3333cc"/>
              </a:buClr>
              <a:buSzPct val="84000"/>
              <a:buFont typeface="StarBats" charset="2"/>
              <a:buChar char="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DASSL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DAE solv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7918-8F5B-459E-B859-87057A8CE7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170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Piecewise Weakly Nonlinear Analysis (PWNL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57146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local chords are defined for different weakly nonlinear segments – Successive Varaible Chord (SV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4" name="VSC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192560" cy="395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D3EF-BA85-4ED4-B4BC-16879F566DE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4920" y="6170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Successive Variable Chord Method for MOSFE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6" name="mos_region" descr=""/>
          <p:cNvPicPr/>
          <p:nvPr/>
        </p:nvPicPr>
        <p:blipFill>
          <a:blip r:embed="rId1"/>
          <a:stretch/>
        </p:blipFill>
        <p:spPr>
          <a:xfrm>
            <a:off x="-76320" y="2133720"/>
            <a:ext cx="4876920" cy="413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" name=""/>
          <p:cNvGraphicFramePr/>
          <p:nvPr/>
        </p:nvGraphicFramePr>
        <p:xfrm>
          <a:off x="4724280" y="2133720"/>
          <a:ext cx="4191120" cy="4064040"/>
        </p:xfrm>
        <a:graphic>
          <a:graphicData uri="http://schemas.openxmlformats.org/drawingml/2006/table">
            <a:tbl>
              <a:tblPr/>
              <a:tblGrid>
                <a:gridCol w="1047960"/>
                <a:gridCol w="1047600"/>
                <a:gridCol w="1104840"/>
                <a:gridCol w="99072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mb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#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#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g</a:t>
                      </a:r>
                      <a:r>
                        <a:rPr b="0" i="1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s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#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g</a:t>
                      </a:r>
                      <a:r>
                        <a:rPr b="0" i="1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s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#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g</a:t>
                      </a:r>
                      <a:r>
                        <a:rPr b="0" i="1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-ma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g</a:t>
                      </a:r>
                      <a:r>
                        <a:rPr b="0" i="1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bs-ma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g</a:t>
                      </a:r>
                      <a:r>
                        <a:rPr b="0" i="1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s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#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g</a:t>
                      </a:r>
                      <a:r>
                        <a:rPr b="0" i="1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-ma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g</a:t>
                      </a:r>
                      <a:r>
                        <a:rPr b="0" i="1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bs-ma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g</a:t>
                      </a:r>
                      <a:r>
                        <a:rPr b="0" i="1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s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BC09-6CEC-4C05-BD8C-EEB8D61BCC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1704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Rank-one Updat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571500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4000" y="2108160"/>
            <a:ext cx="85341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8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222286"/>
                </a:solidFill>
                <a:latin typeface="Verdana"/>
              </a:rPr>
              <a:t>A local chord update will only affect four elements in the circuit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a new LU factorization necessa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762120" y="3521160"/>
                <a:ext cx="19047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066680" y="4572000"/>
                <a:ext cx="48769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c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685800" y="4038480"/>
            <a:ext cx="8001000" cy="24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Householder ‘s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Update of L\U matrices – O(m*n</a:t>
            </a:r>
            <a:r>
              <a:rPr b="0" lang="en-US" sz="2400" spc="-1" strike="noStrike" baseline="30000">
                <a:solidFill>
                  <a:srgbClr val="cc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shio Fujisawa, et. al., “A Sparse Matrix Method for Analysis of Piecewise-Linear Resistive Networks”, IEEE Trans on Circuit Theory, vol. CT-19, no. 6, pp. 571-584, Nov. 19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CB36-897A-426C-8D9F-1E61D02B673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1704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Substrate Coupling Examp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5" name="substrate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238880" cy="453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DB38-A6BB-4036-BBF3-F09A46B3A67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4920" y="617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Feed-through via Substrat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7" name="substrate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5943600" cy="44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7324-6C78-4E6D-8448-2616263FC94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1704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Speed-up vs. #El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9" name="speed-up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D29D-8CE4-49E7-8684-94DEC494BB2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1704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Power/Ground Examp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1" name="pg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858000" cy="477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E918-E62D-47A4-8DE1-82D28952277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95280" y="61704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IR-drop and L*dI/dt effec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3" name="pg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125B-303D-45A6-BD61-C45FE2CD2F4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2640" y="617040"/>
            <a:ext cx="78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Test 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2228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ver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80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LU speed-up and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0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overall speed-up on substrate and power/ground 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2228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ore speed-up for larg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2228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peed-up reas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LU/FBS cost ratio – large &amp; dens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LU speed-up – RCL parasitic eff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k-one update for fast LU fact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2228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est a few digital and analog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4097-FB60-4369-8E8F-8C229E9A8DA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0">
              <a:spcBef>
                <a:spcPts val="561"/>
              </a:spcBef>
              <a:buNone/>
              <a:tabLst>
                <a:tab algn="l" pos="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SILCA –  A prototype of time-domain nonlinear circuit simulator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25520" indent="0">
              <a:spcBef>
                <a:spcPts val="561"/>
              </a:spcBef>
              <a:buNone/>
              <a:tabLst>
                <a:tab algn="l" pos="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462"/>
              </a:spcBef>
              <a:buClr>
                <a:srgbClr val="000000"/>
              </a:buClr>
              <a:buSzPct val="144000"/>
              <a:buFont typeface="Symbol" charset="2"/>
              <a:buChar char=""/>
              <a:tabLst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ariable-step semi-implicit iterative numerical integration formul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462"/>
              </a:spcBef>
              <a:buClr>
                <a:srgbClr val="000000"/>
              </a:buClr>
              <a:buSzPct val="144000"/>
              <a:buFont typeface="Symbol" charset="2"/>
              <a:buChar char=""/>
              <a:tabLst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WNL analysis realized by the SVC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462"/>
              </a:spcBef>
              <a:buClr>
                <a:srgbClr val="000000"/>
              </a:buClr>
              <a:buSzPct val="144000"/>
              <a:buFont typeface="Symbol" charset="2"/>
              <a:buChar char=""/>
              <a:tabLst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ank-one update techni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25520" indent="0">
              <a:spcBef>
                <a:spcPts val="462"/>
              </a:spcBef>
              <a:buNone/>
              <a:tabLst>
                <a:tab algn="l" pos="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462"/>
              </a:spcBef>
              <a:buClr>
                <a:srgbClr val="ff0000"/>
              </a:buClr>
              <a:buSzPct val="144000"/>
              <a:buFont typeface="Wingdings" charset="2"/>
              <a:buChar char=""/>
              <a:tabLst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Orders of magnitude speed-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462"/>
              </a:spcBef>
              <a:buClr>
                <a:srgbClr val="ff0000"/>
              </a:buClr>
              <a:buSzPct val="144000"/>
              <a:buFont typeface="Wingdings" charset="2"/>
              <a:buChar char=""/>
              <a:tabLst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Work without derivatives if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26A3-EC73-4863-A980-7D49AFB2F9C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8960" y="1219320"/>
            <a:ext cx="662940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Goa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3800" y="2057040"/>
            <a:ext cx="736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spcBef>
                <a:spcPts val="524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Multiple solver options for different circuit simulation probl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20840" indent="-316080">
              <a:spcBef>
                <a:spcPts val="524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Unified circuit-EM form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20840" indent="0">
              <a:spcBef>
                <a:spcPts val="524"/>
              </a:spcBef>
              <a:buNone/>
              <a:tabLst>
                <a:tab algn="l" pos="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20840" indent="0">
              <a:spcBef>
                <a:spcPts val="524"/>
              </a:spcBef>
              <a:buNone/>
              <a:tabLst>
                <a:tab algn="l" pos="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20840" indent="0">
              <a:spcBef>
                <a:spcPts val="524"/>
              </a:spcBef>
              <a:buNone/>
              <a:tabLst>
                <a:tab algn="l" pos="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20840" indent="-316080">
              <a:spcBef>
                <a:spcPts val="524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Orders of magnitude speed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209680" y="3781440"/>
                <a:ext cx="3786480" cy="13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EM</m:t>
                              </m:r>
                            </m:e>
                            <m:e>
                              <m:r>
                                <m:t xml:space="preserve">C</m:t>
                              </m:r>
                            </m:e>
                          </m:mr>
                          <m:mr>
                            <m:e>
                              <m:r>
                                <m:t xml:space="preserve">G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KT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F908-BC35-4ADA-B356-FBBC7B1EB2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480" y="265572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480" y="295416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80" y="302724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80" y="278136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80" y="2666880"/>
            <a:ext cx="91378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80" y="3233880"/>
            <a:ext cx="91378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0" y="3262320"/>
            <a:ext cx="91378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2640" y="106632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Schedu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2057400"/>
            <a:ext cx="8153640" cy="36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buClr>
                <a:srgbClr val="2c10fa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Summer Quarter (June </a:t>
            </a:r>
            <a:r>
              <a:rPr b="0" lang="en-GB" sz="28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Sept, 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research on PWNL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37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are with DASSL (fixed leading coefficient BD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37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est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2c10fa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Next 6 months (</a:t>
            </a:r>
            <a:r>
              <a:rPr b="0" lang="en-GB" sz="28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Dec 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37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oupled nonlinear/linear circuit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37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tegration of nonlinear capac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F71A-314B-432F-A3EA-B36990CA87F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8960" y="1219320"/>
            <a:ext cx="662940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Achiev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364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407880" indent="-30636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All solver libraries have been installed in our Unix bo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07880" indent="-30636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Evaluations have been made on direct solvers: SPARSE1.3 and SuperL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6040" indent="-2725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uperLU can be an alternative for circuit simulator (SPICE), i.e., DC analy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07880" indent="-30636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Distributed parallel solvers (AZTEC, HYPRE) are options for EM coupled sim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6040" indent="-2725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YPRE is the option for stamping EM compon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07880" indent="-30636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DASSL is the option for direct simulation without discretized stamping (speed-up for some circui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7E25-57A5-4F68-91B5-234731B3AF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8960" y="1219320"/>
            <a:ext cx="662940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364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spcBef>
                <a:spcPts val="524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Direct sol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524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uperLU is good for well ordered matr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524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PARSE1.3 is good for repeated solving of the same patterned matri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0">
              <a:spcBef>
                <a:spcPts val="524"/>
              </a:spcBef>
              <a:buNone/>
              <a:tabLst>
                <a:tab algn="l" pos="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20840" indent="-316080">
              <a:spcBef>
                <a:spcPts val="524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Solvers for distributed problems (i.e., 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524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amping based formulation – HYPRE is a good o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BD12-7259-4FFF-8776-1CF2E8EFCB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1219320"/>
            <a:ext cx="662940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Targe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364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spcBef>
                <a:spcPts val="524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Ordering is the key to speedup direct sol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524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ultiple solver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20840" indent="-316080">
              <a:spcBef>
                <a:spcPts val="524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Stamping based matrix building unifies circuit and EM form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524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encil used in HYPRE is stamping for distributed compon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20840" indent="-316080">
              <a:spcBef>
                <a:spcPts val="524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Stamping based matrix formulation can unify ODE and PDE sim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20840" indent="-316080">
              <a:spcBef>
                <a:spcPts val="524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Mixed solvers are needed for unified form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7B24-F647-4DB5-90C2-ED48A1148E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1114200"/>
            <a:ext cx="754380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c0128"/>
                </a:solidFill>
                <a:latin typeface="Tahoma"/>
              </a:rPr>
              <a:t>SILCA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r>
              <a:rPr b="1" lang="en-GB" sz="3200" spc="-1" strike="noStrike">
                <a:solidFill>
                  <a:srgbClr val="fc0128"/>
                </a:solidFill>
                <a:latin typeface="Tahoma"/>
              </a:rPr>
              <a:t>S</a:t>
            </a: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emi-</a:t>
            </a:r>
            <a:r>
              <a:rPr b="1" lang="en-GB" sz="3200" spc="-1" strike="noStrike">
                <a:solidFill>
                  <a:srgbClr val="fc0128"/>
                </a:solidFill>
                <a:latin typeface="Tahoma"/>
              </a:rPr>
              <a:t>I</a:t>
            </a: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mplicit </a:t>
            </a:r>
            <a:r>
              <a:rPr b="1" lang="en-GB" sz="3200" spc="-1" strike="noStrike">
                <a:solidFill>
                  <a:srgbClr val="fc0128"/>
                </a:solidFill>
                <a:latin typeface="Tahoma"/>
              </a:rPr>
              <a:t>L</a:t>
            </a: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inear </a:t>
            </a:r>
            <a:r>
              <a:rPr b="1" lang="en-GB" sz="3200" spc="-1" strike="noStrike">
                <a:solidFill>
                  <a:srgbClr val="fc0128"/>
                </a:solidFill>
                <a:latin typeface="Tahoma"/>
              </a:rPr>
              <a:t>C</a:t>
            </a: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entric </a:t>
            </a:r>
            <a:r>
              <a:rPr b="1" lang="en-GB" sz="3200" spc="-1" strike="noStrike">
                <a:solidFill>
                  <a:srgbClr val="fc0128"/>
                </a:solidFill>
                <a:latin typeface="Tahoma"/>
              </a:rPr>
              <a:t>A</a:t>
            </a: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nalysis</a:t>
            </a:r>
            <a:r>
              <a:rPr b="1" i="1" lang="en-GB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3198960"/>
            <a:ext cx="7796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85760" indent="-185760"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PhD Student: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Zhao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Advisor: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Richard S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ctr">
              <a:lnSpc>
                <a:spcPct val="100000"/>
              </a:lnSpc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Mixed Signal CAD Research Lab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Department of Electrical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University of Washington, Seattle  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95160" y="5776920"/>
            <a:ext cx="1447920" cy="60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4038480" y="5638680"/>
          <a:ext cx="820800" cy="83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8480" y="5638680"/>
                    <a:ext cx="8208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7480440" y="5700600"/>
            <a:ext cx="745920" cy="76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5B86-C701-4FBA-A40B-BEE3211DBD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50720" y="950760"/>
            <a:ext cx="649764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Challenges for Time-Domain Circuit Simul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2174760"/>
            <a:ext cx="8119800" cy="34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16520" indent="0">
              <a:spcBef>
                <a:spcPts val="437"/>
              </a:spcBef>
              <a:buNone/>
              <a:tabLst>
                <a:tab algn="l" pos="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Accurate analysis of VLSI circuits together with surrounding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16520" indent="0">
              <a:spcBef>
                <a:spcPts val="437"/>
              </a:spcBef>
              <a:buNone/>
              <a:tabLst>
                <a:tab algn="l" pos="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843840" indent="-279720">
              <a:spcBef>
                <a:spcPts val="476"/>
              </a:spcBef>
              <a:buClr>
                <a:srgbClr val="000000"/>
              </a:buClr>
              <a:buSzPct val="84000"/>
              <a:buFont typeface="StarBats" charset="2"/>
              <a:buChar char="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ower/ground network, common substrate, interconnect lines, packaging inductanc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43840" indent="-279720">
              <a:spcBef>
                <a:spcPts val="476"/>
              </a:spcBef>
              <a:buClr>
                <a:srgbClr val="000000"/>
              </a:buClr>
              <a:buSzPct val="84000"/>
              <a:buFont typeface="StarBats" charset="2"/>
              <a:buChar char="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ep-submicron circuits with extracted parasitic eff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43840" indent="-279720">
              <a:spcBef>
                <a:spcPts val="476"/>
              </a:spcBef>
              <a:buClr>
                <a:srgbClr val="000000"/>
              </a:buClr>
              <a:buSzPct val="84000"/>
              <a:buFont typeface="StarBats" charset="2"/>
              <a:buChar char="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upled circuit-EM sim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43840" indent="-279720">
              <a:spcBef>
                <a:spcPts val="476"/>
              </a:spcBef>
              <a:buClr>
                <a:srgbClr val="000000"/>
              </a:buClr>
              <a:buSzPct val="84000"/>
              <a:buFont typeface="StarBats" charset="2"/>
              <a:buChar char="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rmal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7A9B-3B48-4CC8-9E19-817C12B3E2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8960" y="765000"/>
            <a:ext cx="7535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Per-iteration Cost Distribution in Transient Simul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3800" y="2057400"/>
            <a:ext cx="7364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Device eval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able look-up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rallel and distributed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20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420840" indent="-31608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LU facto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parse matrix solver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1.1~1.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lose to worst cas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considering surrounding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20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420840" indent="-31608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Forward/backward substitution(FB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uch lower than LU fact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6014880" y="2657520"/>
            <a:ext cx="2971800" cy="1752480"/>
            <a:chOff x="6014880" y="2657520"/>
            <a:chExt cx="2971800" cy="1752480"/>
          </a:xfrm>
        </p:grpSpPr>
        <p:sp>
          <p:nvSpPr>
            <p:cNvPr id="126" name=""/>
            <p:cNvSpPr/>
            <p:nvPr/>
          </p:nvSpPr>
          <p:spPr>
            <a:xfrm>
              <a:off x="6014880" y="2657520"/>
              <a:ext cx="2971800" cy="1752480"/>
            </a:xfrm>
            <a:prstGeom prst="irregularSeal2">
              <a:avLst/>
            </a:prstGeom>
            <a:solidFill>
              <a:srgbClr val="ffff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77000" y="3190320"/>
              <a:ext cx="14475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2306f8"/>
                  </a:solidFill>
                  <a:latin typeface="Tahoma"/>
                </a:rPr>
                <a:t>Decrease LU cost 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9FD1-DBC4-430F-A9CA-FB0EEBE5E1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7T16:21:53Z</dcterms:created>
  <dc:creator>gshi</dc:creator>
  <dc:description/>
  <dc:language>en-US</dc:language>
  <cp:lastModifiedBy>Zhao Li</cp:lastModifiedBy>
  <dcterms:modified xsi:type="dcterms:W3CDTF">2003-06-19T08:50:01Z</dcterms:modified>
  <cp:revision>144</cp:revision>
  <dc:subject/>
  <dc:title>Solver Development</dc:title>
</cp:coreProperties>
</file>