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DC59-94E4-4D9E-B806-B9494F8ECF2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08E-E5F2-4D10-A371-F2FF1369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8DB-FC5F-4103-B0EF-210861E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D2C-44F3-4129-AE7E-433E663A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8F8-C9DB-4F6A-95B2-D41221DB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044-5317-4907-B582-46E76FD9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C70-D25A-4B93-ADD5-BB19B4D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A1B-75C2-434B-B19C-C5B8DB0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B00-59AB-416A-8937-4F5DB1C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091-8877-40C5-8A76-39211D3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D51-08BF-4A0A-90E1-93EF43A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D79-1562-439F-92C3-54C6507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EE2-DEE5-4031-B276-9C9CF6D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A39-0645-4F59-A23F-FD1970FD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7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372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oadband Efficient EM Modeling for Mixed-Signal System on Chip Simulation : Summar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4880" y="2386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over State of the Art Commercial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Element Based  : Efficient Surface Only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Volumetric Effects from Strictly Surfa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and Frequency Domain Simulation in Sam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ast O(N log N) time stepping and matri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orous, hierarchical coupling schemes to circuits and to multi-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5480" y="1131840"/>
            <a:ext cx="61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d Computational EM Lab 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441160" y="1001880"/>
            <a:ext cx="4235400" cy="14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requency Sw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43160" y="2120760"/>
            <a:ext cx="4652640" cy="4238280"/>
            <a:chOff x="2243160" y="2120760"/>
            <a:chExt cx="4652640" cy="4238280"/>
          </a:xfrm>
        </p:grpSpPr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2459520" y="5406840"/>
                  <a:ext cx="4356720" cy="95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M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</m:mr>
                            <m:mr>
                              <m:e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A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</m:acc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  <m:r>
                            <m:t xml:space="preserve">+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f</m:t>
                              </m:r>
                            </m:e>
                          </m:rad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L</m:t>
                                  </m:r>
                                </m:e>
                              </m:acc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4" name=""/>
            <p:cNvGrpSpPr/>
            <p:nvPr/>
          </p:nvGrpSpPr>
          <p:grpSpPr>
            <a:xfrm>
              <a:off x="2243160" y="2120760"/>
              <a:ext cx="4652640" cy="3150360"/>
              <a:chOff x="2243160" y="2120760"/>
              <a:chExt cx="4652640" cy="3150360"/>
            </a:xfrm>
          </p:grpSpPr>
          <p:pic>
            <p:nvPicPr>
              <p:cNvPr id="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3160" y="2120760"/>
                <a:ext cx="4652640" cy="315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47120" y="2412000"/>
                <a:ext cx="1655640" cy="1118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oadband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Dependent Impedance: Volumetric Effects in Surface Solve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92280" y="1743120"/>
            <a:ext cx="4762440" cy="3556080"/>
            <a:chOff x="2492280" y="1743120"/>
            <a:chExt cx="4762440" cy="35560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492280" y="2150640"/>
              <a:ext cx="414900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92280" y="1743120"/>
              <a:ext cx="4762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istance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11760" y="300528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istance Obtained from a Volumetric Commercial Solver = 1.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98160" y="345636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 Full Wave modeling is able to capture the radiation lo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3200" y="80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oundary Element in Frequency and Time Domai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50800"/>
            <a:ext cx="4495680" cy="278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22680" y="1544760"/>
            <a:ext cx="4143600" cy="2628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617920" y="4456080"/>
            <a:ext cx="3983040" cy="2401920"/>
            <a:chOff x="2617920" y="4456080"/>
            <a:chExt cx="3983040" cy="2401920"/>
          </a:xfrm>
        </p:grpSpPr>
        <p:sp>
          <p:nvSpPr>
            <p:cNvPr id="69" name=""/>
            <p:cNvSpPr/>
            <p:nvPr/>
          </p:nvSpPr>
          <p:spPr>
            <a:xfrm>
              <a:off x="2821320" y="6461280"/>
              <a:ext cx="315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617920" y="4456080"/>
              <a:ext cx="3983040" cy="2327760"/>
              <a:chOff x="2617920" y="4456080"/>
              <a:chExt cx="3983040" cy="2327760"/>
            </a:xfrm>
          </p:grpSpPr>
          <p:pic>
            <p:nvPicPr>
              <p:cNvPr id="71" name="G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4456080"/>
                <a:ext cx="398304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811680" y="6384960"/>
                <a:ext cx="18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Vpeak: 10m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730600" y="515880"/>
            <a:ext cx="3673440" cy="4994280"/>
            <a:chOff x="2730600" y="515880"/>
            <a:chExt cx="3673440" cy="4994280"/>
          </a:xfrm>
        </p:grpSpPr>
        <p:sp>
          <p:nvSpPr>
            <p:cNvPr id="74" name=""/>
            <p:cNvSpPr/>
            <p:nvPr/>
          </p:nvSpPr>
          <p:spPr>
            <a:xfrm>
              <a:off x="2746440" y="12016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32240" y="1201680"/>
              <a:ext cx="5331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64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322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22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80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194000" y="1125360"/>
              <a:ext cx="457200" cy="304560"/>
              <a:chOff x="4194000" y="1125360"/>
              <a:chExt cx="457200" cy="304560"/>
            </a:xfrm>
          </p:grpSpPr>
          <p:sp>
            <p:nvSpPr>
              <p:cNvPr id="83" name=""/>
              <p:cNvSpPr/>
              <p:nvPr/>
            </p:nvSpPr>
            <p:spPr>
              <a:xfrm>
                <a:off x="4194000" y="120132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94000" y="1125360"/>
                <a:ext cx="457200" cy="3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879800" y="1125360"/>
              <a:ext cx="609840" cy="304560"/>
              <a:chOff x="4879800" y="1125360"/>
              <a:chExt cx="609840" cy="304560"/>
            </a:xfrm>
          </p:grpSpPr>
          <p:sp>
            <p:nvSpPr>
              <p:cNvPr id="86" name=""/>
              <p:cNvSpPr/>
              <p:nvPr/>
            </p:nvSpPr>
            <p:spPr>
              <a:xfrm>
                <a:off x="4879800" y="120132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32440" y="120132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32440" y="1125360"/>
                <a:ext cx="457200" cy="3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65600" y="1125360"/>
              <a:ext cx="533520" cy="380880"/>
              <a:chOff x="5565600" y="1125360"/>
              <a:chExt cx="53352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5565600" y="127764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946840" y="120168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18240" y="120168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41920" y="1125360"/>
                <a:ext cx="457200" cy="38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22400" y="3030480"/>
              <a:ext cx="609840" cy="609480"/>
              <a:chOff x="2822400" y="3030480"/>
              <a:chExt cx="60984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2822400" y="31827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75040" y="3182760"/>
                <a:ext cx="15228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975040" y="30304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565600" y="2268360"/>
              <a:ext cx="457200" cy="609480"/>
              <a:chOff x="5565600" y="2268360"/>
              <a:chExt cx="457200" cy="609480"/>
            </a:xfrm>
          </p:grpSpPr>
          <p:sp>
            <p:nvSpPr>
              <p:cNvPr id="99" name=""/>
              <p:cNvSpPr/>
              <p:nvPr/>
            </p:nvSpPr>
            <p:spPr>
              <a:xfrm>
                <a:off x="5565600" y="242064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65600" y="226836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56120" y="1582560"/>
              <a:ext cx="457200" cy="609480"/>
              <a:chOff x="4956120" y="1582560"/>
              <a:chExt cx="457200" cy="60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4956120" y="173484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56120" y="158256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822400" y="2344680"/>
              <a:ext cx="457200" cy="609480"/>
              <a:chOff x="2822400" y="2344680"/>
              <a:chExt cx="45720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22400" y="24969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22400" y="23446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803840" y="303048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5600" y="3030480"/>
              <a:ext cx="53352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8040" y="303048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41920" y="1582560"/>
              <a:ext cx="609120" cy="609480"/>
              <a:chOff x="5641920" y="1582560"/>
              <a:chExt cx="609120" cy="609480"/>
            </a:xfrm>
          </p:grpSpPr>
          <p:sp>
            <p:nvSpPr>
              <p:cNvPr id="111" name=""/>
              <p:cNvSpPr/>
              <p:nvPr/>
            </p:nvSpPr>
            <p:spPr>
              <a:xfrm>
                <a:off x="5641920" y="1734840"/>
                <a:ext cx="7596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94200" y="1734840"/>
                <a:ext cx="15192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4200" y="1582560"/>
                <a:ext cx="45684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508200" y="3030480"/>
              <a:ext cx="457200" cy="609480"/>
              <a:chOff x="3508200" y="3030480"/>
              <a:chExt cx="45720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3508200" y="31827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08200" y="30304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565600" y="3792240"/>
              <a:ext cx="53352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3840" y="3792240"/>
              <a:ext cx="53316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194000" y="3792240"/>
              <a:ext cx="457200" cy="609480"/>
              <a:chOff x="4194000" y="3792240"/>
              <a:chExt cx="457200" cy="60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4194000" y="394452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94000" y="379224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432240" y="3792240"/>
              <a:ext cx="609120" cy="609480"/>
              <a:chOff x="3432240" y="3792240"/>
              <a:chExt cx="609120" cy="60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3432240" y="3944520"/>
                <a:ext cx="7596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84520" y="3944520"/>
                <a:ext cx="15192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84520" y="3792240"/>
                <a:ext cx="45684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822400" y="3716280"/>
              <a:ext cx="533520" cy="761400"/>
              <a:chOff x="2822400" y="3716280"/>
              <a:chExt cx="533520" cy="761400"/>
            </a:xfrm>
          </p:grpSpPr>
          <p:sp>
            <p:nvSpPr>
              <p:cNvPr id="127" name=""/>
              <p:cNvSpPr/>
              <p:nvPr/>
            </p:nvSpPr>
            <p:spPr>
              <a:xfrm>
                <a:off x="2822400" y="4020840"/>
                <a:ext cx="76320" cy="456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03640" y="3868560"/>
                <a:ext cx="152280" cy="1519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5040" y="3868560"/>
                <a:ext cx="152280" cy="1519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898720" y="37162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051000" y="12016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6440" y="8967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50640" y="51588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1000" y="4554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30600" y="5052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2240" y="1506240"/>
              <a:ext cx="2971800" cy="30481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103040" y="5370480"/>
            <a:ext cx="69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s massive RHS problems e.g. Substrate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Direct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Multilevel Iterative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1048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pproach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ierarchical “Telescoping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9600" y="1143000"/>
            <a:ext cx="8834400" cy="5376960"/>
            <a:chOff x="309600" y="1143000"/>
            <a:chExt cx="8834400" cy="5376960"/>
          </a:xfrm>
        </p:grpSpPr>
        <p:sp>
          <p:nvSpPr>
            <p:cNvPr id="144" name=""/>
            <p:cNvSpPr/>
            <p:nvPr/>
          </p:nvSpPr>
          <p:spPr>
            <a:xfrm>
              <a:off x="7194600" y="2270160"/>
              <a:ext cx="638280" cy="2409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6360" y="2189160"/>
              <a:ext cx="833400" cy="23544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8080" y="4332600"/>
              <a:ext cx="3251160" cy="763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86360" y="4327560"/>
              <a:ext cx="833400" cy="773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2760" y="2190960"/>
              <a:ext cx="2714760" cy="2136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1960" y="2605320"/>
              <a:ext cx="2057400" cy="181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M Part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MoM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30440" y="447372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upling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528000" y="2853360"/>
              <a:ext cx="19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upling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983120" y="3381480"/>
                  <a:ext cx="944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5565960" y="2230560"/>
              <a:ext cx="663480" cy="236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5181840" y="3036240"/>
              <a:ext cx="144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M unknow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375600" y="3456000"/>
            <a:ext cx="877680" cy="4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5600" y="3456000"/>
                      <a:ext cx="87768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7194600" y="4276800"/>
              <a:ext cx="639720" cy="936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6972840" y="4469760"/>
              <a:ext cx="104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kt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6991920" y="2677320"/>
              <a:ext cx="104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ield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05440" y="4532400"/>
              <a:ext cx="779400" cy="569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ircuit Par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4322880"/>
              <a:ext cx="669960" cy="835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520600" y="4515120"/>
              <a:ext cx="75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K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067600" y="1630440"/>
              <a:ext cx="1076400" cy="1146240"/>
              <a:chOff x="8067600" y="1630440"/>
              <a:chExt cx="1076400" cy="1146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9061200" y="2202120"/>
                <a:ext cx="82800" cy="36360"/>
                <a:chOff x="9061200" y="2202120"/>
                <a:chExt cx="82800" cy="36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061200" y="2202120"/>
                  <a:ext cx="82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077760" y="2221200"/>
                  <a:ext cx="4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90000" y="2238480"/>
                  <a:ext cx="2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8103960" y="261324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8067600" y="2739960"/>
                <a:ext cx="82440" cy="36720"/>
                <a:chOff x="8067600" y="2739960"/>
                <a:chExt cx="82440" cy="36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067600" y="2739960"/>
                  <a:ext cx="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084160" y="2759040"/>
                  <a:ext cx="4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96040" y="2776680"/>
                  <a:ext cx="2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8270640" y="2194200"/>
                <a:ext cx="119160" cy="12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8270640" y="1893960"/>
                <a:ext cx="501840" cy="30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8389800" y="1888920"/>
                <a:ext cx="503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8389800" y="2000160"/>
                <a:ext cx="5065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8103960" y="2264040"/>
                <a:ext cx="214560" cy="14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03960" y="2413080"/>
                <a:ext cx="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62840" y="1724040"/>
                <a:ext cx="243000" cy="209520"/>
              </a:xfrm>
              <a:custGeom>
                <a:avLst/>
                <a:gdLst/>
                <a:ahLst/>
                <a:rect l="l" t="t" r="r" b="b"/>
                <a:pathLst>
                  <a:path w="486" h="402">
                    <a:moveTo>
                      <a:pt x="0" y="324"/>
                    </a:moveTo>
                    <a:lnTo>
                      <a:pt x="486" y="0"/>
                    </a:lnTo>
                    <a:lnTo>
                      <a:pt x="486" y="4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02600" y="207036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330800">
                <a:off x="8115120" y="1893960"/>
                <a:ext cx="306360" cy="100080"/>
              </a:xfrm>
              <a:custGeom>
                <a:avLst/>
                <a:gdLst>
                  <a:gd name="textAreaLeft" fmla="*/ 47880 w 306360"/>
                  <a:gd name="textAreaRight" fmla="*/ 268200 w 306360"/>
                  <a:gd name="textAreaTop" fmla="*/ 24840 h 100080"/>
                  <a:gd name="textAreaBottom" fmla="*/ 7524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72480" y="1892520"/>
                <a:ext cx="122040" cy="110880"/>
              </a:xfrm>
              <a:custGeom>
                <a:avLst/>
                <a:gdLst/>
                <a:ahLst/>
                <a:rect l="l" t="t" r="r" b="b"/>
                <a:pathLst>
                  <a:path w="468" h="312">
                    <a:moveTo>
                      <a:pt x="0" y="0"/>
                    </a:moveTo>
                    <a:lnTo>
                      <a:pt x="468" y="0"/>
                    </a:lnTo>
                    <a:lnTo>
                      <a:pt x="468" y="3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82080" y="1930680"/>
                <a:ext cx="42840" cy="14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86680" y="2459160"/>
                <a:ext cx="42840" cy="1461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4265400">
                <a:off x="8362800" y="1741320"/>
                <a:ext cx="306360" cy="100080"/>
              </a:xfrm>
              <a:custGeom>
                <a:avLst/>
                <a:gdLst>
                  <a:gd name="textAreaLeft" fmla="*/ 47880 w 306360"/>
                  <a:gd name="textAreaRight" fmla="*/ 268200 w 306360"/>
                  <a:gd name="textAreaTop" fmla="*/ 24840 h 100080"/>
                  <a:gd name="textAreaBottom" fmla="*/ 7524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/>
            <p:nvPr/>
          </p:nvCxnSpPr>
          <p:spPr>
            <a:xfrm flipV="1" rot="10800000">
              <a:off x="7427160" y="1933560"/>
              <a:ext cx="812160" cy="45144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87" name=""/>
            <p:cNvCxnSpPr>
              <a:stCxn id="188" idx="0"/>
              <a:endCxn id="150" idx="2"/>
            </p:cNvCxnSpPr>
            <p:nvPr/>
          </p:nvCxnSpPr>
          <p:spPr>
            <a:xfrm flipH="1" rot="10800000">
              <a:off x="2065680" y="4930200"/>
              <a:ext cx="695520" cy="546480"/>
            </a:xfrm>
            <a:prstGeom prst="curvedConnector5">
              <a:avLst>
                <a:gd name="adj1" fmla="val -32884"/>
                <a:gd name="adj2" fmla="val 24983"/>
                <a:gd name="adj3" fmla="val -32884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89" name=""/>
            <p:cNvCxnSpPr/>
            <p:nvPr/>
          </p:nvCxnSpPr>
          <p:spPr>
            <a:xfrm flipH="1" flipV="1" rot="5400000">
              <a:off x="2995200" y="4461840"/>
              <a:ext cx="1002600" cy="163764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190" name=""/>
            <p:cNvGraphicFramePr/>
            <p:nvPr/>
          </p:nvGraphicFramePr>
          <p:xfrm>
            <a:off x="3567240" y="5756400"/>
            <a:ext cx="16200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7240" y="5756400"/>
                      <a:ext cx="16200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3952800" y="5770800"/>
            <a:ext cx="44316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2800" y="5770800"/>
                      <a:ext cx="443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5211720" y="5775480"/>
            <a:ext cx="35100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11720" y="5775480"/>
                      <a:ext cx="3510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96" name=""/>
            <p:cNvCxnSpPr/>
            <p:nvPr/>
          </p:nvCxnSpPr>
          <p:spPr>
            <a:xfrm flipV="1" rot="16200000">
              <a:off x="4547880" y="4934880"/>
              <a:ext cx="930960" cy="750240"/>
            </a:xfrm>
            <a:prstGeom prst="curvedConnector5">
              <a:avLst>
                <a:gd name="adj1" fmla="val 49980"/>
                <a:gd name="adj2" fmla="val 49975"/>
                <a:gd name="adj3" fmla="val 49980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197" name=""/>
            <p:cNvGraphicFramePr/>
            <p:nvPr/>
          </p:nvGraphicFramePr>
          <p:xfrm>
            <a:off x="2551320" y="5781960"/>
            <a:ext cx="253800" cy="581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1320" y="5781960"/>
                      <a:ext cx="25380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9" name=""/>
            <p:cNvGrpSpPr/>
            <p:nvPr/>
          </p:nvGrpSpPr>
          <p:grpSpPr>
            <a:xfrm>
              <a:off x="1181160" y="5415120"/>
              <a:ext cx="990720" cy="1035000"/>
              <a:chOff x="1181160" y="5415120"/>
              <a:chExt cx="990720" cy="1035000"/>
            </a:xfrm>
          </p:grpSpPr>
          <p:pic>
            <p:nvPicPr>
              <p:cNvPr id="200" name="cap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81160" y="5415120"/>
                <a:ext cx="99072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 txBox="1"/>
              <p:nvPr/>
            </p:nvSpPr>
            <p:spPr>
              <a:xfrm>
                <a:off x="1181160" y="5415120"/>
                <a:ext cx="990720" cy="10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067120" y="5477040"/>
              <a:ext cx="637920" cy="380880"/>
            </a:xfrm>
            <a:custGeom>
              <a:avLst/>
              <a:gdLst/>
              <a:ahLst/>
              <a:rect l="l" t="t" r="r" b="b"/>
              <a:pathLst>
                <a:path w="402" h="240">
                  <a:moveTo>
                    <a:pt x="0" y="0"/>
                  </a:moveTo>
                  <a:lnTo>
                    <a:pt x="402" y="0"/>
                  </a:lnTo>
                  <a:lnTo>
                    <a:pt x="40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33840" y="5820120"/>
            <a:ext cx="419040" cy="447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33840" y="5820120"/>
                      <a:ext cx="41904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3043440" y="5786640"/>
            <a:ext cx="242640" cy="5428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43440" y="5786640"/>
                      <a:ext cx="2426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7372440" y="5546880"/>
            <a:ext cx="1162080" cy="9730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372440" y="5546880"/>
                      <a:ext cx="116208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08" name=""/>
            <p:cNvCxnSpPr>
              <a:endCxn id="158" idx="0"/>
            </p:cNvCxnSpPr>
            <p:nvPr/>
          </p:nvCxnSpPr>
          <p:spPr>
            <a:xfrm rot="10800000">
              <a:off x="7219440" y="4744440"/>
              <a:ext cx="153000" cy="1289880"/>
            </a:xfrm>
            <a:prstGeom prst="curvedConnector5">
              <a:avLst>
                <a:gd name="adj1" fmla="val 250000"/>
                <a:gd name="adj2" fmla="val 50000"/>
                <a:gd name="adj3" fmla="val 250000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09" name=""/>
            <p:cNvCxnSpPr>
              <a:endCxn id="157" idx="3"/>
            </p:cNvCxnSpPr>
            <p:nvPr/>
          </p:nvCxnSpPr>
          <p:spPr>
            <a:xfrm flipV="1" rot="16200000">
              <a:off x="7577280" y="5000760"/>
              <a:ext cx="1042200" cy="52920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0" name=""/>
            <p:cNvCxnSpPr/>
            <p:nvPr/>
          </p:nvCxnSpPr>
          <p:spPr>
            <a:xfrm flipH="1" rot="10800000">
              <a:off x="1474920" y="3334680"/>
              <a:ext cx="144720" cy="2750400"/>
            </a:xfrm>
            <a:prstGeom prst="curvedConnector5">
              <a:avLst>
                <a:gd name="adj1" fmla="val -158603"/>
                <a:gd name="adj2" fmla="val 49993"/>
                <a:gd name="adj3" fmla="val -158603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1" name=""/>
            <p:cNvCxnSpPr>
              <a:endCxn id="149" idx="1"/>
            </p:cNvCxnSpPr>
            <p:nvPr/>
          </p:nvCxnSpPr>
          <p:spPr>
            <a:xfrm flipH="1" rot="16200000">
              <a:off x="597600" y="2210400"/>
              <a:ext cx="1585080" cy="68472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2" name=""/>
            <p:cNvSpPr/>
            <p:nvPr/>
          </p:nvSpPr>
          <p:spPr>
            <a:xfrm>
              <a:off x="5477040" y="1295640"/>
              <a:ext cx="14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6232200">
              <a:off x="5581440" y="1971720"/>
              <a:ext cx="714600" cy="218880"/>
            </a:xfrm>
            <a:prstGeom prst="rightArrow">
              <a:avLst>
                <a:gd name="adj1" fmla="val 50000"/>
                <a:gd name="adj2" fmla="val 8162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/>
            <p:nvPr/>
          </p:nvCxnSpPr>
          <p:spPr>
            <a:xfrm flipV="1">
              <a:off x="955800" y="3249720"/>
              <a:ext cx="437040" cy="178200"/>
            </a:xfrm>
            <a:prstGeom prst="curvedConnector5">
              <a:avLst>
                <a:gd name="adj1" fmla="val 49793"/>
                <a:gd name="adj2" fmla="val 50000"/>
                <a:gd name="adj3" fmla="val 49793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5" name=""/>
            <p:cNvSpPr/>
            <p:nvPr/>
          </p:nvSpPr>
          <p:spPr>
            <a:xfrm>
              <a:off x="5695920" y="5715000"/>
              <a:ext cx="14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4571600">
              <a:off x="5743440" y="5181120"/>
              <a:ext cx="714240" cy="219240"/>
            </a:xfrm>
            <a:prstGeom prst="rightArrow">
              <a:avLst>
                <a:gd name="adj1" fmla="val 50000"/>
                <a:gd name="adj2" fmla="val 8144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leads" descr=""/>
            <p:cNvPicPr/>
            <p:nvPr/>
          </p:nvPicPr>
          <p:blipFill>
            <a:blip r:embed="rId18"/>
            <a:stretch/>
          </p:blipFill>
          <p:spPr>
            <a:xfrm>
              <a:off x="324000" y="1151280"/>
              <a:ext cx="1657080" cy="923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8" name=""/>
            <p:cNvGraphicFramePr/>
            <p:nvPr/>
          </p:nvGraphicFramePr>
          <p:xfrm>
            <a:off x="2209680" y="1143000"/>
            <a:ext cx="2381400" cy="1009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09680" y="1143000"/>
                      <a:ext cx="2381400" cy="10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20" name=""/>
            <p:cNvCxnSpPr/>
            <p:nvPr/>
          </p:nvCxnSpPr>
          <p:spPr>
            <a:xfrm flipH="1" rot="16200000">
              <a:off x="2458080" y="1940760"/>
              <a:ext cx="583560" cy="317880"/>
            </a:xfrm>
            <a:prstGeom prst="curvedConnector5">
              <a:avLst>
                <a:gd name="adj1" fmla="val 49814"/>
                <a:gd name="adj2" fmla="val 50000"/>
                <a:gd name="adj3" fmla="val 49814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221" name=""/>
            <p:cNvGraphicFramePr/>
            <p:nvPr/>
          </p:nvGraphicFramePr>
          <p:xfrm>
            <a:off x="309600" y="2805120"/>
            <a:ext cx="839880" cy="1467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09600" y="2805120"/>
                      <a:ext cx="839880" cy="146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upled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</cp:lastModifiedBy>
  <cp:lastPrinted>2002-02-05T19:22:32Z</cp:lastPrinted>
  <dcterms:modified xsi:type="dcterms:W3CDTF">2003-06-20T17:01:01Z</dcterms:modified>
  <cp:revision>140</cp:revision>
  <dc:subject>ITC '01 Electronic presentation guide/template</dc:subject>
  <dc:title>Presentation Guide</dc:title>
</cp:coreProperties>
</file>