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9.jpeg" ContentType="image/jpe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.wmf" ContentType="image/x-wmf"/>
  <Override PartName="/ppt/media/image26.wmf" ContentType="image/x-wmf"/>
  <Override PartName="/ppt/media/image15.png" ContentType="image/png"/>
  <Override PartName="/ppt/media/image14.wmf" ContentType="image/x-wmf"/>
  <Override PartName="/ppt/media/image25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20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5F76-9AE8-488A-AC85-F49B24E3356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697-D8B3-48BC-B9A9-24489C94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916E-1D50-4B42-B36C-B0350437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889-78EC-414A-B9B4-7BA1FBEF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3BE-6208-4C06-BE0C-DF399C3F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96B7-67D6-4B3E-BC54-545C34E2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809-C834-439F-973B-652025BD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CCF8-87F1-43E0-96A3-E6F67ED7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2F8-48A9-447F-9BA2-62690B25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193-8E25-4028-A7FB-175EEC9A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58CB-AB8F-4436-836F-0DDD8583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9E5-14E2-47D7-889A-D722501A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1C4-E6D1-41E4-BA58-9FA0E9CF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68B9-C09F-4077-BC64-FB6519813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08"/>
                </a:solidFill>
                <a:latin typeface="Arial"/>
              </a:rPr>
              <a:t>BMAC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1" lang="en-US" sz="4400" spc="-1" strike="noStrike">
                <a:solidFill>
                  <a:srgbClr val="ff5008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havioral </a:t>
            </a:r>
            <a:r>
              <a:rPr b="1" lang="en-US" sz="4400" spc="-1" strike="noStrike">
                <a:solidFill>
                  <a:srgbClr val="ff5008"/>
                </a:solidFill>
                <a:latin typeface="Arial"/>
              </a:rPr>
              <a:t>M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del </a:t>
            </a:r>
            <a:r>
              <a:rPr b="1" lang="en-US" sz="4400" spc="-1" strike="noStrike">
                <a:solidFill>
                  <a:srgbClr val="ff5008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nalyzer and </a:t>
            </a:r>
            <a:r>
              <a:rPr b="1" lang="en-US" sz="4400" spc="-1" strike="noStrike">
                <a:solidFill>
                  <a:srgbClr val="ff5008"/>
                </a:solidFill>
                <a:latin typeface="Arial"/>
              </a:rPr>
              <a:t>C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mpiler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for Circuit Simulation of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ixed-Technology Systems</a:t>
            </a: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S2003/RFIC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352760" y="570060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2760" y="570060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MAC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CAD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Wash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odel Compiler Processing Flo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71360" y="1461960"/>
          <a:ext cx="8778960" cy="30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461960"/>
                    <a:ext cx="8778960" cy="30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2480" y="679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rchitecture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f BMAC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5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195800" y="0"/>
          <a:ext cx="3611520" cy="68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0"/>
                    <a:ext cx="361152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odified Model Flo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401840" y="1158840"/>
          <a:ext cx="6565680" cy="52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1840" y="1158840"/>
                    <a:ext cx="656568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lock diagram in VHDL-AM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022480" y="1000080"/>
          <a:ext cx="8456760" cy="50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2480" y="1000080"/>
                    <a:ext cx="8456760" cy="50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SIMSOI model in VHDL-AMS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Verdana"/>
                <a:ea typeface="宋体"/>
              </a:rPr>
              <a:t>module soimos(drain, gate, source, ebulk);</a:t>
            </a:r>
            <a:r>
              <a:rPr b="1" lang="en-US" sz="2000" spc="-1" strike="noStrike">
                <a:solidFill>
                  <a:srgbClr val="3333cc"/>
                </a:solidFill>
                <a:latin typeface="Verdana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inout drain, gate, source, ebul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electrical drain, gate, source, ebul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electrical pbody,body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`define SMOOTHFACTOR 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`define EPSOX 3.453133e-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`define EPSSI 1.03594e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……………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parameter integer mB3SOItype = `NMOS;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     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parameter integer mB3SOImobMod = 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parameter real mB3SOIa0 = 1.0;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parameter real mB3SOIags =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……………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//////////////////////////////////EQUATIONS//////////////////////////////////////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  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begin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    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@(initial_step or initial_step("static"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    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beg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Cboxt = mB3SOIcbox * mB3SOIcsi / (mB3SOIcbox + mB3SOIcsi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          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vds =  mB3SOItype * V(drain, sourc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………………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I(drain) &lt;+ mB3SOItype*(Ids + Ic - Ibd + Iii + Idgidl) + mB3SOItype*ddt(qdr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245268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05520" y="4419720"/>
            <a:ext cx="372420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ixed-Technology Issu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ing demand for concurrent mixed-technology co-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effects need to be considered: electrical, electromagnetic (RF and microwave), thermal, optical, chemical, mechanica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no CAD tool that support the concurrent modeling and simulation of mixed-technology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072880"/>
            <a:ext cx="8948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ixed-Technology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imulation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thodology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452760" y="0"/>
          <a:ext cx="5469120" cy="68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2760" y="0"/>
                    <a:ext cx="546912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xample: A Thermal resistor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9360" y="990720"/>
            <a:ext cx="8061120" cy="5499720"/>
          </a:xfrm>
          <a:prstGeom prst="rect">
            <a:avLst/>
          </a:prstGeom>
          <a:solidFill>
            <a:srgbClr val="0033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…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entity wb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generic ( r2 : real := 1.0e3;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alpha : real := 0.1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port ( terminal pos, neg : electrical;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terminal t1, t2 : thermal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end wb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architecture arch1 of wb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quantity volt across curr through pos to ne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quantity temp across heatflow through t1 to t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Thermal_equations: procedura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begin -- procedural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curr := volt / (r2 + alpha * (temp - tref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heatflow := -volt * cur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end procedu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end architecture arch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hermal resistor test circui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3657600"/>
            <a:ext cx="8001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Parameters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V1 : step Pulse, 1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V2 : 1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R1=R2=R3=R4=1k o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Rt1=Rt2=Rt3=1000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1456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19080" y="1060560"/>
          <a:ext cx="644364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1060560"/>
                    <a:ext cx="644364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sult: Voltage over R2 and R3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100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648320" cy="4952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4419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Group Membe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 W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 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li Z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xample: Laser diode model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5120" y="1019160"/>
            <a:ext cx="7372080" cy="5471640"/>
            <a:chOff x="195120" y="1019160"/>
            <a:chExt cx="7372080" cy="5471640"/>
          </a:xfrm>
        </p:grpSpPr>
        <p:grpSp>
          <p:nvGrpSpPr>
            <p:cNvPr id="177" name=""/>
            <p:cNvGrpSpPr/>
            <p:nvPr/>
          </p:nvGrpSpPr>
          <p:grpSpPr>
            <a:xfrm>
              <a:off x="200880" y="1025640"/>
              <a:ext cx="7359480" cy="5457600"/>
              <a:chOff x="200880" y="1025640"/>
              <a:chExt cx="7359480" cy="5457600"/>
            </a:xfrm>
          </p:grpSpPr>
          <p:sp>
            <p:nvSpPr>
              <p:cNvPr id="178" name=""/>
              <p:cNvSpPr/>
              <p:nvPr/>
            </p:nvSpPr>
            <p:spPr>
              <a:xfrm>
                <a:off x="288000" y="1025640"/>
                <a:ext cx="7185240" cy="545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ENTITY LD IS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        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GENERIC (T:REAL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PORT(TERMINAL P, M: ELECTRICAL;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TERMINAL J: RADIANT); 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END LD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ARCHITECTURE BEHAVE OF LD I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QUANTITY V ACROSS I THROUGH P TO M;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QUANTITY OPTIC_POWER ACROSS OPTIC_FLUX THROUGH J TO RADIANT_REF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QUANTITY Z: REAL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BEGIN                                                                                                                               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NE*EXP(Q*V/(N*K*T))*(Q/(N*K*T))*V'DOT == I/(Q*VO)-(NE/TAUN)*EXP(Q*V/(N*K*T))+NE/TAUN-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GO *EXP(-T/TOA)*(NE*EXP(Q*V/(N*K*T))-NO *EXP(T/TOA))*(1.0-EPEPSILON*THITA*(Z+SIGMA)*(Z+SIGMA))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*THITA*(Z+SIGMA)  *(Z+SIGMA)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2.0*Z'DOT == GAMMA*GO *EXP(-T/TOA)*(NE*EXP(Q*V/(N*K*T))-NO *EXP(T/TOA))*(1.0-EPSILON*THIT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*(Z+SIGMA)*(Z+SIGMA)) *(Z+SIGMA)+(GAMMA*BETA*NE)/(THITA*TAUN*(Z+SIGMA)) *EXP(Q*V/(N*K*T))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(Z+SIGMA)/TAUP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OPTIC_POWER==(Z+SIGMA)*(Z+SIGMA);                                                                            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END BEHAVE;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0880" y="1025640"/>
                <a:ext cx="7359480" cy="545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95120" y="1019160"/>
              <a:ext cx="7372080" cy="54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99556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845320" y="905040"/>
                <a:ext cx="278280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[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kT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kT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[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kT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εθ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[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kT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εθ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ΓβN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θτ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kT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3" name="testbench" descr=""/>
          <p:cNvPicPr/>
          <p:nvPr/>
        </p:nvPicPr>
        <p:blipFill>
          <a:blip r:embed="rId1"/>
          <a:srcRect l="57942" t="14157" r="0" b="0"/>
          <a:stretch/>
        </p:blipFill>
        <p:spPr>
          <a:xfrm>
            <a:off x="7400880" y="3648240"/>
            <a:ext cx="1346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sult : Laser Dio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testbench" descr=""/>
          <p:cNvPicPr/>
          <p:nvPr/>
        </p:nvPicPr>
        <p:blipFill>
          <a:blip r:embed="rId1"/>
          <a:stretch/>
        </p:blipFill>
        <p:spPr>
          <a:xfrm>
            <a:off x="306360" y="2462040"/>
            <a:ext cx="4100400" cy="2111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97180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transient" descr=""/>
          <p:cNvPicPr/>
          <p:nvPr/>
        </p:nvPicPr>
        <p:blipFill>
          <a:blip r:embed="rId2"/>
          <a:stretch/>
        </p:blipFill>
        <p:spPr>
          <a:xfrm>
            <a:off x="4465800" y="2262240"/>
            <a:ext cx="4073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098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 Models Implemented by M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57120" y="1770120"/>
            <a:ext cx="8438760" cy="4452840"/>
            <a:chOff x="357120" y="1770120"/>
            <a:chExt cx="8438760" cy="4452840"/>
          </a:xfrm>
        </p:grpSpPr>
        <p:grpSp>
          <p:nvGrpSpPr>
            <p:cNvPr id="193" name=""/>
            <p:cNvGrpSpPr/>
            <p:nvPr/>
          </p:nvGrpSpPr>
          <p:grpSpPr>
            <a:xfrm>
              <a:off x="363600" y="1773720"/>
              <a:ext cx="8424360" cy="4444560"/>
              <a:chOff x="363600" y="1773720"/>
              <a:chExt cx="8424360" cy="44445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363600" y="1773720"/>
                <a:ext cx="1933200" cy="973800"/>
                <a:chOff x="363600" y="1773720"/>
                <a:chExt cx="1933200" cy="9738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61520" y="1773720"/>
                  <a:ext cx="1737000" cy="97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Device Mode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63600" y="1773720"/>
                  <a:ext cx="1933200" cy="97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297160" y="1773720"/>
                <a:ext cx="1507320" cy="973800"/>
                <a:chOff x="2297160" y="1773720"/>
                <a:chExt cx="1507320" cy="9738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394720" y="1773720"/>
                  <a:ext cx="1311480" cy="97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# Nod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97160" y="1773720"/>
                  <a:ext cx="1507320" cy="97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3804840" y="1773720"/>
                <a:ext cx="2163240" cy="973800"/>
                <a:chOff x="3804840" y="1773720"/>
                <a:chExt cx="2163240" cy="9738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902760" y="1773720"/>
                  <a:ext cx="1967400" cy="97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# Parameter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04840" y="1773720"/>
                  <a:ext cx="2163240" cy="97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5968440" y="1773720"/>
                <a:ext cx="2819520" cy="973800"/>
                <a:chOff x="5968440" y="1773720"/>
                <a:chExt cx="2819520" cy="9738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066360" y="1773720"/>
                  <a:ext cx="2623320" cy="97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Complexity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(#line of VHDL-AMS code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968440" y="1773720"/>
                  <a:ext cx="2819520" cy="97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63600" y="2747520"/>
                <a:ext cx="1933200" cy="774360"/>
                <a:chOff x="363600" y="2747520"/>
                <a:chExt cx="1933200" cy="7743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61520" y="2747520"/>
                  <a:ext cx="17370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S Level 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63600" y="2747520"/>
                  <a:ext cx="193320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297160" y="2747520"/>
                <a:ext cx="1507320" cy="774360"/>
                <a:chOff x="2297160" y="2747520"/>
                <a:chExt cx="1507320" cy="7743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394720" y="2747520"/>
                  <a:ext cx="131148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297160" y="2747520"/>
                  <a:ext cx="150732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3804840" y="2747520"/>
                <a:ext cx="2163240" cy="774360"/>
                <a:chOff x="3804840" y="2747520"/>
                <a:chExt cx="2163240" cy="7743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902760" y="2747520"/>
                  <a:ext cx="1967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804840" y="2747520"/>
                  <a:ext cx="216324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5968440" y="2747520"/>
                <a:ext cx="2819520" cy="774360"/>
                <a:chOff x="5968440" y="2747520"/>
                <a:chExt cx="2819520" cy="7743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066360" y="2747520"/>
                  <a:ext cx="262332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968440" y="2747520"/>
                  <a:ext cx="281952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363600" y="3522240"/>
                <a:ext cx="1933200" cy="774000"/>
                <a:chOff x="363600" y="3522240"/>
                <a:chExt cx="1933200" cy="774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461520" y="3522240"/>
                  <a:ext cx="17370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S Level 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63600" y="3522240"/>
                  <a:ext cx="193320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297160" y="3522240"/>
                <a:ext cx="1507320" cy="774000"/>
                <a:chOff x="2297160" y="3522240"/>
                <a:chExt cx="1507320" cy="7740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394720" y="3522240"/>
                  <a:ext cx="131148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297160" y="3522240"/>
                  <a:ext cx="15073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804840" y="3522240"/>
                <a:ext cx="2163240" cy="774000"/>
                <a:chOff x="3804840" y="3522240"/>
                <a:chExt cx="2163240" cy="7740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902760" y="3522240"/>
                  <a:ext cx="19674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804840" y="3522240"/>
                  <a:ext cx="216324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968440" y="3522240"/>
                <a:ext cx="2819520" cy="774000"/>
                <a:chOff x="5968440" y="3522240"/>
                <a:chExt cx="2819520" cy="7740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6066360" y="3522240"/>
                  <a:ext cx="262332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7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68440" y="3522240"/>
                  <a:ext cx="28195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63600" y="4296240"/>
                <a:ext cx="1933200" cy="573840"/>
                <a:chOff x="363600" y="4296240"/>
                <a:chExt cx="1933200" cy="573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461520" y="4296240"/>
                  <a:ext cx="17370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SIM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63600" y="4296240"/>
                  <a:ext cx="193320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2297160" y="4296240"/>
                <a:ext cx="1507320" cy="573840"/>
                <a:chOff x="2297160" y="4296240"/>
                <a:chExt cx="1507320" cy="5738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394720" y="4296240"/>
                  <a:ext cx="131148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297160" y="4296240"/>
                  <a:ext cx="15073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3804840" y="4296240"/>
                <a:ext cx="2163240" cy="573840"/>
                <a:chOff x="3804840" y="4296240"/>
                <a:chExt cx="2163240" cy="5738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902760" y="4296240"/>
                  <a:ext cx="19674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1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804840" y="4296240"/>
                  <a:ext cx="216324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5968440" y="4296240"/>
                <a:ext cx="2819520" cy="573840"/>
                <a:chOff x="5968440" y="4296240"/>
                <a:chExt cx="2819520" cy="5738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6066360" y="4296240"/>
                  <a:ext cx="262332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2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968440" y="4296240"/>
                  <a:ext cx="28195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63600" y="4870440"/>
                <a:ext cx="1933200" cy="774000"/>
                <a:chOff x="363600" y="4870440"/>
                <a:chExt cx="1933200" cy="7740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61520" y="4870440"/>
                  <a:ext cx="17370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SIMSO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63600" y="4870440"/>
                  <a:ext cx="193320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297160" y="4870440"/>
                <a:ext cx="1507320" cy="774000"/>
                <a:chOff x="2297160" y="4870440"/>
                <a:chExt cx="1507320" cy="7740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394720" y="4870440"/>
                  <a:ext cx="131148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297160" y="4870440"/>
                  <a:ext cx="15073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3804840" y="4870440"/>
                <a:ext cx="2163240" cy="774000"/>
                <a:chOff x="3804840" y="4870440"/>
                <a:chExt cx="2163240" cy="7740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3902760" y="4870440"/>
                  <a:ext cx="19674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8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804840" y="4870440"/>
                  <a:ext cx="216324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5968440" y="4870440"/>
                <a:ext cx="2819520" cy="774000"/>
                <a:chOff x="5968440" y="4870440"/>
                <a:chExt cx="2819520" cy="7740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066360" y="4870440"/>
                  <a:ext cx="262332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6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968440" y="4870440"/>
                  <a:ext cx="28195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63600" y="5644440"/>
                <a:ext cx="1933200" cy="573840"/>
                <a:chOff x="363600" y="5644440"/>
                <a:chExt cx="1933200" cy="5738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61520" y="5644440"/>
                  <a:ext cx="17370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K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63600" y="5644440"/>
                  <a:ext cx="193320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297160" y="5644440"/>
                <a:ext cx="1507320" cy="573840"/>
                <a:chOff x="2297160" y="5644440"/>
                <a:chExt cx="1507320" cy="5738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394720" y="5644440"/>
                  <a:ext cx="131148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297160" y="5644440"/>
                  <a:ext cx="15073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3804840" y="5644440"/>
                <a:ext cx="2163240" cy="573840"/>
                <a:chOff x="3804840" y="5644440"/>
                <a:chExt cx="2163240" cy="5738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902760" y="5644440"/>
                  <a:ext cx="19674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804840" y="5644440"/>
                  <a:ext cx="216324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968440" y="5644440"/>
                <a:ext cx="2819520" cy="573840"/>
                <a:chOff x="5968440" y="5644440"/>
                <a:chExt cx="2819520" cy="5738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066360" y="5644440"/>
                  <a:ext cx="262332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968440" y="5644440"/>
                  <a:ext cx="28195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57120" y="1770120"/>
              <a:ext cx="8438760" cy="4452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17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.  Benchmark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73160" y="1650960"/>
            <a:ext cx="4186080" cy="4978440"/>
            <a:chOff x="173160" y="1650960"/>
            <a:chExt cx="4186080" cy="4978440"/>
          </a:xfrm>
        </p:grpSpPr>
        <p:grpSp>
          <p:nvGrpSpPr>
            <p:cNvPr id="270" name=""/>
            <p:cNvGrpSpPr/>
            <p:nvPr/>
          </p:nvGrpSpPr>
          <p:grpSpPr>
            <a:xfrm>
              <a:off x="176400" y="1655280"/>
              <a:ext cx="4178880" cy="4968720"/>
              <a:chOff x="176400" y="1655280"/>
              <a:chExt cx="4178880" cy="496872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176400" y="1655280"/>
                <a:ext cx="2029680" cy="621000"/>
                <a:chOff x="176400" y="1655280"/>
                <a:chExt cx="2029680" cy="6210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27160" y="165528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Circui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76400" y="165528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2206080" y="1655280"/>
                <a:ext cx="2149200" cy="621000"/>
                <a:chOff x="2206080" y="1655280"/>
                <a:chExt cx="2149200" cy="6210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2256840" y="165528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# Transis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206080" y="165528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176400" y="2276280"/>
                <a:ext cx="2029680" cy="621000"/>
                <a:chOff x="176400" y="2276280"/>
                <a:chExt cx="2029680" cy="62100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27160" y="227628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e-sho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76400" y="227628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206080" y="2276280"/>
                <a:ext cx="2149200" cy="621000"/>
                <a:chOff x="2206080" y="2276280"/>
                <a:chExt cx="2149200" cy="6210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256840" y="227628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206080" y="227628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176400" y="2897280"/>
                <a:ext cx="2029680" cy="621000"/>
                <a:chOff x="176400" y="2897280"/>
                <a:chExt cx="2029680" cy="6210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227160" y="289728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CO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76400" y="289728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2206080" y="2897280"/>
                <a:ext cx="2149200" cy="621000"/>
                <a:chOff x="2206080" y="2897280"/>
                <a:chExt cx="2149200" cy="62100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2256840" y="289728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206080" y="289728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176400" y="3518280"/>
                <a:ext cx="2029680" cy="621360"/>
                <a:chOff x="176400" y="3518280"/>
                <a:chExt cx="2029680" cy="6213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227160" y="3518280"/>
                  <a:ext cx="192744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wer AM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76400" y="3518280"/>
                  <a:ext cx="202968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2206080" y="3518280"/>
                <a:ext cx="2149200" cy="621360"/>
                <a:chOff x="2206080" y="3518280"/>
                <a:chExt cx="2149200" cy="6213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2256840" y="3518280"/>
                  <a:ext cx="204732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206080" y="3518280"/>
                  <a:ext cx="214920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76400" y="4140000"/>
                <a:ext cx="2029680" cy="621000"/>
                <a:chOff x="176400" y="4140000"/>
                <a:chExt cx="2029680" cy="6210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27160" y="4140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ing Oscilla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6400" y="4140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2206080" y="4140000"/>
                <a:ext cx="2149200" cy="621000"/>
                <a:chOff x="2206080" y="4140000"/>
                <a:chExt cx="2149200" cy="62100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2256840" y="4140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206080" y="4140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176400" y="4761000"/>
                <a:ext cx="2029680" cy="621000"/>
                <a:chOff x="176400" y="4761000"/>
                <a:chExt cx="2029680" cy="62100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227160" y="4761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para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76400" y="4761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206080" y="4761000"/>
                <a:ext cx="2149200" cy="621000"/>
                <a:chOff x="2206080" y="4761000"/>
                <a:chExt cx="2149200" cy="6210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2256840" y="4761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206080" y="4761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176400" y="5382000"/>
                <a:ext cx="2029680" cy="621000"/>
                <a:chOff x="176400" y="5382000"/>
                <a:chExt cx="2029680" cy="6210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227160" y="5382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76400" y="5382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206080" y="5382000"/>
                <a:ext cx="2149200" cy="621000"/>
                <a:chOff x="2206080" y="5382000"/>
                <a:chExt cx="2149200" cy="62100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2256840" y="5382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06080" y="5382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176400" y="6003000"/>
                <a:ext cx="2029680" cy="621000"/>
                <a:chOff x="176400" y="6003000"/>
                <a:chExt cx="2029680" cy="6210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227160" y="6003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N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76400" y="6003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2206080" y="6003000"/>
                <a:ext cx="2149200" cy="621000"/>
                <a:chOff x="2206080" y="6003000"/>
                <a:chExt cx="2149200" cy="62100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256840" y="6003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206080" y="6003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9" name=""/>
            <p:cNvSpPr/>
            <p:nvPr/>
          </p:nvSpPr>
          <p:spPr>
            <a:xfrm>
              <a:off x="173160" y="1650960"/>
              <a:ext cx="4186080" cy="4978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400640" y="2287440"/>
            <a:ext cx="4422600" cy="4276800"/>
            <a:chOff x="4400640" y="2287440"/>
            <a:chExt cx="4422600" cy="4276800"/>
          </a:xfrm>
        </p:grpSpPr>
        <p:grpSp>
          <p:nvGrpSpPr>
            <p:cNvPr id="321" name=""/>
            <p:cNvGrpSpPr/>
            <p:nvPr/>
          </p:nvGrpSpPr>
          <p:grpSpPr>
            <a:xfrm>
              <a:off x="4404240" y="2291760"/>
              <a:ext cx="4414680" cy="4267440"/>
              <a:chOff x="4404240" y="2291760"/>
              <a:chExt cx="4414680" cy="426744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4404240" y="2291760"/>
                <a:ext cx="2144160" cy="609480"/>
                <a:chOff x="4404240" y="2291760"/>
                <a:chExt cx="2144160" cy="6094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457880" y="229176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404240" y="229176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6548400" y="2291760"/>
                <a:ext cx="2270520" cy="609480"/>
                <a:chOff x="6548400" y="2291760"/>
                <a:chExt cx="2270520" cy="6094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6602040" y="229176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48400" y="229176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4404240" y="2901240"/>
                <a:ext cx="2144160" cy="609480"/>
                <a:chOff x="4404240" y="2901240"/>
                <a:chExt cx="2144160" cy="6094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457880" y="290124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OI2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404240" y="290124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548400" y="2901240"/>
                <a:ext cx="2270520" cy="609480"/>
                <a:chOff x="6548400" y="2901240"/>
                <a:chExt cx="2270520" cy="6094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602040" y="290124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548400" y="290124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404240" y="3510720"/>
                <a:ext cx="2144160" cy="609480"/>
                <a:chOff x="4404240" y="3510720"/>
                <a:chExt cx="2144160" cy="6094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457880" y="351072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AI2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404240" y="351072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6548400" y="3510720"/>
                <a:ext cx="2270520" cy="609480"/>
                <a:chOff x="6548400" y="3510720"/>
                <a:chExt cx="2270520" cy="6094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6602040" y="351072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48400" y="351072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404240" y="4120560"/>
                <a:ext cx="2144160" cy="609480"/>
                <a:chOff x="4404240" y="4120560"/>
                <a:chExt cx="2144160" cy="6094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457880" y="412056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d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404240" y="412056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6548400" y="4120560"/>
                <a:ext cx="2270520" cy="609480"/>
                <a:chOff x="6548400" y="4120560"/>
                <a:chExt cx="2270520" cy="6094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602040" y="412056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548400" y="412056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4404240" y="4730040"/>
                <a:ext cx="2144160" cy="609840"/>
                <a:chOff x="4404240" y="4730040"/>
                <a:chExt cx="2144160" cy="6098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457880" y="4730040"/>
                  <a:ext cx="20361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plex Cel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404240" y="4730040"/>
                  <a:ext cx="21441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6548400" y="4730040"/>
                <a:ext cx="2270520" cy="609840"/>
                <a:chOff x="6548400" y="4730040"/>
                <a:chExt cx="2270520" cy="60984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6602040" y="4730040"/>
                  <a:ext cx="21628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548400" y="4730040"/>
                  <a:ext cx="22705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4404240" y="5340240"/>
                <a:ext cx="2144160" cy="609480"/>
                <a:chOff x="4404240" y="5340240"/>
                <a:chExt cx="2144160" cy="6094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4457880" y="534024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V chai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404240" y="534024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6548400" y="5340240"/>
                <a:ext cx="2270520" cy="609480"/>
                <a:chOff x="6548400" y="5340240"/>
                <a:chExt cx="2270520" cy="6094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602040" y="534024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548400" y="534024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4404240" y="5949720"/>
                <a:ext cx="2144160" cy="609480"/>
                <a:chOff x="4404240" y="5949720"/>
                <a:chExt cx="2144160" cy="6094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4457880" y="594972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-bit Ad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404240" y="594972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6548400" y="5949720"/>
                <a:ext cx="2270520" cy="609480"/>
                <a:chOff x="6548400" y="5949720"/>
                <a:chExt cx="2270520" cy="6094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6602040" y="594972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548400" y="594972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>
              <a:off x="4400640" y="2287440"/>
              <a:ext cx="4422600" cy="4276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curac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58400" y="10429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Boeing Compa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581280" y="1866960"/>
            <a:ext cx="5410440" cy="4059000"/>
          </a:xfrm>
          <a:prstGeom prst="rect">
            <a:avLst/>
          </a:prstGeom>
          <a:ln w="0">
            <a:noFill/>
          </a:ln>
        </p:spPr>
      </p:pic>
      <p:pic>
        <p:nvPicPr>
          <p:cNvPr id="369" name="SCH2" descr=""/>
          <p:cNvPicPr/>
          <p:nvPr/>
        </p:nvPicPr>
        <p:blipFill>
          <a:blip r:embed="rId2"/>
          <a:stretch/>
        </p:blipFill>
        <p:spPr>
          <a:xfrm>
            <a:off x="160200" y="2414520"/>
            <a:ext cx="36576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curac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76400" y="1042920"/>
            <a:ext cx="139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V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657600" y="1981080"/>
            <a:ext cx="5257800" cy="38563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274140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curac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276560" y="1042920"/>
            <a:ext cx="639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ne-shot Plus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495680" cy="3373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403884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curac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428200" y="1042920"/>
            <a:ext cx="409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ower Ampli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191120" cy="31446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419076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curac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67520" y="1042920"/>
            <a:ext cx="381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ing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159372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038480" y="1822320"/>
            <a:ext cx="5105520" cy="38307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380880" y="1441440"/>
            <a:ext cx="33228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fficienc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9564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292400" y="1616040"/>
          <a:ext cx="6048360" cy="41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2400" y="1616040"/>
                    <a:ext cx="6048360" cy="41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e of compact device mode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compiler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d device model implementatio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-Technology co-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fficienc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9564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87200" y="1181160"/>
          <a:ext cx="8793360" cy="547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1181160"/>
                    <a:ext cx="879336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"/>
          <p:cNvSpPr/>
          <p:nvPr/>
        </p:nvSpPr>
        <p:spPr>
          <a:xfrm>
            <a:off x="7419960" y="5403960"/>
            <a:ext cx="1171440" cy="368280"/>
          </a:xfrm>
          <a:prstGeom prst="rect">
            <a:avLst/>
          </a:prstGeom>
          <a:solidFill>
            <a:srgbClr val="ebf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08"/>
                </a:solidFill>
                <a:latin typeface="Arial"/>
              </a:rPr>
              <a:t>Scal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534440" y="4195800"/>
            <a:ext cx="288720" cy="10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74280" y="5329080"/>
            <a:ext cx="1413720" cy="642600"/>
          </a:xfrm>
          <a:prstGeom prst="rect">
            <a:avLst/>
          </a:prstGeom>
          <a:solidFill>
            <a:srgbClr val="ebf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08"/>
                </a:solidFill>
                <a:latin typeface="Arial"/>
              </a:rPr>
              <a:t>100x-100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08"/>
                </a:solidFill>
                <a:latin typeface="Arial"/>
              </a:rPr>
              <a:t>speed up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AST is the first model compiler that can handle industry-grade device models, such as BSIM3 and BSIMS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d model is very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d model is very effici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AST supports devices in multi-physics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CAST + COSMOS/SPICE) supports Mixed-Technology co-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ileston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. 2002: MCAST supports BSI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. 2002: MCAST with optim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. 2003: MCAST with BSIMSOI, EKV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. 2003: MCAST release, Demo &amp; Test in Bo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2003: MCAST supports Mixed-Technology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 2003: MCAST release with Frequency-domain/Behavioral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. 2003: MCAST release with digital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. 2004: Final release of M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008"/>
                </a:solidFill>
                <a:latin typeface="Blackadder ITC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ypical Model Flo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27200" y="1397160"/>
          <a:ext cx="7499160" cy="50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7200" y="1397160"/>
                    <a:ext cx="7499160" cy="50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odel Developer Issu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0240" y="1168560"/>
            <a:ext cx="7772400" cy="52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implementation is more difficult than model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implementation is time consuming and error-p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independent implementations for different simulator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close cooperation with the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t of new model created, few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 of model is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esigner Issu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accurate and robus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a wide range of models to be available and easily obtai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all models to simulate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easily modify the device equations to add new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odel Compiler Defini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616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 Model Compiler is a CAD tool that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upports fast implementation of compact device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3480" y="2732040"/>
            <a:ext cx="2335320" cy="1581120"/>
          </a:xfrm>
          <a:prstGeom prst="ellipse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34480" y="317988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2200" y="2817720"/>
            <a:ext cx="1865160" cy="1606680"/>
          </a:xfrm>
          <a:prstGeom prst="flowChartPunchedCard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22840" y="324180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70520" y="2608200"/>
            <a:ext cx="1717920" cy="1668600"/>
          </a:xfrm>
          <a:prstGeom prst="flowChartMultidocumen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07840" y="31050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6040" y="4754520"/>
            <a:ext cx="8104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: compact device models described in high level language VHDL-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 device code in C/C++ that can be directly compiled in Cosmos/sp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57520" y="3386160"/>
            <a:ext cx="530280" cy="284040"/>
          </a:xfrm>
          <a:prstGeom prst="rightArrow">
            <a:avLst>
              <a:gd name="adj1" fmla="val 50000"/>
              <a:gd name="adj2" fmla="val 4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86360" y="3376440"/>
            <a:ext cx="530280" cy="284400"/>
          </a:xfrm>
          <a:prstGeom prst="rightArrow">
            <a:avLst>
              <a:gd name="adj1" fmla="val 50000"/>
              <a:gd name="adj2" fmla="val 466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82880" y="2951280"/>
            <a:ext cx="289548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11480" y="3027240"/>
            <a:ext cx="228600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nvert to C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6480" y="604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ypical Implementation Flow for New Device Model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806560" y="1427040"/>
            <a:ext cx="3200400" cy="381240"/>
            <a:chOff x="2806560" y="1427040"/>
            <a:chExt cx="3200400" cy="381240"/>
          </a:xfrm>
        </p:grpSpPr>
        <p:sp>
          <p:nvSpPr>
            <p:cNvPr id="81" name=""/>
            <p:cNvSpPr/>
            <p:nvPr/>
          </p:nvSpPr>
          <p:spPr>
            <a:xfrm>
              <a:off x="2882880" y="1427040"/>
              <a:ext cx="2819520" cy="3812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06560" y="142704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New device &amp;Equ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178160" y="18082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806560" y="2112840"/>
            <a:ext cx="3733920" cy="457200"/>
            <a:chOff x="2806560" y="2112840"/>
            <a:chExt cx="3733920" cy="457200"/>
          </a:xfrm>
        </p:grpSpPr>
        <p:sp>
          <p:nvSpPr>
            <p:cNvPr id="85" name=""/>
            <p:cNvSpPr/>
            <p:nvPr/>
          </p:nvSpPr>
          <p:spPr>
            <a:xfrm>
              <a:off x="2882880" y="2112840"/>
              <a:ext cx="289548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06560" y="2189160"/>
              <a:ext cx="373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Initial coding in MATL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178160" y="25700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78160" y="3408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78160" y="41702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739880" y="5389560"/>
            <a:ext cx="6171480" cy="457200"/>
            <a:chOff x="1739880" y="5389560"/>
            <a:chExt cx="6171480" cy="457200"/>
          </a:xfrm>
        </p:grpSpPr>
        <p:sp>
          <p:nvSpPr>
            <p:cNvPr id="91" name=""/>
            <p:cNvSpPr/>
            <p:nvPr/>
          </p:nvSpPr>
          <p:spPr>
            <a:xfrm>
              <a:off x="2206080" y="5465880"/>
              <a:ext cx="570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Purchased by design company &amp; Qual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39880" y="5389560"/>
              <a:ext cx="591480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178160" y="50086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577960" y="4551480"/>
            <a:ext cx="3505320" cy="457200"/>
            <a:chOff x="2577960" y="4551480"/>
            <a:chExt cx="3505320" cy="457200"/>
          </a:xfrm>
        </p:grpSpPr>
        <p:sp>
          <p:nvSpPr>
            <p:cNvPr id="95" name=""/>
            <p:cNvSpPr/>
            <p:nvPr/>
          </p:nvSpPr>
          <p:spPr>
            <a:xfrm>
              <a:off x="2842920" y="4627800"/>
              <a:ext cx="32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Release new simul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77960" y="4551480"/>
              <a:ext cx="335916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178160" y="58467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502000" y="6227640"/>
            <a:ext cx="3657600" cy="457200"/>
            <a:chOff x="2502000" y="6227640"/>
            <a:chExt cx="3657600" cy="457200"/>
          </a:xfrm>
        </p:grpSpPr>
        <p:sp>
          <p:nvSpPr>
            <p:cNvPr id="99" name=""/>
            <p:cNvSpPr/>
            <p:nvPr/>
          </p:nvSpPr>
          <p:spPr>
            <a:xfrm>
              <a:off x="2778480" y="6303960"/>
              <a:ext cx="338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Designers using new mod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02000" y="6227640"/>
              <a:ext cx="350532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044800" y="3713040"/>
            <a:ext cx="4821120" cy="457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97080" y="3789360"/>
            <a:ext cx="51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stall &amp; test of the model in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20560" y="1808280"/>
            <a:ext cx="2819520" cy="1371600"/>
            <a:chOff x="520560" y="1808280"/>
            <a:chExt cx="2819520" cy="1371600"/>
          </a:xfrm>
        </p:grpSpPr>
        <p:sp>
          <p:nvSpPr>
            <p:cNvPr id="104" name=""/>
            <p:cNvSpPr/>
            <p:nvPr/>
          </p:nvSpPr>
          <p:spPr>
            <a:xfrm>
              <a:off x="3340080" y="1808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815840" y="19605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16200" y="19605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16200" y="31798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0560" y="264636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New mod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045120" y="1634760"/>
            <a:ext cx="2373840" cy="4821480"/>
            <a:chOff x="6045120" y="1634760"/>
            <a:chExt cx="2373840" cy="4821480"/>
          </a:xfrm>
        </p:grpSpPr>
        <p:cxnSp>
          <p:nvCxnSpPr>
            <p:cNvPr id="110" name=""/>
            <p:cNvCxnSpPr>
              <a:stCxn id="100" idx="3"/>
              <a:endCxn id="82" idx="3"/>
            </p:cNvCxnSpPr>
            <p:nvPr/>
          </p:nvCxnSpPr>
          <p:spPr>
            <a:xfrm flipV="1">
              <a:off x="6045120" y="1634760"/>
              <a:ext cx="2160" cy="4821840"/>
            </a:xfrm>
            <a:prstGeom prst="bentConnector3">
              <a:avLst>
                <a:gd name="adj1" fmla="val 1139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1" name=""/>
            <p:cNvSpPr/>
            <p:nvPr/>
          </p:nvSpPr>
          <p:spPr>
            <a:xfrm>
              <a:off x="6283080" y="605196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w effect up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6480" y="604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duced Implementation Flow Using MCAS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1080" y="1427040"/>
            <a:ext cx="5440320" cy="3812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52520" y="1427040"/>
            <a:ext cx="55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ew device Equations or Initial MATLAB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78160" y="18082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30280" y="2101680"/>
            <a:ext cx="3708720" cy="45720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54320" y="2178000"/>
            <a:ext cx="384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utomation tools (Paragon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78160" y="25700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882880" y="2951280"/>
            <a:ext cx="2895480" cy="457200"/>
            <a:chOff x="2882880" y="2951280"/>
            <a:chExt cx="2895480" cy="457200"/>
          </a:xfrm>
        </p:grpSpPr>
        <p:sp>
          <p:nvSpPr>
            <p:cNvPr id="120" name=""/>
            <p:cNvSpPr/>
            <p:nvPr/>
          </p:nvSpPr>
          <p:spPr>
            <a:xfrm>
              <a:off x="3111480" y="302724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VHDL-AMS cod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82880" y="2951280"/>
              <a:ext cx="289548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78160" y="3408480"/>
            <a:ext cx="0" cy="45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43160" y="525312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egration into public or commercial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38320" y="5213520"/>
            <a:ext cx="5914800" cy="457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78160" y="4633920"/>
            <a:ext cx="1116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78160" y="5659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502000" y="6040440"/>
            <a:ext cx="3657600" cy="457200"/>
            <a:chOff x="2502000" y="6040440"/>
            <a:chExt cx="3657600" cy="457200"/>
          </a:xfrm>
        </p:grpSpPr>
        <p:sp>
          <p:nvSpPr>
            <p:cNvPr id="128" name=""/>
            <p:cNvSpPr/>
            <p:nvPr/>
          </p:nvSpPr>
          <p:spPr>
            <a:xfrm>
              <a:off x="2778480" y="6116760"/>
              <a:ext cx="338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Designers using new mod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02000" y="6040440"/>
              <a:ext cx="350532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598920" y="3884760"/>
            <a:ext cx="1176120" cy="7380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62280" y="4091040"/>
            <a:ext cx="10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20560" y="1808280"/>
            <a:ext cx="2819520" cy="1371600"/>
            <a:chOff x="520560" y="1808280"/>
            <a:chExt cx="2819520" cy="1371600"/>
          </a:xfrm>
        </p:grpSpPr>
        <p:sp>
          <p:nvSpPr>
            <p:cNvPr id="133" name=""/>
            <p:cNvSpPr/>
            <p:nvPr/>
          </p:nvSpPr>
          <p:spPr>
            <a:xfrm>
              <a:off x="3340080" y="1808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15840" y="19605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6200" y="19605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16200" y="31798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0560" y="264636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New mod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8" name=""/>
          <p:cNvCxnSpPr>
            <a:stCxn id="128" idx="3"/>
            <a:endCxn id="114" idx="3"/>
          </p:cNvCxnSpPr>
          <p:nvPr/>
        </p:nvCxnSpPr>
        <p:spPr>
          <a:xfrm flipV="1">
            <a:off x="6159240" y="1611000"/>
            <a:ext cx="788040" cy="4690080"/>
          </a:xfrm>
          <a:prstGeom prst="bentConnector3">
            <a:avLst>
              <a:gd name="adj1" fmla="val 12902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6283800" y="586440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effec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785920" y="3168720"/>
            <a:ext cx="1390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ethan</cp:lastModifiedBy>
  <cp:lastPrinted>2002-02-05T19:22:32Z</cp:lastPrinted>
  <dcterms:modified xsi:type="dcterms:W3CDTF">2003-06-18T18:19:30Z</dcterms:modified>
  <cp:revision>160</cp:revision>
  <dc:subject>ITC '01 Electronic presentation guide/template</dc:subject>
  <dc:title>Presentation Guide</dc:title>
</cp:coreProperties>
</file>