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B8B-38DE-4904-9148-A0682111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2E7-A8AF-4F8C-B297-DF47022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C16-02F0-401B-97E5-6FD863B0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12E-B98E-4D95-95F3-D88908BF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516-3DA6-43FE-838D-6CF5654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2B0-E977-4A91-BC6A-96EDCB9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E50-C27F-4C40-8FAB-35214A5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D85-C712-483A-ACDE-CC4BA67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5E5-AC8B-4B9E-AD9A-F64CC50C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BB8-5E61-4BD8-884E-A8576D2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1C3-629E-4A64-8010-F9B3BF9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04A-1348-479B-9C3B-E01DF2B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AFF-28C3-482A-AE57-F927EA3D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296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133720"/>
            <a:ext cx="86868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Realistic Material Effect Simulation in the Frequency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gato Chakrab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04760" y="838080"/>
            <a:ext cx="69818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rface Current 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-457200" y="1828800"/>
            <a:ext cx="6629400" cy="4449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4191120" y="1600200"/>
            <a:ext cx="5356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52280" y="838080"/>
            <a:ext cx="35816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kin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67320" y="2895480"/>
            <a:ext cx="344808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in Depth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978600" y="3314880"/>
                <a:ext cx="766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μσω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28600" y="48006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ed volumetric current density matches closely with the exact analyt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0" y="109368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04760" y="838080"/>
            <a:ext cx="64483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86400"/>
            <a:ext cx="906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tric Current Flow in Rectangular Cross Section, at 1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019920" y="1708200"/>
            <a:ext cx="2836800" cy="1313640"/>
            <a:chOff x="6019920" y="1708200"/>
            <a:chExt cx="2836800" cy="1313640"/>
          </a:xfrm>
        </p:grpSpPr>
        <p:sp>
          <p:nvSpPr>
            <p:cNvPr id="339" name=""/>
            <p:cNvSpPr/>
            <p:nvPr/>
          </p:nvSpPr>
          <p:spPr>
            <a:xfrm>
              <a:off x="6019920" y="1752480"/>
              <a:ext cx="150480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p Left :      Top Right : Bottom Left: Bottom Right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972480" y="1708200"/>
                  <a:ext cx="1617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7077240" y="2162160"/>
                  <a:ext cx="16174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238880" y="2403360"/>
                  <a:ext cx="161784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000920" y="1933560"/>
                  <a:ext cx="16192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4" name=""/>
          <p:cNvGrpSpPr/>
          <p:nvPr/>
        </p:nvGrpSpPr>
        <p:grpSpPr>
          <a:xfrm>
            <a:off x="762120" y="1371600"/>
            <a:ext cx="6697440" cy="4125960"/>
            <a:chOff x="762120" y="1371600"/>
            <a:chExt cx="6697440" cy="4125960"/>
          </a:xfrm>
        </p:grpSpPr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6248520" y="4572000"/>
              <a:ext cx="12110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762120" y="1371600"/>
              <a:ext cx="274320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3429000" y="1447920"/>
              <a:ext cx="25146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762120" y="3048120"/>
              <a:ext cx="274320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3352680" y="3124080"/>
              <a:ext cx="25146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715000" y="4495680"/>
              <a:ext cx="609480" cy="30492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0080" y="4724280"/>
              <a:ext cx="304920" cy="3812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52280" y="762120"/>
            <a:ext cx="36576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41560"/>
            <a:ext cx="8915400" cy="65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handling arbitrarily shaped conducting material  coupled to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definition is directly compatible to SPI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only formulation, yet valid at low frequency limit of volumetric current flow - broadband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using a surface based formulation- important design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both circuit and EM exitation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52280" y="609480"/>
            <a:ext cx="7315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inuing and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912960"/>
            <a:ext cx="89154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region PMCHW problem to incorporate more realistic packag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conditioning of the coupled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lgorithms for more complicate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wave substrate noi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for dielectric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layered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838080"/>
            <a:ext cx="36576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86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lectric and condu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e to couple circuit with conducting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and inductance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curr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istribution and skin-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28600" y="838080"/>
            <a:ext cx="403848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838080"/>
            <a:ext cx="891540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property (Conductivity, Dielectric constant, etc.) – important for EM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design between geometry dependent EM part with topology dependent circuit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d set of linear equations includes EM, coupling and circuit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port parameter extraction and beyond, more insightful analysis of ground bounce, hot-spot 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838080"/>
            <a:ext cx="5105520" cy="17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21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terial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438280"/>
            <a:ext cx="852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38080" y="1752480"/>
                <a:ext cx="2793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magnetic current exist o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495440"/>
            <a:ext cx="479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gion problem with boundary condition on E and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3200400"/>
                <a:ext cx="7869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83816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81000" y="3962520"/>
                <a:ext cx="7480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961920" y="4400640"/>
            <a:ext cx="343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038480" y="1714680"/>
            <a:ext cx="4172040" cy="1130040"/>
            <a:chOff x="4038480" y="1714680"/>
            <a:chExt cx="4172040" cy="113004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241880" y="1733400"/>
                  <a:ext cx="3175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105520" y="1714680"/>
                  <a:ext cx="26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2" name=""/>
            <p:cNvGrpSpPr/>
            <p:nvPr/>
          </p:nvGrpSpPr>
          <p:grpSpPr>
            <a:xfrm>
              <a:off x="4038480" y="1752480"/>
              <a:ext cx="4172040" cy="1092240"/>
              <a:chOff x="4038480" y="1752480"/>
              <a:chExt cx="4172040" cy="1092240"/>
            </a:xfrm>
          </p:grpSpPr>
          <p:sp>
            <p:nvSpPr>
              <p:cNvPr id="83" name=""/>
              <p:cNvSpPr/>
              <p:nvPr/>
            </p:nvSpPr>
            <p:spPr>
              <a:xfrm>
                <a:off x="4038480" y="2038320"/>
                <a:ext cx="4172040" cy="5382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2760" y="1952640"/>
                <a:ext cx="495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4191120" y="1981080"/>
                    <a:ext cx="31752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" name=""/>
              <p:cNvSpPr/>
              <p:nvPr/>
            </p:nvSpPr>
            <p:spPr>
              <a:xfrm>
                <a:off x="4734000" y="20383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4784760" y="2035080"/>
                    <a:ext cx="2412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" name=""/>
              <p:cNvSpPr/>
              <p:nvPr/>
            </p:nvSpPr>
            <p:spPr>
              <a:xfrm flipV="1">
                <a:off x="5048280" y="18950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00680" y="19810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896160" y="20858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726240" y="2046240"/>
                    <a:ext cx="66024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334120" y="2286000"/>
                    <a:ext cx="57132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6172200" y="1752480"/>
                    <a:ext cx="7239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6248520" y="2514600"/>
                    <a:ext cx="62208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5" name=""/>
          <p:cNvSpPr/>
          <p:nvPr/>
        </p:nvSpPr>
        <p:spPr>
          <a:xfrm>
            <a:off x="228600" y="4800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: Source convolved with  Green’s function in respective media – Method of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838080"/>
            <a:ext cx="5029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ing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143000"/>
            <a:ext cx="5304960" cy="2908440"/>
            <a:chOff x="304920" y="1143000"/>
            <a:chExt cx="5304960" cy="290844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143000"/>
              <a:ext cx="3893400" cy="2908440"/>
              <a:chOff x="304920" y="1143000"/>
              <a:chExt cx="3893400" cy="290844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2880" y="3260520"/>
                <a:ext cx="235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6" name=""/>
              <p:cNvGraphicFramePr/>
              <p:nvPr/>
            </p:nvGraphicFramePr>
            <p:xfrm>
              <a:off x="304920" y="1889280"/>
              <a:ext cx="1428480" cy="2162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1889280"/>
                        <a:ext cx="1428480" cy="21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552600" y="1160640"/>
                <a:ext cx="599760" cy="1366560"/>
              </a:xfrm>
              <a:custGeom>
                <a:avLst/>
                <a:gdLst/>
                <a:ahLst/>
                <a:rect l="l" t="t" r="r" b="b"/>
                <a:pathLst>
                  <a:path w="378" h="861">
                    <a:moveTo>
                      <a:pt x="378" y="123"/>
                    </a:moveTo>
                    <a:cubicBezTo>
                      <a:pt x="361" y="61"/>
                      <a:pt x="345" y="0"/>
                      <a:pt x="282" y="123"/>
                    </a:cubicBezTo>
                    <a:cubicBezTo>
                      <a:pt x="219" y="246"/>
                      <a:pt x="109" y="553"/>
                      <a:pt x="0" y="8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7640" y="1147680"/>
                <a:ext cx="504720" cy="1113120"/>
              </a:xfrm>
              <a:custGeom>
                <a:avLst/>
                <a:gdLst/>
                <a:ahLst/>
                <a:rect l="l" t="t" r="r" b="b"/>
                <a:pathLst>
                  <a:path w="318" h="701">
                    <a:moveTo>
                      <a:pt x="318" y="131"/>
                    </a:moveTo>
                    <a:cubicBezTo>
                      <a:pt x="287" y="65"/>
                      <a:pt x="257" y="0"/>
                      <a:pt x="204" y="95"/>
                    </a:cubicBezTo>
                    <a:cubicBezTo>
                      <a:pt x="151" y="190"/>
                      <a:pt x="75" y="445"/>
                      <a:pt x="0" y="7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2360" y="135576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904680" y="1355760"/>
                <a:ext cx="239400" cy="7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30400" y="1143000"/>
                <a:ext cx="384120" cy="1003320"/>
              </a:xfrm>
              <a:custGeom>
                <a:avLst/>
                <a:gdLst/>
                <a:ahLst/>
                <a:rect l="l" t="t" r="r" b="b"/>
                <a:pathLst>
                  <a:path w="242" h="632">
                    <a:moveTo>
                      <a:pt x="14" y="116"/>
                    </a:moveTo>
                    <a:cubicBezTo>
                      <a:pt x="7" y="58"/>
                      <a:pt x="0" y="0"/>
                      <a:pt x="38" y="86"/>
                    </a:cubicBezTo>
                    <a:cubicBezTo>
                      <a:pt x="76" y="172"/>
                      <a:pt x="159" y="402"/>
                      <a:pt x="242" y="6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28880" y="1258920"/>
                <a:ext cx="220320" cy="1297080"/>
              </a:xfrm>
              <a:custGeom>
                <a:avLst/>
                <a:gdLst/>
                <a:ahLst/>
                <a:rect l="l" t="t" r="r" b="b"/>
                <a:pathLst>
                  <a:path w="139" h="817">
                    <a:moveTo>
                      <a:pt x="78" y="55"/>
                    </a:moveTo>
                    <a:cubicBezTo>
                      <a:pt x="108" y="27"/>
                      <a:pt x="139" y="0"/>
                      <a:pt x="126" y="127"/>
                    </a:cubicBezTo>
                    <a:cubicBezTo>
                      <a:pt x="113" y="254"/>
                      <a:pt x="56" y="535"/>
                      <a:pt x="0" y="8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57320" y="1203480"/>
                <a:ext cx="181080" cy="1998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81160" y="1308240"/>
                <a:ext cx="10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57560" y="1222560"/>
                <a:ext cx="704880" cy="180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62440" y="1298520"/>
                <a:ext cx="61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752480" y="1571760"/>
              <a:ext cx="3857400" cy="650160"/>
              <a:chOff x="1752480" y="1571760"/>
              <a:chExt cx="3857400" cy="650160"/>
            </a:xfrm>
          </p:grpSpPr>
          <p:sp>
            <p:nvSpPr>
              <p:cNvPr id="119" name=""/>
              <p:cNvSpPr/>
              <p:nvPr/>
            </p:nvSpPr>
            <p:spPr>
              <a:xfrm>
                <a:off x="2037960" y="157176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nection Surf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57040" y="188604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M Surfa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752480" y="1600200"/>
                <a:ext cx="2571120" cy="596880"/>
                <a:chOff x="1752480" y="1600200"/>
                <a:chExt cx="2571120" cy="59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752480" y="1600200"/>
                  <a:ext cx="352080" cy="238320"/>
                </a:xfrm>
                <a:prstGeom prst="rect">
                  <a:avLst/>
                </a:prstGeom>
                <a:solidFill>
                  <a:srgbClr val="f4f46a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3" name=""/>
                    <p:cNvSpPr txBox="1"/>
                    <p:nvPr/>
                  </p:nvSpPr>
                  <p:spPr>
                    <a:xfrm>
                      <a:off x="4019040" y="1613160"/>
                      <a:ext cx="3045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24" name=""/>
                <p:cNvSpPr/>
                <p:nvPr/>
              </p:nvSpPr>
              <p:spPr>
                <a:xfrm>
                  <a:off x="1752480" y="1943280"/>
                  <a:ext cx="352080" cy="237960"/>
                </a:xfrm>
                <a:prstGeom prst="rect">
                  <a:avLst/>
                </a:prstGeom>
                <a:solidFill>
                  <a:srgbClr val="99cc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5" name=""/>
                    <p:cNvSpPr txBox="1"/>
                    <p:nvPr/>
                  </p:nvSpPr>
                  <p:spPr>
                    <a:xfrm>
                      <a:off x="3358800" y="1917720"/>
                      <a:ext cx="3297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126" name=""/>
          <p:cNvSpPr/>
          <p:nvPr/>
        </p:nvSpPr>
        <p:spPr>
          <a:xfrm>
            <a:off x="4495680" y="1066680"/>
            <a:ext cx="338148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45000" y="1600200"/>
                <a:ext cx="3605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ω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76720" y="3048120"/>
                <a:ext cx="40003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81080" y="2590920"/>
            <a:ext cx="716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continuity equation on connection fa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60920" y="1905120"/>
                <a:ext cx="31035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895480" y="380988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76720" y="365760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jω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0000" y="4419720"/>
            <a:ext cx="473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harge on the connection faces contributes to the electric field in both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495680"/>
            <a:ext cx="923760" cy="8766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4267080"/>
            <a:ext cx="4295520" cy="2484360"/>
            <a:chOff x="152280" y="4267080"/>
            <a:chExt cx="4295520" cy="2484360"/>
          </a:xfrm>
        </p:grpSpPr>
        <p:sp>
          <p:nvSpPr>
            <p:cNvPr id="136" name=""/>
            <p:cNvSpPr/>
            <p:nvPr/>
          </p:nvSpPr>
          <p:spPr>
            <a:xfrm>
              <a:off x="152280" y="4267080"/>
              <a:ext cx="367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Ex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80" y="4495680"/>
              <a:ext cx="88920" cy="88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6172200"/>
              <a:ext cx="2438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In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6680" y="6248520"/>
              <a:ext cx="8892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3520" y="4572000"/>
              <a:ext cx="3914280" cy="1738440"/>
              <a:chOff x="533520" y="4572000"/>
              <a:chExt cx="3914280" cy="1738440"/>
            </a:xfrm>
          </p:grpSpPr>
          <p:sp>
            <p:nvSpPr>
              <p:cNvPr id="141" name=""/>
              <p:cNvSpPr/>
              <p:nvPr/>
            </p:nvSpPr>
            <p:spPr>
              <a:xfrm>
                <a:off x="1720800" y="4572000"/>
                <a:ext cx="1707480" cy="825480"/>
              </a:xfrm>
              <a:custGeom>
                <a:avLst/>
                <a:gdLst/>
                <a:ahLst/>
                <a:rect l="l" t="t" r="r" b="b"/>
                <a:pathLst>
                  <a:path w="1076" h="520">
                    <a:moveTo>
                      <a:pt x="266" y="520"/>
                    </a:moveTo>
                    <a:cubicBezTo>
                      <a:pt x="133" y="430"/>
                      <a:pt x="0" y="341"/>
                      <a:pt x="104" y="256"/>
                    </a:cubicBezTo>
                    <a:cubicBezTo>
                      <a:pt x="208" y="171"/>
                      <a:pt x="728" y="0"/>
                      <a:pt x="890" y="10"/>
                    </a:cubicBezTo>
                    <a:cubicBezTo>
                      <a:pt x="1052" y="20"/>
                      <a:pt x="1064" y="168"/>
                      <a:pt x="1076" y="3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8480" y="5407200"/>
                <a:ext cx="1777680" cy="903240"/>
              </a:xfrm>
              <a:custGeom>
                <a:avLst/>
                <a:gdLst/>
                <a:ahLst/>
                <a:rect l="l" t="t" r="r" b="b"/>
                <a:pathLst>
                  <a:path w="1120" h="569">
                    <a:moveTo>
                      <a:pt x="286" y="0"/>
                    </a:moveTo>
                    <a:cubicBezTo>
                      <a:pt x="143" y="35"/>
                      <a:pt x="0" y="70"/>
                      <a:pt x="106" y="162"/>
                    </a:cubicBezTo>
                    <a:cubicBezTo>
                      <a:pt x="212" y="254"/>
                      <a:pt x="753" y="535"/>
                      <a:pt x="922" y="552"/>
                    </a:cubicBezTo>
                    <a:cubicBezTo>
                      <a:pt x="1091" y="569"/>
                      <a:pt x="1105" y="416"/>
                      <a:pt x="112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162160" y="5015880"/>
                <a:ext cx="2285640" cy="819360"/>
                <a:chOff x="2162160" y="5015880"/>
                <a:chExt cx="2285640" cy="819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988080" y="5015880"/>
                  <a:ext cx="2703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62160" y="5063760"/>
                  <a:ext cx="2285640" cy="761760"/>
                </a:xfrm>
                <a:prstGeom prst="rect">
                  <a:avLst/>
                </a:prstGeom>
                <a:noFill/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62160" y="5063760"/>
                  <a:ext cx="0" cy="771480"/>
                </a:xfrm>
                <a:prstGeom prst="line">
                  <a:avLst/>
                </a:prstGeom>
                <a:ln w="28440">
                  <a:solidFill>
                    <a:srgbClr val="f4f4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62160" y="5073480"/>
                  <a:ext cx="1279080" cy="333000"/>
                </a:xfrm>
                <a:custGeom>
                  <a:avLst/>
                  <a:gdLst/>
                  <a:ahLst/>
                  <a:rect l="l" t="t" r="r" b="b"/>
                  <a:pathLst>
                    <a:path w="806" h="210">
                      <a:moveTo>
                        <a:pt x="0" y="210"/>
                      </a:moveTo>
                      <a:cubicBezTo>
                        <a:pt x="269" y="203"/>
                        <a:pt x="538" y="197"/>
                        <a:pt x="672" y="162"/>
                      </a:cubicBezTo>
                      <a:cubicBezTo>
                        <a:pt x="806" y="127"/>
                        <a:pt x="805" y="63"/>
                        <a:pt x="80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71160" y="5416200"/>
                  <a:ext cx="1304640" cy="380880"/>
                </a:xfrm>
                <a:custGeom>
                  <a:avLst/>
                  <a:gdLst/>
                  <a:ahLst/>
                  <a:rect l="l" t="t" r="r" b="b"/>
                  <a:pathLst>
                    <a:path w="822" h="240">
                      <a:moveTo>
                        <a:pt x="0" y="0"/>
                      </a:moveTo>
                      <a:cubicBezTo>
                        <a:pt x="168" y="0"/>
                        <a:pt x="336" y="0"/>
                        <a:pt x="456" y="12"/>
                      </a:cubicBezTo>
                      <a:cubicBezTo>
                        <a:pt x="576" y="24"/>
                        <a:pt x="659" y="34"/>
                        <a:pt x="720" y="72"/>
                      </a:cubicBezTo>
                      <a:cubicBezTo>
                        <a:pt x="781" y="110"/>
                        <a:pt x="801" y="175"/>
                        <a:pt x="822" y="2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33520" y="5112000"/>
                <a:ext cx="2819160" cy="428400"/>
                <a:chOff x="533520" y="5112000"/>
                <a:chExt cx="2819160" cy="428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95280" y="5378400"/>
                  <a:ext cx="82872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09680" y="5407200"/>
                  <a:ext cx="114300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3520" y="5112000"/>
                  <a:ext cx="19144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rcuit Curr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1942920" y="5283360"/>
                  <a:ext cx="304560" cy="257040"/>
                  <a:chOff x="1942920" y="5283360"/>
                  <a:chExt cx="304560" cy="257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057040" y="5359320"/>
                    <a:ext cx="88920" cy="8892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09520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427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429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10492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196164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211392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6200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11428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057400" y="5283360"/>
                  <a:ext cx="304560" cy="257040"/>
                  <a:chOff x="2057400" y="5283360"/>
                  <a:chExt cx="304560" cy="2570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71520" y="5359320"/>
                    <a:ext cx="88920" cy="88920"/>
                  </a:xfrm>
                  <a:prstGeom prst="ellipse">
                    <a:avLst/>
                  </a:prstGeom>
                  <a:solidFill>
                    <a:srgbClr val="00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0968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2572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0574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21940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207612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222840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07648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22876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" name=""/>
              <p:cNvSpPr/>
              <p:nvPr/>
            </p:nvSpPr>
            <p:spPr>
              <a:xfrm flipV="1">
                <a:off x="1276200" y="5435280"/>
                <a:ext cx="923400" cy="7239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28600" y="838080"/>
            <a:ext cx="6705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ed Matrix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990720"/>
            <a:ext cx="7639200" cy="5200560"/>
            <a:chOff x="1143000" y="990720"/>
            <a:chExt cx="7639200" cy="5200560"/>
          </a:xfrm>
        </p:grpSpPr>
        <p:sp>
          <p:nvSpPr>
            <p:cNvPr id="182" name=""/>
            <p:cNvSpPr/>
            <p:nvPr/>
          </p:nvSpPr>
          <p:spPr>
            <a:xfrm>
              <a:off x="5781600" y="5410440"/>
              <a:ext cx="9720" cy="48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62080" y="4467600"/>
              <a:ext cx="361800" cy="295200"/>
            </a:xfrm>
            <a:prstGeom prst="rect">
              <a:avLst/>
            </a:prstGeom>
            <a:solidFill>
              <a:srgbClr val="70e2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2360" y="4829400"/>
              <a:ext cx="362160" cy="285840"/>
            </a:xfrm>
            <a:prstGeom prst="rect">
              <a:avLst/>
            </a:prstGeom>
            <a:solidFill>
              <a:srgbClr val="f06e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5200920"/>
              <a:ext cx="361800" cy="28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5562720"/>
              <a:ext cx="361800" cy="285840"/>
            </a:xfrm>
            <a:prstGeom prst="rect">
              <a:avLst/>
            </a:prstGeom>
            <a:solidFill>
              <a:srgbClr val="f4f4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5905800"/>
              <a:ext cx="361800" cy="28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52680" y="4448520"/>
              <a:ext cx="453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Electric Field / Electr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2040" y="4800960"/>
              <a:ext cx="49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Magnetic Field / Magnet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1760" y="5153400"/>
              <a:ext cx="587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ctric Scalar Potential at Coupling Surface/ Coupling Cur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90480" y="549612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rcuit Potential / Circuit Excitation</a:t>
              </a:r>
              <a:r>
                <a:rPr b="0" lang="en-US" sz="16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9560" y="584856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r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1960" y="4696200"/>
              <a:ext cx="885600" cy="77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81960" y="4696200"/>
              <a:ext cx="8856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0" y="4451400"/>
              <a:ext cx="590400" cy="473400"/>
            </a:xfrm>
            <a:custGeom>
              <a:avLst/>
              <a:gdLst/>
              <a:ahLst/>
              <a:rect l="l" t="t" r="r" b="b"/>
              <a:pathLst>
                <a:path w="372" h="298">
                  <a:moveTo>
                    <a:pt x="361" y="298"/>
                  </a:moveTo>
                  <a:cubicBezTo>
                    <a:pt x="237" y="278"/>
                    <a:pt x="114" y="258"/>
                    <a:pt x="61" y="214"/>
                  </a:cubicBezTo>
                  <a:cubicBezTo>
                    <a:pt x="8" y="170"/>
                    <a:pt x="0" y="68"/>
                    <a:pt x="43" y="34"/>
                  </a:cubicBezTo>
                  <a:cubicBezTo>
                    <a:pt x="86" y="0"/>
                    <a:pt x="266" y="14"/>
                    <a:pt x="319" y="10"/>
                  </a:cubicBezTo>
                  <a:cubicBezTo>
                    <a:pt x="372" y="6"/>
                    <a:pt x="366" y="8"/>
                    <a:pt x="361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69200" y="5429520"/>
              <a:ext cx="1627200" cy="371520"/>
            </a:xfrm>
            <a:custGeom>
              <a:avLst/>
              <a:gdLst/>
              <a:ahLst/>
              <a:rect l="l" t="t" r="r" b="b"/>
              <a:pathLst>
                <a:path w="1025" h="234">
                  <a:moveTo>
                    <a:pt x="899" y="0"/>
                  </a:moveTo>
                  <a:cubicBezTo>
                    <a:pt x="962" y="26"/>
                    <a:pt x="1025" y="52"/>
                    <a:pt x="899" y="66"/>
                  </a:cubicBezTo>
                  <a:cubicBezTo>
                    <a:pt x="773" y="80"/>
                    <a:pt x="286" y="60"/>
                    <a:pt x="143" y="84"/>
                  </a:cubicBezTo>
                  <a:cubicBezTo>
                    <a:pt x="0" y="108"/>
                    <a:pt x="7" y="186"/>
                    <a:pt x="41" y="210"/>
                  </a:cubicBezTo>
                  <a:cubicBezTo>
                    <a:pt x="75" y="234"/>
                    <a:pt x="295" y="225"/>
                    <a:pt x="347" y="2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3400" y="565812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itati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366920" y="990720"/>
              <a:ext cx="5952960" cy="3353040"/>
              <a:chOff x="1366920" y="990720"/>
              <a:chExt cx="5952960" cy="3353040"/>
            </a:xfrm>
          </p:grpSpPr>
          <p:graphicFrame>
            <p:nvGraphicFramePr>
              <p:cNvPr id="199" name=""/>
              <p:cNvGraphicFramePr/>
              <p:nvPr/>
            </p:nvGraphicFramePr>
            <p:xfrm>
              <a:off x="1366920" y="990720"/>
              <a:ext cx="5952960" cy="3353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6920" y="990720"/>
                        <a:ext cx="5952960" cy="335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"/>
              <p:cNvSpPr/>
              <p:nvPr/>
            </p:nvSpPr>
            <p:spPr>
              <a:xfrm>
                <a:off x="5956200" y="24847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7543800" y="4343400"/>
            <a:ext cx="172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En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108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91464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464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04760" y="838080"/>
            <a:ext cx="705816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76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066680"/>
            <a:ext cx="8763120" cy="2810160"/>
            <a:chOff x="228600" y="1066680"/>
            <a:chExt cx="8763120" cy="2810160"/>
          </a:xfrm>
        </p:grpSpPr>
        <p:sp>
          <p:nvSpPr>
            <p:cNvPr id="211" name=""/>
            <p:cNvSpPr/>
            <p:nvPr/>
          </p:nvSpPr>
          <p:spPr>
            <a:xfrm>
              <a:off x="6934320" y="22096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ior 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8600" y="1066680"/>
              <a:ext cx="8210520" cy="2810160"/>
              <a:chOff x="228600" y="1066680"/>
              <a:chExt cx="8210520" cy="2810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5105520" y="2590920"/>
                <a:ext cx="3333600" cy="1285920"/>
                <a:chOff x="5105520" y="2590920"/>
                <a:chExt cx="3333600" cy="1285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105520" y="2590920"/>
                  <a:ext cx="3333600" cy="1285920"/>
                </a:xfrm>
                <a:prstGeom prst="rect">
                  <a:avLst/>
                </a:pr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70360" y="262116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840" y="2514600"/>
                <a:ext cx="3333600" cy="1285920"/>
                <a:chOff x="609840" y="2514600"/>
                <a:chExt cx="3333600" cy="1285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09840" y="2514600"/>
                  <a:ext cx="3333600" cy="128592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174680" y="254484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372120" y="1438200"/>
                <a:ext cx="542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276720" y="1066680"/>
                <a:ext cx="3048120" cy="1067040"/>
                <a:chOff x="3276720" y="1066680"/>
                <a:chExt cx="3048120" cy="1067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76720" y="1066680"/>
                  <a:ext cx="3048120" cy="106704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92600" y="1092240"/>
                  <a:ext cx="1965240" cy="10335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3" name=""/>
                    <p:cNvSpPr txBox="1"/>
                    <p:nvPr/>
                  </p:nvSpPr>
                  <p:spPr>
                    <a:xfrm>
                      <a:off x="3429000" y="1295280"/>
                      <a:ext cx="78768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4496040" y="1600200"/>
                    <a:ext cx="7110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5" name=""/>
              <p:cNvSpPr/>
              <p:nvPr/>
            </p:nvSpPr>
            <p:spPr>
              <a:xfrm>
                <a:off x="2590920" y="1371600"/>
                <a:ext cx="685800" cy="1362240"/>
              </a:xfrm>
              <a:custGeom>
                <a:avLst/>
                <a:gdLst>
                  <a:gd name="textAreaLeft" fmla="*/ 91800 w 685800"/>
                  <a:gd name="textAreaRight" fmla="*/ 594000 w 685800"/>
                  <a:gd name="textAreaTop" fmla="*/ 238320 h 1362240"/>
                  <a:gd name="textAreaBottom" fmla="*/ 987840 h 136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24840" y="1371600"/>
                <a:ext cx="609480" cy="1333440"/>
              </a:xfrm>
              <a:custGeom>
                <a:avLst/>
                <a:gdLst>
                  <a:gd name="textAreaLeft" fmla="*/ 81360 w 609480"/>
                  <a:gd name="textAreaRight" fmla="*/ 528120 w 609480"/>
                  <a:gd name="textAreaTop" fmla="*/ 233280 h 1333440"/>
                  <a:gd name="textAreaBottom" fmla="*/ 966960 h 133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2133720"/>
                <a:ext cx="22100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ior Probl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1905120" y="2819520"/>
                    <a:ext cx="7873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9" name=""/>
                  <p:cNvSpPr txBox="1"/>
                  <p:nvPr/>
                </p:nvSpPr>
                <p:spPr>
                  <a:xfrm>
                    <a:off x="5931000" y="3117960"/>
                    <a:ext cx="711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0" name=""/>
              <p:cNvSpPr/>
              <p:nvPr/>
            </p:nvSpPr>
            <p:spPr>
              <a:xfrm flipV="1">
                <a:off x="2971800" y="297144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3048120" y="3124080"/>
                    <a:ext cx="59688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2" name=""/>
              <p:cNvSpPr/>
              <p:nvPr/>
            </p:nvSpPr>
            <p:spPr>
              <a:xfrm flipH="1">
                <a:off x="7239240" y="3124080"/>
                <a:ext cx="21888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" name=""/>
                  <p:cNvSpPr txBox="1"/>
                  <p:nvPr/>
                </p:nvSpPr>
                <p:spPr>
                  <a:xfrm>
                    <a:off x="7010640" y="2819520"/>
                    <a:ext cx="5461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4" name=""/>
              <p:cNvSpPr/>
              <p:nvPr/>
            </p:nvSpPr>
            <p:spPr>
              <a:xfrm>
                <a:off x="533520" y="294336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52840" y="320040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39160" y="338148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3040" y="286704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8600" y="1066680"/>
                <a:ext cx="2743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inction theorem</a:t>
                </a:r>
                <a:r>
                  <a:rPr b="0" lang="en-US" sz="2800" spc="-1" strike="noStrike">
                    <a:solidFill>
                      <a:srgbClr val="bbe0e3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33720" y="4876920"/>
                <a:ext cx="4403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238880" y="5562720"/>
                <a:ext cx="115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2280" y="3886200"/>
            <a:ext cx="8610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medium electric field as a function of interior medium current and charge dens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5410080"/>
            <a:ext cx="90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    Electric field,i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419720" y="563868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04760" y="838080"/>
            <a:ext cx="62960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duc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8240" y="2583000"/>
            <a:ext cx="618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280" y="1371600"/>
            <a:ext cx="3494160" cy="2284560"/>
            <a:chOff x="152280" y="1371600"/>
            <a:chExt cx="3494160" cy="2284560"/>
          </a:xfrm>
        </p:grpSpPr>
        <p:sp>
          <p:nvSpPr>
            <p:cNvPr id="252" name=""/>
            <p:cNvSpPr/>
            <p:nvPr/>
          </p:nvSpPr>
          <p:spPr>
            <a:xfrm>
              <a:off x="152280" y="2709720"/>
              <a:ext cx="619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A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09480" y="1371600"/>
              <a:ext cx="3036960" cy="2284560"/>
              <a:chOff x="609480" y="1371600"/>
              <a:chExt cx="3036960" cy="2284560"/>
            </a:xfrm>
          </p:grpSpPr>
          <p:sp>
            <p:nvSpPr>
              <p:cNvPr id="254" name=""/>
              <p:cNvSpPr/>
              <p:nvPr/>
            </p:nvSpPr>
            <p:spPr>
              <a:xfrm>
                <a:off x="1260360" y="1940040"/>
                <a:ext cx="1766880" cy="314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2697120"/>
                <a:ext cx="376200" cy="45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803160" y="2758680"/>
                <a:ext cx="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03160" y="2077920"/>
                <a:ext cx="0" cy="5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3160" y="2077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7240" y="2090880"/>
                <a:ext cx="4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4160" y="209088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41520" y="2583000"/>
                <a:ext cx="304920" cy="41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94160" y="2608200"/>
                <a:ext cx="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160" y="315108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299880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0480" y="360504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1240" y="365616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82920" y="3516480"/>
                <a:ext cx="25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4560" y="356724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60360" y="148608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17880" y="147312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60360" y="1687680"/>
                <a:ext cx="17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6800" y="1371600"/>
                <a:ext cx="8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 m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27280" y="2911320"/>
                <a:ext cx="568080" cy="5922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17560" y="26208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06520" y="26337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7560" y="2759040"/>
                <a:ext cx="58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16240" y="293688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16240" y="350352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7760" y="2936880"/>
                <a:ext cx="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36640" y="2444760"/>
                <a:ext cx="8542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25680" y="3062160"/>
                <a:ext cx="855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1120" y="1800360"/>
                <a:ext cx="61920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3322800" y="1825560"/>
            <a:ext cx="6188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997520"/>
            <a:ext cx="403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 Inductance from Commercial Volumetric Solver=          A.C Inductance From Commercial Volumetric Solver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772400" y="4981680"/>
                <a:ext cx="1017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848720" y="5181480"/>
                <a:ext cx="1017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95280" y="3809880"/>
                <a:ext cx="1892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19320" y="4267080"/>
                <a:ext cx="198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mag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809880" y="1295280"/>
            <a:ext cx="5334120" cy="3505320"/>
            <a:chOff x="3809880" y="1295280"/>
            <a:chExt cx="5334120" cy="350532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tretch/>
          </p:blipFill>
          <p:spPr>
            <a:xfrm>
              <a:off x="3809880" y="1295280"/>
              <a:ext cx="53341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495680" y="198108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88080" y="4114800"/>
              <a:ext cx="10670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876920" y="182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6920" y="1828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0040" y="16416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695720" y="4267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62840" y="41004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04760" y="838080"/>
            <a:ext cx="6219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sis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0" y="1447920"/>
            <a:ext cx="4724280" cy="3886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4343400" y="144792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9:07:23Z</dcterms:created>
  <dc:creator>Swagato</dc:creator>
  <dc:description/>
  <dc:language>en-US</dc:language>
  <cp:lastModifiedBy>Vikram</cp:lastModifiedBy>
  <dcterms:modified xsi:type="dcterms:W3CDTF">2003-06-18T21:42:5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5439389</vt:r8>
  </property>
  <property fmtid="{D5CDD505-2E9C-101B-9397-08002B2CF9AE}" pid="3" name="_AuthorEmail">
    <vt:lpwstr>swagato@u.washington.edu</vt:lpwstr>
  </property>
  <property fmtid="{D5CDD505-2E9C-101B-9397-08002B2CF9AE}" pid="4" name="_AuthorEmailDisplayName">
    <vt:lpwstr>swagato</vt:lpwstr>
  </property>
  <property fmtid="{D5CDD505-2E9C-101B-9397-08002B2CF9AE}" pid="5" name="_EmailSubject">
    <vt:lpwstr/>
  </property>
</Properties>
</file>