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5.png" ContentType="image/png"/>
  <Override PartName="/ppt/media/image10.png" ContentType="image/png"/>
  <Override PartName="/ppt/media/image30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1AD-E45A-435E-97C7-763276EF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23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A37-D907-410A-A39F-3EB0C3E1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48C-A77B-4872-94E3-469878C7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2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2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2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EA9-DCC6-48F7-BF2D-A8E53761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7DE-9391-446F-98B2-D2C2C440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23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23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2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2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23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432-F9A6-448B-9C2A-E9126D0C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BE17-66F6-4BDC-A4E5-37DBEE5C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459-3B23-40B2-ACFC-A2B2F500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3710-A883-40AC-822F-1AF6D63C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1EF-13B7-425F-B875-D2501A22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2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514-EB8E-4D81-92F6-6BD61FB3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23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821-CB9E-43F9-9FF5-F81BB738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76FA-DB1E-4445-82FA-3688E94B4969}" type="datetime">
              <a:rPr b="1" i="1" lang="en-US" sz="1400" spc="-1" strike="noStrike">
                <a:solidFill>
                  <a:srgbClr val="333399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476760" y="6476760"/>
            <a:ext cx="19047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cc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505320" y="6476760"/>
            <a:ext cx="1218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41B4-1BD1-4E60-A74D-233441B52FA9}" type="slidenum">
              <a:rPr b="1" i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160" y="914400"/>
            <a:ext cx="9132840" cy="74520"/>
          </a:xfrm>
          <a:prstGeom prst="rect">
            <a:avLst/>
          </a:prstGeom>
          <a:gradFill rotWithShape="0">
            <a:gsLst>
              <a:gs pos="0">
                <a:srgbClr val="760c04"/>
              </a:gs>
              <a:gs pos="50000">
                <a:srgbClr val="e71909"/>
              </a:gs>
              <a:gs pos="100000">
                <a:srgbClr val="760c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11160" y="990720"/>
            <a:ext cx="9132840" cy="38160"/>
          </a:xfrm>
          <a:prstGeom prst="rect">
            <a:avLst/>
          </a:prstGeom>
          <a:gradFill rotWithShape="0">
            <a:gsLst>
              <a:gs pos="0">
                <a:srgbClr val="00007e"/>
              </a:gs>
              <a:gs pos="50000">
                <a:srgbClr val="0000b6"/>
              </a:gs>
              <a:gs pos="100000">
                <a:srgbClr val="0000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23C6-3B7E-44D7-B74A-45BD267500BC}" type="datetime">
              <a:rPr b="1" i="1" lang="en-US" sz="1400" spc="-1" strike="noStrike">
                <a:solidFill>
                  <a:srgbClr val="333399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257720" y="311472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0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1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2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1.wmf"/><Relationship Id="rId2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8.wmf"/><Relationship Id="rId14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image" Target="../media/image2.png"/><Relationship Id="rId11" Type="http://schemas.openxmlformats.org/officeDocument/2006/relationships/image" Target="../media/image12.png"/><Relationship Id="rId12" Type="http://schemas.openxmlformats.org/officeDocument/2006/relationships/image" Target="../media/image2.png"/><Relationship Id="rId13" Type="http://schemas.openxmlformats.org/officeDocument/2006/relationships/image" Target="../media/image12.png"/><Relationship Id="rId14" Type="http://schemas.openxmlformats.org/officeDocument/2006/relationships/image" Target="../media/image2.png"/><Relationship Id="rId15" Type="http://schemas.openxmlformats.org/officeDocument/2006/relationships/image" Target="../media/image12.png"/><Relationship Id="rId16" Type="http://schemas.openxmlformats.org/officeDocument/2006/relationships/image" Target="../media/image2.png"/><Relationship Id="rId17" Type="http://schemas.openxmlformats.org/officeDocument/2006/relationships/image" Target="../media/image12.png"/><Relationship Id="rId18" Type="http://schemas.openxmlformats.org/officeDocument/2006/relationships/image" Target="../media/image2.png"/><Relationship Id="rId19" Type="http://schemas.openxmlformats.org/officeDocument/2006/relationships/image" Target="../media/image12.png"/><Relationship Id="rId20" Type="http://schemas.openxmlformats.org/officeDocument/2006/relationships/image" Target="../media/image2.png"/><Relationship Id="rId21" Type="http://schemas.openxmlformats.org/officeDocument/2006/relationships/image" Target="../media/image12.png"/><Relationship Id="rId22" Type="http://schemas.openxmlformats.org/officeDocument/2006/relationships/image" Target="../media/image2.png"/><Relationship Id="rId23" Type="http://schemas.openxmlformats.org/officeDocument/2006/relationships/image" Target="../media/image12.png"/><Relationship Id="rId24" Type="http://schemas.openxmlformats.org/officeDocument/2006/relationships/image" Target="../media/image2.png"/><Relationship Id="rId25" Type="http://schemas.openxmlformats.org/officeDocument/2006/relationships/image" Target="../media/image12.png"/><Relationship Id="rId26" Type="http://schemas.openxmlformats.org/officeDocument/2006/relationships/image" Target="../media/image2.png"/><Relationship Id="rId27" Type="http://schemas.openxmlformats.org/officeDocument/2006/relationships/image" Target="../media/image12.png"/><Relationship Id="rId28" Type="http://schemas.openxmlformats.org/officeDocument/2006/relationships/image" Target="../media/image2.png"/><Relationship Id="rId29" Type="http://schemas.openxmlformats.org/officeDocument/2006/relationships/image" Target="../media/image12.png"/><Relationship Id="rId30" Type="http://schemas.openxmlformats.org/officeDocument/2006/relationships/image" Target="../media/image2.png"/><Relationship Id="rId31" Type="http://schemas.openxmlformats.org/officeDocument/2006/relationships/image" Target="../media/image12.png"/><Relationship Id="rId32" Type="http://schemas.openxmlformats.org/officeDocument/2006/relationships/image" Target="../media/image2.png"/><Relationship Id="rId33" Type="http://schemas.openxmlformats.org/officeDocument/2006/relationships/image" Target="../media/image12.png"/><Relationship Id="rId3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610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PARASITIC-AWARE DESIGN AND OPTIMIZATION FOR CMOS ULTRA-WIDEBAND AMPLIFIER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Garamond"/>
              </a:rPr>
              <a:t>Jinho Park and Prof. David Allsto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Garamond"/>
              </a:rPr>
              <a:t>Electrical Engineering / University of Washingt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Garamond"/>
              </a:rPr>
              <a:t>Supported by DARPA/NEOC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60B392E-6FCD-4B10-BBDF-D8FD132698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ahoma"/>
              </a:rPr>
              <a:t>Structure of Parasitic-Aware </a:t>
            </a:r>
            <a:br>
              <a:rPr sz="4000"/>
            </a:br>
            <a:r>
              <a:rPr b="0" lang="ko-KR" sz="4000" spc="-1" strike="noStrike">
                <a:solidFill>
                  <a:srgbClr val="000000"/>
                </a:solidFill>
                <a:latin typeface="Tahoma"/>
              </a:rPr>
              <a:t>Synthesis and Optimiz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68280" y="2000160"/>
          <a:ext cx="1959120" cy="13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8280" y="2000160"/>
                    <a:ext cx="195912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268280" y="4284720"/>
          <a:ext cx="1989360" cy="133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68280" y="4284720"/>
                    <a:ext cx="198936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762520" y="2008080"/>
          <a:ext cx="1951200" cy="130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62520" y="2008080"/>
                    <a:ext cx="195120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459240" y="1163520"/>
            <a:ext cx="2111400" cy="7686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Optimization Co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(particle swarm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3459240" y="3390840"/>
            <a:ext cx="2111400" cy="768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Circuit Simulato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(HSpice / Spectr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3459240" y="5656320"/>
            <a:ext cx="2111400" cy="768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Parasitic Model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800680" y="4273560"/>
          <a:ext cx="1990800" cy="1335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00680" y="4273560"/>
                    <a:ext cx="199080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90640" y="1508040"/>
          <a:ext cx="768600" cy="574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90640" y="1508040"/>
                    <a:ext cx="7686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708280" y="3236760"/>
          <a:ext cx="749160" cy="628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08280" y="3236760"/>
                    <a:ext cx="74916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612880" y="3774960"/>
          <a:ext cx="768600" cy="574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12880" y="3774960"/>
                    <a:ext cx="7686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728800" y="5541840"/>
          <a:ext cx="749520" cy="628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728800" y="5541840"/>
                    <a:ext cx="74952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551560" y="5541840"/>
          <a:ext cx="749160" cy="574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551560" y="5541840"/>
                    <a:ext cx="7491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532480" y="1432080"/>
          <a:ext cx="749160" cy="6285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532480" y="1432080"/>
                    <a:ext cx="7491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5532480" y="3697200"/>
          <a:ext cx="749160" cy="6285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532480" y="3697200"/>
                    <a:ext cx="7491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532480" y="3236760"/>
          <a:ext cx="749160" cy="5749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532480" y="3236760"/>
                    <a:ext cx="7491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"/>
          <p:cNvGrpSpPr/>
          <p:nvPr/>
        </p:nvGrpSpPr>
        <p:grpSpPr>
          <a:xfrm>
            <a:off x="656640" y="4273560"/>
            <a:ext cx="2569320" cy="1305000"/>
            <a:chOff x="656640" y="4273560"/>
            <a:chExt cx="2569320" cy="1305000"/>
          </a:xfrm>
        </p:grpSpPr>
        <p:sp>
          <p:nvSpPr>
            <p:cNvPr id="171" name=""/>
            <p:cNvSpPr/>
            <p:nvPr/>
          </p:nvSpPr>
          <p:spPr>
            <a:xfrm>
              <a:off x="1268280" y="4273560"/>
              <a:ext cx="1957680" cy="130500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66ff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6640" y="4465800"/>
              <a:ext cx="10555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Parasitic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18120" y="2008080"/>
            <a:ext cx="2609280" cy="1305000"/>
            <a:chOff x="618120" y="2008080"/>
            <a:chExt cx="2609280" cy="1305000"/>
          </a:xfrm>
        </p:grpSpPr>
        <p:sp>
          <p:nvSpPr>
            <p:cNvPr id="174" name=""/>
            <p:cNvSpPr/>
            <p:nvPr/>
          </p:nvSpPr>
          <p:spPr>
            <a:xfrm>
              <a:off x="1270080" y="2008080"/>
              <a:ext cx="1957320" cy="130500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66ff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8120" y="2084400"/>
              <a:ext cx="11318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Generat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Netlist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800680" y="4273560"/>
            <a:ext cx="2786760" cy="1305000"/>
            <a:chOff x="5800680" y="4273560"/>
            <a:chExt cx="2786760" cy="1305000"/>
          </a:xfrm>
        </p:grpSpPr>
        <p:sp>
          <p:nvSpPr>
            <p:cNvPr id="177" name=""/>
            <p:cNvSpPr/>
            <p:nvPr/>
          </p:nvSpPr>
          <p:spPr>
            <a:xfrm>
              <a:off x="5800680" y="4273560"/>
              <a:ext cx="1957320" cy="130500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66ff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31920" y="4427640"/>
              <a:ext cx="10555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Parasitic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762520" y="2008080"/>
            <a:ext cx="2976480" cy="1305000"/>
            <a:chOff x="5762520" y="2008080"/>
            <a:chExt cx="2976480" cy="1305000"/>
          </a:xfrm>
        </p:grpSpPr>
        <p:sp>
          <p:nvSpPr>
            <p:cNvPr id="180" name=""/>
            <p:cNvSpPr/>
            <p:nvPr/>
          </p:nvSpPr>
          <p:spPr>
            <a:xfrm>
              <a:off x="5762520" y="2008080"/>
              <a:ext cx="1957320" cy="130500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66ff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94480" y="2084400"/>
              <a:ext cx="12445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348680" y="655308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inductor mod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3905640" y="44672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CoSMO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3881520" y="4389480"/>
            <a:ext cx="1228680" cy="53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456080" y="408132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CA2-B55C-43A9-A944-231E2022B48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0BE42-70B7-4865-B85E-E37E7BC75C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48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Parasitic Inductor Model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377496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What do we need? – S-parameter data for each indu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(1) Measurement data – Min, Mid,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Used for calibration of EM simul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(2) EM simulator – calibration and interp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(3) SPICE inductor model (freq. and inductan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Curve fitting (polyf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.g. Rs = a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*f</a:t>
            </a:r>
            <a:r>
              <a:rPr b="0" lang="ko-KR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*f</a:t>
            </a:r>
            <a:r>
              <a:rPr b="0" lang="ko-KR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*f + a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3 = b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*L</a:t>
            </a:r>
            <a:r>
              <a:rPr b="0" lang="ko-KR" sz="18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+b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*L</a:t>
            </a:r>
            <a:r>
              <a:rPr b="0" lang="ko-KR" sz="18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+b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*L</a:t>
            </a:r>
            <a:r>
              <a:rPr b="0" lang="ko-KR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+b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*L</a:t>
            </a:r>
            <a:r>
              <a:rPr b="0" lang="ko-KR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+b*L+b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85960" y="1085760"/>
            <a:ext cx="7361280" cy="2649600"/>
            <a:chOff x="885960" y="1085760"/>
            <a:chExt cx="7361280" cy="2649600"/>
          </a:xfrm>
        </p:grpSpPr>
        <p:graphicFrame>
          <p:nvGraphicFramePr>
            <p:cNvPr id="189" name=""/>
            <p:cNvGraphicFramePr/>
            <p:nvPr/>
          </p:nvGraphicFramePr>
          <p:xfrm>
            <a:off x="885960" y="1106280"/>
            <a:ext cx="3217680" cy="26290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85960" y="1106280"/>
                      <a:ext cx="3217680" cy="26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"/>
            <p:cNvGraphicFramePr/>
            <p:nvPr/>
          </p:nvGraphicFramePr>
          <p:xfrm>
            <a:off x="5126040" y="1085760"/>
            <a:ext cx="3121200" cy="2628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126040" y="1085760"/>
                      <a:ext cx="3121200" cy="262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4322880" y="2160360"/>
              <a:ext cx="49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22880" y="2314440"/>
              <a:ext cx="49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347960" y="655308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circuit simulato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7CA-4B17-4A2A-B8B7-1635B3B33F4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2462E-B2ED-422D-8543-085C6511E4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Particle Swar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Inspired by a social behavior of a swarm of bees searching for the location of f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Exchange </a:t>
            </a:r>
            <a:r>
              <a:rPr b="0" lang="ko-KR" sz="2800" spc="-1" strike="noStrike">
                <a:solidFill>
                  <a:srgbClr val="ff3300"/>
                </a:solidFill>
                <a:latin typeface="Tahoma"/>
              </a:rPr>
              <a:t>individual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ko-KR" sz="2800" spc="-1" strike="noStrike">
                <a:solidFill>
                  <a:srgbClr val="ff3300"/>
                </a:solidFill>
                <a:latin typeface="Tahoma"/>
              </a:rPr>
              <a:t>grou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information to find the optimum (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</a:rPr>
              <a:t>Cooperation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Work on a population of potential solution candidates called </a:t>
            </a:r>
            <a:r>
              <a:rPr b="0" i="1" lang="ko-KR" sz="2800" spc="-1" strike="noStrike">
                <a:solidFill>
                  <a:srgbClr val="ff3300"/>
                </a:solidFill>
                <a:latin typeface="Tahoma"/>
              </a:rPr>
              <a:t>Partic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Inherently parallel process (use of pop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Well-balanced between global / local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Very </a:t>
            </a:r>
            <a:r>
              <a:rPr b="0" lang="ko-KR" sz="2400" spc="-1" strike="noStrike">
                <a:solidFill>
                  <a:srgbClr val="ff3300"/>
                </a:solidFill>
                <a:latin typeface="Tahoma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Very </a:t>
            </a:r>
            <a:r>
              <a:rPr b="0" lang="ko-KR" sz="2800" spc="-1" strike="noStrike">
                <a:solidFill>
                  <a:srgbClr val="ff3300"/>
                </a:solidFill>
                <a:latin typeface="Tahoma"/>
              </a:rPr>
              <a:t>Simp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and Easy to be implemented as optimization core for parasitic-aware synthesis and optim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04B-2B04-4F45-8777-20463E40408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D7FF2-7E43-4AF2-A0C2-2685DF5E5D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Swarming Equ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531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Motion of searching agents (Particles) by keeping track of individual and group experience (Competition and Co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inertia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ko-KR" sz="2400" spc="-1" strike="noStrike">
                <a:solidFill>
                  <a:srgbClr val="ff3300"/>
                </a:solidFill>
                <a:latin typeface="Tahoma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0040" y="2900520"/>
                <a:ext cx="8874360" cy="25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and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be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and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be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 flipH="1" flipV="1" rot="16200000">
            <a:off x="2459880" y="3542400"/>
            <a:ext cx="190440" cy="1114200"/>
          </a:xfrm>
          <a:custGeom>
            <a:avLst/>
            <a:gdLst>
              <a:gd name="textAreaLeft" fmla="*/ 121320 w 190440"/>
              <a:gd name="textAreaRight" fmla="*/ 190440 w 190440"/>
              <a:gd name="textAreaTop" fmla="*/ 28800 h 1114200"/>
              <a:gd name="textAreaBottom" fmla="*/ 1085400 h 111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 rot="16200000">
            <a:off x="6243480" y="1449720"/>
            <a:ext cx="228600" cy="5184720"/>
          </a:xfrm>
          <a:custGeom>
            <a:avLst/>
            <a:gdLst>
              <a:gd name="textAreaLeft" fmla="*/ 145800 w 228600"/>
              <a:gd name="textAreaRight" fmla="*/ 228600 w 22860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 rot="5400000">
            <a:off x="5206680" y="2987280"/>
            <a:ext cx="228600" cy="5184720"/>
          </a:xfrm>
          <a:custGeom>
            <a:avLst/>
            <a:gdLst>
              <a:gd name="textAreaLeft" fmla="*/ 145800 w 228600"/>
              <a:gd name="textAreaRight" fmla="*/ 228600 w 22860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8026200" y="65530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be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A8B2-65F5-4A6D-B5F4-05FFFAFBB95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A791E-371D-4118-881D-AFB271FCAE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5440320" y="3313080"/>
            <a:ext cx="614520" cy="460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4863960" y="3005280"/>
            <a:ext cx="1306800" cy="1076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4211640" y="2583000"/>
            <a:ext cx="2112840" cy="16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2122560"/>
            <a:ext cx="3419280" cy="249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316160"/>
            <a:ext cx="5068800" cy="3687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4327560" y="1238400"/>
            <a:ext cx="2855880" cy="5070240"/>
          </a:xfrm>
          <a:custGeom>
            <a:avLst/>
            <a:gdLst/>
            <a:ahLst/>
            <a:rect l="l" t="t" r="r" b="b"/>
            <a:pathLst>
              <a:path w="1799" h="3194">
                <a:moveTo>
                  <a:pt x="1355" y="0"/>
                </a:moveTo>
                <a:cubicBezTo>
                  <a:pt x="1577" y="520"/>
                  <a:pt x="1799" y="1041"/>
                  <a:pt x="1573" y="1573"/>
                </a:cubicBezTo>
                <a:cubicBezTo>
                  <a:pt x="1347" y="2105"/>
                  <a:pt x="673" y="2649"/>
                  <a:pt x="0" y="319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6300720" y="1123920"/>
            <a:ext cx="1382760" cy="5300640"/>
          </a:xfrm>
          <a:custGeom>
            <a:avLst/>
            <a:gdLst/>
            <a:ahLst/>
            <a:rect l="l" t="t" r="r" b="b"/>
            <a:pathLst>
              <a:path w="871" h="3339">
                <a:moveTo>
                  <a:pt x="871" y="0"/>
                </a:moveTo>
                <a:cubicBezTo>
                  <a:pt x="871" y="617"/>
                  <a:pt x="871" y="1234"/>
                  <a:pt x="726" y="1791"/>
                </a:cubicBezTo>
                <a:cubicBezTo>
                  <a:pt x="581" y="2348"/>
                  <a:pt x="290" y="2843"/>
                  <a:pt x="0" y="33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7989840" y="1355760"/>
            <a:ext cx="858960" cy="4954680"/>
          </a:xfrm>
          <a:custGeom>
            <a:avLst/>
            <a:gdLst/>
            <a:ahLst/>
            <a:rect l="l" t="t" r="r" b="b"/>
            <a:pathLst>
              <a:path w="541" h="3121">
                <a:moveTo>
                  <a:pt x="541" y="0"/>
                </a:moveTo>
                <a:cubicBezTo>
                  <a:pt x="351" y="574"/>
                  <a:pt x="162" y="1149"/>
                  <a:pt x="81" y="1669"/>
                </a:cubicBezTo>
                <a:cubicBezTo>
                  <a:pt x="0" y="2189"/>
                  <a:pt x="28" y="2655"/>
                  <a:pt x="57" y="31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149720" y="1700280"/>
            <a:ext cx="895320" cy="873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 flipH="1">
            <a:off x="2266560" y="4311720"/>
            <a:ext cx="895320" cy="873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 rot="936000">
            <a:off x="7299360" y="1355400"/>
            <a:ext cx="895320" cy="873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 rot="20509200">
            <a:off x="7413480" y="4735080"/>
            <a:ext cx="895320" cy="873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70040" y="1163520"/>
            <a:ext cx="0" cy="5337360"/>
          </a:xfrm>
          <a:prstGeom prst="line">
            <a:avLst/>
          </a:prstGeom>
          <a:ln w="28440">
            <a:solidFill>
              <a:srgbClr val="99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6424560"/>
            <a:ext cx="8294760" cy="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0000" y="1163520"/>
            <a:ext cx="2535120" cy="962280"/>
            <a:chOff x="270000" y="1163520"/>
            <a:chExt cx="2535120" cy="962280"/>
          </a:xfrm>
        </p:grpSpPr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1960560" y="1585800"/>
                  <a:ext cx="84456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"/>
            <p:cNvSpPr/>
            <p:nvPr/>
          </p:nvSpPr>
          <p:spPr>
            <a:xfrm>
              <a:off x="270000" y="1163520"/>
              <a:ext cx="1766880" cy="9471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Arial"/>
                </a:rPr>
                <a:t>Random 1)position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073320" y="5003640"/>
            <a:ext cx="1268640" cy="114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342960" y="2430360"/>
            <a:ext cx="880920" cy="76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6492600" y="1777680"/>
            <a:ext cx="841320" cy="152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531120" y="5462640"/>
            <a:ext cx="1033200" cy="385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4073400" y="1547640"/>
            <a:ext cx="1036800" cy="1151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5386320" y="2976480"/>
            <a:ext cx="760320" cy="76032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271080" y="2038320"/>
            <a:ext cx="2535480" cy="550800"/>
            <a:chOff x="271080" y="2038320"/>
            <a:chExt cx="2535480" cy="550800"/>
          </a:xfrm>
        </p:grpSpPr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1960560" y="2046240"/>
                  <a:ext cx="84600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"/>
            <p:cNvSpPr/>
            <p:nvPr/>
          </p:nvSpPr>
          <p:spPr>
            <a:xfrm>
              <a:off x="271080" y="2038320"/>
              <a:ext cx="168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Arial"/>
                </a:rPr>
                <a:t>2)velocity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CC7-6877-4E28-968F-30F83DEB780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C68AC-1F8E-411E-A734-A8AB30076A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296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Update of Position &amp; Velocity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5440320" y="3313080"/>
            <a:ext cx="614520" cy="460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863960" y="3005280"/>
            <a:ext cx="1306800" cy="1076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2583000"/>
            <a:ext cx="2112840" cy="16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2122560"/>
            <a:ext cx="3419280" cy="249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316160"/>
            <a:ext cx="5068800" cy="3687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4327560" y="1238400"/>
            <a:ext cx="2855880" cy="5070240"/>
          </a:xfrm>
          <a:custGeom>
            <a:avLst/>
            <a:gdLst/>
            <a:ahLst/>
            <a:rect l="l" t="t" r="r" b="b"/>
            <a:pathLst>
              <a:path w="1799" h="3194">
                <a:moveTo>
                  <a:pt x="1355" y="0"/>
                </a:moveTo>
                <a:cubicBezTo>
                  <a:pt x="1577" y="520"/>
                  <a:pt x="1799" y="1041"/>
                  <a:pt x="1573" y="1573"/>
                </a:cubicBezTo>
                <a:cubicBezTo>
                  <a:pt x="1347" y="2105"/>
                  <a:pt x="673" y="2649"/>
                  <a:pt x="0" y="319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1123920"/>
            <a:ext cx="1382760" cy="5300640"/>
          </a:xfrm>
          <a:custGeom>
            <a:avLst/>
            <a:gdLst/>
            <a:ahLst/>
            <a:rect l="l" t="t" r="r" b="b"/>
            <a:pathLst>
              <a:path w="871" h="3339">
                <a:moveTo>
                  <a:pt x="871" y="0"/>
                </a:moveTo>
                <a:cubicBezTo>
                  <a:pt x="871" y="617"/>
                  <a:pt x="871" y="1234"/>
                  <a:pt x="726" y="1791"/>
                </a:cubicBezTo>
                <a:cubicBezTo>
                  <a:pt x="581" y="2348"/>
                  <a:pt x="290" y="2843"/>
                  <a:pt x="0" y="33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7989840" y="1355760"/>
            <a:ext cx="858960" cy="4954680"/>
          </a:xfrm>
          <a:custGeom>
            <a:avLst/>
            <a:gdLst/>
            <a:ahLst/>
            <a:rect l="l" t="t" r="r" b="b"/>
            <a:pathLst>
              <a:path w="541" h="3121">
                <a:moveTo>
                  <a:pt x="541" y="0"/>
                </a:moveTo>
                <a:cubicBezTo>
                  <a:pt x="351" y="574"/>
                  <a:pt x="162" y="1149"/>
                  <a:pt x="81" y="1669"/>
                </a:cubicBezTo>
                <a:cubicBezTo>
                  <a:pt x="0" y="2189"/>
                  <a:pt x="28" y="2655"/>
                  <a:pt x="57" y="31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149720" y="1700280"/>
            <a:ext cx="895320" cy="873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 flipH="1">
            <a:off x="2266560" y="4311720"/>
            <a:ext cx="895320" cy="873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 rot="936000">
            <a:off x="7299360" y="1355400"/>
            <a:ext cx="895320" cy="873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 rot="20509200">
            <a:off x="7413480" y="4735080"/>
            <a:ext cx="895320" cy="873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70040" y="1163520"/>
            <a:ext cx="0" cy="5337360"/>
          </a:xfrm>
          <a:prstGeom prst="line">
            <a:avLst/>
          </a:prstGeom>
          <a:ln w="28440">
            <a:solidFill>
              <a:srgbClr val="99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6424560"/>
            <a:ext cx="8294760" cy="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461880" y="1085760"/>
            <a:ext cx="1997280" cy="520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Vector su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3073320" y="5003640"/>
            <a:ext cx="1268640" cy="114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342960" y="2430360"/>
            <a:ext cx="880920" cy="76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6492600" y="1777680"/>
            <a:ext cx="841320" cy="152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531120" y="5462640"/>
            <a:ext cx="1033200" cy="385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4073400" y="1547640"/>
            <a:ext cx="1036800" cy="1151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073320" y="3928680"/>
            <a:ext cx="654120" cy="996840"/>
          </a:xfrm>
          <a:prstGeom prst="line">
            <a:avLst/>
          </a:prstGeom>
          <a:ln w="57240">
            <a:solidFill>
              <a:srgbClr val="99cc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7068600" y="4927680"/>
            <a:ext cx="498600" cy="496800"/>
          </a:xfrm>
          <a:prstGeom prst="line">
            <a:avLst/>
          </a:prstGeom>
          <a:ln w="57240">
            <a:solidFill>
              <a:srgbClr val="99cc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568920" y="2122560"/>
            <a:ext cx="844560" cy="115920"/>
          </a:xfrm>
          <a:prstGeom prst="line">
            <a:avLst/>
          </a:prstGeom>
          <a:ln w="57240">
            <a:solidFill>
              <a:srgbClr val="99cc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189240" y="4159080"/>
            <a:ext cx="1420920" cy="8049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6453000" y="5271840"/>
            <a:ext cx="998280" cy="190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992560" y="2044800"/>
            <a:ext cx="1344600" cy="1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0" y="1608120"/>
                <a:ext cx="33051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5378400" y="2968560"/>
            <a:ext cx="758880" cy="7588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85960" y="6194520"/>
            <a:ext cx="8064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85960" y="5349600"/>
            <a:ext cx="0" cy="842760"/>
          </a:xfrm>
          <a:prstGeom prst="line">
            <a:avLst/>
          </a:prstGeom>
          <a:ln w="57240">
            <a:solidFill>
              <a:srgbClr val="99cc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1640880" y="59641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inerti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196200" y="477360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tendenc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toward the b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BC10-B094-4C47-B4FB-16DF11FC98FD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33AB9-151E-4BBE-8B78-823CC1FF9C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74 0.01505 L 0.20313 -0.11389 E">
                                      <p:cBhvr>
                                        <p:cTn id="139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3333E-006 L -0.16232 -0.0301 E">
                                      <p:cBhvr>
                                        <p:cTn id="141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59259E-006 L -0.20017 -0.00764 E">
                                      <p:cBhvr>
                                        <p:cTn id="143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7 L -0.11771 0.0169 E">
                                      <p:cBhvr>
                                        <p:cTn id="145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-7.40741E-007 C -0.10729 0.02083 -0.19461 0.0419 -0.19114 0.08403 C -0.1875 0.12593 -0.09288 0.18889 0.00209 0.25208 E">
                                      <p:cBhvr>
                                        <p:cTn id="149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270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SA       </a:t>
            </a: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 Particle Swar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hysical process of annea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Old, well studi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Agen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ing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itial point dependen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mplement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as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pe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Known to be S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Chance to trap in loc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robable in complex tas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aralleliz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ossi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832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ocial behavior of be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ew, need to be studi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Agen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itial point dependen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mplement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as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pe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Known to be Fa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Chance to trap in loc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aralleliz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nherently parallel pro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165240"/>
            <a:ext cx="0" cy="637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910200" y="6553080"/>
            <a:ext cx="22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Apply to MA and D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2E8-7E76-4CB4-BC30-446ECE69BB6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D0C93-AAFC-47B0-A318-1F6969A2CE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Which technique is better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ahoma"/>
              </a:rPr>
              <a:t>Two different parasitic-aware syn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Simulated Annealing – Conventional optimization 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Particle Swarm – New optimization 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ahoma"/>
              </a:rPr>
              <a:t>Will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Tahoma"/>
              </a:rPr>
              <a:t>Particle Swarm</a:t>
            </a:r>
            <a:r>
              <a:rPr b="0" lang="ko-KR" sz="3200" spc="-1" strike="noStrike">
                <a:solidFill>
                  <a:srgbClr val="000000"/>
                </a:solidFill>
                <a:latin typeface="Tahoma"/>
              </a:rPr>
              <a:t> fit parasitic-aware synthe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1576440" y="381312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</a:rPr>
              <a:t>DA (11 variable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5992920" y="3774960"/>
            <a:ext cx="21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</a:rPr>
              <a:t>MA (16 variable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4610160" y="3929040"/>
            <a:ext cx="0" cy="241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47760" y="4214880"/>
          <a:ext cx="4038480" cy="213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7760" y="4214880"/>
                    <a:ext cx="403848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4879800" y="4159080"/>
          <a:ext cx="4038840" cy="2648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79800" y="4159080"/>
                    <a:ext cx="403884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7348320" y="6553080"/>
            <a:ext cx="168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design targ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1C74-2BE5-49F0-A17C-4854A06D561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C12FB-79F5-41F0-8820-14DFE79DD4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Comparison Resul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088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Comparable initial performance for both DA and 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Performance difference increases as the constraints become tighter and the total iterations incre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SA performs very poor in complex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article swarm is 1) </a:t>
            </a:r>
            <a:r>
              <a:rPr b="0" lang="ko-KR" sz="2000" spc="-1" strike="noStrike">
                <a:solidFill>
                  <a:srgbClr val="ff3300"/>
                </a:solidFill>
                <a:latin typeface="Tahoma"/>
              </a:rPr>
              <a:t>faster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and more 2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ko-KR" sz="2000" spc="-1" strike="noStrike">
                <a:solidFill>
                  <a:srgbClr val="ff3300"/>
                </a:solidFill>
                <a:latin typeface="Tahoma"/>
              </a:rPr>
              <a:t>effici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-112680" y="3083040"/>
            <a:ext cx="9372600" cy="34956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533840" y="2928960"/>
            <a:ext cx="0" cy="353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7349760" y="655308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MA result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61880" y="5925960"/>
            <a:ext cx="3687840" cy="0"/>
          </a:xfrm>
          <a:prstGeom prst="line">
            <a:avLst/>
          </a:prstGeom>
          <a:ln w="38160">
            <a:solidFill>
              <a:srgbClr val="99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186520" y="5118120"/>
            <a:ext cx="3687480" cy="0"/>
          </a:xfrm>
          <a:prstGeom prst="line">
            <a:avLst/>
          </a:prstGeom>
          <a:ln w="38160">
            <a:solidFill>
              <a:srgbClr val="99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3073320" y="4849920"/>
            <a:ext cx="1497240" cy="5806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9933ff"/>
                </a:solidFill>
                <a:latin typeface="Arial"/>
              </a:rPr>
              <a:t>Acceptable Solution lin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649680" y="5425920"/>
            <a:ext cx="231840" cy="50004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456080" y="5118120"/>
            <a:ext cx="692280" cy="1159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429-20AB-4840-89F3-44702807D8B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984CE-73CE-4A42-BAC1-1D7D53C467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Optimization Results (MA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-7920" y="1854360"/>
          <a:ext cx="4848120" cy="40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920" y="1854360"/>
                    <a:ext cx="484812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4572000" y="1895400"/>
          <a:ext cx="4800600" cy="403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1895400"/>
                    <a:ext cx="4800600" cy="40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7348680" y="6553080"/>
            <a:ext cx="188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how to optimiz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140560" y="1623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6341040" y="166212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Phase shif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A14-133C-4FC4-95CD-DB2553D6598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D95A6-FB6A-4FC8-87DC-12A4C555F9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ahoma"/>
              </a:rPr>
              <a:t>Histor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ahoma"/>
              </a:rPr>
              <a:t>1996</a:t>
            </a:r>
            <a:r>
              <a:rPr b="0" lang="ko-KR" sz="2300" spc="-1" strike="noStrike">
                <a:solidFill>
                  <a:srgbClr val="000000"/>
                </a:solidFill>
                <a:latin typeface="Tahoma"/>
              </a:rPr>
              <a:t>: Birth of “Parasitic-Aware” Design and Optimization (Dr. David Allstot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ahoma"/>
              </a:rPr>
              <a:t>1998</a:t>
            </a:r>
            <a:r>
              <a:rPr b="0" lang="ko-KR" sz="2300" spc="-1" strike="noStrike">
                <a:solidFill>
                  <a:srgbClr val="000000"/>
                </a:solidFill>
                <a:latin typeface="Tahoma"/>
              </a:rPr>
              <a:t>: Parasitic-aware design and optimization of CMOS RF ICs by Dr. Ravi Gupta and Dr. Allstot (RFIC symposium / MTT-s / JSSCC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ahoma"/>
              </a:rPr>
              <a:t>1999</a:t>
            </a:r>
            <a:r>
              <a:rPr b="0" lang="ko-KR" sz="2300" spc="-1" strike="noStrike">
                <a:solidFill>
                  <a:srgbClr val="000000"/>
                </a:solidFill>
                <a:latin typeface="Tahoma"/>
              </a:rPr>
              <a:t>: CMOS distributed amplifier design using CAD optimization techniques by Ballweber and Dr. Allstot (ISSCC / JSSCC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0" lang="ko-KR" sz="2300" spc="-1" strike="noStrike">
                <a:solidFill>
                  <a:srgbClr val="000000"/>
                </a:solidFill>
                <a:latin typeface="Tahoma"/>
              </a:rPr>
              <a:t>: A 0.5-8.5GHz fully-differential CMOS RF distributed amplifier by Dr. Ahn and Dr. Allstot (SSMSD / JSSCC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ahoma"/>
              </a:rPr>
              <a:t>2002</a:t>
            </a:r>
            <a:r>
              <a:rPr b="0" lang="ko-KR" sz="2300" spc="-1" strike="noStrike">
                <a:solidFill>
                  <a:srgbClr val="000000"/>
                </a:solidFill>
                <a:latin typeface="Tahoma"/>
              </a:rPr>
              <a:t>: Parasitic-aware synthesis of RF CMOS switching power amplifiers by Kiyong and Dr. Allstot (ISCAS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ahoma"/>
              </a:rPr>
              <a:t>2002</a:t>
            </a:r>
            <a:r>
              <a:rPr b="0" lang="ko-KR" sz="2300" spc="-1" strike="noStrike">
                <a:solidFill>
                  <a:srgbClr val="000000"/>
                </a:solidFill>
                <a:latin typeface="Tahoma"/>
              </a:rPr>
              <a:t>: Parasitic-aware design and optimization of CMOS wideband amplifiers by Jinho Park and Dr. Allstot (ASP-DAC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000000"/>
                </a:solidFill>
                <a:latin typeface="Tahoma"/>
              </a:rPr>
              <a:t>2003</a:t>
            </a:r>
            <a:r>
              <a:rPr b="0" lang="ko-KR" sz="2300" spc="-1" strike="noStrike">
                <a:solidFill>
                  <a:srgbClr val="000000"/>
                </a:solidFill>
                <a:latin typeface="Tahoma"/>
              </a:rPr>
              <a:t>: Parasitic-aware optimization of CMOS RF circuits by Jinho Park, Kiyong, and Dr. Allstot (Kluwer Academic Publishers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0F2-C47C-4D15-9C13-24205C022F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453A3-464F-4418-8D23-9F6213DFA2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How to optimize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gain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in is not added up in phase due to addition of parasitic capacitance (no valid phase synchroniz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istance attenuates the signal propag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ed capacitance / res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design is impossible because of non-linear behavior between parasi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ving using optim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ain phase synchronization by finding proper values of inductance, capaci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7350120" y="655308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Final desig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4091-C00E-4308-A4E1-F555F2D1EA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537F7-4D75-40BD-9470-3BBD422D48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748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Final Design Results Summ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881520" y="1633680"/>
          <a:ext cx="5607000" cy="421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1520" y="1633680"/>
                    <a:ext cx="5607000" cy="42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39600" y="1671480"/>
          <a:ext cx="3708360" cy="4133880"/>
        </p:xfrm>
        <a:graphic>
          <a:graphicData uri="http://schemas.openxmlformats.org/drawingml/2006/table">
            <a:tbl>
              <a:tblPr/>
              <a:tblGrid>
                <a:gridCol w="1536840"/>
                <a:gridCol w="1085760"/>
                <a:gridCol w="10857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fore opti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fter opti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 Gain (S2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in flatness (S2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d. deviation (S2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. S11 in pass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. S12 in pass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. S22 in pass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toff frequency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y-gain freq.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614600" y="2162160"/>
            <a:ext cx="2151000" cy="9208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1576440" y="4888080"/>
            <a:ext cx="2151000" cy="9205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699F-A205-4B17-8C16-C135271BDC8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0807B-79E3-4423-947F-9BE21EDC27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0000"/>
                </a:solidFill>
                <a:latin typeface="Tahoma"/>
              </a:rPr>
              <a:t>CMOS matrix amplifier</a:t>
            </a:r>
            <a:r>
              <a:rPr b="0" lang="ko-KR" sz="3200" spc="-1" strike="noStrike">
                <a:solidFill>
                  <a:srgbClr val="000000"/>
                </a:solidFill>
                <a:latin typeface="Tahoma"/>
              </a:rPr>
              <a:t> achieved very high gain with wide bandwid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~20dB, flat gain over 12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0000"/>
                </a:solidFill>
                <a:latin typeface="Tahoma"/>
              </a:rPr>
              <a:t>New parasitic-aware synthesis and optimization</a:t>
            </a:r>
            <a:r>
              <a:rPr b="0" lang="ko-KR" sz="3200" spc="-1" strike="noStrike">
                <a:solidFill>
                  <a:srgbClr val="000000"/>
                </a:solidFill>
                <a:latin typeface="Tahoma"/>
              </a:rPr>
              <a:t> with particle swarm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Very fast / 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Parallel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867C-749C-413B-81F3-D76A69E8B7C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03E61-22A5-4B70-AD2A-CBDB8071C3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664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Can we use CMOS for RF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9640" y="1085760"/>
          <a:ext cx="8218440" cy="3495240"/>
        </p:xfrm>
        <a:graphic>
          <a:graphicData uri="http://schemas.openxmlformats.org/drawingml/2006/table">
            <a:tbl>
              <a:tblPr/>
              <a:tblGrid>
                <a:gridCol w="2738520"/>
                <a:gridCol w="2741760"/>
                <a:gridCol w="2738160"/>
              </a:tblGrid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-C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5GHz</a:t>
                      </a:r>
                      <a:r>
                        <a:rPr b="1" lang="ko-KR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0.13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μ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d</a:t>
                      </a:r>
                      <a:r>
                        <a:rPr b="1" lang="ko-KR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eakdown vol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w</a:t>
                      </a:r>
                      <a:r>
                        <a:rPr b="1" lang="ko-KR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bs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mi-insula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ly doped</a:t>
                      </a:r>
                      <a:r>
                        <a:rPr b="1" lang="ko-KR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s of pass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~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~12</a:t>
                      </a:r>
                      <a:r>
                        <a:rPr b="1" lang="ko-KR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gt;100M de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.50 per cm</a:t>
                      </a:r>
                      <a:r>
                        <a:rPr b="1" lang="ko-KR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0.25 per cm</a:t>
                      </a:r>
                      <a:r>
                        <a:rPr b="1" lang="ko-KR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309600" y="4773600"/>
            <a:ext cx="883440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Si-CMOS performance limited by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</a:rPr>
              <a:t>active</a:t>
            </a:r>
            <a:r>
              <a:rPr b="0" lang="ko-KR" sz="2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</a:rPr>
              <a:t>passive</a:t>
            </a:r>
            <a:r>
              <a:rPr b="0" lang="ko-KR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devic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Very low cost / high integration = system-on-chip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946920" y="6553080"/>
            <a:ext cx="21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active improvem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572000" y="1585800"/>
            <a:ext cx="192240" cy="690840"/>
            <a:chOff x="4572000" y="1585800"/>
            <a:chExt cx="192240" cy="690840"/>
          </a:xfrm>
        </p:grpSpPr>
        <p:sp>
          <p:nvSpPr>
            <p:cNvPr id="92" name=""/>
            <p:cNvSpPr/>
            <p:nvPr/>
          </p:nvSpPr>
          <p:spPr>
            <a:xfrm>
              <a:off x="4572000" y="1585800"/>
              <a:ext cx="192240" cy="23040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24"/>
                  </a:moveTo>
                  <a:lnTo>
                    <a:pt x="24" y="145"/>
                  </a:lnTo>
                  <a:lnTo>
                    <a:pt x="121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0" y="2046240"/>
              <a:ext cx="192240" cy="23040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24"/>
                  </a:moveTo>
                  <a:lnTo>
                    <a:pt x="24" y="145"/>
                  </a:lnTo>
                  <a:lnTo>
                    <a:pt x="121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533840" y="2506680"/>
            <a:ext cx="192240" cy="230040"/>
          </a:xfrm>
          <a:custGeom>
            <a:avLst/>
            <a:gdLst/>
            <a:ahLst/>
            <a:rect l="l" t="t" r="r" b="b"/>
            <a:pathLst>
              <a:path w="121" h="145">
                <a:moveTo>
                  <a:pt x="0" y="24"/>
                </a:moveTo>
                <a:lnTo>
                  <a:pt x="24" y="145"/>
                </a:lnTo>
                <a:lnTo>
                  <a:pt x="121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378400" y="2968560"/>
            <a:ext cx="192240" cy="230400"/>
          </a:xfrm>
          <a:custGeom>
            <a:avLst/>
            <a:gdLst/>
            <a:ahLst/>
            <a:rect l="l" t="t" r="r" b="b"/>
            <a:pathLst>
              <a:path w="121" h="145">
                <a:moveTo>
                  <a:pt x="0" y="24"/>
                </a:moveTo>
                <a:lnTo>
                  <a:pt x="24" y="145"/>
                </a:lnTo>
                <a:lnTo>
                  <a:pt x="121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5378400" y="3429000"/>
            <a:ext cx="192240" cy="230040"/>
          </a:xfrm>
          <a:custGeom>
            <a:avLst/>
            <a:gdLst/>
            <a:ahLst/>
            <a:rect l="l" t="t" r="r" b="b"/>
            <a:pathLst>
              <a:path w="121" h="145">
                <a:moveTo>
                  <a:pt x="0" y="24"/>
                </a:moveTo>
                <a:lnTo>
                  <a:pt x="24" y="145"/>
                </a:lnTo>
                <a:lnTo>
                  <a:pt x="121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951680" y="3851280"/>
            <a:ext cx="192240" cy="652320"/>
            <a:chOff x="7951680" y="3851280"/>
            <a:chExt cx="192240" cy="652320"/>
          </a:xfrm>
        </p:grpSpPr>
        <p:sp>
          <p:nvSpPr>
            <p:cNvPr id="98" name=""/>
            <p:cNvSpPr/>
            <p:nvPr/>
          </p:nvSpPr>
          <p:spPr>
            <a:xfrm>
              <a:off x="7951680" y="3851280"/>
              <a:ext cx="192240" cy="23004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24"/>
                  </a:moveTo>
                  <a:lnTo>
                    <a:pt x="24" y="145"/>
                  </a:lnTo>
                  <a:lnTo>
                    <a:pt x="121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1680" y="4273560"/>
              <a:ext cx="192240" cy="23004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24"/>
                  </a:moveTo>
                  <a:lnTo>
                    <a:pt x="24" y="145"/>
                  </a:lnTo>
                  <a:lnTo>
                    <a:pt x="121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E69-D19B-4B01-95E7-7B8D45424A7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4BF44-3E2E-420A-984D-076EA336B0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CMOS DA Example</a:t>
            </a:r>
            <a:r>
              <a:rPr b="0" lang="ko-KR" sz="4400" spc="-1" strike="noStrike" baseline="30000">
                <a:solidFill>
                  <a:srgbClr val="000000"/>
                </a:solidFill>
                <a:latin typeface="Tahoma"/>
              </a:rPr>
              <a:t>[1]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92320" y="1300320"/>
          <a:ext cx="6476760" cy="464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2320" y="1300320"/>
                    <a:ext cx="647676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57200" y="594360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Tahoma"/>
              </a:rPr>
              <a:t>[1] B. Kleveland, et al., “Monolithic CMOS distributed amplifier and oscillator”, </a:t>
            </a:r>
            <a:r>
              <a:rPr b="0" i="1" lang="ko-KR" sz="1400" spc="-1" strike="noStrike">
                <a:solidFill>
                  <a:srgbClr val="333399"/>
                </a:solidFill>
                <a:latin typeface="Tahoma"/>
              </a:rPr>
              <a:t>ISSCC99.</a:t>
            </a:r>
            <a:r>
              <a:rPr b="0" lang="ko-KR" sz="14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2036880" y="1892160"/>
            <a:ext cx="3956040" cy="3303720"/>
          </a:xfrm>
          <a:custGeom>
            <a:avLst/>
            <a:gdLst/>
            <a:ahLst/>
            <a:rect l="l" t="t" r="r" b="b"/>
            <a:pathLst>
              <a:path w="2492" h="2081">
                <a:moveTo>
                  <a:pt x="0" y="0"/>
                </a:moveTo>
                <a:lnTo>
                  <a:pt x="1452" y="0"/>
                </a:lnTo>
                <a:lnTo>
                  <a:pt x="2492" y="2081"/>
                </a:lnTo>
              </a:path>
            </a:pathLst>
          </a:custGeom>
          <a:noFill/>
          <a:ln w="76320">
            <a:solidFill>
              <a:srgbClr val="ff006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CFC3-6010-4E23-A20E-50FDA650EFA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3DAD8-9F2A-4EF4-BF8A-C80F2D4CBA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CMOS DA Example</a:t>
            </a:r>
            <a:r>
              <a:rPr b="0" lang="ko-KR" sz="4400" spc="-1" strike="noStrike" baseline="30000">
                <a:solidFill>
                  <a:srgbClr val="000000"/>
                </a:solidFill>
                <a:latin typeface="Tahoma"/>
              </a:rPr>
              <a:t>[2]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32240" y="1085760"/>
            <a:ext cx="6611760" cy="4667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7200" y="594360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Tahoma"/>
              </a:rPr>
              <a:t>[2] B.M. Ballweber, R. Gupta, and D.J. Allstot, “A fully integrated 0.5-5.5GHz CMOS distributed amplifier,” </a:t>
            </a:r>
            <a:r>
              <a:rPr b="0" i="1" lang="ko-KR" sz="1400" spc="-1" strike="noStrike">
                <a:solidFill>
                  <a:srgbClr val="333399"/>
                </a:solidFill>
                <a:latin typeface="Tahoma"/>
              </a:rPr>
              <a:t>ISSCC99</a:t>
            </a:r>
            <a:r>
              <a:rPr b="0" lang="ko-KR" sz="1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5920" y="2238480"/>
          <a:ext cx="2649240" cy="22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920" y="2238480"/>
                    <a:ext cx="26492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93680" y="2084400"/>
            <a:ext cx="2995560" cy="2611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150720" y="2238480"/>
            <a:ext cx="1497240" cy="218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77440" y="1930320"/>
            <a:ext cx="403236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10680" y="167940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</a:rPr>
              <a:t>Parasitic-laden Inducto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A2F-C02E-4B9A-A78E-782FBD26A73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93A64-461F-4FE4-B7C5-ED3CAE2B9C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CMOS DA Example</a:t>
            </a:r>
            <a:r>
              <a:rPr b="0" lang="ko-KR" sz="4400" spc="-1" strike="noStrike" baseline="30000">
                <a:solidFill>
                  <a:srgbClr val="000000"/>
                </a:solidFill>
                <a:latin typeface="Tahoma"/>
              </a:rPr>
              <a:t>[2]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9640" y="1047600"/>
            <a:ext cx="3935520" cy="581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5065560" y="1184400"/>
          <a:ext cx="3462480" cy="26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5560" y="1184400"/>
                    <a:ext cx="346248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111480" y="1163520"/>
            <a:ext cx="1306440" cy="806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4235400"/>
            <a:ext cx="1306800" cy="806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1114560" y="2122560"/>
            <a:ext cx="1306440" cy="8064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114560" y="4927680"/>
            <a:ext cx="1306440" cy="8064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956120" y="4119480"/>
          <a:ext cx="3643200" cy="262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6120" y="4119480"/>
                    <a:ext cx="364320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3151080" y="4465800"/>
            <a:ext cx="1306800" cy="806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4610160" y="1009800"/>
            <a:ext cx="0" cy="549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119160" y="3044520"/>
            <a:ext cx="45468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 flipH="1" rot="10800000">
            <a:off x="4647960" y="2968200"/>
            <a:ext cx="45468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Arial"/>
              </a:rPr>
              <a:t>Measur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7007-474A-45B9-BCCC-39ED4836BFF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D38FA-7804-4980-B9F9-AEF07EC61A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Advantages of CM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Low cost / High integration / Sc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Poor performance due to parasi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Tahoma"/>
              </a:rPr>
              <a:t>Solved by parasitic-aware design based on </a:t>
            </a:r>
            <a:r>
              <a:rPr b="1" lang="ko-KR" sz="2400" spc="-1" strike="noStrike" u="sng">
                <a:solidFill>
                  <a:srgbClr val="ff0000"/>
                </a:solidFill>
                <a:uFillTx/>
                <a:latin typeface="Tahoma"/>
              </a:rPr>
              <a:t>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9933ff"/>
                </a:solidFill>
                <a:latin typeface="Tahoma"/>
              </a:rPr>
              <a:t>Proble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ko-KR" sz="2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DA using parasitic-aware based on </a:t>
            </a:r>
            <a:r>
              <a:rPr b="0" lang="ko-KR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Low gain of distributed amplifier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ahoma"/>
              </a:rPr>
              <a:t>CMOS High Gain wideband</a:t>
            </a:r>
            <a:r>
              <a:rPr b="0" i="1" lang="ko-KR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ko-KR" sz="2400" spc="-1" strike="noStrike">
                <a:solidFill>
                  <a:srgbClr val="ff0000"/>
                </a:solidFill>
                <a:latin typeface="Tahoma"/>
              </a:rPr>
              <a:t>Matrix Ampl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Long optimization time (a day with 9 design variables on HP712/1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ahoma"/>
              </a:rPr>
              <a:t>A New Parasitic-Aware Optimization Technique based on fast </a:t>
            </a:r>
            <a:r>
              <a:rPr b="1" i="1" lang="ko-KR" sz="2400" spc="-1" strike="noStrike">
                <a:solidFill>
                  <a:srgbClr val="ff0000"/>
                </a:solidFill>
                <a:latin typeface="Tahoma"/>
              </a:rPr>
              <a:t>Particle Swa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D4E-1B3F-4485-9164-FE0E7593817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C1067-262D-4347-9129-D9CF134567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Matrix Amplifi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of 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ve gain (need many se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associated with delay line (Metal resistance + gate / drain resistan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mum number of sections 4~5 (&lt;10dB S2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Addi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Multiplica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y stacking more than one delay lines (2-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is K times bigger in dB than DA with smaller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ing dela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12880" y="3889440"/>
                <a:ext cx="403236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d>
                    <m:r>
                      <m:t xml:space="preserve">≃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k</m:t>
                        </m:r>
                      </m:sup>
                    </m:sSup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180200" y="6553080"/>
            <a:ext cx="19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DA/MA summar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E23-5FE5-4C56-B5C2-5B2E3701647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DE3B8-5B41-4F88-BDD4-5A1EC166B2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ahoma"/>
              </a:rPr>
              <a:t>Schematic (2X4 Matrix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pec: S21 ~20dB BW &gt;12GHz in 0.25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μ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m CM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Used maximum # of sections: 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aximize BW and minimize rip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Cas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inimize capacitive coupling between delay lines (</a:t>
            </a:r>
            <a:r>
              <a:rPr b="0" lang="ko-KR" sz="1800" spc="-1" strike="noStrike" u="sng">
                <a:solidFill>
                  <a:srgbClr val="000000"/>
                </a:solidFill>
                <a:uFillTx/>
                <a:latin typeface="Tahoma"/>
              </a:rPr>
              <a:t>gain flatness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mprove reverse iso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Compensate for loss by increasing 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M-derived half s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ffering between delay lines and termination resistors (</a:t>
            </a:r>
            <a:r>
              <a:rPr b="0" lang="ko-KR" sz="1800" spc="-1" strike="noStrike" u="sng">
                <a:solidFill>
                  <a:srgbClr val="000000"/>
                </a:solidFill>
                <a:uFillTx/>
                <a:latin typeface="Tahoma"/>
              </a:rPr>
              <a:t>gain flatness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076480" y="3711600"/>
          <a:ext cx="4800600" cy="314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76480" y="3711600"/>
                    <a:ext cx="480060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422440" y="4657680"/>
            <a:ext cx="4262400" cy="576360"/>
          </a:xfrm>
          <a:prstGeom prst="ellipse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6786000" y="458136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</a:rPr>
              <a:t>delay l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7348320" y="6553080"/>
            <a:ext cx="18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99"/>
                </a:solidFill>
                <a:latin typeface="Arial"/>
              </a:rPr>
              <a:t>Next: phase linearit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3AC-F84D-4A4E-922D-5CF29A77719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AE5A9-D9E4-4919-B970-6F311D8E94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07:28:41Z</dcterms:created>
  <dc:creator>IBM Admin</dc:creator>
  <dc:description/>
  <dc:language>en-US</dc:language>
  <cp:lastModifiedBy>Jinho Park</cp:lastModifiedBy>
  <dcterms:modified xsi:type="dcterms:W3CDTF">2002-12-09T23:09:11Z</dcterms:modified>
  <cp:revision>735</cp:revision>
  <dc:subject/>
  <dc:title>Slide 1</dc:title>
</cp:coreProperties>
</file>