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5CEF-D5C9-4A17-81C2-9ADADE9E6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80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C642-6389-456C-9D41-387B7B70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80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207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40D2-D88A-466E-BD52-62FA12898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4660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937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80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4660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937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1B5D-6541-45D9-A315-0607F20A8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D474-F295-4A50-976B-B62B65B6A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E2E7-8918-417C-855B-D387525B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1605-CA74-4369-8738-5F62BE83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6F93-8391-4035-BC3C-53821FE5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DDBA-EDE0-4CA3-82B2-3110761D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EFD9-E1B4-404F-BB70-757FE08F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EEDD-FB98-47D5-8004-11E746DC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C391-9F08-4CFC-A1D7-7C951FAA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207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B476-6051-4FE6-8950-22B6BE8A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F8A0-27EA-4D5B-988E-655D9346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8380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8E51-C988-43D8-A906-B961EC37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207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7227D-71EA-4485-8CE2-3B6A00525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4660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37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8380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4660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937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0C61-03B5-45BD-B0AB-4202000E1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88AE-E333-492C-BE85-9FF76838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82EE-70D4-4C26-9F19-1C4D2F01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E4A3-1442-4BEE-8DC7-CF36DF13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3D94-5257-4A19-A1B9-3C7F96A5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0074-A9EE-4E50-A043-BA0F5E14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207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D3D2-B1FF-456B-8C64-78C4903B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9D19-2AA7-4EE9-93D9-B962061E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f01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Tahoma"/>
              </a:rPr>
              <a:t>&lt;date/time&gt;</a:t>
            </a:r>
            <a:r>
              <a:rPr b="0" lang="en-US" sz="1200" spc="-1" strike="noStrike">
                <a:solidFill>
                  <a:srgbClr val="75d1ff"/>
                </a:solidFill>
                <a:latin typeface="Tahoma"/>
              </a:rPr>
              <a:t>Dec. 10,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6400440" y="624852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f01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Tahoma"/>
              </a:rPr>
              <a:t>&lt;footer&gt;</a:t>
            </a:r>
            <a:r>
              <a:rPr b="0" lang="en-US" sz="1200" spc="-1" strike="noStrike">
                <a:solidFill>
                  <a:srgbClr val="75d1ff"/>
                </a:solidFill>
                <a:latin typeface="Tahoma"/>
              </a:rPr>
              <a:t>NeoCAD Quarterly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3962160" y="6324120"/>
            <a:ext cx="5331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5d1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F848-1C3F-4EDF-9677-B5D559467671}" type="slidenum">
              <a:rPr b="0" lang="en-US" sz="1200" spc="-1" strike="noStrike">
                <a:solidFill>
                  <a:srgbClr val="75d1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174600" y="198360"/>
            <a:ext cx="1041480" cy="451080"/>
          </a:xfrm>
          <a:prstGeom prst="rect">
            <a:avLst/>
          </a:prstGeom>
          <a:ln w="0">
            <a:noFill/>
          </a:ln>
        </p:spPr>
      </p:pic>
      <p:sp>
        <p:nvSpPr>
          <p:cNvPr id="13" name=""/>
          <p:cNvSpPr/>
          <p:nvPr/>
        </p:nvSpPr>
        <p:spPr>
          <a:xfrm>
            <a:off x="7613640" y="219240"/>
            <a:ext cx="135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fc0128"/>
                </a:solidFill>
                <a:latin typeface="Arial"/>
              </a:rPr>
              <a:t>CoS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1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5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67C6-85F3-49E6-A952-81C6B96CE2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90720" y="2133720"/>
            <a:ext cx="7086600" cy="3657600"/>
          </a:xfrm>
          <a:prstGeom prst="rect">
            <a:avLst/>
          </a:prstGeom>
          <a:gradFill rotWithShape="0">
            <a:gsLst>
              <a:gs pos="0">
                <a:srgbClr val="436870"/>
              </a:gs>
              <a:gs pos="50000">
                <a:srgbClr val="93e2f5"/>
              </a:gs>
              <a:gs pos="100000">
                <a:srgbClr val="43687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Mos Solver Develop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2514600"/>
            <a:ext cx="5943600" cy="29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06f8"/>
                </a:solidFill>
                <a:latin typeface="Tahoma"/>
              </a:rPr>
              <a:t>Research Team Memb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Guoyong Shi (Le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hao Li, Bo Hu, Bo Wan, Lili Zh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c009c"/>
                </a:solidFill>
                <a:latin typeface="Tahoma"/>
              </a:rPr>
              <a:t>Mixed Signal CAD Research L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c009c"/>
                </a:solidFill>
                <a:latin typeface="Tahoma"/>
              </a:rPr>
              <a:t>Electrical Engineering Dep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c009c"/>
                </a:solidFill>
                <a:latin typeface="Tahoma"/>
              </a:rPr>
              <a:t>University of Washing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BD46-DF6F-46BF-BEB5-3EA47FFE8E7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ve Ti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981080" y="2133720"/>
          <a:ext cx="4343400" cy="371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133720"/>
                    <a:ext cx="4343400" cy="37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022B-1E08-43B9-AD47-5F0CBE0D0B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 Circui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990720" y="2514600"/>
          <a:ext cx="7010280" cy="2867040"/>
        </p:xfrm>
        <a:graphic>
          <a:graphicData uri="http://schemas.openxmlformats.org/drawingml/2006/table">
            <a:tbl>
              <a:tblPr/>
              <a:tblGrid>
                <a:gridCol w="876240"/>
                <a:gridCol w="876240"/>
                <a:gridCol w="876240"/>
                <a:gridCol w="876240"/>
                <a:gridCol w="876600"/>
                <a:gridCol w="876240"/>
                <a:gridCol w="876240"/>
                <a:gridCol w="876240"/>
              </a:tblGrid>
              <a:tr h="75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tr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Order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F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1600" spc="-1" strike="noStrike" baseline="30000">
                          <a:solidFill>
                            <a:srgbClr val="2306f8"/>
                          </a:solidFill>
                          <a:latin typeface="Tahoma"/>
                        </a:rPr>
                        <a:t>nd</a:t>
                      </a:r>
                      <a:r>
                        <a:rPr b="0" lang="en-US" sz="16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 F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Sol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l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7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0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3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0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0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7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0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19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0.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0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51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0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306f8"/>
                          </a:solidFill>
                          <a:latin typeface="Tahoma"/>
                        </a:rPr>
                        <a:t>0.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3124080" y="1905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06f8"/>
                </a:solidFill>
                <a:latin typeface="Tahoma"/>
              </a:rPr>
              <a:t>Sparse 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1905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5562720"/>
            <a:ext cx="6095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dder circuits, matrices are tridiag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me in s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87C1-316A-46C2-ACDE-45558C1321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038480" y="3124080"/>
            <a:ext cx="1600200" cy="2362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 circui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523880" y="3124080"/>
            <a:ext cx="5640480" cy="2362320"/>
            <a:chOff x="1523880" y="3124080"/>
            <a:chExt cx="5640480" cy="2362320"/>
          </a:xfrm>
        </p:grpSpPr>
        <p:grpSp>
          <p:nvGrpSpPr>
            <p:cNvPr id="139" name=""/>
            <p:cNvGrpSpPr/>
            <p:nvPr/>
          </p:nvGrpSpPr>
          <p:grpSpPr>
            <a:xfrm>
              <a:off x="1527120" y="3125880"/>
              <a:ext cx="5634000" cy="2358360"/>
              <a:chOff x="1527120" y="3125880"/>
              <a:chExt cx="5634000" cy="235836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1527120" y="3125880"/>
                <a:ext cx="1004760" cy="471600"/>
                <a:chOff x="1527120" y="3125880"/>
                <a:chExt cx="1004760" cy="471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1595520" y="3125880"/>
                  <a:ext cx="868320" cy="4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atrix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527120" y="3125880"/>
                  <a:ext cx="1004760" cy="47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2531880" y="3125880"/>
                <a:ext cx="1543320" cy="471600"/>
                <a:chOff x="2531880" y="3125880"/>
                <a:chExt cx="1543320" cy="47160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2600280" y="3125880"/>
                  <a:ext cx="1406520" cy="4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Order+Factor (sec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531880" y="3125880"/>
                  <a:ext cx="1543320" cy="47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4075200" y="3125880"/>
                <a:ext cx="1542960" cy="471600"/>
                <a:chOff x="4075200" y="3125880"/>
                <a:chExt cx="1542960" cy="47160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4143240" y="3125880"/>
                  <a:ext cx="1406520" cy="4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earchPivot (sec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075200" y="3125880"/>
                  <a:ext cx="1542960" cy="47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5618160" y="3125880"/>
                <a:ext cx="1542960" cy="471600"/>
                <a:chOff x="5618160" y="3125880"/>
                <a:chExt cx="1542960" cy="47160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5686200" y="3125880"/>
                  <a:ext cx="1406520" cy="4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limimation (sec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618160" y="3125880"/>
                  <a:ext cx="1542960" cy="47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1527120" y="3597480"/>
                <a:ext cx="1004760" cy="377280"/>
                <a:chOff x="1527120" y="3597480"/>
                <a:chExt cx="1004760" cy="37728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1595520" y="3597480"/>
                  <a:ext cx="8683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527120" y="3597480"/>
                  <a:ext cx="100476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2531880" y="3597480"/>
                <a:ext cx="1543320" cy="377280"/>
                <a:chOff x="2531880" y="3597480"/>
                <a:chExt cx="1543320" cy="37728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2600280" y="3597480"/>
                  <a:ext cx="14065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7.65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531880" y="3597480"/>
                  <a:ext cx="154332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4075200" y="3597480"/>
                <a:ext cx="1542960" cy="377280"/>
                <a:chOff x="4075200" y="3597480"/>
                <a:chExt cx="1542960" cy="37728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4143240" y="3597480"/>
                  <a:ext cx="14065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7.3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075200" y="3597480"/>
                  <a:ext cx="154296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5618160" y="3597480"/>
                <a:ext cx="1542960" cy="377280"/>
                <a:chOff x="5618160" y="3597480"/>
                <a:chExt cx="1542960" cy="37728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5686200" y="3597480"/>
                  <a:ext cx="14065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618160" y="3597480"/>
                  <a:ext cx="154296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1527120" y="3974760"/>
                <a:ext cx="1004760" cy="377280"/>
                <a:chOff x="1527120" y="3974760"/>
                <a:chExt cx="1004760" cy="37728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1595520" y="3974760"/>
                  <a:ext cx="8683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527120" y="3974760"/>
                  <a:ext cx="100476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2531880" y="3974760"/>
                <a:ext cx="1543320" cy="377280"/>
                <a:chOff x="2531880" y="3974760"/>
                <a:chExt cx="1543320" cy="37728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2600280" y="3974760"/>
                  <a:ext cx="14065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31.6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531880" y="3974760"/>
                  <a:ext cx="154332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4075200" y="3974760"/>
                <a:ext cx="1542960" cy="377280"/>
                <a:chOff x="4075200" y="3974760"/>
                <a:chExt cx="1542960" cy="37728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4143240" y="3974760"/>
                  <a:ext cx="14065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31.0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075200" y="3974760"/>
                  <a:ext cx="154296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618160" y="3974760"/>
                <a:ext cx="1542960" cy="377280"/>
                <a:chOff x="5618160" y="3974760"/>
                <a:chExt cx="1542960" cy="37728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5686200" y="3974760"/>
                  <a:ext cx="14065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.07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618160" y="3974760"/>
                  <a:ext cx="154296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1527120" y="4352040"/>
                <a:ext cx="1004760" cy="377280"/>
                <a:chOff x="1527120" y="4352040"/>
                <a:chExt cx="1004760" cy="37728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1595520" y="4352040"/>
                  <a:ext cx="8683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527120" y="4352040"/>
                  <a:ext cx="100476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2531880" y="4352040"/>
                <a:ext cx="1543320" cy="377280"/>
                <a:chOff x="2531880" y="4352040"/>
                <a:chExt cx="1543320" cy="37728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600280" y="4352040"/>
                  <a:ext cx="14065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71.3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531880" y="4352040"/>
                  <a:ext cx="154332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4075200" y="4352040"/>
                <a:ext cx="1542960" cy="377280"/>
                <a:chOff x="4075200" y="4352040"/>
                <a:chExt cx="1542960" cy="3772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4143240" y="4352040"/>
                  <a:ext cx="14065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70.3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075200" y="4352040"/>
                  <a:ext cx="154296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5618160" y="4352040"/>
                <a:ext cx="1542960" cy="377280"/>
                <a:chOff x="5618160" y="4352040"/>
                <a:chExt cx="1542960" cy="3772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5686200" y="4352040"/>
                  <a:ext cx="14065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.2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618160" y="4352040"/>
                  <a:ext cx="154296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1527120" y="4729680"/>
                <a:ext cx="1004760" cy="377280"/>
                <a:chOff x="1527120" y="4729680"/>
                <a:chExt cx="1004760" cy="3772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1595520" y="4729680"/>
                  <a:ext cx="8683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1527120" y="4729680"/>
                  <a:ext cx="100476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2531880" y="4729680"/>
                <a:ext cx="1543320" cy="377280"/>
                <a:chOff x="2531880" y="4729680"/>
                <a:chExt cx="1543320" cy="37728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2600280" y="4729680"/>
                  <a:ext cx="14065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98.6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531880" y="4729680"/>
                  <a:ext cx="154332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4075200" y="4729680"/>
                <a:ext cx="1542960" cy="377280"/>
                <a:chOff x="4075200" y="4729680"/>
                <a:chExt cx="1542960" cy="37728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143240" y="4729680"/>
                  <a:ext cx="14065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97.2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075200" y="4729680"/>
                  <a:ext cx="154296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5618160" y="4729680"/>
                <a:ext cx="1542960" cy="377280"/>
                <a:chOff x="5618160" y="4729680"/>
                <a:chExt cx="1542960" cy="37728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5686200" y="4729680"/>
                  <a:ext cx="14065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.28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618160" y="4729680"/>
                  <a:ext cx="154296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1527120" y="5106960"/>
                <a:ext cx="1004760" cy="377280"/>
                <a:chOff x="1527120" y="5106960"/>
                <a:chExt cx="1004760" cy="37728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1595520" y="5106960"/>
                  <a:ext cx="8683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5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527120" y="5106960"/>
                  <a:ext cx="100476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2531880" y="5106960"/>
                <a:ext cx="1543320" cy="377280"/>
                <a:chOff x="2531880" y="5106960"/>
                <a:chExt cx="1543320" cy="37728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2600280" y="5106960"/>
                  <a:ext cx="14065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512.1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2531880" y="5106960"/>
                  <a:ext cx="154332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4075200" y="5106960"/>
                <a:ext cx="1542960" cy="377280"/>
                <a:chOff x="4075200" y="5106960"/>
                <a:chExt cx="1542960" cy="37728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4143240" y="5106960"/>
                  <a:ext cx="14065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509.2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075200" y="5106960"/>
                  <a:ext cx="154296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5618160" y="5106960"/>
                <a:ext cx="1542960" cy="377280"/>
                <a:chOff x="5618160" y="5106960"/>
                <a:chExt cx="1542960" cy="37728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5686200" y="5106960"/>
                  <a:ext cx="14065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.39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r" pos="457200"/>
                      <a:tab algn="ctr" pos="2743200"/>
                      <a:tab algn="r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618160" y="5106960"/>
                  <a:ext cx="1542960" cy="37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2" name=""/>
            <p:cNvSpPr/>
            <p:nvPr/>
          </p:nvSpPr>
          <p:spPr>
            <a:xfrm>
              <a:off x="1523880" y="3124080"/>
              <a:ext cx="5640480" cy="236232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371600" y="21337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plit of Order+Factor (Sparse 1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011D-7D98-45C4-BC82-7F2730B96D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arse - searching pivo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998880" y="3011400"/>
          <a:ext cx="4419720" cy="29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8880" y="3011400"/>
                    <a:ext cx="4419720" cy="29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762120" y="2209680"/>
            <a:ext cx="7086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Sparse 1.3 – Not efficient in searching a piv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diagonal matri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–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quadratic growth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62720" y="579132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trix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952880" y="30481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8234-7289-43E3-B978-3955645B6E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perLU - Preorde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1219320" y="2286000"/>
            <a:ext cx="6781680" cy="2128320"/>
          </a:xfrm>
          <a:prstGeom prst="rect">
            <a:avLst/>
          </a:prstGeom>
          <a:solidFill>
            <a:srgbClr val="93e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ique:  </a:t>
            </a:r>
            <a:r>
              <a:rPr b="1" lang="en-US" sz="2400" spc="-1" strike="noStrike">
                <a:solidFill>
                  <a:srgbClr val="9c009c"/>
                </a:solidFill>
                <a:latin typeface="Tahoma"/>
              </a:rPr>
              <a:t>Column Elimination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better in most cases, but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Could be incorporated in Sparse sol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43000" y="47242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* Column ordering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 is a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key issue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 in the speed of direct sol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13EF-0A10-4CDC-9B71-2531FB2CA8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terative Solv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1676520" y="2514600"/>
            <a:ext cx="556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ZTEC (Iterative sol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YPRE (Iterative sol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4038480"/>
            <a:ext cx="6477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8b64"/>
                </a:solidFill>
                <a:latin typeface="Tahoma"/>
              </a:rPr>
              <a:t>Potential solvers for EM and coupled EM/CK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8b64"/>
                </a:solidFill>
                <a:latin typeface="Tahoma"/>
              </a:rPr>
              <a:t>(To be integrated and teste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C61D-FEEB-4762-B752-E560D3E3C0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E Solver - DASS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2286000"/>
            <a:ext cx="6248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DASS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ORTR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ckage develop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f. Linda R. Petzo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983, widely use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46483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8b64"/>
                </a:solidFill>
                <a:latin typeface="Tahoma"/>
              </a:rPr>
              <a:t>(To be integrated and teste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68B2-7B57-46C6-B72D-87EE35972B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43000" y="2286000"/>
            <a:ext cx="6629400" cy="3505320"/>
          </a:xfrm>
          <a:prstGeom prst="rect">
            <a:avLst/>
          </a:prstGeom>
          <a:gradFill rotWithShape="0">
            <a:gsLst>
              <a:gs pos="0">
                <a:srgbClr val="00976f"/>
              </a:gs>
              <a:gs pos="50000">
                <a:srgbClr val="00e4a8"/>
              </a:gs>
              <a:gs pos="100000">
                <a:srgbClr val="00976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gration of Solver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895480"/>
            <a:ext cx="4648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0fb0b"/>
                </a:solidFill>
                <a:latin typeface="Tahoma"/>
              </a:rPr>
              <a:t>Direct sol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fb0b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0fb0b"/>
                </a:solidFill>
                <a:latin typeface="Tahoma"/>
              </a:rPr>
              <a:t>Iterative sol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fb0b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0fb0b"/>
                </a:solidFill>
                <a:latin typeface="Tahoma"/>
              </a:rPr>
              <a:t>DAE sol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fb0b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0fb0b"/>
                </a:solidFill>
                <a:latin typeface="Tahoma"/>
              </a:rPr>
              <a:t>EM sol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25EB-5A20-49BC-9C6C-5B7B19052D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M solvers and CKT solv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2971800" y="2684520"/>
                <a:ext cx="198108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EM</m:t>
                              </m:r>
                            </m:e>
                            <m:e>
                              <m:r>
                                <m:t xml:space="preserve">C</m:t>
                              </m:r>
                            </m:e>
                          </m:mr>
                          <m:mr>
                            <m:e>
                              <m:r>
                                <m:t xml:space="preserve">G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KT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914400" y="20574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 matrix with CKT and EM compon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4114800"/>
            <a:ext cx="7239240" cy="1381680"/>
          </a:xfrm>
          <a:prstGeom prst="rect">
            <a:avLst/>
          </a:prstGeom>
          <a:solidFill>
            <a:srgbClr val="93e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EM sol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– Iterative, precondition, sparse/d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CKT sol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Direct (LU), more effic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71600" y="5562720"/>
            <a:ext cx="976320" cy="380880"/>
          </a:xfrm>
          <a:prstGeom prst="rightArrow">
            <a:avLst>
              <a:gd name="adj1" fmla="val 50000"/>
              <a:gd name="adj2" fmla="val 6408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590920" y="5410080"/>
            <a:ext cx="53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bd20"/>
                </a:solidFill>
                <a:latin typeface="Tahoma"/>
              </a:rPr>
              <a:t>Need an integrated solver to solve the whole system efficiently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6169-D0E4-4EBF-8D3C-C7FC04320A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2286000"/>
            <a:ext cx="7848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2362320"/>
            <a:ext cx="70866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9c00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to speedup Sparse 1.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c00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techniques in SuperLU are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c00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E solvers and iterative solvers are 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c00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gration with EM solvers is 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c00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a prototype design for integ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486E-D371-401D-AF8E-F72F7C63A3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14400" y="2057400"/>
            <a:ext cx="7315200" cy="3124080"/>
          </a:xfrm>
          <a:prstGeom prst="rect">
            <a:avLst/>
          </a:prstGeom>
          <a:gradFill rotWithShape="0">
            <a:gsLst>
              <a:gs pos="0">
                <a:srgbClr val="00e4a8"/>
              </a:gs>
              <a:gs pos="100000">
                <a:srgbClr val="00b38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3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inear and Nonlinear Solver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for CoSM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533412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valuation of public sol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novative nonlinear/time-domain sol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2209680"/>
            <a:ext cx="70102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TECHNICAL OBJECTIV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Linear Solver:  speedu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Solver integration: circuit and 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Optimized nonlinear/time-domain for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Accuracy (wide dynamic ranges: derivativ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1525-9849-4054-97F6-3022346E9A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hedule on Linear Sol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7613640" y="219240"/>
            <a:ext cx="1354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fc0128"/>
                </a:solidFill>
                <a:latin typeface="Arial"/>
              </a:rPr>
              <a:t>CoS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90720" y="2057400"/>
            <a:ext cx="7086600" cy="40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2c10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Quarter (Jan – Mar, 2003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dup Sparse 1.3 (pivoting efficienc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corporate some features of SuperLU in Spa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Finish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version of direct solver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2c10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6 months (-- June 2003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gration of Iterative solvers, DAE solvers, and EM solv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version of integrated CKT/EM solver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2c10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year (-- Dec 2003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, debug, enhanced ver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4F68-3FB5-4459-A001-5987FF0D19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47560" y="1189080"/>
            <a:ext cx="6848280" cy="18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c0128"/>
                </a:solidFill>
                <a:latin typeface="Tahoma"/>
              </a:rPr>
              <a:t>SILCA</a:t>
            </a:r>
            <a:r>
              <a:rPr b="0" i="1" lang="en-GB" sz="4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r>
              <a:rPr b="1" i="1" lang="en-GB" sz="4000" spc="-1" strike="noStrike">
                <a:solidFill>
                  <a:srgbClr val="fc0128"/>
                </a:solidFill>
                <a:latin typeface="Tahoma"/>
              </a:rPr>
              <a:t>S</a:t>
            </a:r>
            <a:r>
              <a:rPr b="1" i="1" lang="en-GB" sz="4000" spc="-1" strike="noStrike">
                <a:solidFill>
                  <a:srgbClr val="333399"/>
                </a:solidFill>
                <a:latin typeface="Tahoma"/>
              </a:rPr>
              <a:t>emi-</a:t>
            </a:r>
            <a:r>
              <a:rPr b="1" i="1" lang="en-GB" sz="4000" spc="-1" strike="noStrike">
                <a:solidFill>
                  <a:srgbClr val="fc0128"/>
                </a:solidFill>
                <a:latin typeface="Tahoma"/>
              </a:rPr>
              <a:t>I</a:t>
            </a:r>
            <a:r>
              <a:rPr b="1" i="1" lang="en-GB" sz="4000" spc="-1" strike="noStrike">
                <a:solidFill>
                  <a:srgbClr val="333399"/>
                </a:solidFill>
                <a:latin typeface="Tahoma"/>
              </a:rPr>
              <a:t>mplicit </a:t>
            </a:r>
            <a:r>
              <a:rPr b="1" i="1" lang="en-GB" sz="4000" spc="-1" strike="noStrike">
                <a:solidFill>
                  <a:srgbClr val="fc0128"/>
                </a:solidFill>
                <a:latin typeface="Tahoma"/>
              </a:rPr>
              <a:t>L</a:t>
            </a:r>
            <a:r>
              <a:rPr b="1" i="1" lang="en-GB" sz="4000" spc="-1" strike="noStrike">
                <a:solidFill>
                  <a:srgbClr val="333399"/>
                </a:solidFill>
                <a:latin typeface="Tahoma"/>
              </a:rPr>
              <a:t>inear </a:t>
            </a:r>
            <a:r>
              <a:rPr b="1" i="1" lang="en-GB" sz="4000" spc="-1" strike="noStrike">
                <a:solidFill>
                  <a:srgbClr val="fc0128"/>
                </a:solidFill>
                <a:latin typeface="Tahoma"/>
              </a:rPr>
              <a:t>C</a:t>
            </a:r>
            <a:r>
              <a:rPr b="1" i="1" lang="en-GB" sz="4000" spc="-1" strike="noStrike">
                <a:solidFill>
                  <a:srgbClr val="333399"/>
                </a:solidFill>
                <a:latin typeface="Tahoma"/>
              </a:rPr>
              <a:t>entric </a:t>
            </a:r>
            <a:r>
              <a:rPr b="1" i="1" lang="en-GB" sz="4000" spc="-1" strike="noStrike">
                <a:solidFill>
                  <a:srgbClr val="fc0128"/>
                </a:solidFill>
                <a:latin typeface="Tahoma"/>
              </a:rPr>
              <a:t>A</a:t>
            </a:r>
            <a:r>
              <a:rPr b="1" i="1" lang="en-GB" sz="4000" spc="-1" strike="noStrike">
                <a:solidFill>
                  <a:srgbClr val="333399"/>
                </a:solidFill>
                <a:latin typeface="Tahoma"/>
              </a:rPr>
              <a:t>nalysis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3732480"/>
            <a:ext cx="7796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85760" indent="-185760"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PhD Student: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Zhao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Advisor: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Prof. Richard S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Mixed Signal CAD Research Lab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Department of Electrical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University of Washington, Seattle  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5760"/>
                <a:tab algn="l" pos="593640"/>
                <a:tab algn="l" pos="1008000"/>
                <a:tab algn="l" pos="1422360"/>
                <a:tab algn="l" pos="1838160"/>
                <a:tab algn="l" pos="2252520"/>
                <a:tab algn="l" pos="2666880"/>
                <a:tab algn="l" pos="3081240"/>
                <a:tab algn="l" pos="3497400"/>
                <a:tab algn="l" pos="3911760"/>
                <a:tab algn="l" pos="4325760"/>
                <a:tab algn="l" pos="4740120"/>
                <a:tab algn="l" pos="5156280"/>
                <a:tab algn="l" pos="5575320"/>
                <a:tab algn="l" pos="5985000"/>
                <a:tab algn="l" pos="6399360"/>
                <a:tab algn="l" pos="6815160"/>
                <a:tab algn="l" pos="7229520"/>
                <a:tab algn="l" pos="7643880"/>
                <a:tab algn="l" pos="8058240"/>
                <a:tab algn="l" pos="8474040"/>
                <a:tab algn="l" pos="9102600"/>
                <a:tab algn="l" pos="9931320"/>
                <a:tab algn="l" pos="1076004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lz2000@ee.washington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957240" y="531720"/>
            <a:ext cx="7162920" cy="662040"/>
            <a:chOff x="957240" y="531720"/>
            <a:chExt cx="7162920" cy="662040"/>
          </a:xfrm>
        </p:grpSpPr>
        <p:sp>
          <p:nvSpPr>
            <p:cNvPr id="247" name=""/>
            <p:cNvSpPr/>
            <p:nvPr/>
          </p:nvSpPr>
          <p:spPr>
            <a:xfrm>
              <a:off x="957240" y="531720"/>
              <a:ext cx="7162920" cy="662040"/>
            </a:xfrm>
            <a:prstGeom prst="roundRect">
              <a:avLst>
                <a:gd name="adj" fmla="val 23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957240" y="652320"/>
              <a:ext cx="7162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3333cc"/>
                  </a:solidFill>
                  <a:latin typeface="Arial"/>
                </a:rPr>
                <a:t>CoSMoS Time-Domain Nonlinear Solv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1B8F-D20C-46FA-82F8-57518B9C49D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50720" y="950760"/>
            <a:ext cx="733572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600" spc="-1" strike="noStrike">
                <a:solidFill>
                  <a:srgbClr val="333399"/>
                </a:solidFill>
                <a:latin typeface="Tahoma"/>
              </a:rPr>
              <a:t>Time-Domain Simul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560" y="2174400"/>
            <a:ext cx="8119800" cy="38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12200" indent="0">
              <a:lnSpc>
                <a:spcPct val="90000"/>
              </a:lnSpc>
              <a:spcBef>
                <a:spcPts val="437"/>
              </a:spcBef>
              <a:buNone/>
              <a:tabLst>
                <a:tab algn="l" pos="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33cc"/>
                </a:solidFill>
                <a:latin typeface="Tahoma"/>
              </a:rPr>
              <a:t>Time-domain simulation is essential for the final verification of System-On-Chip (SOC) designs. Numerical integration is typically implemented in two way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12200" indent="0">
              <a:lnSpc>
                <a:spcPct val="90000"/>
              </a:lnSpc>
              <a:spcBef>
                <a:spcPts val="437"/>
              </a:spcBef>
              <a:buNone/>
              <a:tabLst>
                <a:tab algn="l" pos="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5200" indent="-27684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55000"/>
              <a:buFont typeface="StarBats" charset="2"/>
              <a:buChar char="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Variable-time-step methods are applied to achieve a balance between # of actual simulation points and accuracy </a:t>
            </a:r>
            <a:r>
              <a:rPr b="1" lang="en-GB" sz="2000" spc="-1" strike="noStrike">
                <a:solidFill>
                  <a:srgbClr val="fc0128"/>
                </a:solidFill>
                <a:latin typeface="Tahoma"/>
              </a:rPr>
              <a:t>(LU factorization and MNA matrix load are needed for each simulation poi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35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835200" indent="-27684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55000"/>
              <a:buFont typeface="StarBats" charset="2"/>
              <a:buChar char="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Fixed-time-step methods are applied to reduce the LU factorization and MNA matrix load cost </a:t>
            </a:r>
            <a:r>
              <a:rPr b="1" lang="en-GB" sz="2000" spc="-1" strike="noStrike">
                <a:solidFill>
                  <a:srgbClr val="fc0128"/>
                </a:solidFill>
                <a:latin typeface="Tahoma"/>
              </a:rPr>
              <a:t>(A relatively small time step is required to ensure accurac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099B-08A6-4CFF-85E1-48D49E8885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8960" y="765000"/>
            <a:ext cx="7535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600" spc="-1" strike="noStrike">
                <a:solidFill>
                  <a:srgbClr val="333399"/>
                </a:solidFill>
                <a:latin typeface="Tahoma"/>
              </a:rPr>
              <a:t>Time-Domain Simulation</a:t>
            </a:r>
            <a:br>
              <a:rPr sz="3600"/>
            </a:br>
            <a:r>
              <a:rPr b="1" i="1" lang="en-GB" sz="3600" spc="-1" strike="noStrike">
                <a:solidFill>
                  <a:srgbClr val="333399"/>
                </a:solidFill>
                <a:latin typeface="Tahoma"/>
              </a:rPr>
              <a:t>– Our Objectiv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3800" y="2335320"/>
            <a:ext cx="7364160" cy="36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Keep using variable-time-step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20840" indent="0">
              <a:spcBef>
                <a:spcPts val="524"/>
              </a:spcBef>
              <a:buNone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20840" indent="-316080"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Introduce a new semi-implicit integration formula to exploit the benefit of fixed-time-step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20840" indent="0">
              <a:spcBef>
                <a:spcPts val="524"/>
              </a:spcBef>
              <a:buNone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20840" indent="-316080"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Apply an iterative linear solver to ensure simulation stability and achieve more relax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4C0A-BD7F-49DF-955B-8048232367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3520" y="717480"/>
            <a:ext cx="696276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600" spc="-1" strike="noStrike">
                <a:solidFill>
                  <a:srgbClr val="333399"/>
                </a:solidFill>
                <a:latin typeface="Tahoma"/>
              </a:rPr>
              <a:t>Semi-Implicit Trapezoid Formul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>
            <a:off x="3367080" y="265572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46520" y="278136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00320" y="2666880"/>
            <a:ext cx="91378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05040" y="3233880"/>
            <a:ext cx="91378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685800" y="5105520"/>
                <a:ext cx="40132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limUpp>
                              <m:e>
                                <m:r>
                                  <m:t xml:space="preserve">x</m:t>
                                </m:r>
                              </m:e>
                              <m:lim/>
                            </m:limUpp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limUpp>
                          <m:e>
                            <m:r>
                              <m:t xml:space="preserve">x</m:t>
                            </m:r>
                          </m:e>
                          <m:lim/>
                        </m:limUpp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∗</m:t>
                        </m:r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3757680" y="3262320"/>
            <a:ext cx="913752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00240" y="4678200"/>
            <a:ext cx="407880" cy="546120"/>
          </a:xfrm>
          <a:custGeom>
            <a:avLst/>
            <a:gdLst/>
            <a:ahLst/>
            <a:rect l="l" t="t" r="r" b="b"/>
            <a:pathLst>
              <a:path w="1139" h="1523">
                <a:moveTo>
                  <a:pt x="283" y="0"/>
                </a:moveTo>
                <a:lnTo>
                  <a:pt x="283" y="1141"/>
                </a:lnTo>
                <a:lnTo>
                  <a:pt x="0" y="1141"/>
                </a:lnTo>
                <a:lnTo>
                  <a:pt x="568" y="1522"/>
                </a:lnTo>
                <a:lnTo>
                  <a:pt x="1138" y="1141"/>
                </a:lnTo>
                <a:lnTo>
                  <a:pt x="854" y="1141"/>
                </a:lnTo>
                <a:lnTo>
                  <a:pt x="854" y="0"/>
                </a:lnTo>
                <a:lnTo>
                  <a:pt x="283" y="0"/>
                </a:ln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838080" y="3948120"/>
                <a:ext cx="30099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limUpp>
                          <m:e>
                            <m:r>
                              <m:t xml:space="preserve">x</m:t>
                            </m:r>
                          </m:e>
                          <m:lim/>
                        </m:limUpp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limUpp>
                      <m:e>
                        <m:r>
                          <m:t xml:space="preserve">x</m:t>
                        </m:r>
                      </m:e>
                      <m:lim/>
                    </m:limUpp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5029200" y="4190760"/>
            <a:ext cx="3841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Trapezoid form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029200" y="5165280"/>
            <a:ext cx="391464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New formula for variable-time-step integration </a:t>
            </a:r>
            <a:r>
              <a:rPr b="1" lang="en-GB" sz="2000" spc="-1" strike="noStrike">
                <a:solidFill>
                  <a:srgbClr val="fc0128"/>
                </a:solidFill>
                <a:latin typeface="Arial"/>
              </a:rPr>
              <a:t>( </a:t>
            </a:r>
            <a:r>
              <a:rPr b="1" lang="en-GB" sz="2000" spc="-1" strike="noStrike">
                <a:solidFill>
                  <a:srgbClr val="fc0128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fc0128"/>
                </a:solidFill>
                <a:latin typeface="Arial"/>
              </a:rPr>
              <a:t>is the variable-time-step factor</a:t>
            </a:r>
            <a:r>
              <a:rPr b="1" lang="en-GB" sz="2000" spc="-1" strike="noStrike">
                <a:solidFill>
                  <a:srgbClr val="fc0128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562360" cy="23619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666880" y="5562720"/>
            <a:ext cx="2438640" cy="129528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00400" y="6095520"/>
            <a:ext cx="1447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306f8"/>
                </a:solidFill>
                <a:latin typeface="Arial"/>
              </a:rPr>
              <a:t>LU o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38B7-CBE6-4682-A372-9E5FFBA5CBA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3040" y="950400"/>
            <a:ext cx="739008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600" spc="-1" strike="noStrike">
                <a:solidFill>
                  <a:srgbClr val="333399"/>
                </a:solidFill>
                <a:latin typeface="Tahoma"/>
              </a:rPr>
              <a:t>Direct Semi-Implicit Solver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3367080" y="265572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55880" y="295416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60840" y="302724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46520" y="278136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00320" y="2666880"/>
            <a:ext cx="91378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605040" y="3233880"/>
            <a:ext cx="91378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57680" y="3262320"/>
            <a:ext cx="913752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457200" y="2209680"/>
            <a:ext cx="8318520" cy="1600200"/>
            <a:chOff x="457200" y="2209680"/>
            <a:chExt cx="8318520" cy="1600200"/>
          </a:xfrm>
        </p:grpSpPr>
        <p:sp>
          <p:nvSpPr>
            <p:cNvPr id="276" name=""/>
            <p:cNvSpPr/>
            <p:nvPr/>
          </p:nvSpPr>
          <p:spPr>
            <a:xfrm>
              <a:off x="457200" y="2209680"/>
              <a:ext cx="8318520" cy="1600200"/>
            </a:xfrm>
            <a:prstGeom prst="roundRect">
              <a:avLst>
                <a:gd name="adj" fmla="val 6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57200" y="2209680"/>
              <a:ext cx="8318520" cy="13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20840" indent="-316080">
                <a:spcBef>
                  <a:spcPts val="524"/>
                </a:spcBef>
                <a:buClr>
                  <a:srgbClr val="3333cc"/>
                </a:buClr>
                <a:buSzPct val="84000"/>
                <a:buFont typeface="Wingdings" charset="2"/>
                <a:buChar char=""/>
                <a:tabLst>
                  <a:tab algn="l" pos="420840"/>
                  <a:tab algn="l" pos="878040"/>
                  <a:tab algn="l" pos="1335240"/>
                  <a:tab algn="l" pos="1792440"/>
                  <a:tab algn="l" pos="2249640"/>
                  <a:tab algn="l" pos="2706840"/>
                  <a:tab algn="l" pos="3164040"/>
                  <a:tab algn="l" pos="3621240"/>
                  <a:tab algn="l" pos="4078440"/>
                  <a:tab algn="l" pos="4535640"/>
                  <a:tab algn="l" pos="4992840"/>
                  <a:tab algn="l" pos="5450040"/>
                  <a:tab algn="l" pos="5907240"/>
                  <a:tab algn="l" pos="6364440"/>
                  <a:tab algn="l" pos="6821640"/>
                  <a:tab algn="l" pos="7278840"/>
                  <a:tab algn="l" pos="7736040"/>
                  <a:tab algn="l" pos="8193240"/>
                  <a:tab algn="l" pos="8650440"/>
                  <a:tab algn="l" pos="9107640"/>
                  <a:tab algn="l" pos="9564840"/>
                  <a:tab algn="l" pos="10058400"/>
                </a:tabLst>
              </a:pPr>
              <a:r>
                <a:rPr b="1" lang="en-GB" sz="2000" spc="-1" strike="noStrike">
                  <a:solidFill>
                    <a:srgbClr val="3333cc"/>
                  </a:solidFill>
                  <a:latin typeface="Arial"/>
                </a:rPr>
                <a:t>To ensure simulation stability, </a:t>
              </a:r>
              <a:r>
                <a:rPr b="1" lang="en-GB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</a:t>
              </a:r>
              <a:r>
                <a:rPr b="1" lang="en-GB" sz="2000" spc="-1" strike="noStrike">
                  <a:solidFill>
                    <a:srgbClr val="3333cc"/>
                  </a:solidFill>
                  <a:latin typeface="Arial"/>
                </a:rPr>
                <a:t> must be less than 1 in theo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20840" indent="-316080">
                <a:spcBef>
                  <a:spcPts val="524"/>
                </a:spcBef>
                <a:buClr>
                  <a:srgbClr val="3333cc"/>
                </a:buClr>
                <a:buSzPct val="84000"/>
                <a:buFont typeface="Wingdings" charset="2"/>
                <a:buChar char=""/>
                <a:tabLst>
                  <a:tab algn="l" pos="420840"/>
                  <a:tab algn="l" pos="878040"/>
                  <a:tab algn="l" pos="1335240"/>
                  <a:tab algn="l" pos="1792440"/>
                  <a:tab algn="l" pos="2249640"/>
                  <a:tab algn="l" pos="2706840"/>
                  <a:tab algn="l" pos="3164040"/>
                  <a:tab algn="l" pos="3621240"/>
                  <a:tab algn="l" pos="4078440"/>
                  <a:tab algn="l" pos="4535640"/>
                  <a:tab algn="l" pos="4992840"/>
                  <a:tab algn="l" pos="5450040"/>
                  <a:tab algn="l" pos="5907240"/>
                  <a:tab algn="l" pos="6364440"/>
                  <a:tab algn="l" pos="6821640"/>
                  <a:tab algn="l" pos="7278840"/>
                  <a:tab algn="l" pos="7736040"/>
                  <a:tab algn="l" pos="8193240"/>
                  <a:tab algn="l" pos="8650440"/>
                  <a:tab algn="l" pos="9107640"/>
                  <a:tab algn="l" pos="9564840"/>
                  <a:tab algn="l" pos="10058400"/>
                </a:tabLst>
              </a:pPr>
              <a:r>
                <a:rPr b="1" lang="en-GB" sz="2000" spc="-1" strike="noStrike">
                  <a:solidFill>
                    <a:srgbClr val="3333cc"/>
                  </a:solidFill>
                  <a:latin typeface="Arial"/>
                </a:rPr>
                <a:t>To satisfy the LTE requirement, </a:t>
              </a:r>
              <a:r>
                <a:rPr b="1" lang="en-GB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</a:t>
              </a:r>
              <a:r>
                <a:rPr b="1" lang="en-GB" sz="2000" spc="-1" strike="noStrike">
                  <a:solidFill>
                    <a:srgbClr val="3333cc"/>
                  </a:solidFill>
                  <a:latin typeface="Arial"/>
                </a:rPr>
                <a:t> should be close to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20840" indent="-316080">
                <a:spcBef>
                  <a:spcPts val="524"/>
                </a:spcBef>
                <a:buClr>
                  <a:srgbClr val="3333cc"/>
                </a:buClr>
                <a:buSzPct val="84000"/>
                <a:buFont typeface="Wingdings" charset="2"/>
                <a:buChar char=""/>
                <a:tabLst>
                  <a:tab algn="l" pos="420840"/>
                  <a:tab algn="l" pos="878040"/>
                  <a:tab algn="l" pos="1335240"/>
                  <a:tab algn="l" pos="1792440"/>
                  <a:tab algn="l" pos="2249640"/>
                  <a:tab algn="l" pos="2706840"/>
                  <a:tab algn="l" pos="3164040"/>
                  <a:tab algn="l" pos="3621240"/>
                  <a:tab algn="l" pos="4078440"/>
                  <a:tab algn="l" pos="4535640"/>
                  <a:tab algn="l" pos="4992840"/>
                  <a:tab algn="l" pos="5450040"/>
                  <a:tab algn="l" pos="5907240"/>
                  <a:tab algn="l" pos="6364440"/>
                  <a:tab algn="l" pos="6821640"/>
                  <a:tab algn="l" pos="7278840"/>
                  <a:tab algn="l" pos="7736040"/>
                  <a:tab algn="l" pos="8193240"/>
                  <a:tab algn="l" pos="8650440"/>
                  <a:tab algn="l" pos="9107640"/>
                  <a:tab algn="l" pos="9564840"/>
                  <a:tab algn="l" pos="10058400"/>
                </a:tabLst>
              </a:pPr>
              <a:r>
                <a:rPr b="1" lang="en-GB" sz="2000" spc="-1" strike="noStrike">
                  <a:solidFill>
                    <a:srgbClr val="3333cc"/>
                  </a:solidFill>
                  <a:latin typeface="Arial"/>
                </a:rPr>
                <a:t>In practice, we found </a:t>
              </a:r>
              <a:r>
                <a:rPr b="1" lang="en-GB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</a:t>
              </a:r>
              <a:r>
                <a:rPr b="1" lang="en-GB" sz="2000" spc="-1" strike="noStrike">
                  <a:solidFill>
                    <a:srgbClr val="3333cc"/>
                  </a:solidFill>
                  <a:latin typeface="Arial"/>
                </a:rPr>
                <a:t> can only be varied between 0.9 and 1.05, the relaxed SPICE can achieve this to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4749840" cy="22892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5029200" y="3657600"/>
            <a:ext cx="3733920" cy="2932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91C7-BFAE-4D54-8B94-413C37B5ADF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3000" y="914040"/>
            <a:ext cx="776592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600" spc="-1" strike="noStrike">
                <a:solidFill>
                  <a:srgbClr val="333399"/>
                </a:solidFill>
                <a:latin typeface="Tahoma"/>
              </a:rPr>
              <a:t>Iterative Semi-Implicit Solver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3367080" y="265572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55880" y="295416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60840" y="302724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746520" y="278136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100320" y="2666880"/>
            <a:ext cx="91378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605040" y="3233880"/>
            <a:ext cx="91378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757680" y="3262320"/>
            <a:ext cx="913752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" y="3276720"/>
            <a:ext cx="8318520" cy="3014640"/>
            <a:chOff x="457200" y="3276720"/>
            <a:chExt cx="8318520" cy="3014640"/>
          </a:xfrm>
        </p:grpSpPr>
        <p:sp>
          <p:nvSpPr>
            <p:cNvPr id="289" name=""/>
            <p:cNvSpPr/>
            <p:nvPr/>
          </p:nvSpPr>
          <p:spPr>
            <a:xfrm>
              <a:off x="457200" y="3276720"/>
              <a:ext cx="8318520" cy="3014640"/>
            </a:xfrm>
            <a:prstGeom prst="roundRect">
              <a:avLst>
                <a:gd name="adj" fmla="val 5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" y="3276720"/>
              <a:ext cx="8318520" cy="21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20840" indent="-316080">
                <a:spcBef>
                  <a:spcPts val="524"/>
                </a:spcBef>
                <a:buClr>
                  <a:srgbClr val="3333cc"/>
                </a:buClr>
                <a:buSzPct val="102000"/>
                <a:buFont typeface="Wingdings" charset="2"/>
                <a:buChar char=""/>
                <a:tabLst>
                  <a:tab algn="l" pos="420840"/>
                  <a:tab algn="l" pos="878040"/>
                  <a:tab algn="l" pos="1335240"/>
                  <a:tab algn="l" pos="1792440"/>
                  <a:tab algn="l" pos="2249640"/>
                  <a:tab algn="l" pos="2706840"/>
                  <a:tab algn="l" pos="3164040"/>
                  <a:tab algn="l" pos="3621240"/>
                  <a:tab algn="l" pos="4078440"/>
                  <a:tab algn="l" pos="4535640"/>
                  <a:tab algn="l" pos="4992840"/>
                  <a:tab algn="l" pos="5450040"/>
                  <a:tab algn="l" pos="5907240"/>
                  <a:tab algn="l" pos="6364440"/>
                  <a:tab algn="l" pos="6821640"/>
                  <a:tab algn="l" pos="7278840"/>
                  <a:tab algn="l" pos="7736040"/>
                  <a:tab algn="l" pos="8193240"/>
                  <a:tab algn="l" pos="8650440"/>
                  <a:tab algn="l" pos="9107640"/>
                  <a:tab algn="l" pos="956484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Arial"/>
                </a:rPr>
                <a:t>The </a:t>
              </a:r>
              <a:r>
                <a:rPr b="1" i="1" lang="en-GB" sz="2400" spc="-1" strike="noStrike">
                  <a:solidFill>
                    <a:srgbClr val="fc0128"/>
                  </a:solidFill>
                  <a:latin typeface="Arial"/>
                </a:rPr>
                <a:t>Semi-Implicit</a:t>
              </a:r>
              <a:r>
                <a:rPr b="1" lang="en-GB" sz="2400" spc="-1" strike="noStrike">
                  <a:solidFill>
                    <a:srgbClr val="3333cc"/>
                  </a:solidFill>
                  <a:latin typeface="Arial"/>
                </a:rPr>
                <a:t> solution is used as an initial guess for an iterative solver to find a final </a:t>
              </a:r>
              <a:r>
                <a:rPr b="1" i="1" lang="en-GB" sz="2400" spc="-1" strike="noStrike">
                  <a:solidFill>
                    <a:srgbClr val="fc0128"/>
                  </a:solidFill>
                  <a:latin typeface="Arial"/>
                </a:rPr>
                <a:t>Implicit</a:t>
              </a:r>
              <a:r>
                <a:rPr b="1" lang="en-GB" sz="2400" spc="-1" strike="noStrike">
                  <a:solidFill>
                    <a:srgbClr val="3333cc"/>
                  </a:solidFill>
                  <a:latin typeface="Arial"/>
                </a:rPr>
                <a:t> solution </a:t>
              </a:r>
              <a:r>
                <a:rPr b="1" lang="en-GB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</a:t>
              </a:r>
              <a:r>
                <a:rPr b="1" lang="en-GB" sz="24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Stability and accuracy are ensured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20840" indent="-316080">
                <a:spcBef>
                  <a:spcPts val="524"/>
                </a:spcBef>
                <a:tabLst>
                  <a:tab algn="l" pos="0"/>
                  <a:tab algn="l" pos="420840"/>
                  <a:tab algn="l" pos="878040"/>
                  <a:tab algn="l" pos="1335240"/>
                  <a:tab algn="l" pos="1792440"/>
                  <a:tab algn="l" pos="2249640"/>
                  <a:tab algn="l" pos="2706840"/>
                  <a:tab algn="l" pos="3164040"/>
                  <a:tab algn="l" pos="3621240"/>
                  <a:tab algn="l" pos="4078440"/>
                  <a:tab algn="l" pos="4535640"/>
                  <a:tab algn="l" pos="4992840"/>
                  <a:tab algn="l" pos="5450040"/>
                  <a:tab algn="l" pos="5907240"/>
                  <a:tab algn="l" pos="6364440"/>
                  <a:tab algn="l" pos="6821640"/>
                  <a:tab algn="l" pos="7278840"/>
                  <a:tab algn="l" pos="7736040"/>
                  <a:tab algn="l" pos="8193240"/>
                  <a:tab algn="l" pos="8650440"/>
                  <a:tab algn="l" pos="9107640"/>
                  <a:tab algn="l" pos="956484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20840" indent="-316080">
                <a:spcBef>
                  <a:spcPts val="524"/>
                </a:spcBef>
                <a:buClr>
                  <a:srgbClr val="3333cc"/>
                </a:buClr>
                <a:buSzPct val="102000"/>
                <a:buFont typeface="Wingdings" charset="2"/>
                <a:buChar char=""/>
                <a:tabLst>
                  <a:tab algn="l" pos="420840"/>
                  <a:tab algn="l" pos="878040"/>
                  <a:tab algn="l" pos="1335240"/>
                  <a:tab algn="l" pos="1792440"/>
                  <a:tab algn="l" pos="2249640"/>
                  <a:tab algn="l" pos="2706840"/>
                  <a:tab algn="l" pos="3164040"/>
                  <a:tab algn="l" pos="3621240"/>
                  <a:tab algn="l" pos="4078440"/>
                  <a:tab algn="l" pos="4535640"/>
                  <a:tab algn="l" pos="4992840"/>
                  <a:tab algn="l" pos="5450040"/>
                  <a:tab algn="l" pos="5907240"/>
                  <a:tab algn="l" pos="6364440"/>
                  <a:tab algn="l" pos="6821640"/>
                  <a:tab algn="l" pos="7278840"/>
                  <a:tab algn="l" pos="7736040"/>
                  <a:tab algn="l" pos="8193240"/>
                  <a:tab algn="l" pos="8650440"/>
                  <a:tab algn="l" pos="9107640"/>
                  <a:tab algn="l" pos="956484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Arial"/>
                </a:rPr>
                <a:t>In practice, we found </a:t>
              </a:r>
              <a:r>
                <a:rPr b="1" lang="en-GB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</a:t>
              </a:r>
              <a:r>
                <a:rPr b="1" lang="en-GB" sz="2400" spc="-1" strike="noStrike">
                  <a:solidFill>
                    <a:srgbClr val="3333cc"/>
                  </a:solidFill>
                  <a:latin typeface="Arial"/>
                </a:rPr>
                <a:t> can be varied more widely </a:t>
              </a:r>
              <a:r>
                <a:rPr b="1" lang="en-GB" sz="2400" spc="-1" strike="noStrike">
                  <a:solidFill>
                    <a:srgbClr val="fc0128"/>
                  </a:solidFill>
                  <a:latin typeface="Arial"/>
                </a:rPr>
                <a:t>(between 0.667 and 2)</a:t>
              </a:r>
              <a:r>
                <a:rPr b="1" lang="en-GB" sz="24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en-GB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</a:t>
              </a:r>
              <a:r>
                <a:rPr b="1" lang="en-GB" sz="2400" spc="-1" strike="noStrike">
                  <a:solidFill>
                    <a:srgbClr val="3333cc"/>
                  </a:solidFill>
                  <a:latin typeface="Arial"/>
                </a:rPr>
                <a:t> more relaxation is achiev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600200" y="2133720"/>
                <a:ext cx="581832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limUpp>
                          <m:e>
                            <m:r>
                              <m:t xml:space="preserve">x</m:t>
                            </m:r>
                          </m:e>
                          <m:lim/>
                        </m:limUpp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(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αh</m:t>
                        </m:r>
                      </m:den>
                    </m:f>
                    <m:r>
                      <m:t xml:space="preserve">−</m:t>
                    </m:r>
                    <m:limUpp>
                      <m:e>
                        <m:r>
                          <m:t xml:space="preserve">x</m:t>
                        </m:r>
                      </m:e>
                      <m:lim/>
                    </m:limUp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B0F8-8FB0-4CAC-87C6-A2E8002CD16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2680" y="717480"/>
            <a:ext cx="716148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600" spc="-1" strike="noStrike">
                <a:solidFill>
                  <a:srgbClr val="333399"/>
                </a:solidFill>
                <a:latin typeface="Tahoma"/>
              </a:rPr>
              <a:t>Linear Circuit Analysis Examp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"/>
          <p:cNvSpPr/>
          <p:nvPr/>
        </p:nvSpPr>
        <p:spPr>
          <a:xfrm>
            <a:off x="3367080" y="265572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755880" y="295416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660840" y="302724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746520" y="278136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100320" y="2666880"/>
            <a:ext cx="91378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05040" y="3233880"/>
            <a:ext cx="91378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7680" y="3262320"/>
            <a:ext cx="913752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04920" y="2133720"/>
            <a:ext cx="8683560" cy="1852560"/>
            <a:chOff x="304920" y="2133720"/>
            <a:chExt cx="8683560" cy="1852560"/>
          </a:xfrm>
        </p:grpSpPr>
        <p:sp>
          <p:nvSpPr>
            <p:cNvPr id="301" name=""/>
            <p:cNvSpPr/>
            <p:nvPr/>
          </p:nvSpPr>
          <p:spPr>
            <a:xfrm>
              <a:off x="304920" y="2133720"/>
              <a:ext cx="8683560" cy="1852560"/>
            </a:xfrm>
            <a:prstGeom prst="roundRect">
              <a:avLst>
                <a:gd name="adj" fmla="val 8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04920" y="2133720"/>
              <a:ext cx="8683560" cy="128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20840" indent="-316080">
                <a:spcBef>
                  <a:spcPts val="524"/>
                </a:spcBef>
                <a:buClr>
                  <a:srgbClr val="3333cc"/>
                </a:buClr>
                <a:buSzPct val="84000"/>
                <a:buFont typeface="Wingdings" charset="2"/>
                <a:buChar char=""/>
                <a:tabLst>
                  <a:tab algn="l" pos="420840"/>
                  <a:tab algn="l" pos="878040"/>
                  <a:tab algn="l" pos="1335240"/>
                  <a:tab algn="l" pos="1792440"/>
                  <a:tab algn="l" pos="2249640"/>
                  <a:tab algn="l" pos="2706840"/>
                  <a:tab algn="l" pos="3164040"/>
                  <a:tab algn="l" pos="3621240"/>
                  <a:tab algn="l" pos="4078440"/>
                  <a:tab algn="l" pos="4535640"/>
                  <a:tab algn="l" pos="4992840"/>
                  <a:tab algn="l" pos="5450040"/>
                  <a:tab algn="l" pos="5907240"/>
                  <a:tab algn="l" pos="6364440"/>
                  <a:tab algn="l" pos="6821640"/>
                  <a:tab algn="l" pos="7278840"/>
                  <a:tab algn="l" pos="7736040"/>
                  <a:tab algn="l" pos="8193240"/>
                  <a:tab algn="l" pos="8650440"/>
                  <a:tab algn="l" pos="9107640"/>
                  <a:tab algn="l" pos="9564840"/>
                  <a:tab algn="l" pos="10058400"/>
                </a:tabLst>
              </a:pPr>
              <a:r>
                <a:rPr b="1" lang="en-GB" sz="2000" spc="-1" strike="noStrike">
                  <a:solidFill>
                    <a:srgbClr val="3333cc"/>
                  </a:solidFill>
                  <a:latin typeface="Arial"/>
                </a:rPr>
                <a:t>A stiff circuit example </a:t>
              </a:r>
              <a:r>
                <a:rPr b="1" lang="en-GB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</a:t>
              </a:r>
              <a:r>
                <a:rPr b="1" lang="en-GB" sz="2000" spc="-1" strike="noStrike">
                  <a:solidFill>
                    <a:srgbClr val="3333cc"/>
                  </a:solidFill>
                  <a:latin typeface="Arial"/>
                </a:rPr>
                <a:t> two RCL circuits with 100X time constant differ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20840" indent="-316080">
                <a:spcBef>
                  <a:spcPts val="524"/>
                </a:spcBef>
                <a:buClr>
                  <a:srgbClr val="3333cc"/>
                </a:buClr>
                <a:buSzPct val="84000"/>
                <a:buFont typeface="Wingdings" charset="2"/>
                <a:buChar char=""/>
                <a:tabLst>
                  <a:tab algn="l" pos="420840"/>
                  <a:tab algn="l" pos="878040"/>
                  <a:tab algn="l" pos="1335240"/>
                  <a:tab algn="l" pos="1792440"/>
                  <a:tab algn="l" pos="2249640"/>
                  <a:tab algn="l" pos="2706840"/>
                  <a:tab algn="l" pos="3164040"/>
                  <a:tab algn="l" pos="3621240"/>
                  <a:tab algn="l" pos="4078440"/>
                  <a:tab algn="l" pos="4535640"/>
                  <a:tab algn="l" pos="4992840"/>
                  <a:tab algn="l" pos="5450040"/>
                  <a:tab algn="l" pos="5907240"/>
                  <a:tab algn="l" pos="6364440"/>
                  <a:tab algn="l" pos="6821640"/>
                  <a:tab algn="l" pos="7278840"/>
                  <a:tab algn="l" pos="7736040"/>
                  <a:tab algn="l" pos="8193240"/>
                  <a:tab algn="l" pos="8650440"/>
                  <a:tab algn="l" pos="9107640"/>
                  <a:tab algn="l" pos="9564840"/>
                  <a:tab algn="l" pos="10058400"/>
                </a:tabLst>
              </a:pPr>
              <a:r>
                <a:rPr b="1" lang="en-GB" sz="2000" spc="-1" strike="noStrike">
                  <a:solidFill>
                    <a:srgbClr val="3333cc"/>
                  </a:solidFill>
                  <a:latin typeface="Arial"/>
                </a:rPr>
                <a:t>Initial time step 0.01 sec, simulation interval 160 sec, 16001 simulation points are needed for fixed-time-step metho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1752480" y="3352680"/>
            <a:ext cx="5486400" cy="16765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09480" y="4648320"/>
            <a:ext cx="3679920" cy="198108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029200" y="4800600"/>
            <a:ext cx="350532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C777-9966-44B2-956F-23224A48E7D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19320" y="655560"/>
            <a:ext cx="769608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600" spc="-1" strike="noStrike">
                <a:solidFill>
                  <a:srgbClr val="333399"/>
                </a:solidFill>
                <a:latin typeface="Tahoma"/>
              </a:rPr>
              <a:t>Comparison of CoSMoS Linear Time-Domain Solvers with SP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7" name=""/>
          <p:cNvSpPr/>
          <p:nvPr/>
        </p:nvSpPr>
        <p:spPr>
          <a:xfrm>
            <a:off x="3367080" y="265572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755880" y="295416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660840" y="302724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46520" y="278136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00320" y="2666880"/>
            <a:ext cx="91378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605040" y="3233880"/>
            <a:ext cx="91378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757680" y="3262320"/>
            <a:ext cx="913752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457200" y="5410080"/>
            <a:ext cx="8318520" cy="990720"/>
            <a:chOff x="457200" y="5410080"/>
            <a:chExt cx="8318520" cy="990720"/>
          </a:xfrm>
        </p:grpSpPr>
        <p:sp>
          <p:nvSpPr>
            <p:cNvPr id="315" name=""/>
            <p:cNvSpPr/>
            <p:nvPr/>
          </p:nvSpPr>
          <p:spPr>
            <a:xfrm>
              <a:off x="457200" y="5410080"/>
              <a:ext cx="8318520" cy="990720"/>
            </a:xfrm>
            <a:prstGeom prst="roundRect">
              <a:avLst>
                <a:gd name="adj" fmla="val 1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57200" y="5410080"/>
              <a:ext cx="831852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20840" indent="-316080">
                <a:spcBef>
                  <a:spcPts val="524"/>
                </a:spcBef>
                <a:buClr>
                  <a:srgbClr val="3333cc"/>
                </a:buClr>
                <a:buSzPct val="102000"/>
                <a:buFont typeface="Wingdings" charset="2"/>
                <a:buChar char=""/>
                <a:tabLst>
                  <a:tab algn="l" pos="420840"/>
                  <a:tab algn="l" pos="878040"/>
                  <a:tab algn="l" pos="1335240"/>
                  <a:tab algn="l" pos="1792440"/>
                  <a:tab algn="l" pos="2249640"/>
                  <a:tab algn="l" pos="2706840"/>
                  <a:tab algn="l" pos="3164040"/>
                  <a:tab algn="l" pos="3621240"/>
                  <a:tab algn="l" pos="4078440"/>
                  <a:tab algn="l" pos="4535640"/>
                  <a:tab algn="l" pos="4992840"/>
                  <a:tab algn="l" pos="5450040"/>
                  <a:tab algn="l" pos="5907240"/>
                  <a:tab algn="l" pos="6364440"/>
                  <a:tab algn="l" pos="6821640"/>
                  <a:tab algn="l" pos="7278840"/>
                  <a:tab algn="l" pos="7736040"/>
                  <a:tab algn="l" pos="8193240"/>
                  <a:tab algn="l" pos="8650440"/>
                  <a:tab algn="l" pos="9107640"/>
                  <a:tab algn="l" pos="9564840"/>
                  <a:tab algn="l" pos="10058400"/>
                </a:tabLst>
              </a:pPr>
              <a:r>
                <a:rPr b="1" lang="en-GB" sz="2000" spc="-1" strike="noStrike">
                  <a:solidFill>
                    <a:srgbClr val="3333cc"/>
                  </a:solidFill>
                  <a:latin typeface="Arial"/>
                </a:rPr>
                <a:t>Although more iterations are introduced for linear circuit solving, its overhead may be decreased when combined with nonlinear circuit solv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04920" y="1981080"/>
            <a:ext cx="8606880" cy="3276360"/>
            <a:chOff x="304920" y="1981080"/>
            <a:chExt cx="8606880" cy="3276360"/>
          </a:xfrm>
        </p:grpSpPr>
        <p:grpSp>
          <p:nvGrpSpPr>
            <p:cNvPr id="318" name=""/>
            <p:cNvGrpSpPr/>
            <p:nvPr/>
          </p:nvGrpSpPr>
          <p:grpSpPr>
            <a:xfrm>
              <a:off x="7010280" y="4640760"/>
              <a:ext cx="1895040" cy="606240"/>
              <a:chOff x="7010280" y="4640760"/>
              <a:chExt cx="1895040" cy="606240"/>
            </a:xfrm>
          </p:grpSpPr>
          <p:sp>
            <p:nvSpPr>
              <p:cNvPr id="319" name=""/>
              <p:cNvSpPr/>
              <p:nvPr/>
            </p:nvSpPr>
            <p:spPr>
              <a:xfrm>
                <a:off x="7010280" y="4640760"/>
                <a:ext cx="1895040" cy="60624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010280" y="4640760"/>
                <a:ext cx="189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0" lang="en-GB" sz="2000" spc="-1" strike="noStrike">
                    <a:solidFill>
                      <a:srgbClr val="ff0000"/>
                    </a:solidFill>
                    <a:latin typeface="Times New Roman"/>
                  </a:rPr>
                  <a:t>35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5216760" y="4640760"/>
              <a:ext cx="1787760" cy="606240"/>
              <a:chOff x="5216760" y="4640760"/>
              <a:chExt cx="1787760" cy="606240"/>
            </a:xfrm>
          </p:grpSpPr>
          <p:sp>
            <p:nvSpPr>
              <p:cNvPr id="322" name=""/>
              <p:cNvSpPr/>
              <p:nvPr/>
            </p:nvSpPr>
            <p:spPr>
              <a:xfrm>
                <a:off x="5216760" y="4640760"/>
                <a:ext cx="1787760" cy="60624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216760" y="4640760"/>
                <a:ext cx="17877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1151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006360" y="4640760"/>
              <a:ext cx="2204280" cy="606240"/>
              <a:chOff x="3006360" y="4640760"/>
              <a:chExt cx="2204280" cy="606240"/>
            </a:xfrm>
          </p:grpSpPr>
          <p:sp>
            <p:nvSpPr>
              <p:cNvPr id="325" name=""/>
              <p:cNvSpPr/>
              <p:nvPr/>
            </p:nvSpPr>
            <p:spPr>
              <a:xfrm>
                <a:off x="3006360" y="4640760"/>
                <a:ext cx="2204280" cy="60624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006360" y="4640760"/>
                <a:ext cx="22042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197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04920" y="4640760"/>
              <a:ext cx="2693880" cy="610200"/>
              <a:chOff x="304920" y="4640760"/>
              <a:chExt cx="2693880" cy="610200"/>
            </a:xfrm>
          </p:grpSpPr>
          <p:sp>
            <p:nvSpPr>
              <p:cNvPr id="328" name=""/>
              <p:cNvSpPr/>
              <p:nvPr/>
            </p:nvSpPr>
            <p:spPr>
              <a:xfrm>
                <a:off x="304920" y="4640760"/>
                <a:ext cx="2693880" cy="60300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4920" y="4640760"/>
                <a:ext cx="269388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CoSMoS Iterative Semi-Implici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7010280" y="4023720"/>
              <a:ext cx="1895040" cy="606240"/>
              <a:chOff x="7010280" y="4023720"/>
              <a:chExt cx="1895040" cy="606240"/>
            </a:xfrm>
          </p:grpSpPr>
          <p:sp>
            <p:nvSpPr>
              <p:cNvPr id="331" name=""/>
              <p:cNvSpPr/>
              <p:nvPr/>
            </p:nvSpPr>
            <p:spPr>
              <a:xfrm>
                <a:off x="7010280" y="4023720"/>
                <a:ext cx="1895040" cy="60624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010280" y="4023720"/>
                <a:ext cx="189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126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5216760" y="4023720"/>
              <a:ext cx="1787760" cy="606240"/>
              <a:chOff x="5216760" y="4023720"/>
              <a:chExt cx="1787760" cy="606240"/>
            </a:xfrm>
          </p:grpSpPr>
          <p:sp>
            <p:nvSpPr>
              <p:cNvPr id="334" name=""/>
              <p:cNvSpPr/>
              <p:nvPr/>
            </p:nvSpPr>
            <p:spPr>
              <a:xfrm>
                <a:off x="5216760" y="4023720"/>
                <a:ext cx="1787760" cy="60624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216760" y="4023720"/>
                <a:ext cx="17877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489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3006360" y="4023720"/>
              <a:ext cx="2204280" cy="606240"/>
              <a:chOff x="3006360" y="4023720"/>
              <a:chExt cx="2204280" cy="606240"/>
            </a:xfrm>
          </p:grpSpPr>
          <p:sp>
            <p:nvSpPr>
              <p:cNvPr id="337" name=""/>
              <p:cNvSpPr/>
              <p:nvPr/>
            </p:nvSpPr>
            <p:spPr>
              <a:xfrm>
                <a:off x="3006360" y="4023720"/>
                <a:ext cx="2204280" cy="60624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006360" y="4023720"/>
                <a:ext cx="22042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195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304920" y="4023720"/>
              <a:ext cx="2693880" cy="610200"/>
              <a:chOff x="304920" y="4023720"/>
              <a:chExt cx="2693880" cy="610200"/>
            </a:xfrm>
          </p:grpSpPr>
          <p:sp>
            <p:nvSpPr>
              <p:cNvPr id="340" name=""/>
              <p:cNvSpPr/>
              <p:nvPr/>
            </p:nvSpPr>
            <p:spPr>
              <a:xfrm>
                <a:off x="304920" y="4023720"/>
                <a:ext cx="2693880" cy="60588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04920" y="4023720"/>
                <a:ext cx="269388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CoSMoS Direct Semi-Implici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7010280" y="3463920"/>
              <a:ext cx="1895040" cy="553680"/>
              <a:chOff x="7010280" y="3463920"/>
              <a:chExt cx="1895040" cy="553680"/>
            </a:xfrm>
          </p:grpSpPr>
          <p:sp>
            <p:nvSpPr>
              <p:cNvPr id="343" name=""/>
              <p:cNvSpPr/>
              <p:nvPr/>
            </p:nvSpPr>
            <p:spPr>
              <a:xfrm>
                <a:off x="7010280" y="3463920"/>
                <a:ext cx="1895040" cy="55368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010280" y="3463920"/>
                <a:ext cx="189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167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5216760" y="3463920"/>
              <a:ext cx="1787760" cy="553680"/>
              <a:chOff x="5216760" y="3463920"/>
              <a:chExt cx="1787760" cy="553680"/>
            </a:xfrm>
          </p:grpSpPr>
          <p:sp>
            <p:nvSpPr>
              <p:cNvPr id="346" name=""/>
              <p:cNvSpPr/>
              <p:nvPr/>
            </p:nvSpPr>
            <p:spPr>
              <a:xfrm>
                <a:off x="5216760" y="3463920"/>
                <a:ext cx="1787760" cy="55368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216760" y="3463920"/>
                <a:ext cx="17877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525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3006360" y="3463920"/>
              <a:ext cx="2204280" cy="553680"/>
              <a:chOff x="3006360" y="3463920"/>
              <a:chExt cx="2204280" cy="553680"/>
            </a:xfrm>
          </p:grpSpPr>
          <p:sp>
            <p:nvSpPr>
              <p:cNvPr id="349" name=""/>
              <p:cNvSpPr/>
              <p:nvPr/>
            </p:nvSpPr>
            <p:spPr>
              <a:xfrm>
                <a:off x="3006360" y="3463920"/>
                <a:ext cx="2204280" cy="55368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06360" y="3463920"/>
                <a:ext cx="22042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196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304920" y="3463920"/>
              <a:ext cx="2693880" cy="553680"/>
              <a:chOff x="304920" y="3463920"/>
              <a:chExt cx="2693880" cy="553680"/>
            </a:xfrm>
          </p:grpSpPr>
          <p:sp>
            <p:nvSpPr>
              <p:cNvPr id="352" name=""/>
              <p:cNvSpPr/>
              <p:nvPr/>
            </p:nvSpPr>
            <p:spPr>
              <a:xfrm>
                <a:off x="304920" y="3463920"/>
                <a:ext cx="2693880" cy="55368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04920" y="3463920"/>
                <a:ext cx="2693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Relaxed SPIC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7010280" y="2919600"/>
              <a:ext cx="1895040" cy="535680"/>
              <a:chOff x="7010280" y="2919600"/>
              <a:chExt cx="1895040" cy="535680"/>
            </a:xfrm>
          </p:grpSpPr>
          <p:sp>
            <p:nvSpPr>
              <p:cNvPr id="355" name=""/>
              <p:cNvSpPr/>
              <p:nvPr/>
            </p:nvSpPr>
            <p:spPr>
              <a:xfrm>
                <a:off x="7010280" y="2919600"/>
                <a:ext cx="1895040" cy="535680"/>
              </a:xfrm>
              <a:prstGeom prst="roundRect">
                <a:avLst>
                  <a:gd name="adj" fmla="val 47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010280" y="2919600"/>
                <a:ext cx="189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263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5216760" y="2919600"/>
              <a:ext cx="1787760" cy="535680"/>
              <a:chOff x="5216760" y="2919600"/>
              <a:chExt cx="1787760" cy="535680"/>
            </a:xfrm>
          </p:grpSpPr>
          <p:sp>
            <p:nvSpPr>
              <p:cNvPr id="358" name=""/>
              <p:cNvSpPr/>
              <p:nvPr/>
            </p:nvSpPr>
            <p:spPr>
              <a:xfrm>
                <a:off x="5216760" y="2919600"/>
                <a:ext cx="1787760" cy="535680"/>
              </a:xfrm>
              <a:prstGeom prst="roundRect">
                <a:avLst>
                  <a:gd name="adj" fmla="val 47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216760" y="2919600"/>
                <a:ext cx="17877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526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3006360" y="2919600"/>
              <a:ext cx="2204280" cy="535680"/>
              <a:chOff x="3006360" y="2919600"/>
              <a:chExt cx="2204280" cy="535680"/>
            </a:xfrm>
          </p:grpSpPr>
          <p:sp>
            <p:nvSpPr>
              <p:cNvPr id="361" name=""/>
              <p:cNvSpPr/>
              <p:nvPr/>
            </p:nvSpPr>
            <p:spPr>
              <a:xfrm>
                <a:off x="3006360" y="2919600"/>
                <a:ext cx="2204280" cy="535680"/>
              </a:xfrm>
              <a:prstGeom prst="roundRect">
                <a:avLst>
                  <a:gd name="adj" fmla="val 47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006360" y="2919600"/>
                <a:ext cx="22042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1967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304920" y="2919600"/>
              <a:ext cx="2693880" cy="535680"/>
              <a:chOff x="304920" y="2919600"/>
              <a:chExt cx="2693880" cy="535680"/>
            </a:xfrm>
          </p:grpSpPr>
          <p:sp>
            <p:nvSpPr>
              <p:cNvPr id="364" name=""/>
              <p:cNvSpPr/>
              <p:nvPr/>
            </p:nvSpPr>
            <p:spPr>
              <a:xfrm>
                <a:off x="304920" y="2919600"/>
                <a:ext cx="2693880" cy="535680"/>
              </a:xfrm>
              <a:prstGeom prst="roundRect">
                <a:avLst>
                  <a:gd name="adj" fmla="val 47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04920" y="2919600"/>
                <a:ext cx="2693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SPIC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7010280" y="1981080"/>
              <a:ext cx="1895040" cy="927720"/>
              <a:chOff x="7010280" y="1981080"/>
              <a:chExt cx="1895040" cy="927720"/>
            </a:xfrm>
          </p:grpSpPr>
          <p:sp>
            <p:nvSpPr>
              <p:cNvPr id="367" name=""/>
              <p:cNvSpPr/>
              <p:nvPr/>
            </p:nvSpPr>
            <p:spPr>
              <a:xfrm>
                <a:off x="7010280" y="1981080"/>
                <a:ext cx="1895040" cy="927720"/>
              </a:xfrm>
              <a:prstGeom prst="roundRect">
                <a:avLst>
                  <a:gd name="adj" fmla="val 27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010280" y="1981080"/>
                <a:ext cx="189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#LU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5216760" y="1981080"/>
              <a:ext cx="1787760" cy="927720"/>
              <a:chOff x="5216760" y="1981080"/>
              <a:chExt cx="1787760" cy="927720"/>
            </a:xfrm>
          </p:grpSpPr>
          <p:sp>
            <p:nvSpPr>
              <p:cNvPr id="370" name=""/>
              <p:cNvSpPr/>
              <p:nvPr/>
            </p:nvSpPr>
            <p:spPr>
              <a:xfrm>
                <a:off x="5216760" y="1981080"/>
                <a:ext cx="1787760" cy="927720"/>
              </a:xfrm>
              <a:prstGeom prst="roundRect">
                <a:avLst>
                  <a:gd name="adj" fmla="val 27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216760" y="1981080"/>
                <a:ext cx="17877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#Iteration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3006360" y="1981080"/>
              <a:ext cx="2204280" cy="927720"/>
              <a:chOff x="3006360" y="1981080"/>
              <a:chExt cx="2204280" cy="927720"/>
            </a:xfrm>
          </p:grpSpPr>
          <p:sp>
            <p:nvSpPr>
              <p:cNvPr id="373" name=""/>
              <p:cNvSpPr/>
              <p:nvPr/>
            </p:nvSpPr>
            <p:spPr>
              <a:xfrm>
                <a:off x="3006360" y="1981080"/>
                <a:ext cx="2204280" cy="927720"/>
              </a:xfrm>
              <a:prstGeom prst="roundRect">
                <a:avLst>
                  <a:gd name="adj" fmla="val 27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006360" y="1981080"/>
                <a:ext cx="2204280" cy="66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#Simulation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point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304920" y="1981080"/>
              <a:ext cx="2693880" cy="927720"/>
              <a:chOff x="304920" y="1981080"/>
              <a:chExt cx="2693880" cy="927720"/>
            </a:xfrm>
          </p:grpSpPr>
          <p:sp>
            <p:nvSpPr>
              <p:cNvPr id="376" name=""/>
              <p:cNvSpPr/>
              <p:nvPr/>
            </p:nvSpPr>
            <p:spPr>
              <a:xfrm>
                <a:off x="304920" y="1981080"/>
                <a:ext cx="2693880" cy="927720"/>
              </a:xfrm>
              <a:prstGeom prst="roundRect">
                <a:avLst>
                  <a:gd name="adj" fmla="val 27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04920" y="1981080"/>
                <a:ext cx="2693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Metho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304920" y="1981080"/>
              <a:ext cx="8606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04920" y="2919600"/>
              <a:ext cx="860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920" y="3463920"/>
              <a:ext cx="860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04920" y="4023720"/>
              <a:ext cx="860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04920" y="4640760"/>
              <a:ext cx="860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04920" y="5257440"/>
              <a:ext cx="8606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04920" y="1981080"/>
              <a:ext cx="0" cy="32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06360" y="1981080"/>
              <a:ext cx="0" cy="32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216760" y="1981080"/>
              <a:ext cx="0" cy="32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010280" y="1981080"/>
              <a:ext cx="0" cy="32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911800" y="1981080"/>
              <a:ext cx="0" cy="32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6AAA-6F55-4CFF-BCBA-E4FC22D8EFC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752120" y="950760"/>
            <a:ext cx="677412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600" spc="-1" strike="noStrike">
                <a:solidFill>
                  <a:srgbClr val="333399"/>
                </a:solidFill>
                <a:latin typeface="Tahoma"/>
              </a:rPr>
              <a:t>Nonlinear Simul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7594560" cy="38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0">
              <a:lnSpc>
                <a:spcPct val="90000"/>
              </a:lnSpc>
              <a:spcBef>
                <a:spcPts val="437"/>
              </a:spcBef>
              <a:buNone/>
              <a:tabLst>
                <a:tab algn="l" pos="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33cc"/>
                </a:solidFill>
                <a:latin typeface="Tahoma"/>
              </a:rPr>
              <a:t>In SPICE-like simulators Newton-Raphson (NR) iteration is implemented. But its drawbacks are well-know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20840" indent="0">
              <a:lnSpc>
                <a:spcPct val="90000"/>
              </a:lnSpc>
              <a:spcBef>
                <a:spcPts val="437"/>
              </a:spcBef>
              <a:buNone/>
              <a:tabLst>
                <a:tab algn="l" pos="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852480" indent="-28260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55000"/>
              <a:buFont typeface="StarBats" charset="2"/>
              <a:buChar char="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Nonlinear functions must be continuous and (at least) first-order different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2480" indent="-28260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55000"/>
              <a:buFont typeface="StarBats" charset="2"/>
              <a:buChar char="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LU factorization is needed at each it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2480" indent="-28260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55000"/>
              <a:buFont typeface="StarBats" charset="2"/>
              <a:buChar char="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Nonlinear function derivatives evaluation and related MNA matrix load are required at each iteration (solved by CoSMoS BMAC!!!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2480" indent="-28260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55000"/>
              <a:buFont typeface="StarBats" charset="2"/>
              <a:buChar char="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Its quadratic convergence rate is ruined due to practical consider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2B7C-3E76-4874-95E7-C0185AA8346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ublic Solv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1279440" y="201456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2514600"/>
            <a:ext cx="5562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perL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Direct sol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parse 1.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PICE sol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ZTEC (Iterative sol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YPRE (Iterative sol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SSL (DAE sol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11A9-DA51-4B90-A1F6-556F4D180C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04760" y="666360"/>
            <a:ext cx="646884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600" spc="-1" strike="noStrike">
                <a:solidFill>
                  <a:srgbClr val="333399"/>
                </a:solidFill>
                <a:latin typeface="Tahoma"/>
              </a:rPr>
              <a:t>Nonlinear Simulation Alternativ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5200" y="1940040"/>
            <a:ext cx="758952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0840" indent="-316080"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Successive Chord (SC), or piece-wise weakly nonlinear, method to speed up the nonlinear simulation –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LU onc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20840" indent="-316080"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Piecewise linear (PWL) method is used to find DC operating po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20840" indent="0">
              <a:spcBef>
                <a:spcPts val="524"/>
              </a:spcBef>
              <a:buNone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20840" indent="0">
              <a:spcBef>
                <a:spcPts val="524"/>
              </a:spcBef>
              <a:buNone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20840" indent="0">
              <a:spcBef>
                <a:spcPts val="524"/>
              </a:spcBef>
              <a:buNone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20840" indent="0">
              <a:spcBef>
                <a:spcPts val="524"/>
              </a:spcBef>
              <a:buNone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20840" indent="0">
              <a:spcBef>
                <a:spcPts val="524"/>
              </a:spcBef>
              <a:buNone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20840" indent="-316080">
              <a:spcBef>
                <a:spcPts val="524"/>
              </a:spcBef>
              <a:buClr>
                <a:srgbClr val="fc0128"/>
              </a:buClr>
              <a:buSzPct val="60000"/>
              <a:buFont typeface="Wingdings" charset="2"/>
              <a:buChar char=""/>
              <a:tabLst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c0128"/>
                </a:solidFill>
                <a:latin typeface="Tahoma"/>
              </a:rPr>
              <a:t>Our goal – DC operation point guess is found with the PWL method. The rest analysis is achieved by the variable SC metho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2286000" y="2895480"/>
            <a:ext cx="4724280" cy="266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5815-01FC-47FA-96F7-FAFD416B3D3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684440" y="728280"/>
            <a:ext cx="7230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600" spc="-1" strike="noStrike">
                <a:solidFill>
                  <a:srgbClr val="333399"/>
                </a:solidFill>
                <a:latin typeface="Tahoma"/>
              </a:rPr>
              <a:t>Variable Successive Chord Metho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4208400" cy="3581280"/>
          </a:xfrm>
          <a:prstGeom prst="rect">
            <a:avLst/>
          </a:prstGeom>
          <a:ln w="0">
            <a:noFill/>
          </a:ln>
        </p:spPr>
      </p:pic>
      <p:grpSp>
        <p:nvGrpSpPr>
          <p:cNvPr id="396" name=""/>
          <p:cNvGrpSpPr/>
          <p:nvPr/>
        </p:nvGrpSpPr>
        <p:grpSpPr>
          <a:xfrm>
            <a:off x="609480" y="5257800"/>
            <a:ext cx="8074080" cy="1293840"/>
            <a:chOff x="609480" y="5257800"/>
            <a:chExt cx="8074080" cy="1293840"/>
          </a:xfrm>
        </p:grpSpPr>
        <p:sp>
          <p:nvSpPr>
            <p:cNvPr id="397" name=""/>
            <p:cNvSpPr/>
            <p:nvPr/>
          </p:nvSpPr>
          <p:spPr>
            <a:xfrm>
              <a:off x="609480" y="5257800"/>
              <a:ext cx="8074080" cy="1293840"/>
            </a:xfrm>
            <a:prstGeom prst="roundRect">
              <a:avLst>
                <a:gd name="adj" fmla="val 12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09480" y="5257800"/>
              <a:ext cx="8074080" cy="98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20840" indent="-316080">
                <a:spcBef>
                  <a:spcPts val="524"/>
                </a:spcBef>
                <a:buClr>
                  <a:srgbClr val="3333cc"/>
                </a:buClr>
                <a:buSzPct val="84000"/>
                <a:buFont typeface="Wingdings" charset="2"/>
                <a:buChar char=""/>
                <a:tabLst>
                  <a:tab algn="l" pos="420840"/>
                  <a:tab algn="l" pos="878040"/>
                  <a:tab algn="l" pos="1335240"/>
                  <a:tab algn="l" pos="1792440"/>
                  <a:tab algn="l" pos="2249640"/>
                  <a:tab algn="l" pos="2706840"/>
                  <a:tab algn="l" pos="3164040"/>
                  <a:tab algn="l" pos="3621240"/>
                  <a:tab algn="l" pos="4078440"/>
                  <a:tab algn="l" pos="4535640"/>
                  <a:tab algn="l" pos="4992840"/>
                  <a:tab algn="l" pos="5450040"/>
                  <a:tab algn="l" pos="5907240"/>
                  <a:tab algn="l" pos="6364440"/>
                  <a:tab algn="l" pos="6821640"/>
                  <a:tab algn="l" pos="7278840"/>
                  <a:tab algn="l" pos="7736040"/>
                  <a:tab algn="l" pos="8193240"/>
                  <a:tab algn="l" pos="8650440"/>
                  <a:tab algn="l" pos="9107640"/>
                  <a:tab algn="l" pos="9564840"/>
                  <a:tab algn="l" pos="10058400"/>
                </a:tabLst>
              </a:pPr>
              <a:r>
                <a:rPr b="1" lang="en-GB" sz="2000" spc="-1" strike="noStrike">
                  <a:solidFill>
                    <a:srgbClr val="3333cc"/>
                  </a:solidFill>
                  <a:latin typeface="Arial"/>
                </a:rPr>
                <a:t>Different chords are used for different reg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20840" indent="-316080">
                <a:spcBef>
                  <a:spcPts val="524"/>
                </a:spcBef>
                <a:buClr>
                  <a:srgbClr val="3333cc"/>
                </a:buClr>
                <a:buSzPct val="84000"/>
                <a:buFont typeface="Wingdings" charset="2"/>
                <a:buChar char=""/>
                <a:tabLst>
                  <a:tab algn="l" pos="420840"/>
                  <a:tab algn="l" pos="878040"/>
                  <a:tab algn="l" pos="1335240"/>
                  <a:tab algn="l" pos="1792440"/>
                  <a:tab algn="l" pos="2249640"/>
                  <a:tab algn="l" pos="2706840"/>
                  <a:tab algn="l" pos="3164040"/>
                  <a:tab algn="l" pos="3621240"/>
                  <a:tab algn="l" pos="4078440"/>
                  <a:tab algn="l" pos="4535640"/>
                  <a:tab algn="l" pos="4992840"/>
                  <a:tab algn="l" pos="5450040"/>
                  <a:tab algn="l" pos="5907240"/>
                  <a:tab algn="l" pos="6364440"/>
                  <a:tab algn="l" pos="6821640"/>
                  <a:tab algn="l" pos="7278840"/>
                  <a:tab algn="l" pos="7736040"/>
                  <a:tab algn="l" pos="8193240"/>
                  <a:tab algn="l" pos="8650440"/>
                  <a:tab algn="l" pos="9107640"/>
                  <a:tab algn="l" pos="9564840"/>
                  <a:tab algn="l" pos="10058400"/>
                </a:tabLst>
              </a:pPr>
              <a:r>
                <a:rPr b="1" lang="en-GB" sz="2000" spc="-1" strike="noStrike">
                  <a:solidFill>
                    <a:srgbClr val="3333cc"/>
                  </a:solidFill>
                  <a:latin typeface="Arial"/>
                </a:rPr>
                <a:t>Achieve a balance between convergence speed and LU factorization c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5562720" y="2209680"/>
            <a:ext cx="3276360" cy="243864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095880" y="3123360"/>
            <a:ext cx="2133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306f8"/>
                </a:solidFill>
                <a:latin typeface="Arial"/>
              </a:rPr>
              <a:t>Rank-1 update to reduce 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3253-2576-40CB-8049-5D0C9D2F82D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19320" y="717480"/>
            <a:ext cx="711504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600" spc="-1" strike="noStrike">
                <a:solidFill>
                  <a:srgbClr val="333399"/>
                </a:solidFill>
                <a:latin typeface="Tahoma"/>
              </a:rPr>
              <a:t>Comparison of Four CoSMoS Nonlinear Solvers with SP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"/>
          <p:cNvSpPr/>
          <p:nvPr/>
        </p:nvSpPr>
        <p:spPr>
          <a:xfrm>
            <a:off x="3367080" y="265572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755880" y="295416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60840" y="302724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746520" y="278136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100320" y="2666880"/>
            <a:ext cx="91378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605040" y="3233880"/>
            <a:ext cx="91378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757680" y="3262320"/>
            <a:ext cx="913752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1066680" y="4952880"/>
            <a:ext cx="7005600" cy="1185840"/>
            <a:chOff x="1066680" y="4952880"/>
            <a:chExt cx="7005600" cy="1185840"/>
          </a:xfrm>
        </p:grpSpPr>
        <p:sp>
          <p:nvSpPr>
            <p:cNvPr id="410" name=""/>
            <p:cNvSpPr/>
            <p:nvPr/>
          </p:nvSpPr>
          <p:spPr>
            <a:xfrm>
              <a:off x="1066680" y="4952880"/>
              <a:ext cx="7005600" cy="1185840"/>
            </a:xfrm>
            <a:prstGeom prst="roundRect">
              <a:avLst>
                <a:gd name="adj" fmla="val 13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066680" y="4952880"/>
              <a:ext cx="7005600" cy="104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20840" indent="-316080">
                <a:spcBef>
                  <a:spcPts val="524"/>
                </a:spcBef>
                <a:tabLst>
                  <a:tab algn="l" pos="0"/>
                  <a:tab algn="l" pos="420840"/>
                  <a:tab algn="l" pos="878040"/>
                  <a:tab algn="l" pos="1335240"/>
                  <a:tab algn="l" pos="1792440"/>
                  <a:tab algn="l" pos="2249640"/>
                  <a:tab algn="l" pos="2706840"/>
                  <a:tab algn="l" pos="3164040"/>
                  <a:tab algn="l" pos="3621240"/>
                  <a:tab algn="l" pos="4078440"/>
                  <a:tab algn="l" pos="4535640"/>
                  <a:tab algn="l" pos="4992840"/>
                  <a:tab algn="l" pos="5450040"/>
                  <a:tab algn="l" pos="5907240"/>
                  <a:tab algn="l" pos="6364440"/>
                  <a:tab algn="l" pos="6821640"/>
                  <a:tab algn="l" pos="7278840"/>
                  <a:tab algn="l" pos="7736040"/>
                  <a:tab algn="l" pos="8193240"/>
                  <a:tab algn="l" pos="8650440"/>
                  <a:tab algn="l" pos="9107640"/>
                  <a:tab algn="l" pos="9564840"/>
                  <a:tab algn="l" pos="10058400"/>
                </a:tabLst>
              </a:pPr>
              <a:r>
                <a:rPr b="1" lang="en-GB" sz="2000" spc="-1" strike="noStrike">
                  <a:solidFill>
                    <a:srgbClr val="3333cc"/>
                  </a:solidFill>
                  <a:latin typeface="Arial"/>
                </a:rPr>
                <a:t>+ Including the iterative semi-implicit linear sol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20840" indent="-316080">
                <a:spcBef>
                  <a:spcPts val="524"/>
                </a:spcBef>
                <a:tabLst>
                  <a:tab algn="l" pos="0"/>
                  <a:tab algn="l" pos="420840"/>
                  <a:tab algn="l" pos="878040"/>
                  <a:tab algn="l" pos="1335240"/>
                  <a:tab algn="l" pos="1792440"/>
                  <a:tab algn="l" pos="2249640"/>
                  <a:tab algn="l" pos="2706840"/>
                  <a:tab algn="l" pos="3164040"/>
                  <a:tab algn="l" pos="3621240"/>
                  <a:tab algn="l" pos="4078440"/>
                  <a:tab algn="l" pos="4535640"/>
                  <a:tab algn="l" pos="4992840"/>
                  <a:tab algn="l" pos="5450040"/>
                  <a:tab algn="l" pos="5907240"/>
                  <a:tab algn="l" pos="6364440"/>
                  <a:tab algn="l" pos="6821640"/>
                  <a:tab algn="l" pos="7278840"/>
                  <a:tab algn="l" pos="7736040"/>
                  <a:tab algn="l" pos="8193240"/>
                  <a:tab algn="l" pos="8650440"/>
                  <a:tab algn="l" pos="9107640"/>
                  <a:tab algn="l" pos="9564840"/>
                  <a:tab algn="l" pos="10058400"/>
                </a:tabLst>
              </a:pPr>
              <a:r>
                <a:rPr b="1" lang="en-GB" sz="2000" spc="-1" strike="noStrike">
                  <a:solidFill>
                    <a:srgbClr val="3333cc"/>
                  </a:solidFill>
                  <a:latin typeface="Arial"/>
                </a:rPr>
                <a:t>* Dependent on practical applications, typically t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20840" indent="-316080">
                <a:spcBef>
                  <a:spcPts val="524"/>
                </a:spcBef>
                <a:tabLst>
                  <a:tab algn="l" pos="0"/>
                  <a:tab algn="l" pos="420840"/>
                  <a:tab algn="l" pos="878040"/>
                  <a:tab algn="l" pos="1335240"/>
                  <a:tab algn="l" pos="1792440"/>
                  <a:tab algn="l" pos="2249640"/>
                  <a:tab algn="l" pos="2706840"/>
                  <a:tab algn="l" pos="3164040"/>
                  <a:tab algn="l" pos="3621240"/>
                  <a:tab algn="l" pos="4078440"/>
                  <a:tab algn="l" pos="4535640"/>
                  <a:tab algn="l" pos="4992840"/>
                  <a:tab algn="l" pos="5450040"/>
                  <a:tab algn="l" pos="5907240"/>
                  <a:tab algn="l" pos="6364440"/>
                  <a:tab algn="l" pos="6821640"/>
                  <a:tab algn="l" pos="7278840"/>
                  <a:tab algn="l" pos="7736040"/>
                  <a:tab algn="l" pos="8193240"/>
                  <a:tab algn="l" pos="8650440"/>
                  <a:tab algn="l" pos="9107640"/>
                  <a:tab algn="l" pos="9564840"/>
                  <a:tab algn="l" pos="10058400"/>
                </a:tabLst>
              </a:pPr>
              <a:r>
                <a:rPr b="1" lang="en-GB" sz="20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1" lang="en-GB" sz="2000" spc="-1" strike="noStrike">
                  <a:solidFill>
                    <a:srgbClr val="3333cc"/>
                  </a:solidFill>
                  <a:latin typeface="Arial"/>
                </a:rPr>
                <a:t>same as #Iter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33520" y="2286000"/>
            <a:ext cx="8305200" cy="2389320"/>
            <a:chOff x="533520" y="2286000"/>
            <a:chExt cx="8305200" cy="2389320"/>
          </a:xfrm>
        </p:grpSpPr>
        <p:grpSp>
          <p:nvGrpSpPr>
            <p:cNvPr id="413" name=""/>
            <p:cNvGrpSpPr/>
            <p:nvPr/>
          </p:nvGrpSpPr>
          <p:grpSpPr>
            <a:xfrm>
              <a:off x="7003800" y="3876840"/>
              <a:ext cx="1826640" cy="414360"/>
              <a:chOff x="7003800" y="3876840"/>
              <a:chExt cx="1826640" cy="414360"/>
            </a:xfrm>
          </p:grpSpPr>
          <p:sp>
            <p:nvSpPr>
              <p:cNvPr id="414" name=""/>
              <p:cNvSpPr/>
              <p:nvPr/>
            </p:nvSpPr>
            <p:spPr>
              <a:xfrm>
                <a:off x="7003800" y="3878280"/>
                <a:ext cx="1826640" cy="412920"/>
              </a:xfrm>
              <a:prstGeom prst="roundRect">
                <a:avLst>
                  <a:gd name="adj" fmla="val 38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003800" y="3876840"/>
                <a:ext cx="1826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0000"/>
                    </a:solidFill>
                    <a:latin typeface="Times New Roman"/>
                  </a:rPr>
                  <a:t>593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5271480" y="3876840"/>
              <a:ext cx="1726200" cy="414360"/>
              <a:chOff x="5271480" y="3876840"/>
              <a:chExt cx="1726200" cy="414360"/>
            </a:xfrm>
          </p:grpSpPr>
          <p:sp>
            <p:nvSpPr>
              <p:cNvPr id="417" name=""/>
              <p:cNvSpPr/>
              <p:nvPr/>
            </p:nvSpPr>
            <p:spPr>
              <a:xfrm>
                <a:off x="5271480" y="3878280"/>
                <a:ext cx="1726200" cy="412920"/>
              </a:xfrm>
              <a:prstGeom prst="roundRect">
                <a:avLst>
                  <a:gd name="adj" fmla="val 38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271480" y="3876840"/>
                <a:ext cx="1726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28903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3140640" y="3876840"/>
              <a:ext cx="2124720" cy="414360"/>
              <a:chOff x="3140640" y="3876840"/>
              <a:chExt cx="2124720" cy="414360"/>
            </a:xfrm>
          </p:grpSpPr>
          <p:sp>
            <p:nvSpPr>
              <p:cNvPr id="420" name=""/>
              <p:cNvSpPr/>
              <p:nvPr/>
            </p:nvSpPr>
            <p:spPr>
              <a:xfrm>
                <a:off x="3140640" y="3878280"/>
                <a:ext cx="2124720" cy="412920"/>
              </a:xfrm>
              <a:prstGeom prst="roundRect">
                <a:avLst>
                  <a:gd name="adj" fmla="val 38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140640" y="3876840"/>
                <a:ext cx="2124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3151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533520" y="3876840"/>
              <a:ext cx="2598840" cy="414360"/>
              <a:chOff x="533520" y="3876840"/>
              <a:chExt cx="2598840" cy="414360"/>
            </a:xfrm>
          </p:grpSpPr>
          <p:sp>
            <p:nvSpPr>
              <p:cNvPr id="423" name=""/>
              <p:cNvSpPr/>
              <p:nvPr/>
            </p:nvSpPr>
            <p:spPr>
              <a:xfrm>
                <a:off x="533520" y="3878280"/>
                <a:ext cx="2598840" cy="412920"/>
              </a:xfrm>
              <a:prstGeom prst="roundRect">
                <a:avLst>
                  <a:gd name="adj" fmla="val 38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33520" y="3876840"/>
                <a:ext cx="25988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CoSMoS SC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7003800" y="4297320"/>
              <a:ext cx="1826640" cy="373320"/>
              <a:chOff x="7003800" y="4297320"/>
              <a:chExt cx="1826640" cy="373320"/>
            </a:xfrm>
          </p:grpSpPr>
          <p:sp>
            <p:nvSpPr>
              <p:cNvPr id="426" name=""/>
              <p:cNvSpPr/>
              <p:nvPr/>
            </p:nvSpPr>
            <p:spPr>
              <a:xfrm>
                <a:off x="7003800" y="4297320"/>
                <a:ext cx="1826640" cy="373320"/>
              </a:xfrm>
              <a:prstGeom prst="roundRect">
                <a:avLst>
                  <a:gd name="adj" fmla="val 42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003800" y="4297320"/>
                <a:ext cx="1826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0000"/>
                    </a:solidFill>
                    <a:latin typeface="Times New Roman"/>
                  </a:rPr>
                  <a:t>5617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5271480" y="4297320"/>
              <a:ext cx="1726200" cy="373320"/>
              <a:chOff x="5271480" y="4297320"/>
              <a:chExt cx="1726200" cy="373320"/>
            </a:xfrm>
          </p:grpSpPr>
          <p:sp>
            <p:nvSpPr>
              <p:cNvPr id="429" name=""/>
              <p:cNvSpPr/>
              <p:nvPr/>
            </p:nvSpPr>
            <p:spPr>
              <a:xfrm>
                <a:off x="5271480" y="4297320"/>
                <a:ext cx="1726200" cy="373320"/>
              </a:xfrm>
              <a:prstGeom prst="roundRect">
                <a:avLst>
                  <a:gd name="adj" fmla="val 42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271480" y="4297320"/>
                <a:ext cx="1726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27561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3140640" y="4297320"/>
              <a:ext cx="2124720" cy="373320"/>
              <a:chOff x="3140640" y="4297320"/>
              <a:chExt cx="2124720" cy="373320"/>
            </a:xfrm>
          </p:grpSpPr>
          <p:sp>
            <p:nvSpPr>
              <p:cNvPr id="432" name=""/>
              <p:cNvSpPr/>
              <p:nvPr/>
            </p:nvSpPr>
            <p:spPr>
              <a:xfrm>
                <a:off x="3140640" y="4297320"/>
                <a:ext cx="2124720" cy="373320"/>
              </a:xfrm>
              <a:prstGeom prst="roundRect">
                <a:avLst>
                  <a:gd name="adj" fmla="val 42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140640" y="4297320"/>
                <a:ext cx="2124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3218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533520" y="4297320"/>
              <a:ext cx="2598840" cy="373320"/>
              <a:chOff x="533520" y="4297320"/>
              <a:chExt cx="2598840" cy="373320"/>
            </a:xfrm>
          </p:grpSpPr>
          <p:sp>
            <p:nvSpPr>
              <p:cNvPr id="435" name=""/>
              <p:cNvSpPr/>
              <p:nvPr/>
            </p:nvSpPr>
            <p:spPr>
              <a:xfrm>
                <a:off x="533520" y="4297320"/>
                <a:ext cx="2598840" cy="373320"/>
              </a:xfrm>
              <a:prstGeom prst="roundRect">
                <a:avLst>
                  <a:gd name="adj" fmla="val 42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33520" y="4297320"/>
                <a:ext cx="25988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CoSMoS Variable SC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7003800" y="3473640"/>
              <a:ext cx="1826640" cy="399960"/>
              <a:chOff x="7003800" y="3473640"/>
              <a:chExt cx="1826640" cy="399960"/>
            </a:xfrm>
          </p:grpSpPr>
          <p:sp>
            <p:nvSpPr>
              <p:cNvPr id="438" name=""/>
              <p:cNvSpPr/>
              <p:nvPr/>
            </p:nvSpPr>
            <p:spPr>
              <a:xfrm>
                <a:off x="7003800" y="3473640"/>
                <a:ext cx="1826640" cy="399960"/>
              </a:xfrm>
              <a:prstGeom prst="roundRect">
                <a:avLst>
                  <a:gd name="adj" fmla="val 39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003800" y="3473640"/>
                <a:ext cx="1826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4641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5271480" y="3473640"/>
              <a:ext cx="1726200" cy="399960"/>
              <a:chOff x="5271480" y="3473640"/>
              <a:chExt cx="1726200" cy="399960"/>
            </a:xfrm>
          </p:grpSpPr>
          <p:sp>
            <p:nvSpPr>
              <p:cNvPr id="441" name=""/>
              <p:cNvSpPr/>
              <p:nvPr/>
            </p:nvSpPr>
            <p:spPr>
              <a:xfrm>
                <a:off x="5271480" y="3473640"/>
                <a:ext cx="1726200" cy="399960"/>
              </a:xfrm>
              <a:prstGeom prst="roundRect">
                <a:avLst>
                  <a:gd name="adj" fmla="val 39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271480" y="3473640"/>
                <a:ext cx="1726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14582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3140640" y="3473640"/>
              <a:ext cx="2124720" cy="399960"/>
              <a:chOff x="3140640" y="3473640"/>
              <a:chExt cx="2124720" cy="399960"/>
            </a:xfrm>
          </p:grpSpPr>
          <p:sp>
            <p:nvSpPr>
              <p:cNvPr id="444" name=""/>
              <p:cNvSpPr/>
              <p:nvPr/>
            </p:nvSpPr>
            <p:spPr>
              <a:xfrm>
                <a:off x="3140640" y="3473640"/>
                <a:ext cx="2124720" cy="399960"/>
              </a:xfrm>
              <a:prstGeom prst="roundRect">
                <a:avLst>
                  <a:gd name="adj" fmla="val 39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140640" y="3473640"/>
                <a:ext cx="2124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3175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533520" y="3473640"/>
              <a:ext cx="2598840" cy="399960"/>
              <a:chOff x="533520" y="3473640"/>
              <a:chExt cx="2598840" cy="399960"/>
            </a:xfrm>
          </p:grpSpPr>
          <p:sp>
            <p:nvSpPr>
              <p:cNvPr id="447" name=""/>
              <p:cNvSpPr/>
              <p:nvPr/>
            </p:nvSpPr>
            <p:spPr>
              <a:xfrm>
                <a:off x="533520" y="3473640"/>
                <a:ext cx="2598840" cy="399960"/>
              </a:xfrm>
              <a:prstGeom prst="roundRect">
                <a:avLst>
                  <a:gd name="adj" fmla="val 39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33520" y="3473640"/>
                <a:ext cx="25988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CoSMoS Variable S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7003800" y="3102120"/>
              <a:ext cx="1826640" cy="366840"/>
              <a:chOff x="7003800" y="3102120"/>
              <a:chExt cx="1826640" cy="366840"/>
            </a:xfrm>
          </p:grpSpPr>
          <p:sp>
            <p:nvSpPr>
              <p:cNvPr id="450" name=""/>
              <p:cNvSpPr/>
              <p:nvPr/>
            </p:nvSpPr>
            <p:spPr>
              <a:xfrm>
                <a:off x="7003800" y="3102120"/>
                <a:ext cx="1826640" cy="366840"/>
              </a:xfrm>
              <a:prstGeom prst="roundRect">
                <a:avLst>
                  <a:gd name="adj" fmla="val 4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003800" y="3102120"/>
                <a:ext cx="1826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4549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5271480" y="3102120"/>
              <a:ext cx="1726200" cy="366840"/>
              <a:chOff x="5271480" y="3102120"/>
              <a:chExt cx="1726200" cy="366840"/>
            </a:xfrm>
          </p:grpSpPr>
          <p:sp>
            <p:nvSpPr>
              <p:cNvPr id="453" name=""/>
              <p:cNvSpPr/>
              <p:nvPr/>
            </p:nvSpPr>
            <p:spPr>
              <a:xfrm>
                <a:off x="5271480" y="3102120"/>
                <a:ext cx="1726200" cy="366840"/>
              </a:xfrm>
              <a:prstGeom prst="roundRect">
                <a:avLst>
                  <a:gd name="adj" fmla="val 4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271480" y="3102120"/>
                <a:ext cx="1726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17844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3140640" y="3102120"/>
              <a:ext cx="2124720" cy="366840"/>
              <a:chOff x="3140640" y="3102120"/>
              <a:chExt cx="2124720" cy="366840"/>
            </a:xfrm>
          </p:grpSpPr>
          <p:sp>
            <p:nvSpPr>
              <p:cNvPr id="456" name=""/>
              <p:cNvSpPr/>
              <p:nvPr/>
            </p:nvSpPr>
            <p:spPr>
              <a:xfrm>
                <a:off x="3140640" y="3102120"/>
                <a:ext cx="2124720" cy="366840"/>
              </a:xfrm>
              <a:prstGeom prst="roundRect">
                <a:avLst>
                  <a:gd name="adj" fmla="val 4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140640" y="3102120"/>
                <a:ext cx="2124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3100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533520" y="3102120"/>
              <a:ext cx="2598840" cy="366840"/>
              <a:chOff x="533520" y="3102120"/>
              <a:chExt cx="2598840" cy="366840"/>
            </a:xfrm>
          </p:grpSpPr>
          <p:sp>
            <p:nvSpPr>
              <p:cNvPr id="459" name=""/>
              <p:cNvSpPr/>
              <p:nvPr/>
            </p:nvSpPr>
            <p:spPr>
              <a:xfrm>
                <a:off x="533520" y="3102120"/>
                <a:ext cx="2598840" cy="366840"/>
              </a:xfrm>
              <a:prstGeom prst="roundRect">
                <a:avLst>
                  <a:gd name="adj" fmla="val 4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33520" y="3102120"/>
                <a:ext cx="25988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CoSMoS S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7003800" y="2730600"/>
              <a:ext cx="1826640" cy="366840"/>
              <a:chOff x="7003800" y="2730600"/>
              <a:chExt cx="1826640" cy="366840"/>
            </a:xfrm>
          </p:grpSpPr>
          <p:sp>
            <p:nvSpPr>
              <p:cNvPr id="462" name=""/>
              <p:cNvSpPr/>
              <p:nvPr/>
            </p:nvSpPr>
            <p:spPr>
              <a:xfrm>
                <a:off x="7003800" y="2730600"/>
                <a:ext cx="1826640" cy="366840"/>
              </a:xfrm>
              <a:prstGeom prst="roundRect">
                <a:avLst>
                  <a:gd name="adj" fmla="val 4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003800" y="2730600"/>
                <a:ext cx="1826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5271480" y="2730600"/>
              <a:ext cx="1726200" cy="366840"/>
              <a:chOff x="5271480" y="2730600"/>
              <a:chExt cx="1726200" cy="366840"/>
            </a:xfrm>
          </p:grpSpPr>
          <p:sp>
            <p:nvSpPr>
              <p:cNvPr id="465" name=""/>
              <p:cNvSpPr/>
              <p:nvPr/>
            </p:nvSpPr>
            <p:spPr>
              <a:xfrm>
                <a:off x="5271480" y="2730600"/>
                <a:ext cx="1726200" cy="366840"/>
              </a:xfrm>
              <a:prstGeom prst="roundRect">
                <a:avLst>
                  <a:gd name="adj" fmla="val 4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271480" y="2730600"/>
                <a:ext cx="1726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13556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3140640" y="2730600"/>
              <a:ext cx="2124720" cy="366840"/>
              <a:chOff x="3140640" y="2730600"/>
              <a:chExt cx="2124720" cy="366840"/>
            </a:xfrm>
          </p:grpSpPr>
          <p:sp>
            <p:nvSpPr>
              <p:cNvPr id="468" name=""/>
              <p:cNvSpPr/>
              <p:nvPr/>
            </p:nvSpPr>
            <p:spPr>
              <a:xfrm>
                <a:off x="3140640" y="2730600"/>
                <a:ext cx="2124720" cy="366840"/>
              </a:xfrm>
              <a:prstGeom prst="roundRect">
                <a:avLst>
                  <a:gd name="adj" fmla="val 4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140640" y="2730600"/>
                <a:ext cx="2124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3096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533520" y="2730600"/>
              <a:ext cx="2598840" cy="366840"/>
              <a:chOff x="533520" y="2730600"/>
              <a:chExt cx="2598840" cy="366840"/>
            </a:xfrm>
          </p:grpSpPr>
          <p:sp>
            <p:nvSpPr>
              <p:cNvPr id="471" name=""/>
              <p:cNvSpPr/>
              <p:nvPr/>
            </p:nvSpPr>
            <p:spPr>
              <a:xfrm>
                <a:off x="533520" y="2730600"/>
                <a:ext cx="2598840" cy="366840"/>
              </a:xfrm>
              <a:prstGeom prst="roundRect">
                <a:avLst>
                  <a:gd name="adj" fmla="val 4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33520" y="2730600"/>
                <a:ext cx="25988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SPIC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7003800" y="2286000"/>
              <a:ext cx="1826640" cy="439920"/>
              <a:chOff x="7003800" y="2286000"/>
              <a:chExt cx="1826640" cy="439920"/>
            </a:xfrm>
          </p:grpSpPr>
          <p:sp>
            <p:nvSpPr>
              <p:cNvPr id="474" name=""/>
              <p:cNvSpPr/>
              <p:nvPr/>
            </p:nvSpPr>
            <p:spPr>
              <a:xfrm>
                <a:off x="7003800" y="2286000"/>
                <a:ext cx="1826640" cy="439920"/>
              </a:xfrm>
              <a:prstGeom prst="roundRect">
                <a:avLst>
                  <a:gd name="adj" fmla="val 35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003800" y="2286000"/>
                <a:ext cx="1826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#LU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5271480" y="2286000"/>
              <a:ext cx="1726200" cy="439920"/>
              <a:chOff x="5271480" y="2286000"/>
              <a:chExt cx="1726200" cy="439920"/>
            </a:xfrm>
          </p:grpSpPr>
          <p:sp>
            <p:nvSpPr>
              <p:cNvPr id="477" name=""/>
              <p:cNvSpPr/>
              <p:nvPr/>
            </p:nvSpPr>
            <p:spPr>
              <a:xfrm>
                <a:off x="5271480" y="2286000"/>
                <a:ext cx="1726200" cy="439920"/>
              </a:xfrm>
              <a:prstGeom prst="roundRect">
                <a:avLst>
                  <a:gd name="adj" fmla="val 35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71480" y="2286000"/>
                <a:ext cx="1726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#Iterati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3140640" y="2286000"/>
              <a:ext cx="2124720" cy="439920"/>
              <a:chOff x="3140640" y="2286000"/>
              <a:chExt cx="2124720" cy="439920"/>
            </a:xfrm>
          </p:grpSpPr>
          <p:sp>
            <p:nvSpPr>
              <p:cNvPr id="480" name=""/>
              <p:cNvSpPr/>
              <p:nvPr/>
            </p:nvSpPr>
            <p:spPr>
              <a:xfrm>
                <a:off x="3140640" y="2286000"/>
                <a:ext cx="2124720" cy="439920"/>
              </a:xfrm>
              <a:prstGeom prst="roundRect">
                <a:avLst>
                  <a:gd name="adj" fmla="val 35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140640" y="2286000"/>
                <a:ext cx="2122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#Simulation point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533520" y="2286000"/>
              <a:ext cx="2598840" cy="439920"/>
              <a:chOff x="533520" y="2286000"/>
              <a:chExt cx="2598840" cy="439920"/>
            </a:xfrm>
          </p:grpSpPr>
          <p:sp>
            <p:nvSpPr>
              <p:cNvPr id="483" name=""/>
              <p:cNvSpPr/>
              <p:nvPr/>
            </p:nvSpPr>
            <p:spPr>
              <a:xfrm>
                <a:off x="533520" y="2286000"/>
                <a:ext cx="2598840" cy="439920"/>
              </a:xfrm>
              <a:prstGeom prst="roundRect">
                <a:avLst>
                  <a:gd name="adj" fmla="val 35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3520" y="2286000"/>
                <a:ext cx="25988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Metho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>
              <a:off x="533520" y="2286000"/>
              <a:ext cx="8305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33520" y="2730600"/>
              <a:ext cx="830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33520" y="3102120"/>
              <a:ext cx="830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33520" y="3473640"/>
              <a:ext cx="830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33520" y="3878280"/>
              <a:ext cx="830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33520" y="4675320"/>
              <a:ext cx="8305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33520" y="2286000"/>
              <a:ext cx="0" cy="238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140640" y="2286000"/>
              <a:ext cx="0" cy="238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271480" y="2286000"/>
              <a:ext cx="0" cy="238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003800" y="2286000"/>
              <a:ext cx="0" cy="238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838720" y="2286000"/>
              <a:ext cx="0" cy="238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33520" y="4297320"/>
              <a:ext cx="830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0CF6-A1C5-4200-9D38-142099205FF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440" y="2362320"/>
            <a:ext cx="7978680" cy="281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0">
              <a:spcBef>
                <a:spcPts val="561"/>
              </a:spcBef>
              <a:buNone/>
              <a:tabLst>
                <a:tab algn="l" pos="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SILCA –  A prototype of Time-domain Nonlinear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Circuit Simulator</a:t>
            </a: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25520" indent="0">
              <a:spcBef>
                <a:spcPts val="561"/>
              </a:spcBef>
              <a:buNone/>
              <a:tabLst>
                <a:tab algn="l" pos="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25520" indent="-320760">
              <a:spcBef>
                <a:spcPts val="462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Variable-time-step numerical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25520" indent="-320760">
              <a:spcBef>
                <a:spcPts val="462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Iterative Semi-Implicit sol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25520" indent="-320760">
              <a:spcBef>
                <a:spcPts val="462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PWL method (to be improved and test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25520" indent="-320760">
              <a:spcBef>
                <a:spcPts val="462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Variable SC method (to be improved and test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title"/>
          </p:nvPr>
        </p:nvSpPr>
        <p:spPr>
          <a:xfrm>
            <a:off x="849240" y="333000"/>
            <a:ext cx="8089920" cy="126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600" spc="-1" strike="noStrike">
                <a:solidFill>
                  <a:srgbClr val="333399"/>
                </a:solidFill>
                <a:latin typeface="Tahoma"/>
              </a:rPr>
              <a:t>Conclusion on Linear and Nonlinear Time-Domain Solve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>
            <a:off x="1437120" y="5367240"/>
            <a:ext cx="575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** Orders of magnitude 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** Work without derivatives if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3A78-F392-4B00-A2DB-3EE8003F8CB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6480" y="265572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480" y="295416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480" y="302724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480" y="2781360"/>
            <a:ext cx="91360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680" y="2666880"/>
            <a:ext cx="91378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680" y="3233880"/>
            <a:ext cx="91378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680" y="3262320"/>
            <a:ext cx="913788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7788240" cy="69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600" spc="-1" strike="noStrike">
                <a:solidFill>
                  <a:srgbClr val="333399"/>
                </a:solidFill>
                <a:latin typeface="Tahoma"/>
              </a:rPr>
              <a:t>Schedule on NonLinear Solver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"/>
          <p:cNvSpPr/>
          <p:nvPr/>
        </p:nvSpPr>
        <p:spPr>
          <a:xfrm>
            <a:off x="990720" y="1743120"/>
            <a:ext cx="70815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buClr>
                <a:srgbClr val="2c10fa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Next Quarter (Jan </a:t>
            </a:r>
            <a:r>
              <a:rPr b="1" lang="en-GB" sz="24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Mar, 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400"/>
              </a:spcBef>
              <a:buClr>
                <a:srgbClr val="2c10fa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Rank-one update for the variable S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37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Integration of Table-look-up MOSFET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2c10fa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Next 6 months (</a:t>
            </a:r>
            <a:r>
              <a:rPr b="1" lang="en-GB" sz="24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June 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37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Integration of nonlinear capaci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37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Integration of PWL sol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37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Optimize the solver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(Finish 1</a:t>
            </a:r>
            <a:r>
              <a:rPr b="1" lang="en-GB" sz="2000" spc="-1" strike="noStrike" baseline="30000">
                <a:solidFill>
                  <a:srgbClr val="3333cc"/>
                </a:solidFill>
                <a:latin typeface="Tahoma"/>
              </a:rPr>
              <a:t>st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 version of nonlinear sol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2c10fa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Next year (</a:t>
            </a:r>
            <a:r>
              <a:rPr b="1" lang="en-GB" sz="24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Dec 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37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I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ntegration with VHDL-AMS sim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6F46-11D9-4019-A69F-ACBE3FEC0AD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eature of SuperLU</a:t>
            </a:r>
            <a:r>
              <a:rPr b="0" lang="en-US" sz="4400" spc="-1" strike="noStrike" baseline="30000">
                <a:solidFill>
                  <a:srgbClr val="333399"/>
                </a:solidFill>
                <a:latin typeface="Tahoma"/>
              </a:rPr>
              <a:t>*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4864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* Developed by Berkeley, Xerox Palo Alto Research Center, NERSC,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2362320"/>
            <a:ext cx="62481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node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umn elimination tree for pre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mbolic facto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/Complex so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7AA8-B143-461B-88A3-E6287A9D75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arse 1.3 vs SuperL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2133720"/>
            <a:ext cx="6019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e th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 weakness for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3352680"/>
            <a:ext cx="6705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Sparse 1.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A circuit-specific direct solver (198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SuperL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A general purpose direct solver (199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E2FC-3951-479D-8475-6030E8F009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677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arse 1.3 vs SuperL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20574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and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2743200"/>
            <a:ext cx="3276720" cy="2778120"/>
          </a:xfrm>
          <a:prstGeom prst="rect">
            <a:avLst/>
          </a:prstGeom>
          <a:solidFill>
            <a:srgbClr val="f0fb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Tahoma"/>
              </a:rPr>
              <a:t>Sparse 1.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l order/f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Markowitz) -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reu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erical facto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G.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lve (stand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2743200"/>
            <a:ext cx="3504960" cy="2778120"/>
          </a:xfrm>
          <a:prstGeom prst="rect">
            <a:avLst/>
          </a:prstGeom>
          <a:solidFill>
            <a:srgbClr val="f0fb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Tahoma"/>
              </a:rPr>
              <a:t>Super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order by elim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reu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erical facto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upernode based G.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lve (standard+ref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3F39-F397-4F3A-BE1E-1D1930E9E0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sting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arse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&amp;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uperL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2133720"/>
            <a:ext cx="59436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ahoma"/>
              </a:rPr>
              <a:t>Matrix dat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Source: Many Circuits, FE/FD, Artifi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Type:    Dense, sparse, real,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Size:      1k – 100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cc0066"/>
                </a:solidFill>
                <a:latin typeface="Tahoma"/>
              </a:rPr>
              <a:t>Internal matrix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Sparse:    Linked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SuperLU:  Column compressed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B459-314C-4C26-802F-2ED4EEE9D6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s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2362320"/>
            <a:ext cx="67057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6c8c06"/>
                </a:solidFill>
                <a:latin typeface="Tahoma"/>
              </a:rPr>
              <a:t>Numerical factorization and sol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No great differen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n aver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6c8c06"/>
                </a:solidFill>
                <a:latin typeface="Tahoma"/>
              </a:rPr>
              <a:t>Ordering and symbolic facto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Notable differ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most c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arkowitz-based preordering might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e efficient as implemented in Spa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05520" y="11430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06f8"/>
                </a:solidFill>
                <a:latin typeface="Tahoma"/>
              </a:rPr>
              <a:t>Sparse vs Super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994F-A502-49C0-A053-BE90DB9775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umerical Factor Ti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133720" y="2133720"/>
          <a:ext cx="4495680" cy="377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133720"/>
                    <a:ext cx="449568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4E76-EE8C-4BA7-AEF1-9C57C918AF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7T16:21:53Z</dcterms:created>
  <dc:creator>gshi</dc:creator>
  <dc:description/>
  <dc:language>en-US</dc:language>
  <cp:lastModifiedBy>cjshi</cp:lastModifiedBy>
  <dcterms:modified xsi:type="dcterms:W3CDTF">2002-12-10T06:00:10Z</dcterms:modified>
  <cp:revision>57</cp:revision>
  <dc:subject/>
  <dc:title>Solver Development</dc:title>
</cp:coreProperties>
</file>