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7000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0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-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7000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0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7000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360" y="113364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-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7000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360" y="40035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7360" y="585720"/>
            <a:ext cx="7772400" cy="35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1080" y="40035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1080" y="113364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-360" y="40035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-360" y="11336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5F0E-EAE9-49A7-B456-EF316C86B7D8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34280" y="203040"/>
            <a:ext cx="69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4600" y="258840"/>
            <a:ext cx="833400" cy="442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799760" y="87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1120" y="3441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ixed Electromagnetic Circuit Simulation for CoSMo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720" y="120024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:Chuany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Vikram Jandhy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upling of circuit and EM equations in the tim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linear circuits and 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ve mesh ref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edance and mater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omain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6240" y="5187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cident Field Coupling to Non-linear Circuit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790280" y="3809520"/>
            <a:ext cx="26676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867040" y="3305160"/>
            <a:ext cx="9360" cy="62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5840" y="1814400"/>
          <a:ext cx="47052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814400"/>
                    <a:ext cx="47052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848120" y="1623960"/>
            <a:ext cx="4038840" cy="29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MCHW Simulation Resul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9520" y="1238400"/>
            <a:ext cx="3724200" cy="2647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9960" y="3848040"/>
            <a:ext cx="4438800" cy="2781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809960" y="1181160"/>
            <a:ext cx="4124520" cy="277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826160" y="4057560"/>
            <a:ext cx="41940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7360" y="56664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ulation of Current 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3165480"/>
          <a:ext cx="878508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5480"/>
                    <a:ext cx="87850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19240" y="1166760"/>
            <a:ext cx="861984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000" y="510840"/>
            <a:ext cx="874404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sent Status and Continuing 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920" y="1114560"/>
            <a:ext cx="773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960" y="119376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Wave time domain EM simulation for ideal and lossy conductor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to mesher and adaptive refinemen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to circuits with restricted linear and non-linear elements / SPICE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region mater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Newton-Raphson Loop for arbitrary non-linear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R-based fast time st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ime Domain EM Formul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94920"/>
            <a:ext cx="901224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9520" y="1714680"/>
          <a:ext cx="4371840" cy="21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714680"/>
                    <a:ext cx="437184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19840" y="1162080"/>
                <a:ext cx="3832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∓</m:t>
                        </m:r>
                        <m:r>
                          <m:t xml:space="preserve">∇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∓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∓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∓</m:t>
                        </m:r>
                        <m:r>
                          <m:t xml:space="preserve">∇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∓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μ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5858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3440" y="4194000"/>
                <a:ext cx="4886280" cy="24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∇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∇</m:t>
                                </m:r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sub>
                            </m:sSub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087800" y="6026040"/>
            <a:ext cx="365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ontinuity of the tangential electric and magnetic fields at the dielectric interface is enforc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480" y="156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rect Coupling Between EM and Circuit Sect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24360"/>
            <a:ext cx="9144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92080" y="2590560"/>
            <a:ext cx="148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Open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25560" y="2487240"/>
            <a:ext cx="162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Closed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6120" y="1295280"/>
          <a:ext cx="20098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295280"/>
                    <a:ext cx="20098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38760" y="1236600"/>
          <a:ext cx="185904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8760" y="1236600"/>
                    <a:ext cx="18590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862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08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8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38440" y="2017800"/>
                <a:ext cx="149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90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229520" y="1292400"/>
                <a:ext cx="1647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2670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4000" y="1438200"/>
                <a:ext cx="1390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W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72360" y="2023920"/>
                <a:ext cx="1562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1066680" y="3100320"/>
            <a:ext cx="7495560" cy="3533040"/>
            <a:chOff x="1066680" y="3100320"/>
            <a:chExt cx="7495560" cy="3533040"/>
          </a:xfrm>
        </p:grpSpPr>
        <p:sp>
          <p:nvSpPr>
            <p:cNvPr id="113" name=""/>
            <p:cNvSpPr/>
            <p:nvPr/>
          </p:nvSpPr>
          <p:spPr>
            <a:xfrm>
              <a:off x="1066680" y="3107520"/>
              <a:ext cx="2992680" cy="2239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31360" y="3947040"/>
              <a:ext cx="2343240" cy="9986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nonboundary edg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8120" y="5358600"/>
              <a:ext cx="3382920" cy="30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74120" y="3106080"/>
              <a:ext cx="376920" cy="225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2480" y="5666040"/>
              <a:ext cx="1117080" cy="892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3360" y="5886000"/>
              <a:ext cx="10162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3300480" y="401436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Boundary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48080" y="5297400"/>
              <a:ext cx="21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Boundary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8120" y="5679000"/>
              <a:ext cx="3384360" cy="880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1240" y="3100320"/>
              <a:ext cx="1131840" cy="258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9480" y="5865480"/>
              <a:ext cx="199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4071600" y="4020120"/>
              <a:ext cx="175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612760" y="4609080"/>
                  <a:ext cx="983160" cy="49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26" name=""/>
            <p:cNvGrpSpPr/>
            <p:nvPr/>
          </p:nvGrpSpPr>
          <p:grpSpPr>
            <a:xfrm>
              <a:off x="6211080" y="3117600"/>
              <a:ext cx="665280" cy="3508560"/>
              <a:chOff x="6211080" y="3117600"/>
              <a:chExt cx="665280" cy="3508560"/>
            </a:xfrm>
          </p:grpSpPr>
          <p:sp>
            <p:nvSpPr>
              <p:cNvPr id="127" name=""/>
              <p:cNvSpPr/>
              <p:nvPr/>
            </p:nvSpPr>
            <p:spPr>
              <a:xfrm>
                <a:off x="6211080" y="5707800"/>
                <a:ext cx="665280" cy="860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6025680" y="5888160"/>
                <a:ext cx="9576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kt</a:t>
                </a:r>
                <a:br>
                  <a:rPr sz="18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unknow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11080" y="3117600"/>
                <a:ext cx="663480" cy="25862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6049440" y="4190400"/>
                <a:ext cx="95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EM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know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7002720" y="4744440"/>
                  <a:ext cx="1092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7896960" y="3123720"/>
              <a:ext cx="665280" cy="3509640"/>
              <a:chOff x="7896960" y="3123720"/>
              <a:chExt cx="665280" cy="3509640"/>
            </a:xfrm>
          </p:grpSpPr>
          <p:sp>
            <p:nvSpPr>
              <p:cNvPr id="133" name=""/>
              <p:cNvSpPr/>
              <p:nvPr/>
            </p:nvSpPr>
            <p:spPr>
              <a:xfrm>
                <a:off x="7896960" y="5713560"/>
                <a:ext cx="665280" cy="8600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6200000">
                <a:off x="7730640" y="5879880"/>
                <a:ext cx="957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kt</a:t>
                </a:r>
                <a:br>
                  <a:rPr sz="18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excitatio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6960" y="3123720"/>
                <a:ext cx="663480" cy="25855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7735320" y="4194720"/>
                <a:ext cx="960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Fiel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Hist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523800" y="4905360"/>
            <a:ext cx="0" cy="3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72080" y="5857920"/>
            <a:ext cx="9720" cy="48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080" y="5867280"/>
            <a:ext cx="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aptive Mesh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55760" y="199800"/>
            <a:ext cx="3570120" cy="2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00280" y="3715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38840" y="1562040"/>
            <a:ext cx="2247840" cy="628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1800" y="1733400"/>
            <a:ext cx="1562040" cy="524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876320"/>
            <a:ext cx="1285920" cy="4762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53200" y="1447920"/>
            <a:ext cx="1000080" cy="41904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1640" y="2428920"/>
            <a:ext cx="228600" cy="171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5040" y="2523960"/>
            <a:ext cx="2457360" cy="543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76920" y="2219400"/>
            <a:ext cx="1962360" cy="49536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48320" y="3105000"/>
            <a:ext cx="2448000" cy="52416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4760" y="3867120"/>
            <a:ext cx="2048040" cy="62856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43880" y="3981600"/>
            <a:ext cx="1866600" cy="752400"/>
          </a:xfrm>
          <a:prstGeom prst="flowChartDecision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86760" y="5076720"/>
            <a:ext cx="895320" cy="38124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8600" y="4114800"/>
            <a:ext cx="1571760" cy="447840"/>
          </a:xfrm>
          <a:prstGeom prst="flowChartProcess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93920" y="1519200"/>
            <a:ext cx="170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Initial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44280" y="2338560"/>
            <a:ext cx="2518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olve Coupl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65640" y="3205080"/>
            <a:ext cx="30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Generate Refinement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54320" y="4214880"/>
            <a:ext cx="1931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Conver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79040" y="5138640"/>
            <a:ext cx="133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4360" y="4205160"/>
            <a:ext cx="177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Refine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77000" y="1857240"/>
            <a:ext cx="0" cy="352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05800" y="2724120"/>
            <a:ext cx="0" cy="3906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77000" y="3619440"/>
            <a:ext cx="0" cy="3715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4753080"/>
            <a:ext cx="0" cy="342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219360" y="4352760"/>
            <a:ext cx="5050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38880" y="2486160"/>
            <a:ext cx="0" cy="162864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8880" y="2486160"/>
            <a:ext cx="12380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01960" y="4757760"/>
            <a:ext cx="114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6480" y="4081320"/>
            <a:ext cx="107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00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452680"/>
            <a:ext cx="2781360" cy="81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520" y="1896840"/>
            <a:ext cx="465948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Refinement Indicator for Individual Triangular 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920" y="3392640"/>
            <a:ext cx="4402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</a:rPr>
              <a:t>Convergence Criteria Based on Circuit Unknow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81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7360" y="4067280"/>
                <a:ext cx="2679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s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mple Meshing Examp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360" y="5095440"/>
            <a:ext cx="113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Initial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46800" y="5171760"/>
            <a:ext cx="110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Final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2238480"/>
            <a:ext cx="4268880" cy="295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11760" y="2152800"/>
            <a:ext cx="3830760" cy="280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640" y="5611680"/>
            <a:ext cx="8220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indicator : Total current integrated over al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criterion : Circuit parameter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2400" y="314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mple Validation Example : Transmission Line versus Full-Wave Simul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622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2240" y="3019320"/>
            <a:ext cx="5333760" cy="35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82520" y="1195560"/>
          <a:ext cx="6383520" cy="17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1195560"/>
                    <a:ext cx="63835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plex Via Cross Tal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76440" y="2695320"/>
            <a:ext cx="36180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4240" y="3038400"/>
            <a:ext cx="600120" cy="12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7360" y="2644920"/>
            <a:ext cx="409320" cy="88920"/>
          </a:xfrm>
          <a:prstGeom prst="rightArrow">
            <a:avLst>
              <a:gd name="adj1" fmla="val 50000"/>
              <a:gd name="adj2" fmla="val 1150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320" y="3017880"/>
            <a:ext cx="581040" cy="135000"/>
          </a:xfrm>
          <a:prstGeom prst="rightArrow">
            <a:avLst>
              <a:gd name="adj1" fmla="val 50000"/>
              <a:gd name="adj2" fmla="val 1076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89120" y="5141880"/>
            <a:ext cx="5918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6440" y="2523960"/>
            <a:ext cx="295200" cy="20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6440" y="2552760"/>
            <a:ext cx="266400" cy="16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23960" y="3057480"/>
            <a:ext cx="504720" cy="8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5640" y="2505240"/>
            <a:ext cx="514440" cy="14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4880" y="3038400"/>
            <a:ext cx="495360" cy="11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2400" y="3381480"/>
            <a:ext cx="39060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809880" y="3352680"/>
            <a:ext cx="571680" cy="1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59320" y="1636200"/>
            <a:ext cx="4316400" cy="4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585280" y="1305000"/>
            <a:ext cx="55440" cy="128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09520" y="1428840"/>
            <a:ext cx="4467240" cy="2390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81080" y="3800520"/>
            <a:ext cx="4495680" cy="2782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76760" y="1257480"/>
            <a:ext cx="3962520" cy="2676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4686480" y="3914640"/>
            <a:ext cx="41432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7360" y="58572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inement Indicato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3200" y="1204920"/>
            <a:ext cx="3990960" cy="2994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0512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165560" y="174312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03880" y="4325760"/>
            <a:ext cx="199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66080" y="431640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3040" y="5450040"/>
            <a:ext cx="737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 : Time-integrated total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480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aptive Refinement and Convergen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6440" y="4152960"/>
            <a:ext cx="4954320" cy="2705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1352520"/>
            <a:ext cx="4822560" cy="2617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048280" y="1257480"/>
            <a:ext cx="3895560" cy="24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057640" y="4761000"/>
            <a:ext cx="39340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itial Mesh 1000 patches, 1468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inal Mesh 3335 patches, 4970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EE/CSE</cp:lastModifiedBy>
  <cp:lastPrinted>2001-05-19T16:33:31Z</cp:lastPrinted>
  <dcterms:modified xsi:type="dcterms:W3CDTF">2002-12-09T19:04:06Z</dcterms:modified>
  <cp:revision>438</cp:revision>
  <dc:subject>DARPA NeoCAD Program Kickoff Presentation</dc:subject>
  <dc:title>CoSMoS Project Overview</dc:title>
</cp:coreProperties>
</file>