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71400" y="57132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1983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0560" y="6667560"/>
            <a:ext cx="8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Dec. 10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29EA-FDFB-4D5C-9E49-E6574705E212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88240" y="2048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0240" y="169920"/>
            <a:ext cx="87534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oSMoS:</a:t>
            </a:r>
            <a:r>
              <a:rPr b="1" i="1" lang="en-US" sz="5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C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uple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imulation an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M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deling of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ystems-on-Chips</a:t>
            </a:r>
            <a:endParaRPr b="0" i="1" lang="en-US" sz="2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82520" y="3490560"/>
            <a:ext cx="72900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o Wan, Bo Hu, Lili Zh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dvisor: Professor Richard 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niversity of Washing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{wanbo, hubo, llzhou}@ee.washington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upported by DARPA/NEOC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5800" y="1227240"/>
            <a:ext cx="851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60880" y="5759280"/>
            <a:ext cx="606240" cy="6638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5697360" y="5873760"/>
            <a:ext cx="1536480" cy="398160"/>
            <a:chOff x="5697360" y="5873760"/>
            <a:chExt cx="1536480" cy="398160"/>
          </a:xfrm>
        </p:grpSpPr>
        <p:sp>
          <p:nvSpPr>
            <p:cNvPr id="91" name=""/>
            <p:cNvSpPr/>
            <p:nvPr/>
          </p:nvSpPr>
          <p:spPr>
            <a:xfrm>
              <a:off x="5697360" y="5873760"/>
              <a:ext cx="406440" cy="398160"/>
            </a:xfrm>
            <a:custGeom>
              <a:avLst/>
              <a:gdLst/>
              <a:ahLst/>
              <a:rect l="l" t="t" r="r" b="b"/>
              <a:pathLst>
                <a:path w="4475" h="3639">
                  <a:moveTo>
                    <a:pt x="2454" y="2210"/>
                  </a:moveTo>
                  <a:lnTo>
                    <a:pt x="2468" y="2179"/>
                  </a:lnTo>
                  <a:lnTo>
                    <a:pt x="2481" y="2148"/>
                  </a:lnTo>
                  <a:lnTo>
                    <a:pt x="2493" y="2117"/>
                  </a:lnTo>
                  <a:lnTo>
                    <a:pt x="2505" y="2084"/>
                  </a:lnTo>
                  <a:lnTo>
                    <a:pt x="2516" y="2052"/>
                  </a:lnTo>
                  <a:lnTo>
                    <a:pt x="2526" y="2019"/>
                  </a:lnTo>
                  <a:lnTo>
                    <a:pt x="2534" y="1986"/>
                  </a:lnTo>
                  <a:lnTo>
                    <a:pt x="2543" y="1952"/>
                  </a:lnTo>
                  <a:lnTo>
                    <a:pt x="2550" y="1919"/>
                  </a:lnTo>
                  <a:lnTo>
                    <a:pt x="2557" y="1884"/>
                  </a:lnTo>
                  <a:lnTo>
                    <a:pt x="2562" y="1851"/>
                  </a:lnTo>
                  <a:lnTo>
                    <a:pt x="2567" y="1815"/>
                  </a:lnTo>
                  <a:lnTo>
                    <a:pt x="2570" y="1781"/>
                  </a:lnTo>
                  <a:lnTo>
                    <a:pt x="2572" y="1745"/>
                  </a:lnTo>
                  <a:lnTo>
                    <a:pt x="2575" y="1710"/>
                  </a:lnTo>
                  <a:lnTo>
                    <a:pt x="2575" y="1674"/>
                  </a:lnTo>
                  <a:lnTo>
                    <a:pt x="2575" y="1632"/>
                  </a:lnTo>
                  <a:lnTo>
                    <a:pt x="2572" y="1592"/>
                  </a:lnTo>
                  <a:lnTo>
                    <a:pt x="2569" y="1552"/>
                  </a:lnTo>
                  <a:lnTo>
                    <a:pt x="2564" y="1511"/>
                  </a:lnTo>
                  <a:lnTo>
                    <a:pt x="2559" y="1471"/>
                  </a:lnTo>
                  <a:lnTo>
                    <a:pt x="2551" y="1432"/>
                  </a:lnTo>
                  <a:lnTo>
                    <a:pt x="2543" y="1393"/>
                  </a:lnTo>
                  <a:lnTo>
                    <a:pt x="2533" y="1354"/>
                  </a:lnTo>
                  <a:lnTo>
                    <a:pt x="2523" y="1317"/>
                  </a:lnTo>
                  <a:lnTo>
                    <a:pt x="2511" y="1279"/>
                  </a:lnTo>
                  <a:lnTo>
                    <a:pt x="2498" y="1242"/>
                  </a:lnTo>
                  <a:lnTo>
                    <a:pt x="2485" y="1206"/>
                  </a:lnTo>
                  <a:lnTo>
                    <a:pt x="2470" y="1169"/>
                  </a:lnTo>
                  <a:lnTo>
                    <a:pt x="2453" y="1134"/>
                  </a:lnTo>
                  <a:lnTo>
                    <a:pt x="2436" y="1099"/>
                  </a:lnTo>
                  <a:lnTo>
                    <a:pt x="2418" y="1065"/>
                  </a:lnTo>
                  <a:lnTo>
                    <a:pt x="2398" y="1031"/>
                  </a:lnTo>
                  <a:lnTo>
                    <a:pt x="2378" y="999"/>
                  </a:lnTo>
                  <a:lnTo>
                    <a:pt x="2356" y="966"/>
                  </a:lnTo>
                  <a:lnTo>
                    <a:pt x="2334" y="935"/>
                  </a:lnTo>
                  <a:lnTo>
                    <a:pt x="2311" y="904"/>
                  </a:lnTo>
                  <a:lnTo>
                    <a:pt x="2288" y="873"/>
                  </a:lnTo>
                  <a:lnTo>
                    <a:pt x="2262" y="844"/>
                  </a:lnTo>
                  <a:lnTo>
                    <a:pt x="2237" y="816"/>
                  </a:lnTo>
                  <a:lnTo>
                    <a:pt x="2210" y="787"/>
                  </a:lnTo>
                  <a:lnTo>
                    <a:pt x="2183" y="760"/>
                  </a:lnTo>
                  <a:lnTo>
                    <a:pt x="2154" y="734"/>
                  </a:lnTo>
                  <a:lnTo>
                    <a:pt x="2125" y="709"/>
                  </a:lnTo>
                  <a:lnTo>
                    <a:pt x="2095" y="684"/>
                  </a:lnTo>
                  <a:lnTo>
                    <a:pt x="2064" y="661"/>
                  </a:lnTo>
                  <a:lnTo>
                    <a:pt x="2034" y="638"/>
                  </a:lnTo>
                  <a:lnTo>
                    <a:pt x="2001" y="616"/>
                  </a:lnTo>
                  <a:lnTo>
                    <a:pt x="2079" y="538"/>
                  </a:lnTo>
                  <a:lnTo>
                    <a:pt x="2159" y="459"/>
                  </a:lnTo>
                  <a:lnTo>
                    <a:pt x="2240" y="381"/>
                  </a:lnTo>
                  <a:lnTo>
                    <a:pt x="2323" y="303"/>
                  </a:lnTo>
                  <a:lnTo>
                    <a:pt x="2406" y="227"/>
                  </a:lnTo>
                  <a:lnTo>
                    <a:pt x="2492" y="151"/>
                  </a:lnTo>
                  <a:lnTo>
                    <a:pt x="2579" y="75"/>
                  </a:lnTo>
                  <a:lnTo>
                    <a:pt x="2668" y="0"/>
                  </a:lnTo>
                  <a:lnTo>
                    <a:pt x="2615" y="30"/>
                  </a:lnTo>
                  <a:lnTo>
                    <a:pt x="2564" y="62"/>
                  </a:lnTo>
                  <a:lnTo>
                    <a:pt x="2512" y="93"/>
                  </a:lnTo>
                  <a:lnTo>
                    <a:pt x="2461" y="125"/>
                  </a:lnTo>
                  <a:lnTo>
                    <a:pt x="2412" y="159"/>
                  </a:lnTo>
                  <a:lnTo>
                    <a:pt x="2361" y="191"/>
                  </a:lnTo>
                  <a:lnTo>
                    <a:pt x="2311" y="226"/>
                  </a:lnTo>
                  <a:lnTo>
                    <a:pt x="2262" y="259"/>
                  </a:lnTo>
                  <a:lnTo>
                    <a:pt x="2214" y="294"/>
                  </a:lnTo>
                  <a:lnTo>
                    <a:pt x="2165" y="329"/>
                  </a:lnTo>
                  <a:lnTo>
                    <a:pt x="2117" y="365"/>
                  </a:lnTo>
                  <a:lnTo>
                    <a:pt x="2071" y="401"/>
                  </a:lnTo>
                  <a:lnTo>
                    <a:pt x="2023" y="437"/>
                  </a:lnTo>
                  <a:lnTo>
                    <a:pt x="1976" y="474"/>
                  </a:lnTo>
                  <a:lnTo>
                    <a:pt x="1931" y="511"/>
                  </a:lnTo>
                  <a:lnTo>
                    <a:pt x="1885" y="548"/>
                  </a:lnTo>
                  <a:lnTo>
                    <a:pt x="1852" y="531"/>
                  </a:lnTo>
                  <a:lnTo>
                    <a:pt x="1817" y="516"/>
                  </a:lnTo>
                  <a:lnTo>
                    <a:pt x="1782" y="501"/>
                  </a:lnTo>
                  <a:lnTo>
                    <a:pt x="1747" y="486"/>
                  </a:lnTo>
                  <a:lnTo>
                    <a:pt x="1711" y="474"/>
                  </a:lnTo>
                  <a:lnTo>
                    <a:pt x="1675" y="461"/>
                  </a:lnTo>
                  <a:lnTo>
                    <a:pt x="1638" y="451"/>
                  </a:lnTo>
                  <a:lnTo>
                    <a:pt x="1601" y="440"/>
                  </a:lnTo>
                  <a:lnTo>
                    <a:pt x="1563" y="432"/>
                  </a:lnTo>
                  <a:lnTo>
                    <a:pt x="1524" y="425"/>
                  </a:lnTo>
                  <a:lnTo>
                    <a:pt x="1485" y="417"/>
                  </a:lnTo>
                  <a:lnTo>
                    <a:pt x="1447" y="412"/>
                  </a:lnTo>
                  <a:lnTo>
                    <a:pt x="1407" y="408"/>
                  </a:lnTo>
                  <a:lnTo>
                    <a:pt x="1368" y="405"/>
                  </a:lnTo>
                  <a:lnTo>
                    <a:pt x="1328" y="403"/>
                  </a:lnTo>
                  <a:lnTo>
                    <a:pt x="1287" y="403"/>
                  </a:lnTo>
                  <a:lnTo>
                    <a:pt x="1222" y="404"/>
                  </a:lnTo>
                  <a:lnTo>
                    <a:pt x="1156" y="409"/>
                  </a:lnTo>
                  <a:lnTo>
                    <a:pt x="1091" y="417"/>
                  </a:lnTo>
                  <a:lnTo>
                    <a:pt x="1028" y="429"/>
                  </a:lnTo>
                  <a:lnTo>
                    <a:pt x="965" y="442"/>
                  </a:lnTo>
                  <a:lnTo>
                    <a:pt x="904" y="459"/>
                  </a:lnTo>
                  <a:lnTo>
                    <a:pt x="845" y="480"/>
                  </a:lnTo>
                  <a:lnTo>
                    <a:pt x="787" y="502"/>
                  </a:lnTo>
                  <a:lnTo>
                    <a:pt x="729" y="528"/>
                  </a:lnTo>
                  <a:lnTo>
                    <a:pt x="673" y="556"/>
                  </a:lnTo>
                  <a:lnTo>
                    <a:pt x="619" y="587"/>
                  </a:lnTo>
                  <a:lnTo>
                    <a:pt x="567" y="620"/>
                  </a:lnTo>
                  <a:lnTo>
                    <a:pt x="517" y="655"/>
                  </a:lnTo>
                  <a:lnTo>
                    <a:pt x="468" y="693"/>
                  </a:lnTo>
                  <a:lnTo>
                    <a:pt x="421" y="733"/>
                  </a:lnTo>
                  <a:lnTo>
                    <a:pt x="377" y="775"/>
                  </a:lnTo>
                  <a:lnTo>
                    <a:pt x="335" y="819"/>
                  </a:lnTo>
                  <a:lnTo>
                    <a:pt x="294" y="865"/>
                  </a:lnTo>
                  <a:lnTo>
                    <a:pt x="255" y="913"/>
                  </a:lnTo>
                  <a:lnTo>
                    <a:pt x="220" y="963"/>
                  </a:lnTo>
                  <a:lnTo>
                    <a:pt x="186" y="1014"/>
                  </a:lnTo>
                  <a:lnTo>
                    <a:pt x="156" y="1068"/>
                  </a:lnTo>
                  <a:lnTo>
                    <a:pt x="127" y="1123"/>
                  </a:lnTo>
                  <a:lnTo>
                    <a:pt x="102" y="1180"/>
                  </a:lnTo>
                  <a:lnTo>
                    <a:pt x="78" y="1237"/>
                  </a:lnTo>
                  <a:lnTo>
                    <a:pt x="58" y="1296"/>
                  </a:lnTo>
                  <a:lnTo>
                    <a:pt x="40" y="1356"/>
                  </a:lnTo>
                  <a:lnTo>
                    <a:pt x="26" y="1418"/>
                  </a:lnTo>
                  <a:lnTo>
                    <a:pt x="15" y="1481"/>
                  </a:lnTo>
                  <a:lnTo>
                    <a:pt x="6" y="1545"/>
                  </a:lnTo>
                  <a:lnTo>
                    <a:pt x="2" y="1608"/>
                  </a:lnTo>
                  <a:lnTo>
                    <a:pt x="0" y="1674"/>
                  </a:lnTo>
                  <a:lnTo>
                    <a:pt x="0" y="1703"/>
                  </a:lnTo>
                  <a:lnTo>
                    <a:pt x="1" y="1733"/>
                  </a:lnTo>
                  <a:lnTo>
                    <a:pt x="3" y="1762"/>
                  </a:lnTo>
                  <a:lnTo>
                    <a:pt x="5" y="1791"/>
                  </a:lnTo>
                  <a:lnTo>
                    <a:pt x="8" y="1821"/>
                  </a:lnTo>
                  <a:lnTo>
                    <a:pt x="12" y="1850"/>
                  </a:lnTo>
                  <a:lnTo>
                    <a:pt x="17" y="1878"/>
                  </a:lnTo>
                  <a:lnTo>
                    <a:pt x="21" y="1906"/>
                  </a:lnTo>
                  <a:lnTo>
                    <a:pt x="28" y="1935"/>
                  </a:lnTo>
                  <a:lnTo>
                    <a:pt x="33" y="1962"/>
                  </a:lnTo>
                  <a:lnTo>
                    <a:pt x="40" y="1990"/>
                  </a:lnTo>
                  <a:lnTo>
                    <a:pt x="48" y="2017"/>
                  </a:lnTo>
                  <a:lnTo>
                    <a:pt x="56" y="2044"/>
                  </a:lnTo>
                  <a:lnTo>
                    <a:pt x="65" y="2072"/>
                  </a:lnTo>
                  <a:lnTo>
                    <a:pt x="74" y="2098"/>
                  </a:lnTo>
                  <a:lnTo>
                    <a:pt x="84" y="2124"/>
                  </a:lnTo>
                  <a:lnTo>
                    <a:pt x="94" y="2150"/>
                  </a:lnTo>
                  <a:lnTo>
                    <a:pt x="105" y="2176"/>
                  </a:lnTo>
                  <a:lnTo>
                    <a:pt x="116" y="2201"/>
                  </a:lnTo>
                  <a:lnTo>
                    <a:pt x="128" y="2227"/>
                  </a:lnTo>
                  <a:lnTo>
                    <a:pt x="141" y="2251"/>
                  </a:lnTo>
                  <a:lnTo>
                    <a:pt x="155" y="2277"/>
                  </a:lnTo>
                  <a:lnTo>
                    <a:pt x="167" y="2301"/>
                  </a:lnTo>
                  <a:lnTo>
                    <a:pt x="182" y="2325"/>
                  </a:lnTo>
                  <a:lnTo>
                    <a:pt x="197" y="2349"/>
                  </a:lnTo>
                  <a:lnTo>
                    <a:pt x="212" y="2372"/>
                  </a:lnTo>
                  <a:lnTo>
                    <a:pt x="228" y="2395"/>
                  </a:lnTo>
                  <a:lnTo>
                    <a:pt x="243" y="2417"/>
                  </a:lnTo>
                  <a:lnTo>
                    <a:pt x="260" y="2440"/>
                  </a:lnTo>
                  <a:lnTo>
                    <a:pt x="277" y="2461"/>
                  </a:lnTo>
                  <a:lnTo>
                    <a:pt x="295" y="2483"/>
                  </a:lnTo>
                  <a:lnTo>
                    <a:pt x="313" y="2503"/>
                  </a:lnTo>
                  <a:lnTo>
                    <a:pt x="290" y="2553"/>
                  </a:lnTo>
                  <a:lnTo>
                    <a:pt x="269" y="2601"/>
                  </a:lnTo>
                  <a:lnTo>
                    <a:pt x="249" y="2649"/>
                  </a:lnTo>
                  <a:lnTo>
                    <a:pt x="230" y="2696"/>
                  </a:lnTo>
                  <a:lnTo>
                    <a:pt x="213" y="2742"/>
                  </a:lnTo>
                  <a:lnTo>
                    <a:pt x="196" y="2788"/>
                  </a:lnTo>
                  <a:lnTo>
                    <a:pt x="181" y="2833"/>
                  </a:lnTo>
                  <a:lnTo>
                    <a:pt x="167" y="2877"/>
                  </a:lnTo>
                  <a:lnTo>
                    <a:pt x="155" y="2920"/>
                  </a:lnTo>
                  <a:lnTo>
                    <a:pt x="143" y="2962"/>
                  </a:lnTo>
                  <a:lnTo>
                    <a:pt x="132" y="3003"/>
                  </a:lnTo>
                  <a:lnTo>
                    <a:pt x="124" y="3043"/>
                  </a:lnTo>
                  <a:lnTo>
                    <a:pt x="116" y="3083"/>
                  </a:lnTo>
                  <a:lnTo>
                    <a:pt x="110" y="3120"/>
                  </a:lnTo>
                  <a:lnTo>
                    <a:pt x="106" y="3158"/>
                  </a:lnTo>
                  <a:lnTo>
                    <a:pt x="103" y="3194"/>
                  </a:lnTo>
                  <a:lnTo>
                    <a:pt x="101" y="3229"/>
                  </a:lnTo>
                  <a:lnTo>
                    <a:pt x="100" y="3263"/>
                  </a:lnTo>
                  <a:lnTo>
                    <a:pt x="101" y="3295"/>
                  </a:lnTo>
                  <a:lnTo>
                    <a:pt x="103" y="3326"/>
                  </a:lnTo>
                  <a:lnTo>
                    <a:pt x="106" y="3357"/>
                  </a:lnTo>
                  <a:lnTo>
                    <a:pt x="110" y="3386"/>
                  </a:lnTo>
                  <a:lnTo>
                    <a:pt x="116" y="3413"/>
                  </a:lnTo>
                  <a:lnTo>
                    <a:pt x="125" y="3439"/>
                  </a:lnTo>
                  <a:lnTo>
                    <a:pt x="133" y="3465"/>
                  </a:lnTo>
                  <a:lnTo>
                    <a:pt x="144" y="3488"/>
                  </a:lnTo>
                  <a:lnTo>
                    <a:pt x="157" y="3509"/>
                  </a:lnTo>
                  <a:lnTo>
                    <a:pt x="170" y="3530"/>
                  </a:lnTo>
                  <a:lnTo>
                    <a:pt x="185" y="3549"/>
                  </a:lnTo>
                  <a:lnTo>
                    <a:pt x="202" y="3567"/>
                  </a:lnTo>
                  <a:lnTo>
                    <a:pt x="220" y="3583"/>
                  </a:lnTo>
                  <a:lnTo>
                    <a:pt x="239" y="3596"/>
                  </a:lnTo>
                  <a:lnTo>
                    <a:pt x="263" y="3610"/>
                  </a:lnTo>
                  <a:lnTo>
                    <a:pt x="286" y="3620"/>
                  </a:lnTo>
                  <a:lnTo>
                    <a:pt x="311" y="3629"/>
                  </a:lnTo>
                  <a:lnTo>
                    <a:pt x="339" y="3635"/>
                  </a:lnTo>
                  <a:lnTo>
                    <a:pt x="366" y="3638"/>
                  </a:lnTo>
                  <a:lnTo>
                    <a:pt x="396" y="3639"/>
                  </a:lnTo>
                  <a:lnTo>
                    <a:pt x="427" y="3638"/>
                  </a:lnTo>
                  <a:lnTo>
                    <a:pt x="458" y="3635"/>
                  </a:lnTo>
                  <a:lnTo>
                    <a:pt x="490" y="3630"/>
                  </a:lnTo>
                  <a:lnTo>
                    <a:pt x="523" y="3622"/>
                  </a:lnTo>
                  <a:lnTo>
                    <a:pt x="557" y="3613"/>
                  </a:lnTo>
                  <a:lnTo>
                    <a:pt x="592" y="3602"/>
                  </a:lnTo>
                  <a:lnTo>
                    <a:pt x="627" y="3588"/>
                  </a:lnTo>
                  <a:lnTo>
                    <a:pt x="662" y="3572"/>
                  </a:lnTo>
                  <a:lnTo>
                    <a:pt x="698" y="3554"/>
                  </a:lnTo>
                  <a:lnTo>
                    <a:pt x="734" y="3536"/>
                  </a:lnTo>
                  <a:lnTo>
                    <a:pt x="771" y="3515"/>
                  </a:lnTo>
                  <a:lnTo>
                    <a:pt x="807" y="3492"/>
                  </a:lnTo>
                  <a:lnTo>
                    <a:pt x="844" y="3468"/>
                  </a:lnTo>
                  <a:lnTo>
                    <a:pt x="880" y="3442"/>
                  </a:lnTo>
                  <a:lnTo>
                    <a:pt x="916" y="3414"/>
                  </a:lnTo>
                  <a:lnTo>
                    <a:pt x="953" y="3385"/>
                  </a:lnTo>
                  <a:lnTo>
                    <a:pt x="988" y="3355"/>
                  </a:lnTo>
                  <a:lnTo>
                    <a:pt x="1024" y="3322"/>
                  </a:lnTo>
                  <a:lnTo>
                    <a:pt x="1059" y="3289"/>
                  </a:lnTo>
                  <a:lnTo>
                    <a:pt x="1093" y="3254"/>
                  </a:lnTo>
                  <a:lnTo>
                    <a:pt x="1126" y="3219"/>
                  </a:lnTo>
                  <a:lnTo>
                    <a:pt x="1159" y="3181"/>
                  </a:lnTo>
                  <a:lnTo>
                    <a:pt x="1191" y="3142"/>
                  </a:lnTo>
                  <a:lnTo>
                    <a:pt x="1223" y="3103"/>
                  </a:lnTo>
                  <a:lnTo>
                    <a:pt x="1252" y="3062"/>
                  </a:lnTo>
                  <a:lnTo>
                    <a:pt x="1282" y="3020"/>
                  </a:lnTo>
                  <a:lnTo>
                    <a:pt x="1261" y="3038"/>
                  </a:lnTo>
                  <a:lnTo>
                    <a:pt x="1205" y="3084"/>
                  </a:lnTo>
                  <a:lnTo>
                    <a:pt x="1164" y="3114"/>
                  </a:lnTo>
                  <a:lnTo>
                    <a:pt x="1119" y="3148"/>
                  </a:lnTo>
                  <a:lnTo>
                    <a:pt x="1069" y="3182"/>
                  </a:lnTo>
                  <a:lnTo>
                    <a:pt x="1014" y="3218"/>
                  </a:lnTo>
                  <a:lnTo>
                    <a:pt x="987" y="3234"/>
                  </a:lnTo>
                  <a:lnTo>
                    <a:pt x="957" y="3251"/>
                  </a:lnTo>
                  <a:lnTo>
                    <a:pt x="927" y="3267"/>
                  </a:lnTo>
                  <a:lnTo>
                    <a:pt x="898" y="3283"/>
                  </a:lnTo>
                  <a:lnTo>
                    <a:pt x="867" y="3297"/>
                  </a:lnTo>
                  <a:lnTo>
                    <a:pt x="837" y="3311"/>
                  </a:lnTo>
                  <a:lnTo>
                    <a:pt x="807" y="3322"/>
                  </a:lnTo>
                  <a:lnTo>
                    <a:pt x="777" y="3333"/>
                  </a:lnTo>
                  <a:lnTo>
                    <a:pt x="746" y="3341"/>
                  </a:lnTo>
                  <a:lnTo>
                    <a:pt x="717" y="3348"/>
                  </a:lnTo>
                  <a:lnTo>
                    <a:pt x="688" y="3354"/>
                  </a:lnTo>
                  <a:lnTo>
                    <a:pt x="660" y="3356"/>
                  </a:lnTo>
                  <a:lnTo>
                    <a:pt x="632" y="3357"/>
                  </a:lnTo>
                  <a:lnTo>
                    <a:pt x="606" y="3355"/>
                  </a:lnTo>
                  <a:lnTo>
                    <a:pt x="579" y="3349"/>
                  </a:lnTo>
                  <a:lnTo>
                    <a:pt x="555" y="3342"/>
                  </a:lnTo>
                  <a:lnTo>
                    <a:pt x="540" y="3336"/>
                  </a:lnTo>
                  <a:lnTo>
                    <a:pt x="526" y="3330"/>
                  </a:lnTo>
                  <a:lnTo>
                    <a:pt x="514" y="3321"/>
                  </a:lnTo>
                  <a:lnTo>
                    <a:pt x="503" y="3312"/>
                  </a:lnTo>
                  <a:lnTo>
                    <a:pt x="491" y="3301"/>
                  </a:lnTo>
                  <a:lnTo>
                    <a:pt x="482" y="3291"/>
                  </a:lnTo>
                  <a:lnTo>
                    <a:pt x="473" y="3278"/>
                  </a:lnTo>
                  <a:lnTo>
                    <a:pt x="465" y="3265"/>
                  </a:lnTo>
                  <a:lnTo>
                    <a:pt x="458" y="3251"/>
                  </a:lnTo>
                  <a:lnTo>
                    <a:pt x="452" y="3237"/>
                  </a:lnTo>
                  <a:lnTo>
                    <a:pt x="447" y="3220"/>
                  </a:lnTo>
                  <a:lnTo>
                    <a:pt x="443" y="3203"/>
                  </a:lnTo>
                  <a:lnTo>
                    <a:pt x="438" y="3185"/>
                  </a:lnTo>
                  <a:lnTo>
                    <a:pt x="436" y="3166"/>
                  </a:lnTo>
                  <a:lnTo>
                    <a:pt x="434" y="3148"/>
                  </a:lnTo>
                  <a:lnTo>
                    <a:pt x="433" y="3127"/>
                  </a:lnTo>
                  <a:lnTo>
                    <a:pt x="433" y="3106"/>
                  </a:lnTo>
                  <a:lnTo>
                    <a:pt x="433" y="3084"/>
                  </a:lnTo>
                  <a:lnTo>
                    <a:pt x="435" y="3061"/>
                  </a:lnTo>
                  <a:lnTo>
                    <a:pt x="437" y="3038"/>
                  </a:lnTo>
                  <a:lnTo>
                    <a:pt x="440" y="3014"/>
                  </a:lnTo>
                  <a:lnTo>
                    <a:pt x="445" y="2989"/>
                  </a:lnTo>
                  <a:lnTo>
                    <a:pt x="449" y="2963"/>
                  </a:lnTo>
                  <a:lnTo>
                    <a:pt x="455" y="2936"/>
                  </a:lnTo>
                  <a:lnTo>
                    <a:pt x="462" y="2909"/>
                  </a:lnTo>
                  <a:lnTo>
                    <a:pt x="469" y="2881"/>
                  </a:lnTo>
                  <a:lnTo>
                    <a:pt x="476" y="2852"/>
                  </a:lnTo>
                  <a:lnTo>
                    <a:pt x="485" y="2822"/>
                  </a:lnTo>
                  <a:lnTo>
                    <a:pt x="505" y="2763"/>
                  </a:lnTo>
                  <a:lnTo>
                    <a:pt x="528" y="2699"/>
                  </a:lnTo>
                  <a:lnTo>
                    <a:pt x="568" y="2727"/>
                  </a:lnTo>
                  <a:lnTo>
                    <a:pt x="610" y="2754"/>
                  </a:lnTo>
                  <a:lnTo>
                    <a:pt x="653" y="2780"/>
                  </a:lnTo>
                  <a:lnTo>
                    <a:pt x="697" y="2803"/>
                  </a:lnTo>
                  <a:lnTo>
                    <a:pt x="741" y="2825"/>
                  </a:lnTo>
                  <a:lnTo>
                    <a:pt x="787" y="2845"/>
                  </a:lnTo>
                  <a:lnTo>
                    <a:pt x="833" y="2863"/>
                  </a:lnTo>
                  <a:lnTo>
                    <a:pt x="881" y="2880"/>
                  </a:lnTo>
                  <a:lnTo>
                    <a:pt x="905" y="2888"/>
                  </a:lnTo>
                  <a:lnTo>
                    <a:pt x="929" y="2896"/>
                  </a:lnTo>
                  <a:lnTo>
                    <a:pt x="954" y="2902"/>
                  </a:lnTo>
                  <a:lnTo>
                    <a:pt x="978" y="2908"/>
                  </a:lnTo>
                  <a:lnTo>
                    <a:pt x="1003" y="2914"/>
                  </a:lnTo>
                  <a:lnTo>
                    <a:pt x="1028" y="2920"/>
                  </a:lnTo>
                  <a:lnTo>
                    <a:pt x="1053" y="2925"/>
                  </a:lnTo>
                  <a:lnTo>
                    <a:pt x="1079" y="2929"/>
                  </a:lnTo>
                  <a:lnTo>
                    <a:pt x="1104" y="2933"/>
                  </a:lnTo>
                  <a:lnTo>
                    <a:pt x="1130" y="2936"/>
                  </a:lnTo>
                  <a:lnTo>
                    <a:pt x="1156" y="2940"/>
                  </a:lnTo>
                  <a:lnTo>
                    <a:pt x="1181" y="2942"/>
                  </a:lnTo>
                  <a:lnTo>
                    <a:pt x="1208" y="2944"/>
                  </a:lnTo>
                  <a:lnTo>
                    <a:pt x="1234" y="2945"/>
                  </a:lnTo>
                  <a:lnTo>
                    <a:pt x="1261" y="2946"/>
                  </a:lnTo>
                  <a:lnTo>
                    <a:pt x="1287" y="2946"/>
                  </a:lnTo>
                  <a:lnTo>
                    <a:pt x="1320" y="2946"/>
                  </a:lnTo>
                  <a:lnTo>
                    <a:pt x="1353" y="2944"/>
                  </a:lnTo>
                  <a:lnTo>
                    <a:pt x="1386" y="2942"/>
                  </a:lnTo>
                  <a:lnTo>
                    <a:pt x="1417" y="2940"/>
                  </a:lnTo>
                  <a:lnTo>
                    <a:pt x="1450" y="2935"/>
                  </a:lnTo>
                  <a:lnTo>
                    <a:pt x="1482" y="2931"/>
                  </a:lnTo>
                  <a:lnTo>
                    <a:pt x="1514" y="2926"/>
                  </a:lnTo>
                  <a:lnTo>
                    <a:pt x="1545" y="2921"/>
                  </a:lnTo>
                  <a:lnTo>
                    <a:pt x="1575" y="2913"/>
                  </a:lnTo>
                  <a:lnTo>
                    <a:pt x="1607" y="2906"/>
                  </a:lnTo>
                  <a:lnTo>
                    <a:pt x="1637" y="2898"/>
                  </a:lnTo>
                  <a:lnTo>
                    <a:pt x="1667" y="2889"/>
                  </a:lnTo>
                  <a:lnTo>
                    <a:pt x="1697" y="2880"/>
                  </a:lnTo>
                  <a:lnTo>
                    <a:pt x="1727" y="2869"/>
                  </a:lnTo>
                  <a:lnTo>
                    <a:pt x="1756" y="2859"/>
                  </a:lnTo>
                  <a:lnTo>
                    <a:pt x="1785" y="2848"/>
                  </a:lnTo>
                  <a:lnTo>
                    <a:pt x="1813" y="2835"/>
                  </a:lnTo>
                  <a:lnTo>
                    <a:pt x="1841" y="2822"/>
                  </a:lnTo>
                  <a:lnTo>
                    <a:pt x="1868" y="2809"/>
                  </a:lnTo>
                  <a:lnTo>
                    <a:pt x="1896" y="2794"/>
                  </a:lnTo>
                  <a:lnTo>
                    <a:pt x="1924" y="2780"/>
                  </a:lnTo>
                  <a:lnTo>
                    <a:pt x="1950" y="2764"/>
                  </a:lnTo>
                  <a:lnTo>
                    <a:pt x="1976" y="2748"/>
                  </a:lnTo>
                  <a:lnTo>
                    <a:pt x="2002" y="2731"/>
                  </a:lnTo>
                  <a:lnTo>
                    <a:pt x="2027" y="2715"/>
                  </a:lnTo>
                  <a:lnTo>
                    <a:pt x="2053" y="2697"/>
                  </a:lnTo>
                  <a:lnTo>
                    <a:pt x="2077" y="2678"/>
                  </a:lnTo>
                  <a:lnTo>
                    <a:pt x="2100" y="2659"/>
                  </a:lnTo>
                  <a:lnTo>
                    <a:pt x="2125" y="2640"/>
                  </a:lnTo>
                  <a:lnTo>
                    <a:pt x="2147" y="2620"/>
                  </a:lnTo>
                  <a:lnTo>
                    <a:pt x="2170" y="2600"/>
                  </a:lnTo>
                  <a:lnTo>
                    <a:pt x="2192" y="2579"/>
                  </a:lnTo>
                  <a:lnTo>
                    <a:pt x="2238" y="2663"/>
                  </a:lnTo>
                  <a:lnTo>
                    <a:pt x="2355" y="2655"/>
                  </a:lnTo>
                  <a:lnTo>
                    <a:pt x="2495" y="2647"/>
                  </a:lnTo>
                  <a:lnTo>
                    <a:pt x="2653" y="2638"/>
                  </a:lnTo>
                  <a:lnTo>
                    <a:pt x="2824" y="2631"/>
                  </a:lnTo>
                  <a:lnTo>
                    <a:pt x="3192" y="2616"/>
                  </a:lnTo>
                  <a:lnTo>
                    <a:pt x="3567" y="2603"/>
                  </a:lnTo>
                  <a:lnTo>
                    <a:pt x="3915" y="2591"/>
                  </a:lnTo>
                  <a:lnTo>
                    <a:pt x="4204" y="2583"/>
                  </a:lnTo>
                  <a:lnTo>
                    <a:pt x="4402" y="2577"/>
                  </a:lnTo>
                  <a:lnTo>
                    <a:pt x="4475" y="2575"/>
                  </a:lnTo>
                  <a:lnTo>
                    <a:pt x="4472" y="2568"/>
                  </a:lnTo>
                  <a:lnTo>
                    <a:pt x="4462" y="2562"/>
                  </a:lnTo>
                  <a:lnTo>
                    <a:pt x="4446" y="2556"/>
                  </a:lnTo>
                  <a:lnTo>
                    <a:pt x="4425" y="2552"/>
                  </a:lnTo>
                  <a:lnTo>
                    <a:pt x="4399" y="2546"/>
                  </a:lnTo>
                  <a:lnTo>
                    <a:pt x="4366" y="2542"/>
                  </a:lnTo>
                  <a:lnTo>
                    <a:pt x="4329" y="2539"/>
                  </a:lnTo>
                  <a:lnTo>
                    <a:pt x="4286" y="2535"/>
                  </a:lnTo>
                  <a:lnTo>
                    <a:pt x="4075" y="2519"/>
                  </a:lnTo>
                  <a:lnTo>
                    <a:pt x="3806" y="2496"/>
                  </a:lnTo>
                  <a:lnTo>
                    <a:pt x="3731" y="2489"/>
                  </a:lnTo>
                  <a:lnTo>
                    <a:pt x="3653" y="2482"/>
                  </a:lnTo>
                  <a:lnTo>
                    <a:pt x="3574" y="2472"/>
                  </a:lnTo>
                  <a:lnTo>
                    <a:pt x="3493" y="2462"/>
                  </a:lnTo>
                  <a:lnTo>
                    <a:pt x="3410" y="2450"/>
                  </a:lnTo>
                  <a:lnTo>
                    <a:pt x="3326" y="2437"/>
                  </a:lnTo>
                  <a:lnTo>
                    <a:pt x="3240" y="2423"/>
                  </a:lnTo>
                  <a:lnTo>
                    <a:pt x="3154" y="2406"/>
                  </a:lnTo>
                  <a:lnTo>
                    <a:pt x="3066" y="2388"/>
                  </a:lnTo>
                  <a:lnTo>
                    <a:pt x="2978" y="2370"/>
                  </a:lnTo>
                  <a:lnTo>
                    <a:pt x="2890" y="2349"/>
                  </a:lnTo>
                  <a:lnTo>
                    <a:pt x="2802" y="2325"/>
                  </a:lnTo>
                  <a:lnTo>
                    <a:pt x="2714" y="2300"/>
                  </a:lnTo>
                  <a:lnTo>
                    <a:pt x="2626" y="2272"/>
                  </a:lnTo>
                  <a:lnTo>
                    <a:pt x="2540" y="2242"/>
                  </a:lnTo>
                  <a:lnTo>
                    <a:pt x="2454" y="2210"/>
                  </a:lnTo>
                  <a:close/>
                  <a:moveTo>
                    <a:pt x="359" y="2408"/>
                  </a:moveTo>
                  <a:lnTo>
                    <a:pt x="329" y="2371"/>
                  </a:lnTo>
                  <a:lnTo>
                    <a:pt x="301" y="2331"/>
                  </a:lnTo>
                  <a:lnTo>
                    <a:pt x="287" y="2311"/>
                  </a:lnTo>
                  <a:lnTo>
                    <a:pt x="274" y="2290"/>
                  </a:lnTo>
                  <a:lnTo>
                    <a:pt x="261" y="2269"/>
                  </a:lnTo>
                  <a:lnTo>
                    <a:pt x="249" y="2248"/>
                  </a:lnTo>
                  <a:lnTo>
                    <a:pt x="225" y="2205"/>
                  </a:lnTo>
                  <a:lnTo>
                    <a:pt x="204" y="2162"/>
                  </a:lnTo>
                  <a:lnTo>
                    <a:pt x="184" y="2117"/>
                  </a:lnTo>
                  <a:lnTo>
                    <a:pt x="167" y="2071"/>
                  </a:lnTo>
                  <a:lnTo>
                    <a:pt x="159" y="2047"/>
                  </a:lnTo>
                  <a:lnTo>
                    <a:pt x="150" y="2023"/>
                  </a:lnTo>
                  <a:lnTo>
                    <a:pt x="144" y="1999"/>
                  </a:lnTo>
                  <a:lnTo>
                    <a:pt x="137" y="1975"/>
                  </a:lnTo>
                  <a:lnTo>
                    <a:pt x="130" y="1951"/>
                  </a:lnTo>
                  <a:lnTo>
                    <a:pt x="125" y="1927"/>
                  </a:lnTo>
                  <a:lnTo>
                    <a:pt x="120" y="1902"/>
                  </a:lnTo>
                  <a:lnTo>
                    <a:pt x="115" y="1878"/>
                  </a:lnTo>
                  <a:lnTo>
                    <a:pt x="111" y="1853"/>
                  </a:lnTo>
                  <a:lnTo>
                    <a:pt x="107" y="1828"/>
                  </a:lnTo>
                  <a:lnTo>
                    <a:pt x="104" y="1803"/>
                  </a:lnTo>
                  <a:lnTo>
                    <a:pt x="102" y="1778"/>
                  </a:lnTo>
                  <a:lnTo>
                    <a:pt x="100" y="1752"/>
                  </a:lnTo>
                  <a:lnTo>
                    <a:pt x="98" y="1725"/>
                  </a:lnTo>
                  <a:lnTo>
                    <a:pt x="97" y="1700"/>
                  </a:lnTo>
                  <a:lnTo>
                    <a:pt x="97" y="1674"/>
                  </a:lnTo>
                  <a:lnTo>
                    <a:pt x="98" y="1614"/>
                  </a:lnTo>
                  <a:lnTo>
                    <a:pt x="104" y="1554"/>
                  </a:lnTo>
                  <a:lnTo>
                    <a:pt x="111" y="1495"/>
                  </a:lnTo>
                  <a:lnTo>
                    <a:pt x="122" y="1437"/>
                  </a:lnTo>
                  <a:lnTo>
                    <a:pt x="134" y="1380"/>
                  </a:lnTo>
                  <a:lnTo>
                    <a:pt x="150" y="1325"/>
                  </a:lnTo>
                  <a:lnTo>
                    <a:pt x="169" y="1270"/>
                  </a:lnTo>
                  <a:lnTo>
                    <a:pt x="191" y="1216"/>
                  </a:lnTo>
                  <a:lnTo>
                    <a:pt x="215" y="1164"/>
                  </a:lnTo>
                  <a:lnTo>
                    <a:pt x="240" y="1114"/>
                  </a:lnTo>
                  <a:lnTo>
                    <a:pt x="269" y="1065"/>
                  </a:lnTo>
                  <a:lnTo>
                    <a:pt x="301" y="1016"/>
                  </a:lnTo>
                  <a:lnTo>
                    <a:pt x="333" y="970"/>
                  </a:lnTo>
                  <a:lnTo>
                    <a:pt x="368" y="927"/>
                  </a:lnTo>
                  <a:lnTo>
                    <a:pt x="407" y="884"/>
                  </a:lnTo>
                  <a:lnTo>
                    <a:pt x="446" y="843"/>
                  </a:lnTo>
                  <a:lnTo>
                    <a:pt x="487" y="804"/>
                  </a:lnTo>
                  <a:lnTo>
                    <a:pt x="530" y="767"/>
                  </a:lnTo>
                  <a:lnTo>
                    <a:pt x="575" y="732"/>
                  </a:lnTo>
                  <a:lnTo>
                    <a:pt x="621" y="700"/>
                  </a:lnTo>
                  <a:lnTo>
                    <a:pt x="670" y="668"/>
                  </a:lnTo>
                  <a:lnTo>
                    <a:pt x="720" y="640"/>
                  </a:lnTo>
                  <a:lnTo>
                    <a:pt x="772" y="614"/>
                  </a:lnTo>
                  <a:lnTo>
                    <a:pt x="824" y="591"/>
                  </a:lnTo>
                  <a:lnTo>
                    <a:pt x="879" y="570"/>
                  </a:lnTo>
                  <a:lnTo>
                    <a:pt x="934" y="551"/>
                  </a:lnTo>
                  <a:lnTo>
                    <a:pt x="990" y="535"/>
                  </a:lnTo>
                  <a:lnTo>
                    <a:pt x="1047" y="522"/>
                  </a:lnTo>
                  <a:lnTo>
                    <a:pt x="1106" y="512"/>
                  </a:lnTo>
                  <a:lnTo>
                    <a:pt x="1166" y="504"/>
                  </a:lnTo>
                  <a:lnTo>
                    <a:pt x="1226" y="500"/>
                  </a:lnTo>
                  <a:lnTo>
                    <a:pt x="1287" y="499"/>
                  </a:lnTo>
                  <a:lnTo>
                    <a:pt x="1322" y="499"/>
                  </a:lnTo>
                  <a:lnTo>
                    <a:pt x="1356" y="501"/>
                  </a:lnTo>
                  <a:lnTo>
                    <a:pt x="1391" y="503"/>
                  </a:lnTo>
                  <a:lnTo>
                    <a:pt x="1425" y="506"/>
                  </a:lnTo>
                  <a:lnTo>
                    <a:pt x="1458" y="510"/>
                  </a:lnTo>
                  <a:lnTo>
                    <a:pt x="1492" y="516"/>
                  </a:lnTo>
                  <a:lnTo>
                    <a:pt x="1524" y="522"/>
                  </a:lnTo>
                  <a:lnTo>
                    <a:pt x="1557" y="529"/>
                  </a:lnTo>
                  <a:lnTo>
                    <a:pt x="1589" y="538"/>
                  </a:lnTo>
                  <a:lnTo>
                    <a:pt x="1621" y="546"/>
                  </a:lnTo>
                  <a:lnTo>
                    <a:pt x="1653" y="556"/>
                  </a:lnTo>
                  <a:lnTo>
                    <a:pt x="1683" y="567"/>
                  </a:lnTo>
                  <a:lnTo>
                    <a:pt x="1714" y="577"/>
                  </a:lnTo>
                  <a:lnTo>
                    <a:pt x="1745" y="590"/>
                  </a:lnTo>
                  <a:lnTo>
                    <a:pt x="1774" y="602"/>
                  </a:lnTo>
                  <a:lnTo>
                    <a:pt x="1804" y="616"/>
                  </a:lnTo>
                  <a:lnTo>
                    <a:pt x="1744" y="669"/>
                  </a:lnTo>
                  <a:lnTo>
                    <a:pt x="1683" y="723"/>
                  </a:lnTo>
                  <a:lnTo>
                    <a:pt x="1623" y="777"/>
                  </a:lnTo>
                  <a:lnTo>
                    <a:pt x="1565" y="832"/>
                  </a:lnTo>
                  <a:lnTo>
                    <a:pt x="1507" y="887"/>
                  </a:lnTo>
                  <a:lnTo>
                    <a:pt x="1450" y="942"/>
                  </a:lnTo>
                  <a:lnTo>
                    <a:pt x="1395" y="999"/>
                  </a:lnTo>
                  <a:lnTo>
                    <a:pt x="1340" y="1055"/>
                  </a:lnTo>
                  <a:lnTo>
                    <a:pt x="1287" y="1112"/>
                  </a:lnTo>
                  <a:lnTo>
                    <a:pt x="1234" y="1168"/>
                  </a:lnTo>
                  <a:lnTo>
                    <a:pt x="1184" y="1226"/>
                  </a:lnTo>
                  <a:lnTo>
                    <a:pt x="1133" y="1282"/>
                  </a:lnTo>
                  <a:lnTo>
                    <a:pt x="1083" y="1340"/>
                  </a:lnTo>
                  <a:lnTo>
                    <a:pt x="1034" y="1397"/>
                  </a:lnTo>
                  <a:lnTo>
                    <a:pt x="988" y="1455"/>
                  </a:lnTo>
                  <a:lnTo>
                    <a:pt x="941" y="1512"/>
                  </a:lnTo>
                  <a:lnTo>
                    <a:pt x="897" y="1570"/>
                  </a:lnTo>
                  <a:lnTo>
                    <a:pt x="852" y="1627"/>
                  </a:lnTo>
                  <a:lnTo>
                    <a:pt x="809" y="1685"/>
                  </a:lnTo>
                  <a:lnTo>
                    <a:pt x="768" y="1742"/>
                  </a:lnTo>
                  <a:lnTo>
                    <a:pt x="727" y="1800"/>
                  </a:lnTo>
                  <a:lnTo>
                    <a:pt x="687" y="1856"/>
                  </a:lnTo>
                  <a:lnTo>
                    <a:pt x="649" y="1914"/>
                  </a:lnTo>
                  <a:lnTo>
                    <a:pt x="612" y="1970"/>
                  </a:lnTo>
                  <a:lnTo>
                    <a:pt x="576" y="2027"/>
                  </a:lnTo>
                  <a:lnTo>
                    <a:pt x="541" y="2082"/>
                  </a:lnTo>
                  <a:lnTo>
                    <a:pt x="508" y="2137"/>
                  </a:lnTo>
                  <a:lnTo>
                    <a:pt x="475" y="2193"/>
                  </a:lnTo>
                  <a:lnTo>
                    <a:pt x="445" y="2247"/>
                  </a:lnTo>
                  <a:lnTo>
                    <a:pt x="415" y="2302"/>
                  </a:lnTo>
                  <a:lnTo>
                    <a:pt x="386" y="2356"/>
                  </a:lnTo>
                  <a:lnTo>
                    <a:pt x="359" y="2408"/>
                  </a:lnTo>
                  <a:close/>
                  <a:moveTo>
                    <a:pt x="1774" y="1804"/>
                  </a:moveTo>
                  <a:lnTo>
                    <a:pt x="2144" y="2489"/>
                  </a:lnTo>
                  <a:lnTo>
                    <a:pt x="2124" y="2510"/>
                  </a:lnTo>
                  <a:lnTo>
                    <a:pt x="2102" y="2530"/>
                  </a:lnTo>
                  <a:lnTo>
                    <a:pt x="2080" y="2549"/>
                  </a:lnTo>
                  <a:lnTo>
                    <a:pt x="2059" y="2568"/>
                  </a:lnTo>
                  <a:lnTo>
                    <a:pt x="2036" y="2587"/>
                  </a:lnTo>
                  <a:lnTo>
                    <a:pt x="2014" y="2605"/>
                  </a:lnTo>
                  <a:lnTo>
                    <a:pt x="1990" y="2623"/>
                  </a:lnTo>
                  <a:lnTo>
                    <a:pt x="1966" y="2639"/>
                  </a:lnTo>
                  <a:lnTo>
                    <a:pt x="1942" y="2655"/>
                  </a:lnTo>
                  <a:lnTo>
                    <a:pt x="1917" y="2671"/>
                  </a:lnTo>
                  <a:lnTo>
                    <a:pt x="1892" y="2686"/>
                  </a:lnTo>
                  <a:lnTo>
                    <a:pt x="1866" y="2701"/>
                  </a:lnTo>
                  <a:lnTo>
                    <a:pt x="1840" y="2715"/>
                  </a:lnTo>
                  <a:lnTo>
                    <a:pt x="1814" y="2728"/>
                  </a:lnTo>
                  <a:lnTo>
                    <a:pt x="1787" y="2741"/>
                  </a:lnTo>
                  <a:lnTo>
                    <a:pt x="1760" y="2752"/>
                  </a:lnTo>
                  <a:lnTo>
                    <a:pt x="1733" y="2764"/>
                  </a:lnTo>
                  <a:lnTo>
                    <a:pt x="1705" y="2774"/>
                  </a:lnTo>
                  <a:lnTo>
                    <a:pt x="1678" y="2785"/>
                  </a:lnTo>
                  <a:lnTo>
                    <a:pt x="1649" y="2794"/>
                  </a:lnTo>
                  <a:lnTo>
                    <a:pt x="1621" y="2803"/>
                  </a:lnTo>
                  <a:lnTo>
                    <a:pt x="1591" y="2811"/>
                  </a:lnTo>
                  <a:lnTo>
                    <a:pt x="1563" y="2818"/>
                  </a:lnTo>
                  <a:lnTo>
                    <a:pt x="1533" y="2825"/>
                  </a:lnTo>
                  <a:lnTo>
                    <a:pt x="1503" y="2831"/>
                  </a:lnTo>
                  <a:lnTo>
                    <a:pt x="1473" y="2835"/>
                  </a:lnTo>
                  <a:lnTo>
                    <a:pt x="1443" y="2840"/>
                  </a:lnTo>
                  <a:lnTo>
                    <a:pt x="1412" y="2843"/>
                  </a:lnTo>
                  <a:lnTo>
                    <a:pt x="1382" y="2846"/>
                  </a:lnTo>
                  <a:lnTo>
                    <a:pt x="1350" y="2849"/>
                  </a:lnTo>
                  <a:lnTo>
                    <a:pt x="1319" y="2850"/>
                  </a:lnTo>
                  <a:lnTo>
                    <a:pt x="1287" y="2850"/>
                  </a:lnTo>
                  <a:lnTo>
                    <a:pt x="1262" y="2850"/>
                  </a:lnTo>
                  <a:lnTo>
                    <a:pt x="1236" y="2849"/>
                  </a:lnTo>
                  <a:lnTo>
                    <a:pt x="1211" y="2848"/>
                  </a:lnTo>
                  <a:lnTo>
                    <a:pt x="1187" y="2845"/>
                  </a:lnTo>
                  <a:lnTo>
                    <a:pt x="1137" y="2840"/>
                  </a:lnTo>
                  <a:lnTo>
                    <a:pt x="1088" y="2833"/>
                  </a:lnTo>
                  <a:lnTo>
                    <a:pt x="1064" y="2829"/>
                  </a:lnTo>
                  <a:lnTo>
                    <a:pt x="1040" y="2825"/>
                  </a:lnTo>
                  <a:lnTo>
                    <a:pt x="1015" y="2818"/>
                  </a:lnTo>
                  <a:lnTo>
                    <a:pt x="992" y="2813"/>
                  </a:lnTo>
                  <a:lnTo>
                    <a:pt x="945" y="2800"/>
                  </a:lnTo>
                  <a:lnTo>
                    <a:pt x="899" y="2785"/>
                  </a:lnTo>
                  <a:lnTo>
                    <a:pt x="854" y="2769"/>
                  </a:lnTo>
                  <a:lnTo>
                    <a:pt x="810" y="2750"/>
                  </a:lnTo>
                  <a:lnTo>
                    <a:pt x="766" y="2730"/>
                  </a:lnTo>
                  <a:lnTo>
                    <a:pt x="724" y="2708"/>
                  </a:lnTo>
                  <a:lnTo>
                    <a:pt x="683" y="2685"/>
                  </a:lnTo>
                  <a:lnTo>
                    <a:pt x="643" y="2660"/>
                  </a:lnTo>
                  <a:lnTo>
                    <a:pt x="602" y="2634"/>
                  </a:lnTo>
                  <a:lnTo>
                    <a:pt x="564" y="2607"/>
                  </a:lnTo>
                  <a:lnTo>
                    <a:pt x="586" y="2558"/>
                  </a:lnTo>
                  <a:lnTo>
                    <a:pt x="609" y="2508"/>
                  </a:lnTo>
                  <a:lnTo>
                    <a:pt x="633" y="2456"/>
                  </a:lnTo>
                  <a:lnTo>
                    <a:pt x="658" y="2404"/>
                  </a:lnTo>
                  <a:lnTo>
                    <a:pt x="686" y="2352"/>
                  </a:lnTo>
                  <a:lnTo>
                    <a:pt x="715" y="2297"/>
                  </a:lnTo>
                  <a:lnTo>
                    <a:pt x="745" y="2242"/>
                  </a:lnTo>
                  <a:lnTo>
                    <a:pt x="777" y="2187"/>
                  </a:lnTo>
                  <a:lnTo>
                    <a:pt x="810" y="2130"/>
                  </a:lnTo>
                  <a:lnTo>
                    <a:pt x="845" y="2073"/>
                  </a:lnTo>
                  <a:lnTo>
                    <a:pt x="881" y="2014"/>
                  </a:lnTo>
                  <a:lnTo>
                    <a:pt x="918" y="1956"/>
                  </a:lnTo>
                  <a:lnTo>
                    <a:pt x="956" y="1896"/>
                  </a:lnTo>
                  <a:lnTo>
                    <a:pt x="996" y="1835"/>
                  </a:lnTo>
                  <a:lnTo>
                    <a:pt x="1037" y="1775"/>
                  </a:lnTo>
                  <a:lnTo>
                    <a:pt x="1081" y="1713"/>
                  </a:lnTo>
                  <a:lnTo>
                    <a:pt x="1124" y="1651"/>
                  </a:lnTo>
                  <a:lnTo>
                    <a:pt x="1170" y="1588"/>
                  </a:lnTo>
                  <a:lnTo>
                    <a:pt x="1216" y="1526"/>
                  </a:lnTo>
                  <a:lnTo>
                    <a:pt x="1264" y="1463"/>
                  </a:lnTo>
                  <a:lnTo>
                    <a:pt x="1314" y="1399"/>
                  </a:lnTo>
                  <a:lnTo>
                    <a:pt x="1364" y="1335"/>
                  </a:lnTo>
                  <a:lnTo>
                    <a:pt x="1415" y="1271"/>
                  </a:lnTo>
                  <a:lnTo>
                    <a:pt x="1468" y="1207"/>
                  </a:lnTo>
                  <a:lnTo>
                    <a:pt x="1522" y="1142"/>
                  </a:lnTo>
                  <a:lnTo>
                    <a:pt x="1577" y="1077"/>
                  </a:lnTo>
                  <a:lnTo>
                    <a:pt x="1633" y="1012"/>
                  </a:lnTo>
                  <a:lnTo>
                    <a:pt x="1692" y="947"/>
                  </a:lnTo>
                  <a:lnTo>
                    <a:pt x="1750" y="882"/>
                  </a:lnTo>
                  <a:lnTo>
                    <a:pt x="1809" y="817"/>
                  </a:lnTo>
                  <a:lnTo>
                    <a:pt x="1871" y="752"/>
                  </a:lnTo>
                  <a:lnTo>
                    <a:pt x="1932" y="687"/>
                  </a:lnTo>
                  <a:lnTo>
                    <a:pt x="1963" y="707"/>
                  </a:lnTo>
                  <a:lnTo>
                    <a:pt x="1992" y="728"/>
                  </a:lnTo>
                  <a:lnTo>
                    <a:pt x="2022" y="750"/>
                  </a:lnTo>
                  <a:lnTo>
                    <a:pt x="2049" y="773"/>
                  </a:lnTo>
                  <a:lnTo>
                    <a:pt x="2077" y="796"/>
                  </a:lnTo>
                  <a:lnTo>
                    <a:pt x="2105" y="820"/>
                  </a:lnTo>
                  <a:lnTo>
                    <a:pt x="2130" y="845"/>
                  </a:lnTo>
                  <a:lnTo>
                    <a:pt x="2155" y="871"/>
                  </a:lnTo>
                  <a:lnTo>
                    <a:pt x="2181" y="898"/>
                  </a:lnTo>
                  <a:lnTo>
                    <a:pt x="2204" y="925"/>
                  </a:lnTo>
                  <a:lnTo>
                    <a:pt x="2227" y="954"/>
                  </a:lnTo>
                  <a:lnTo>
                    <a:pt x="2249" y="982"/>
                  </a:lnTo>
                  <a:lnTo>
                    <a:pt x="2270" y="1011"/>
                  </a:lnTo>
                  <a:lnTo>
                    <a:pt x="2290" y="1042"/>
                  </a:lnTo>
                  <a:lnTo>
                    <a:pt x="2310" y="1072"/>
                  </a:lnTo>
                  <a:lnTo>
                    <a:pt x="2328" y="1103"/>
                  </a:lnTo>
                  <a:lnTo>
                    <a:pt x="2345" y="1136"/>
                  </a:lnTo>
                  <a:lnTo>
                    <a:pt x="2362" y="1168"/>
                  </a:lnTo>
                  <a:lnTo>
                    <a:pt x="2377" y="1202"/>
                  </a:lnTo>
                  <a:lnTo>
                    <a:pt x="2391" y="1235"/>
                  </a:lnTo>
                  <a:lnTo>
                    <a:pt x="2405" y="1270"/>
                  </a:lnTo>
                  <a:lnTo>
                    <a:pt x="2417" y="1304"/>
                  </a:lnTo>
                  <a:lnTo>
                    <a:pt x="2428" y="1339"/>
                  </a:lnTo>
                  <a:lnTo>
                    <a:pt x="2438" y="1374"/>
                  </a:lnTo>
                  <a:lnTo>
                    <a:pt x="2448" y="1411"/>
                  </a:lnTo>
                  <a:lnTo>
                    <a:pt x="2455" y="1447"/>
                  </a:lnTo>
                  <a:lnTo>
                    <a:pt x="2462" y="1484"/>
                  </a:lnTo>
                  <a:lnTo>
                    <a:pt x="2468" y="1522"/>
                  </a:lnTo>
                  <a:lnTo>
                    <a:pt x="2472" y="1559"/>
                  </a:lnTo>
                  <a:lnTo>
                    <a:pt x="2475" y="1597"/>
                  </a:lnTo>
                  <a:lnTo>
                    <a:pt x="2477" y="1636"/>
                  </a:lnTo>
                  <a:lnTo>
                    <a:pt x="2477" y="1674"/>
                  </a:lnTo>
                  <a:lnTo>
                    <a:pt x="2477" y="1708"/>
                  </a:lnTo>
                  <a:lnTo>
                    <a:pt x="2476" y="1740"/>
                  </a:lnTo>
                  <a:lnTo>
                    <a:pt x="2473" y="1774"/>
                  </a:lnTo>
                  <a:lnTo>
                    <a:pt x="2470" y="1806"/>
                  </a:lnTo>
                  <a:lnTo>
                    <a:pt x="2466" y="1838"/>
                  </a:lnTo>
                  <a:lnTo>
                    <a:pt x="2460" y="1871"/>
                  </a:lnTo>
                  <a:lnTo>
                    <a:pt x="2455" y="1902"/>
                  </a:lnTo>
                  <a:lnTo>
                    <a:pt x="2448" y="1934"/>
                  </a:lnTo>
                  <a:lnTo>
                    <a:pt x="2440" y="1965"/>
                  </a:lnTo>
                  <a:lnTo>
                    <a:pt x="2432" y="1995"/>
                  </a:lnTo>
                  <a:lnTo>
                    <a:pt x="2422" y="2026"/>
                  </a:lnTo>
                  <a:lnTo>
                    <a:pt x="2413" y="2056"/>
                  </a:lnTo>
                  <a:lnTo>
                    <a:pt x="2401" y="2086"/>
                  </a:lnTo>
                  <a:lnTo>
                    <a:pt x="2389" y="2116"/>
                  </a:lnTo>
                  <a:lnTo>
                    <a:pt x="2378" y="2144"/>
                  </a:lnTo>
                  <a:lnTo>
                    <a:pt x="2364" y="2173"/>
                  </a:lnTo>
                  <a:lnTo>
                    <a:pt x="2324" y="2155"/>
                  </a:lnTo>
                  <a:lnTo>
                    <a:pt x="2283" y="2136"/>
                  </a:lnTo>
                  <a:lnTo>
                    <a:pt x="2243" y="2118"/>
                  </a:lnTo>
                  <a:lnTo>
                    <a:pt x="2204" y="2098"/>
                  </a:lnTo>
                  <a:lnTo>
                    <a:pt x="2165" y="2077"/>
                  </a:lnTo>
                  <a:lnTo>
                    <a:pt x="2127" y="2056"/>
                  </a:lnTo>
                  <a:lnTo>
                    <a:pt x="2089" y="2034"/>
                  </a:lnTo>
                  <a:lnTo>
                    <a:pt x="2052" y="2011"/>
                  </a:lnTo>
                  <a:lnTo>
                    <a:pt x="2015" y="1988"/>
                  </a:lnTo>
                  <a:lnTo>
                    <a:pt x="1979" y="1964"/>
                  </a:lnTo>
                  <a:lnTo>
                    <a:pt x="1943" y="1940"/>
                  </a:lnTo>
                  <a:lnTo>
                    <a:pt x="1908" y="1914"/>
                  </a:lnTo>
                  <a:lnTo>
                    <a:pt x="1873" y="1888"/>
                  </a:lnTo>
                  <a:lnTo>
                    <a:pt x="1839" y="1860"/>
                  </a:lnTo>
                  <a:lnTo>
                    <a:pt x="1806" y="1833"/>
                  </a:lnTo>
                  <a:lnTo>
                    <a:pt x="1774" y="1804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4832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63" h="1315">
                  <a:moveTo>
                    <a:pt x="1862" y="786"/>
                  </a:moveTo>
                  <a:lnTo>
                    <a:pt x="2073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2253" y="275"/>
                  </a:lnTo>
                  <a:lnTo>
                    <a:pt x="2463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1459" y="1315"/>
                  </a:lnTo>
                  <a:lnTo>
                    <a:pt x="1669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862" y="786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18240" y="5957280"/>
              <a:ext cx="156600" cy="144360"/>
            </a:xfrm>
            <a:custGeom>
              <a:avLst/>
              <a:gdLst/>
              <a:ahLst/>
              <a:rect l="l" t="t" r="r" b="b"/>
              <a:pathLst>
                <a:path w="1733" h="1315">
                  <a:moveTo>
                    <a:pt x="1005" y="0"/>
                  </a:moveTo>
                  <a:lnTo>
                    <a:pt x="0" y="1315"/>
                  </a:lnTo>
                  <a:lnTo>
                    <a:pt x="728" y="1315"/>
                  </a:lnTo>
                  <a:lnTo>
                    <a:pt x="1733" y="0"/>
                  </a:lnTo>
                  <a:lnTo>
                    <a:pt x="1005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26240" y="5957280"/>
              <a:ext cx="246600" cy="144360"/>
            </a:xfrm>
            <a:custGeom>
              <a:avLst/>
              <a:gdLst/>
              <a:ahLst/>
              <a:rect l="l" t="t" r="r" b="b"/>
              <a:pathLst>
                <a:path w="2721" h="1315">
                  <a:moveTo>
                    <a:pt x="2238" y="0"/>
                  </a:moveTo>
                  <a:lnTo>
                    <a:pt x="1730" y="667"/>
                  </a:lnTo>
                  <a:lnTo>
                    <a:pt x="1573" y="0"/>
                  </a:lnTo>
                  <a:lnTo>
                    <a:pt x="1005" y="0"/>
                  </a:lnTo>
                  <a:lnTo>
                    <a:pt x="0" y="1315"/>
                  </a:lnTo>
                  <a:lnTo>
                    <a:pt x="483" y="1315"/>
                  </a:lnTo>
                  <a:lnTo>
                    <a:pt x="987" y="654"/>
                  </a:lnTo>
                  <a:lnTo>
                    <a:pt x="1141" y="1315"/>
                  </a:lnTo>
                  <a:lnTo>
                    <a:pt x="1716" y="1315"/>
                  </a:lnTo>
                  <a:lnTo>
                    <a:pt x="2721" y="0"/>
                  </a:lnTo>
                  <a:lnTo>
                    <a:pt x="2238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36840" y="5957280"/>
              <a:ext cx="225000" cy="144360"/>
            </a:xfrm>
            <a:custGeom>
              <a:avLst/>
              <a:gdLst/>
              <a:ahLst/>
              <a:rect l="l" t="t" r="r" b="b"/>
              <a:pathLst>
                <a:path w="2480" h="1315">
                  <a:moveTo>
                    <a:pt x="2302" y="0"/>
                  </a:moveTo>
                  <a:lnTo>
                    <a:pt x="1131" y="0"/>
                  </a:lnTo>
                  <a:lnTo>
                    <a:pt x="1112" y="0"/>
                  </a:lnTo>
                  <a:lnTo>
                    <a:pt x="1094" y="1"/>
                  </a:lnTo>
                  <a:lnTo>
                    <a:pt x="1075" y="2"/>
                  </a:lnTo>
                  <a:lnTo>
                    <a:pt x="1057" y="4"/>
                  </a:lnTo>
                  <a:lnTo>
                    <a:pt x="1021" y="9"/>
                  </a:lnTo>
                  <a:lnTo>
                    <a:pt x="986" y="16"/>
                  </a:lnTo>
                  <a:lnTo>
                    <a:pt x="951" y="26"/>
                  </a:lnTo>
                  <a:lnTo>
                    <a:pt x="917" y="37"/>
                  </a:lnTo>
                  <a:lnTo>
                    <a:pt x="884" y="51"/>
                  </a:lnTo>
                  <a:lnTo>
                    <a:pt x="853" y="66"/>
                  </a:lnTo>
                  <a:lnTo>
                    <a:pt x="822" y="82"/>
                  </a:lnTo>
                  <a:lnTo>
                    <a:pt x="792" y="100"/>
                  </a:lnTo>
                  <a:lnTo>
                    <a:pt x="764" y="120"/>
                  </a:lnTo>
                  <a:lnTo>
                    <a:pt x="736" y="142"/>
                  </a:lnTo>
                  <a:lnTo>
                    <a:pt x="711" y="165"/>
                  </a:lnTo>
                  <a:lnTo>
                    <a:pt x="685" y="189"/>
                  </a:lnTo>
                  <a:lnTo>
                    <a:pt x="662" y="214"/>
                  </a:lnTo>
                  <a:lnTo>
                    <a:pt x="641" y="241"/>
                  </a:lnTo>
                  <a:lnTo>
                    <a:pt x="36" y="1033"/>
                  </a:lnTo>
                  <a:lnTo>
                    <a:pt x="28" y="1044"/>
                  </a:lnTo>
                  <a:lnTo>
                    <a:pt x="22" y="1057"/>
                  </a:lnTo>
                  <a:lnTo>
                    <a:pt x="15" y="1070"/>
                  </a:lnTo>
                  <a:lnTo>
                    <a:pt x="10" y="1082"/>
                  </a:lnTo>
                  <a:lnTo>
                    <a:pt x="6" y="1096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9" y="1192"/>
                  </a:lnTo>
                  <a:lnTo>
                    <a:pt x="14" y="1208"/>
                  </a:lnTo>
                  <a:lnTo>
                    <a:pt x="22" y="1223"/>
                  </a:lnTo>
                  <a:lnTo>
                    <a:pt x="31" y="1238"/>
                  </a:lnTo>
                  <a:lnTo>
                    <a:pt x="42" y="1251"/>
                  </a:lnTo>
                  <a:lnTo>
                    <a:pt x="52" y="1264"/>
                  </a:lnTo>
                  <a:lnTo>
                    <a:pt x="65" y="1276"/>
                  </a:lnTo>
                  <a:lnTo>
                    <a:pt x="79" y="1285"/>
                  </a:lnTo>
                  <a:lnTo>
                    <a:pt x="94" y="1294"/>
                  </a:lnTo>
                  <a:lnTo>
                    <a:pt x="109" y="1302"/>
                  </a:lnTo>
                  <a:lnTo>
                    <a:pt x="125" y="1308"/>
                  </a:lnTo>
                  <a:lnTo>
                    <a:pt x="142" y="1312"/>
                  </a:lnTo>
                  <a:lnTo>
                    <a:pt x="160" y="1314"/>
                  </a:lnTo>
                  <a:lnTo>
                    <a:pt x="179" y="1315"/>
                  </a:lnTo>
                  <a:lnTo>
                    <a:pt x="1349" y="1315"/>
                  </a:lnTo>
                  <a:lnTo>
                    <a:pt x="1368" y="1315"/>
                  </a:lnTo>
                  <a:lnTo>
                    <a:pt x="1386" y="1314"/>
                  </a:lnTo>
                  <a:lnTo>
                    <a:pt x="1405" y="1313"/>
                  </a:lnTo>
                  <a:lnTo>
                    <a:pt x="1423" y="1311"/>
                  </a:lnTo>
                  <a:lnTo>
                    <a:pt x="1441" y="1309"/>
                  </a:lnTo>
                  <a:lnTo>
                    <a:pt x="1459" y="1306"/>
                  </a:lnTo>
                  <a:lnTo>
                    <a:pt x="1477" y="1303"/>
                  </a:lnTo>
                  <a:lnTo>
                    <a:pt x="1494" y="1299"/>
                  </a:lnTo>
                  <a:lnTo>
                    <a:pt x="1529" y="1289"/>
                  </a:lnTo>
                  <a:lnTo>
                    <a:pt x="1563" y="1278"/>
                  </a:lnTo>
                  <a:lnTo>
                    <a:pt x="1596" y="1265"/>
                  </a:lnTo>
                  <a:lnTo>
                    <a:pt x="1627" y="1249"/>
                  </a:lnTo>
                  <a:lnTo>
                    <a:pt x="1658" y="1234"/>
                  </a:lnTo>
                  <a:lnTo>
                    <a:pt x="1688" y="1215"/>
                  </a:lnTo>
                  <a:lnTo>
                    <a:pt x="1716" y="1195"/>
                  </a:lnTo>
                  <a:lnTo>
                    <a:pt x="1744" y="1174"/>
                  </a:lnTo>
                  <a:lnTo>
                    <a:pt x="1769" y="1151"/>
                  </a:lnTo>
                  <a:lnTo>
                    <a:pt x="1795" y="1127"/>
                  </a:lnTo>
                  <a:lnTo>
                    <a:pt x="1818" y="1101"/>
                  </a:lnTo>
                  <a:lnTo>
                    <a:pt x="1839" y="1074"/>
                  </a:lnTo>
                  <a:lnTo>
                    <a:pt x="1985" y="883"/>
                  </a:lnTo>
                  <a:lnTo>
                    <a:pt x="2154" y="883"/>
                  </a:lnTo>
                  <a:lnTo>
                    <a:pt x="2365" y="606"/>
                  </a:lnTo>
                  <a:lnTo>
                    <a:pt x="1469" y="606"/>
                  </a:lnTo>
                  <a:lnTo>
                    <a:pt x="1186" y="978"/>
                  </a:lnTo>
                  <a:lnTo>
                    <a:pt x="1174" y="991"/>
                  </a:lnTo>
                  <a:lnTo>
                    <a:pt x="1161" y="1004"/>
                  </a:lnTo>
                  <a:lnTo>
                    <a:pt x="1146" y="1014"/>
                  </a:lnTo>
                  <a:lnTo>
                    <a:pt x="1131" y="1024"/>
                  </a:lnTo>
                  <a:lnTo>
                    <a:pt x="1123" y="1027"/>
                  </a:lnTo>
                  <a:lnTo>
                    <a:pt x="1114" y="1031"/>
                  </a:lnTo>
                  <a:lnTo>
                    <a:pt x="1106" y="1033"/>
                  </a:lnTo>
                  <a:lnTo>
                    <a:pt x="1096" y="1036"/>
                  </a:lnTo>
                  <a:lnTo>
                    <a:pt x="1087" y="1038"/>
                  </a:lnTo>
                  <a:lnTo>
                    <a:pt x="1078" y="1039"/>
                  </a:lnTo>
                  <a:lnTo>
                    <a:pt x="1069" y="1040"/>
                  </a:lnTo>
                  <a:lnTo>
                    <a:pt x="1059" y="1040"/>
                  </a:lnTo>
                  <a:lnTo>
                    <a:pt x="853" y="1040"/>
                  </a:lnTo>
                  <a:lnTo>
                    <a:pt x="843" y="1039"/>
                  </a:lnTo>
                  <a:lnTo>
                    <a:pt x="835" y="1036"/>
                  </a:lnTo>
                  <a:lnTo>
                    <a:pt x="826" y="1032"/>
                  </a:lnTo>
                  <a:lnTo>
                    <a:pt x="820" y="1027"/>
                  </a:lnTo>
                  <a:lnTo>
                    <a:pt x="813" y="1020"/>
                  </a:lnTo>
                  <a:lnTo>
                    <a:pt x="809" y="1012"/>
                  </a:lnTo>
                  <a:lnTo>
                    <a:pt x="807" y="1004"/>
                  </a:lnTo>
                  <a:lnTo>
                    <a:pt x="806" y="994"/>
                  </a:lnTo>
                  <a:lnTo>
                    <a:pt x="806" y="991"/>
                  </a:lnTo>
                  <a:lnTo>
                    <a:pt x="807" y="987"/>
                  </a:lnTo>
                  <a:lnTo>
                    <a:pt x="807" y="983"/>
                  </a:lnTo>
                  <a:lnTo>
                    <a:pt x="808" y="980"/>
                  </a:lnTo>
                  <a:lnTo>
                    <a:pt x="810" y="976"/>
                  </a:lnTo>
                  <a:lnTo>
                    <a:pt x="811" y="973"/>
                  </a:lnTo>
                  <a:lnTo>
                    <a:pt x="813" y="970"/>
                  </a:lnTo>
                  <a:lnTo>
                    <a:pt x="816" y="967"/>
                  </a:lnTo>
                  <a:lnTo>
                    <a:pt x="1295" y="338"/>
                  </a:lnTo>
                  <a:lnTo>
                    <a:pt x="1307" y="324"/>
                  </a:lnTo>
                  <a:lnTo>
                    <a:pt x="1320" y="311"/>
                  </a:lnTo>
                  <a:lnTo>
                    <a:pt x="1334" y="301"/>
                  </a:lnTo>
                  <a:lnTo>
                    <a:pt x="1350" y="293"/>
                  </a:lnTo>
                  <a:lnTo>
                    <a:pt x="1367" y="285"/>
                  </a:lnTo>
                  <a:lnTo>
                    <a:pt x="1385" y="279"/>
                  </a:lnTo>
                  <a:lnTo>
                    <a:pt x="1394" y="278"/>
                  </a:lnTo>
                  <a:lnTo>
                    <a:pt x="1403" y="276"/>
                  </a:lnTo>
                  <a:lnTo>
                    <a:pt x="1413" y="275"/>
                  </a:lnTo>
                  <a:lnTo>
                    <a:pt x="1422" y="275"/>
                  </a:lnTo>
                  <a:lnTo>
                    <a:pt x="1629" y="275"/>
                  </a:lnTo>
                  <a:lnTo>
                    <a:pt x="1638" y="276"/>
                  </a:lnTo>
                  <a:lnTo>
                    <a:pt x="1647" y="279"/>
                  </a:lnTo>
                  <a:lnTo>
                    <a:pt x="1655" y="283"/>
                  </a:lnTo>
                  <a:lnTo>
                    <a:pt x="1661" y="288"/>
                  </a:lnTo>
                  <a:lnTo>
                    <a:pt x="1667" y="296"/>
                  </a:lnTo>
                  <a:lnTo>
                    <a:pt x="1671" y="303"/>
                  </a:lnTo>
                  <a:lnTo>
                    <a:pt x="1674" y="311"/>
                  </a:lnTo>
                  <a:lnTo>
                    <a:pt x="1675" y="321"/>
                  </a:lnTo>
                  <a:lnTo>
                    <a:pt x="1675" y="325"/>
                  </a:lnTo>
                  <a:lnTo>
                    <a:pt x="1674" y="328"/>
                  </a:lnTo>
                  <a:lnTo>
                    <a:pt x="1674" y="332"/>
                  </a:lnTo>
                  <a:lnTo>
                    <a:pt x="1673" y="335"/>
                  </a:lnTo>
                  <a:lnTo>
                    <a:pt x="1671" y="339"/>
                  </a:lnTo>
                  <a:lnTo>
                    <a:pt x="1670" y="342"/>
                  </a:lnTo>
                  <a:lnTo>
                    <a:pt x="1668" y="345"/>
                  </a:lnTo>
                  <a:lnTo>
                    <a:pt x="1666" y="348"/>
                  </a:lnTo>
                  <a:lnTo>
                    <a:pt x="1587" y="450"/>
                  </a:lnTo>
                  <a:lnTo>
                    <a:pt x="2316" y="450"/>
                  </a:lnTo>
                  <a:lnTo>
                    <a:pt x="2444" y="282"/>
                  </a:lnTo>
                  <a:lnTo>
                    <a:pt x="2452" y="271"/>
                  </a:lnTo>
                  <a:lnTo>
                    <a:pt x="2459" y="259"/>
                  </a:lnTo>
                  <a:lnTo>
                    <a:pt x="2465" y="247"/>
                  </a:lnTo>
                  <a:lnTo>
                    <a:pt x="2470" y="233"/>
                  </a:lnTo>
                  <a:lnTo>
                    <a:pt x="2474" y="219"/>
                  </a:lnTo>
                  <a:lnTo>
                    <a:pt x="2478" y="205"/>
                  </a:lnTo>
                  <a:lnTo>
                    <a:pt x="2479" y="191"/>
                  </a:lnTo>
                  <a:lnTo>
                    <a:pt x="2480" y="175"/>
                  </a:lnTo>
                  <a:lnTo>
                    <a:pt x="2479" y="158"/>
                  </a:lnTo>
                  <a:lnTo>
                    <a:pt x="2475" y="141"/>
                  </a:lnTo>
                  <a:lnTo>
                    <a:pt x="2471" y="123"/>
                  </a:lnTo>
                  <a:lnTo>
                    <a:pt x="2466" y="107"/>
                  </a:lnTo>
                  <a:lnTo>
                    <a:pt x="2457" y="92"/>
                  </a:lnTo>
                  <a:lnTo>
                    <a:pt x="2449" y="77"/>
                  </a:lnTo>
                  <a:lnTo>
                    <a:pt x="2438" y="64"/>
                  </a:lnTo>
                  <a:lnTo>
                    <a:pt x="2428" y="51"/>
                  </a:lnTo>
                  <a:lnTo>
                    <a:pt x="2415" y="41"/>
                  </a:lnTo>
                  <a:lnTo>
                    <a:pt x="2401" y="30"/>
                  </a:lnTo>
                  <a:lnTo>
                    <a:pt x="2387" y="21"/>
                  </a:lnTo>
                  <a:lnTo>
                    <a:pt x="2371" y="13"/>
                  </a:lnTo>
                  <a:lnTo>
                    <a:pt x="2355" y="8"/>
                  </a:lnTo>
                  <a:lnTo>
                    <a:pt x="2337" y="3"/>
                  </a:lnTo>
                  <a:lnTo>
                    <a:pt x="2320" y="1"/>
                  </a:lnTo>
                  <a:lnTo>
                    <a:pt x="2302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040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79" h="1315">
                  <a:moveTo>
                    <a:pt x="2479" y="175"/>
                  </a:moveTo>
                  <a:lnTo>
                    <a:pt x="2478" y="158"/>
                  </a:lnTo>
                  <a:lnTo>
                    <a:pt x="2475" y="141"/>
                  </a:lnTo>
                  <a:lnTo>
                    <a:pt x="2470" y="123"/>
                  </a:lnTo>
                  <a:lnTo>
                    <a:pt x="2465" y="107"/>
                  </a:lnTo>
                  <a:lnTo>
                    <a:pt x="2457" y="92"/>
                  </a:lnTo>
                  <a:lnTo>
                    <a:pt x="2448" y="77"/>
                  </a:lnTo>
                  <a:lnTo>
                    <a:pt x="2438" y="64"/>
                  </a:lnTo>
                  <a:lnTo>
                    <a:pt x="2426" y="51"/>
                  </a:lnTo>
                  <a:lnTo>
                    <a:pt x="2413" y="41"/>
                  </a:lnTo>
                  <a:lnTo>
                    <a:pt x="2401" y="30"/>
                  </a:lnTo>
                  <a:lnTo>
                    <a:pt x="2386" y="21"/>
                  </a:lnTo>
                  <a:lnTo>
                    <a:pt x="2370" y="13"/>
                  </a:lnTo>
                  <a:lnTo>
                    <a:pt x="2353" y="8"/>
                  </a:lnTo>
                  <a:lnTo>
                    <a:pt x="2336" y="3"/>
                  </a:lnTo>
                  <a:lnTo>
                    <a:pt x="2319" y="1"/>
                  </a:lnTo>
                  <a:lnTo>
                    <a:pt x="2300" y="0"/>
                  </a:lnTo>
                  <a:lnTo>
                    <a:pt x="1130" y="0"/>
                  </a:lnTo>
                  <a:lnTo>
                    <a:pt x="1111" y="0"/>
                  </a:lnTo>
                  <a:lnTo>
                    <a:pt x="1093" y="1"/>
                  </a:lnTo>
                  <a:lnTo>
                    <a:pt x="1074" y="2"/>
                  </a:lnTo>
                  <a:lnTo>
                    <a:pt x="1056" y="4"/>
                  </a:lnTo>
                  <a:lnTo>
                    <a:pt x="1020" y="9"/>
                  </a:lnTo>
                  <a:lnTo>
                    <a:pt x="985" y="16"/>
                  </a:lnTo>
                  <a:lnTo>
                    <a:pt x="950" y="26"/>
                  </a:lnTo>
                  <a:lnTo>
                    <a:pt x="916" y="37"/>
                  </a:lnTo>
                  <a:lnTo>
                    <a:pt x="883" y="51"/>
                  </a:lnTo>
                  <a:lnTo>
                    <a:pt x="852" y="66"/>
                  </a:lnTo>
                  <a:lnTo>
                    <a:pt x="821" y="82"/>
                  </a:lnTo>
                  <a:lnTo>
                    <a:pt x="791" y="100"/>
                  </a:lnTo>
                  <a:lnTo>
                    <a:pt x="763" y="120"/>
                  </a:lnTo>
                  <a:lnTo>
                    <a:pt x="735" y="142"/>
                  </a:lnTo>
                  <a:lnTo>
                    <a:pt x="710" y="165"/>
                  </a:lnTo>
                  <a:lnTo>
                    <a:pt x="684" y="189"/>
                  </a:lnTo>
                  <a:lnTo>
                    <a:pt x="661" y="214"/>
                  </a:lnTo>
                  <a:lnTo>
                    <a:pt x="640" y="241"/>
                  </a:lnTo>
                  <a:lnTo>
                    <a:pt x="36" y="1033"/>
                  </a:lnTo>
                  <a:lnTo>
                    <a:pt x="27" y="1044"/>
                  </a:lnTo>
                  <a:lnTo>
                    <a:pt x="21" y="1057"/>
                  </a:lnTo>
                  <a:lnTo>
                    <a:pt x="14" y="1070"/>
                  </a:lnTo>
                  <a:lnTo>
                    <a:pt x="9" y="1082"/>
                  </a:lnTo>
                  <a:lnTo>
                    <a:pt x="5" y="1097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8" y="1192"/>
                  </a:lnTo>
                  <a:lnTo>
                    <a:pt x="13" y="1208"/>
                  </a:lnTo>
                  <a:lnTo>
                    <a:pt x="21" y="1223"/>
                  </a:lnTo>
                  <a:lnTo>
                    <a:pt x="30" y="1238"/>
                  </a:lnTo>
                  <a:lnTo>
                    <a:pt x="41" y="1251"/>
                  </a:lnTo>
                  <a:lnTo>
                    <a:pt x="52" y="1264"/>
                  </a:lnTo>
                  <a:lnTo>
                    <a:pt x="64" y="1276"/>
                  </a:lnTo>
                  <a:lnTo>
                    <a:pt x="78" y="1286"/>
                  </a:lnTo>
                  <a:lnTo>
                    <a:pt x="93" y="1294"/>
                  </a:lnTo>
                  <a:lnTo>
                    <a:pt x="109" y="1302"/>
                  </a:lnTo>
                  <a:lnTo>
                    <a:pt x="124" y="1308"/>
                  </a:lnTo>
                  <a:lnTo>
                    <a:pt x="142" y="1312"/>
                  </a:lnTo>
                  <a:lnTo>
                    <a:pt x="159" y="1314"/>
                  </a:lnTo>
                  <a:lnTo>
                    <a:pt x="178" y="1315"/>
                  </a:lnTo>
                  <a:lnTo>
                    <a:pt x="1348" y="1315"/>
                  </a:lnTo>
                  <a:lnTo>
                    <a:pt x="1367" y="1315"/>
                  </a:lnTo>
                  <a:lnTo>
                    <a:pt x="1385" y="1314"/>
                  </a:lnTo>
                  <a:lnTo>
                    <a:pt x="1403" y="1313"/>
                  </a:lnTo>
                  <a:lnTo>
                    <a:pt x="1422" y="1311"/>
                  </a:lnTo>
                  <a:lnTo>
                    <a:pt x="1440" y="1309"/>
                  </a:lnTo>
                  <a:lnTo>
                    <a:pt x="1458" y="1306"/>
                  </a:lnTo>
                  <a:lnTo>
                    <a:pt x="1476" y="1303"/>
                  </a:lnTo>
                  <a:lnTo>
                    <a:pt x="1493" y="1299"/>
                  </a:lnTo>
                  <a:lnTo>
                    <a:pt x="1528" y="1289"/>
                  </a:lnTo>
                  <a:lnTo>
                    <a:pt x="1562" y="1278"/>
                  </a:lnTo>
                  <a:lnTo>
                    <a:pt x="1595" y="1265"/>
                  </a:lnTo>
                  <a:lnTo>
                    <a:pt x="1627" y="1249"/>
                  </a:lnTo>
                  <a:lnTo>
                    <a:pt x="1657" y="1234"/>
                  </a:lnTo>
                  <a:lnTo>
                    <a:pt x="1687" y="1215"/>
                  </a:lnTo>
                  <a:lnTo>
                    <a:pt x="1716" y="1195"/>
                  </a:lnTo>
                  <a:lnTo>
                    <a:pt x="1743" y="1174"/>
                  </a:lnTo>
                  <a:lnTo>
                    <a:pt x="1769" y="1151"/>
                  </a:lnTo>
                  <a:lnTo>
                    <a:pt x="1794" y="1127"/>
                  </a:lnTo>
                  <a:lnTo>
                    <a:pt x="1817" y="1101"/>
                  </a:lnTo>
                  <a:lnTo>
                    <a:pt x="1838" y="1074"/>
                  </a:lnTo>
                  <a:lnTo>
                    <a:pt x="2443" y="282"/>
                  </a:lnTo>
                  <a:lnTo>
                    <a:pt x="2451" y="271"/>
                  </a:lnTo>
                  <a:lnTo>
                    <a:pt x="2458" y="259"/>
                  </a:lnTo>
                  <a:lnTo>
                    <a:pt x="2464" y="247"/>
                  </a:lnTo>
                  <a:lnTo>
                    <a:pt x="2469" y="233"/>
                  </a:lnTo>
                  <a:lnTo>
                    <a:pt x="2474" y="219"/>
                  </a:lnTo>
                  <a:lnTo>
                    <a:pt x="2477" y="206"/>
                  </a:lnTo>
                  <a:lnTo>
                    <a:pt x="2478" y="191"/>
                  </a:lnTo>
                  <a:lnTo>
                    <a:pt x="2479" y="175"/>
                  </a:lnTo>
                  <a:close/>
                  <a:moveTo>
                    <a:pt x="1665" y="348"/>
                  </a:moveTo>
                  <a:lnTo>
                    <a:pt x="1185" y="978"/>
                  </a:lnTo>
                  <a:lnTo>
                    <a:pt x="1174" y="991"/>
                  </a:lnTo>
                  <a:lnTo>
                    <a:pt x="1160" y="1004"/>
                  </a:lnTo>
                  <a:lnTo>
                    <a:pt x="1145" y="1014"/>
                  </a:lnTo>
                  <a:lnTo>
                    <a:pt x="1130" y="1024"/>
                  </a:lnTo>
                  <a:lnTo>
                    <a:pt x="1122" y="1027"/>
                  </a:lnTo>
                  <a:lnTo>
                    <a:pt x="1113" y="1031"/>
                  </a:lnTo>
                  <a:lnTo>
                    <a:pt x="1105" y="1033"/>
                  </a:lnTo>
                  <a:lnTo>
                    <a:pt x="1095" y="1036"/>
                  </a:lnTo>
                  <a:lnTo>
                    <a:pt x="1086" y="1038"/>
                  </a:lnTo>
                  <a:lnTo>
                    <a:pt x="1077" y="1039"/>
                  </a:lnTo>
                  <a:lnTo>
                    <a:pt x="1068" y="1040"/>
                  </a:lnTo>
                  <a:lnTo>
                    <a:pt x="1058" y="1040"/>
                  </a:lnTo>
                  <a:lnTo>
                    <a:pt x="852" y="1040"/>
                  </a:lnTo>
                  <a:lnTo>
                    <a:pt x="842" y="1039"/>
                  </a:lnTo>
                  <a:lnTo>
                    <a:pt x="834" y="1036"/>
                  </a:lnTo>
                  <a:lnTo>
                    <a:pt x="825" y="1032"/>
                  </a:lnTo>
                  <a:lnTo>
                    <a:pt x="819" y="1027"/>
                  </a:lnTo>
                  <a:lnTo>
                    <a:pt x="813" y="1020"/>
                  </a:lnTo>
                  <a:lnTo>
                    <a:pt x="808" y="1012"/>
                  </a:lnTo>
                  <a:lnTo>
                    <a:pt x="806" y="1004"/>
                  </a:lnTo>
                  <a:lnTo>
                    <a:pt x="805" y="994"/>
                  </a:lnTo>
                  <a:lnTo>
                    <a:pt x="805" y="991"/>
                  </a:lnTo>
                  <a:lnTo>
                    <a:pt x="806" y="987"/>
                  </a:lnTo>
                  <a:lnTo>
                    <a:pt x="806" y="984"/>
                  </a:lnTo>
                  <a:lnTo>
                    <a:pt x="807" y="980"/>
                  </a:lnTo>
                  <a:lnTo>
                    <a:pt x="809" y="976"/>
                  </a:lnTo>
                  <a:lnTo>
                    <a:pt x="810" y="973"/>
                  </a:lnTo>
                  <a:lnTo>
                    <a:pt x="813" y="970"/>
                  </a:lnTo>
                  <a:lnTo>
                    <a:pt x="815" y="967"/>
                  </a:lnTo>
                  <a:lnTo>
                    <a:pt x="1294" y="338"/>
                  </a:lnTo>
                  <a:lnTo>
                    <a:pt x="1306" y="324"/>
                  </a:lnTo>
                  <a:lnTo>
                    <a:pt x="1320" y="311"/>
                  </a:lnTo>
                  <a:lnTo>
                    <a:pt x="1333" y="301"/>
                  </a:lnTo>
                  <a:lnTo>
                    <a:pt x="1349" y="293"/>
                  </a:lnTo>
                  <a:lnTo>
                    <a:pt x="1366" y="285"/>
                  </a:lnTo>
                  <a:lnTo>
                    <a:pt x="1384" y="280"/>
                  </a:lnTo>
                  <a:lnTo>
                    <a:pt x="1393" y="278"/>
                  </a:lnTo>
                  <a:lnTo>
                    <a:pt x="1402" y="276"/>
                  </a:lnTo>
                  <a:lnTo>
                    <a:pt x="1412" y="276"/>
                  </a:lnTo>
                  <a:lnTo>
                    <a:pt x="1421" y="275"/>
                  </a:lnTo>
                  <a:lnTo>
                    <a:pt x="1628" y="275"/>
                  </a:lnTo>
                  <a:lnTo>
                    <a:pt x="1637" y="276"/>
                  </a:lnTo>
                  <a:lnTo>
                    <a:pt x="1646" y="279"/>
                  </a:lnTo>
                  <a:lnTo>
                    <a:pt x="1654" y="283"/>
                  </a:lnTo>
                  <a:lnTo>
                    <a:pt x="1661" y="288"/>
                  </a:lnTo>
                  <a:lnTo>
                    <a:pt x="1666" y="296"/>
                  </a:lnTo>
                  <a:lnTo>
                    <a:pt x="1670" y="303"/>
                  </a:lnTo>
                  <a:lnTo>
                    <a:pt x="1673" y="311"/>
                  </a:lnTo>
                  <a:lnTo>
                    <a:pt x="1674" y="321"/>
                  </a:lnTo>
                  <a:lnTo>
                    <a:pt x="1674" y="325"/>
                  </a:lnTo>
                  <a:lnTo>
                    <a:pt x="1673" y="328"/>
                  </a:lnTo>
                  <a:lnTo>
                    <a:pt x="1672" y="332"/>
                  </a:lnTo>
                  <a:lnTo>
                    <a:pt x="1672" y="335"/>
                  </a:lnTo>
                  <a:lnTo>
                    <a:pt x="1670" y="339"/>
                  </a:lnTo>
                  <a:lnTo>
                    <a:pt x="1669" y="342"/>
                  </a:lnTo>
                  <a:lnTo>
                    <a:pt x="1667" y="345"/>
                  </a:lnTo>
                  <a:lnTo>
                    <a:pt x="166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41520" y="5957280"/>
              <a:ext cx="241560" cy="144360"/>
            </a:xfrm>
            <a:custGeom>
              <a:avLst/>
              <a:gdLst/>
              <a:ahLst/>
              <a:rect l="l" t="t" r="r" b="b"/>
              <a:pathLst>
                <a:path w="2659" h="1315">
                  <a:moveTo>
                    <a:pt x="2484" y="463"/>
                  </a:moveTo>
                  <a:lnTo>
                    <a:pt x="2623" y="282"/>
                  </a:lnTo>
                  <a:lnTo>
                    <a:pt x="2631" y="271"/>
                  </a:lnTo>
                  <a:lnTo>
                    <a:pt x="2637" y="259"/>
                  </a:lnTo>
                  <a:lnTo>
                    <a:pt x="2644" y="247"/>
                  </a:lnTo>
                  <a:lnTo>
                    <a:pt x="2649" y="233"/>
                  </a:lnTo>
                  <a:lnTo>
                    <a:pt x="2653" y="219"/>
                  </a:lnTo>
                  <a:lnTo>
                    <a:pt x="2655" y="206"/>
                  </a:lnTo>
                  <a:lnTo>
                    <a:pt x="2658" y="191"/>
                  </a:lnTo>
                  <a:lnTo>
                    <a:pt x="2659" y="175"/>
                  </a:lnTo>
                  <a:lnTo>
                    <a:pt x="2658" y="158"/>
                  </a:lnTo>
                  <a:lnTo>
                    <a:pt x="2654" y="141"/>
                  </a:lnTo>
                  <a:lnTo>
                    <a:pt x="2650" y="123"/>
                  </a:lnTo>
                  <a:lnTo>
                    <a:pt x="2644" y="107"/>
                  </a:lnTo>
                  <a:lnTo>
                    <a:pt x="2636" y="92"/>
                  </a:lnTo>
                  <a:lnTo>
                    <a:pt x="2628" y="77"/>
                  </a:lnTo>
                  <a:lnTo>
                    <a:pt x="2617" y="64"/>
                  </a:lnTo>
                  <a:lnTo>
                    <a:pt x="2606" y="51"/>
                  </a:lnTo>
                  <a:lnTo>
                    <a:pt x="2593" y="41"/>
                  </a:lnTo>
                  <a:lnTo>
                    <a:pt x="2579" y="30"/>
                  </a:lnTo>
                  <a:lnTo>
                    <a:pt x="2566" y="21"/>
                  </a:lnTo>
                  <a:lnTo>
                    <a:pt x="2550" y="13"/>
                  </a:lnTo>
                  <a:lnTo>
                    <a:pt x="2533" y="8"/>
                  </a:lnTo>
                  <a:lnTo>
                    <a:pt x="2516" y="3"/>
                  </a:lnTo>
                  <a:lnTo>
                    <a:pt x="2499" y="1"/>
                  </a:lnTo>
                  <a:lnTo>
                    <a:pt x="2480" y="0"/>
                  </a:lnTo>
                  <a:lnTo>
                    <a:pt x="1732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693" y="1315"/>
                  </a:lnTo>
                  <a:lnTo>
                    <a:pt x="1528" y="1315"/>
                  </a:lnTo>
                  <a:lnTo>
                    <a:pt x="1546" y="1315"/>
                  </a:lnTo>
                  <a:lnTo>
                    <a:pt x="1565" y="1314"/>
                  </a:lnTo>
                  <a:lnTo>
                    <a:pt x="1583" y="1313"/>
                  </a:lnTo>
                  <a:lnTo>
                    <a:pt x="1602" y="1311"/>
                  </a:lnTo>
                  <a:lnTo>
                    <a:pt x="1620" y="1309"/>
                  </a:lnTo>
                  <a:lnTo>
                    <a:pt x="1638" y="1306"/>
                  </a:lnTo>
                  <a:lnTo>
                    <a:pt x="1656" y="1303"/>
                  </a:lnTo>
                  <a:lnTo>
                    <a:pt x="1673" y="1299"/>
                  </a:lnTo>
                  <a:lnTo>
                    <a:pt x="1708" y="1289"/>
                  </a:lnTo>
                  <a:lnTo>
                    <a:pt x="1742" y="1278"/>
                  </a:lnTo>
                  <a:lnTo>
                    <a:pt x="1775" y="1265"/>
                  </a:lnTo>
                  <a:lnTo>
                    <a:pt x="1806" y="1249"/>
                  </a:lnTo>
                  <a:lnTo>
                    <a:pt x="1837" y="1234"/>
                  </a:lnTo>
                  <a:lnTo>
                    <a:pt x="1867" y="1215"/>
                  </a:lnTo>
                  <a:lnTo>
                    <a:pt x="1895" y="1195"/>
                  </a:lnTo>
                  <a:lnTo>
                    <a:pt x="1923" y="1174"/>
                  </a:lnTo>
                  <a:lnTo>
                    <a:pt x="1948" y="1151"/>
                  </a:lnTo>
                  <a:lnTo>
                    <a:pt x="1974" y="1127"/>
                  </a:lnTo>
                  <a:lnTo>
                    <a:pt x="1997" y="1101"/>
                  </a:lnTo>
                  <a:lnTo>
                    <a:pt x="2018" y="1074"/>
                  </a:lnTo>
                  <a:lnTo>
                    <a:pt x="2160" y="889"/>
                  </a:lnTo>
                  <a:lnTo>
                    <a:pt x="2166" y="879"/>
                  </a:lnTo>
                  <a:lnTo>
                    <a:pt x="2172" y="870"/>
                  </a:lnTo>
                  <a:lnTo>
                    <a:pt x="2177" y="859"/>
                  </a:lnTo>
                  <a:lnTo>
                    <a:pt x="2181" y="849"/>
                  </a:lnTo>
                  <a:lnTo>
                    <a:pt x="2184" y="838"/>
                  </a:lnTo>
                  <a:lnTo>
                    <a:pt x="2187" y="827"/>
                  </a:lnTo>
                  <a:lnTo>
                    <a:pt x="2188" y="815"/>
                  </a:lnTo>
                  <a:lnTo>
                    <a:pt x="2189" y="804"/>
                  </a:lnTo>
                  <a:lnTo>
                    <a:pt x="2188" y="786"/>
                  </a:lnTo>
                  <a:lnTo>
                    <a:pt x="2184" y="769"/>
                  </a:lnTo>
                  <a:lnTo>
                    <a:pt x="2179" y="754"/>
                  </a:lnTo>
                  <a:lnTo>
                    <a:pt x="2173" y="739"/>
                  </a:lnTo>
                  <a:lnTo>
                    <a:pt x="2164" y="724"/>
                  </a:lnTo>
                  <a:lnTo>
                    <a:pt x="2155" y="712"/>
                  </a:lnTo>
                  <a:lnTo>
                    <a:pt x="2143" y="700"/>
                  </a:lnTo>
                  <a:lnTo>
                    <a:pt x="2130" y="690"/>
                  </a:lnTo>
                  <a:lnTo>
                    <a:pt x="2157" y="684"/>
                  </a:lnTo>
                  <a:lnTo>
                    <a:pt x="2183" y="675"/>
                  </a:lnTo>
                  <a:lnTo>
                    <a:pt x="2209" y="667"/>
                  </a:lnTo>
                  <a:lnTo>
                    <a:pt x="2234" y="656"/>
                  </a:lnTo>
                  <a:lnTo>
                    <a:pt x="2259" y="646"/>
                  </a:lnTo>
                  <a:lnTo>
                    <a:pt x="2283" y="633"/>
                  </a:lnTo>
                  <a:lnTo>
                    <a:pt x="2306" y="621"/>
                  </a:lnTo>
                  <a:lnTo>
                    <a:pt x="2328" y="606"/>
                  </a:lnTo>
                  <a:lnTo>
                    <a:pt x="2351" y="592"/>
                  </a:lnTo>
                  <a:lnTo>
                    <a:pt x="2372" y="576"/>
                  </a:lnTo>
                  <a:lnTo>
                    <a:pt x="2393" y="559"/>
                  </a:lnTo>
                  <a:lnTo>
                    <a:pt x="2413" y="541"/>
                  </a:lnTo>
                  <a:lnTo>
                    <a:pt x="2432" y="524"/>
                  </a:lnTo>
                  <a:lnTo>
                    <a:pt x="2450" y="504"/>
                  </a:lnTo>
                  <a:lnTo>
                    <a:pt x="2468" y="484"/>
                  </a:lnTo>
                  <a:lnTo>
                    <a:pt x="2484" y="463"/>
                  </a:lnTo>
                  <a:close/>
                  <a:moveTo>
                    <a:pt x="1455" y="859"/>
                  </a:moveTo>
                  <a:lnTo>
                    <a:pt x="1365" y="978"/>
                  </a:lnTo>
                  <a:lnTo>
                    <a:pt x="1352" y="991"/>
                  </a:lnTo>
                  <a:lnTo>
                    <a:pt x="1340" y="1004"/>
                  </a:lnTo>
                  <a:lnTo>
                    <a:pt x="1325" y="1014"/>
                  </a:lnTo>
                  <a:lnTo>
                    <a:pt x="1310" y="1024"/>
                  </a:lnTo>
                  <a:lnTo>
                    <a:pt x="1302" y="1028"/>
                  </a:lnTo>
                  <a:lnTo>
                    <a:pt x="1293" y="1031"/>
                  </a:lnTo>
                  <a:lnTo>
                    <a:pt x="1284" y="1034"/>
                  </a:lnTo>
                  <a:lnTo>
                    <a:pt x="1275" y="1036"/>
                  </a:lnTo>
                  <a:lnTo>
                    <a:pt x="1266" y="1038"/>
                  </a:lnTo>
                  <a:lnTo>
                    <a:pt x="1256" y="1039"/>
                  </a:lnTo>
                  <a:lnTo>
                    <a:pt x="1246" y="1040"/>
                  </a:lnTo>
                  <a:lnTo>
                    <a:pt x="1237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418" y="786"/>
                  </a:lnTo>
                  <a:lnTo>
                    <a:pt x="1426" y="787"/>
                  </a:lnTo>
                  <a:lnTo>
                    <a:pt x="1436" y="790"/>
                  </a:lnTo>
                  <a:lnTo>
                    <a:pt x="1443" y="795"/>
                  </a:lnTo>
                  <a:lnTo>
                    <a:pt x="1451" y="800"/>
                  </a:lnTo>
                  <a:lnTo>
                    <a:pt x="1456" y="807"/>
                  </a:lnTo>
                  <a:lnTo>
                    <a:pt x="1460" y="814"/>
                  </a:lnTo>
                  <a:lnTo>
                    <a:pt x="1462" y="823"/>
                  </a:lnTo>
                  <a:lnTo>
                    <a:pt x="1463" y="832"/>
                  </a:lnTo>
                  <a:lnTo>
                    <a:pt x="1463" y="836"/>
                  </a:lnTo>
                  <a:lnTo>
                    <a:pt x="1463" y="839"/>
                  </a:lnTo>
                  <a:lnTo>
                    <a:pt x="1462" y="844"/>
                  </a:lnTo>
                  <a:lnTo>
                    <a:pt x="1461" y="847"/>
                  </a:lnTo>
                  <a:lnTo>
                    <a:pt x="1460" y="850"/>
                  </a:lnTo>
                  <a:lnTo>
                    <a:pt x="1458" y="853"/>
                  </a:lnTo>
                  <a:lnTo>
                    <a:pt x="1457" y="856"/>
                  </a:lnTo>
                  <a:lnTo>
                    <a:pt x="1455" y="859"/>
                  </a:lnTo>
                  <a:close/>
                  <a:moveTo>
                    <a:pt x="1845" y="348"/>
                  </a:moveTo>
                  <a:lnTo>
                    <a:pt x="1768" y="448"/>
                  </a:lnTo>
                  <a:lnTo>
                    <a:pt x="1757" y="462"/>
                  </a:lnTo>
                  <a:lnTo>
                    <a:pt x="1743" y="475"/>
                  </a:lnTo>
                  <a:lnTo>
                    <a:pt x="1729" y="485"/>
                  </a:lnTo>
                  <a:lnTo>
                    <a:pt x="1713" y="494"/>
                  </a:lnTo>
                  <a:lnTo>
                    <a:pt x="1705" y="499"/>
                  </a:lnTo>
                  <a:lnTo>
                    <a:pt x="1696" y="502"/>
                  </a:lnTo>
                  <a:lnTo>
                    <a:pt x="1688" y="505"/>
                  </a:lnTo>
                  <a:lnTo>
                    <a:pt x="1678" y="507"/>
                  </a:lnTo>
                  <a:lnTo>
                    <a:pt x="1670" y="509"/>
                  </a:lnTo>
                  <a:lnTo>
                    <a:pt x="1660" y="510"/>
                  </a:lnTo>
                  <a:lnTo>
                    <a:pt x="1651" y="511"/>
                  </a:lnTo>
                  <a:lnTo>
                    <a:pt x="1641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1808" y="275"/>
                  </a:lnTo>
                  <a:lnTo>
                    <a:pt x="1817" y="276"/>
                  </a:lnTo>
                  <a:lnTo>
                    <a:pt x="1826" y="279"/>
                  </a:lnTo>
                  <a:lnTo>
                    <a:pt x="1833" y="283"/>
                  </a:lnTo>
                  <a:lnTo>
                    <a:pt x="1840" y="288"/>
                  </a:lnTo>
                  <a:lnTo>
                    <a:pt x="1846" y="296"/>
                  </a:lnTo>
                  <a:lnTo>
                    <a:pt x="1850" y="303"/>
                  </a:lnTo>
                  <a:lnTo>
                    <a:pt x="1853" y="311"/>
                  </a:lnTo>
                  <a:lnTo>
                    <a:pt x="1854" y="321"/>
                  </a:lnTo>
                  <a:lnTo>
                    <a:pt x="1854" y="325"/>
                  </a:lnTo>
                  <a:lnTo>
                    <a:pt x="1853" y="328"/>
                  </a:lnTo>
                  <a:lnTo>
                    <a:pt x="1852" y="332"/>
                  </a:lnTo>
                  <a:lnTo>
                    <a:pt x="1851" y="335"/>
                  </a:lnTo>
                  <a:lnTo>
                    <a:pt x="1850" y="339"/>
                  </a:lnTo>
                  <a:lnTo>
                    <a:pt x="1849" y="342"/>
                  </a:lnTo>
                  <a:lnTo>
                    <a:pt x="1847" y="345"/>
                  </a:lnTo>
                  <a:lnTo>
                    <a:pt x="184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88480" y="5955480"/>
              <a:ext cx="45360" cy="55800"/>
            </a:xfrm>
            <a:custGeom>
              <a:avLst/>
              <a:gdLst/>
              <a:ahLst/>
              <a:rect l="l" t="t" r="r" b="b"/>
              <a:pathLst>
                <a:path w="508" h="502">
                  <a:moveTo>
                    <a:pt x="254" y="0"/>
                  </a:moveTo>
                  <a:lnTo>
                    <a:pt x="241" y="1"/>
                  </a:lnTo>
                  <a:lnTo>
                    <a:pt x="227" y="2"/>
                  </a:lnTo>
                  <a:lnTo>
                    <a:pt x="215" y="3"/>
                  </a:lnTo>
                  <a:lnTo>
                    <a:pt x="203" y="5"/>
                  </a:lnTo>
                  <a:lnTo>
                    <a:pt x="190" y="8"/>
                  </a:lnTo>
                  <a:lnTo>
                    <a:pt x="179" y="11"/>
                  </a:lnTo>
                  <a:lnTo>
                    <a:pt x="166" y="16"/>
                  </a:lnTo>
                  <a:lnTo>
                    <a:pt x="155" y="20"/>
                  </a:lnTo>
                  <a:lnTo>
                    <a:pt x="144" y="25"/>
                  </a:lnTo>
                  <a:lnTo>
                    <a:pt x="133" y="30"/>
                  </a:lnTo>
                  <a:lnTo>
                    <a:pt x="122" y="36"/>
                  </a:lnTo>
                  <a:lnTo>
                    <a:pt x="112" y="43"/>
                  </a:lnTo>
                  <a:lnTo>
                    <a:pt x="101" y="50"/>
                  </a:lnTo>
                  <a:lnTo>
                    <a:pt x="92" y="57"/>
                  </a:lnTo>
                  <a:lnTo>
                    <a:pt x="83" y="66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8" y="92"/>
                  </a:lnTo>
                  <a:lnTo>
                    <a:pt x="51" y="101"/>
                  </a:lnTo>
                  <a:lnTo>
                    <a:pt x="43" y="111"/>
                  </a:lnTo>
                  <a:lnTo>
                    <a:pt x="37" y="121"/>
                  </a:lnTo>
                  <a:lnTo>
                    <a:pt x="31" y="132"/>
                  </a:lnTo>
                  <a:lnTo>
                    <a:pt x="25" y="142"/>
                  </a:lnTo>
                  <a:lnTo>
                    <a:pt x="20" y="154"/>
                  </a:lnTo>
                  <a:lnTo>
                    <a:pt x="16" y="165"/>
                  </a:lnTo>
                  <a:lnTo>
                    <a:pt x="12" y="177"/>
                  </a:lnTo>
                  <a:lnTo>
                    <a:pt x="8" y="188"/>
                  </a:lnTo>
                  <a:lnTo>
                    <a:pt x="5" y="201"/>
                  </a:lnTo>
                  <a:lnTo>
                    <a:pt x="3" y="213"/>
                  </a:lnTo>
                  <a:lnTo>
                    <a:pt x="1" y="226"/>
                  </a:lnTo>
                  <a:lnTo>
                    <a:pt x="1" y="238"/>
                  </a:lnTo>
                  <a:lnTo>
                    <a:pt x="0" y="251"/>
                  </a:lnTo>
                  <a:lnTo>
                    <a:pt x="1" y="264"/>
                  </a:lnTo>
                  <a:lnTo>
                    <a:pt x="1" y="277"/>
                  </a:lnTo>
                  <a:lnTo>
                    <a:pt x="3" y="290"/>
                  </a:lnTo>
                  <a:lnTo>
                    <a:pt x="5" y="302"/>
                  </a:lnTo>
                  <a:lnTo>
                    <a:pt x="8" y="314"/>
                  </a:lnTo>
                  <a:lnTo>
                    <a:pt x="12" y="326"/>
                  </a:lnTo>
                  <a:lnTo>
                    <a:pt x="16" y="338"/>
                  </a:lnTo>
                  <a:lnTo>
                    <a:pt x="20" y="349"/>
                  </a:lnTo>
                  <a:lnTo>
                    <a:pt x="25" y="360"/>
                  </a:lnTo>
                  <a:lnTo>
                    <a:pt x="31" y="371"/>
                  </a:lnTo>
                  <a:lnTo>
                    <a:pt x="37" y="382"/>
                  </a:lnTo>
                  <a:lnTo>
                    <a:pt x="43" y="392"/>
                  </a:lnTo>
                  <a:lnTo>
                    <a:pt x="51" y="401"/>
                  </a:lnTo>
                  <a:lnTo>
                    <a:pt x="58" y="411"/>
                  </a:lnTo>
                  <a:lnTo>
                    <a:pt x="65" y="420"/>
                  </a:lnTo>
                  <a:lnTo>
                    <a:pt x="74" y="429"/>
                  </a:lnTo>
                  <a:lnTo>
                    <a:pt x="83" y="437"/>
                  </a:lnTo>
                  <a:lnTo>
                    <a:pt x="92" y="444"/>
                  </a:lnTo>
                  <a:lnTo>
                    <a:pt x="101" y="453"/>
                  </a:lnTo>
                  <a:lnTo>
                    <a:pt x="112" y="459"/>
                  </a:lnTo>
                  <a:lnTo>
                    <a:pt x="122" y="466"/>
                  </a:lnTo>
                  <a:lnTo>
                    <a:pt x="133" y="472"/>
                  </a:lnTo>
                  <a:lnTo>
                    <a:pt x="144" y="478"/>
                  </a:lnTo>
                  <a:lnTo>
                    <a:pt x="155" y="482"/>
                  </a:lnTo>
                  <a:lnTo>
                    <a:pt x="166" y="487"/>
                  </a:lnTo>
                  <a:lnTo>
                    <a:pt x="179" y="490"/>
                  </a:lnTo>
                  <a:lnTo>
                    <a:pt x="190" y="495"/>
                  </a:lnTo>
                  <a:lnTo>
                    <a:pt x="203" y="497"/>
                  </a:lnTo>
                  <a:lnTo>
                    <a:pt x="215" y="499"/>
                  </a:lnTo>
                  <a:lnTo>
                    <a:pt x="227" y="501"/>
                  </a:lnTo>
                  <a:lnTo>
                    <a:pt x="241" y="502"/>
                  </a:lnTo>
                  <a:lnTo>
                    <a:pt x="254" y="502"/>
                  </a:lnTo>
                  <a:lnTo>
                    <a:pt x="267" y="502"/>
                  </a:lnTo>
                  <a:lnTo>
                    <a:pt x="280" y="501"/>
                  </a:lnTo>
                  <a:lnTo>
                    <a:pt x="293" y="499"/>
                  </a:lnTo>
                  <a:lnTo>
                    <a:pt x="305" y="497"/>
                  </a:lnTo>
                  <a:lnTo>
                    <a:pt x="317" y="495"/>
                  </a:lnTo>
                  <a:lnTo>
                    <a:pt x="329" y="490"/>
                  </a:lnTo>
                  <a:lnTo>
                    <a:pt x="342" y="487"/>
                  </a:lnTo>
                  <a:lnTo>
                    <a:pt x="353" y="482"/>
                  </a:lnTo>
                  <a:lnTo>
                    <a:pt x="364" y="478"/>
                  </a:lnTo>
                  <a:lnTo>
                    <a:pt x="375" y="472"/>
                  </a:lnTo>
                  <a:lnTo>
                    <a:pt x="385" y="466"/>
                  </a:lnTo>
                  <a:lnTo>
                    <a:pt x="396" y="459"/>
                  </a:lnTo>
                  <a:lnTo>
                    <a:pt x="406" y="453"/>
                  </a:lnTo>
                  <a:lnTo>
                    <a:pt x="416" y="444"/>
                  </a:lnTo>
                  <a:lnTo>
                    <a:pt x="424" y="437"/>
                  </a:lnTo>
                  <a:lnTo>
                    <a:pt x="434" y="429"/>
                  </a:lnTo>
                  <a:lnTo>
                    <a:pt x="442" y="420"/>
                  </a:lnTo>
                  <a:lnTo>
                    <a:pt x="450" y="411"/>
                  </a:lnTo>
                  <a:lnTo>
                    <a:pt x="457" y="401"/>
                  </a:lnTo>
                  <a:lnTo>
                    <a:pt x="465" y="392"/>
                  </a:lnTo>
                  <a:lnTo>
                    <a:pt x="471" y="382"/>
                  </a:lnTo>
                  <a:lnTo>
                    <a:pt x="477" y="371"/>
                  </a:lnTo>
                  <a:lnTo>
                    <a:pt x="483" y="360"/>
                  </a:lnTo>
                  <a:lnTo>
                    <a:pt x="488" y="349"/>
                  </a:lnTo>
                  <a:lnTo>
                    <a:pt x="492" y="338"/>
                  </a:lnTo>
                  <a:lnTo>
                    <a:pt x="496" y="326"/>
                  </a:lnTo>
                  <a:lnTo>
                    <a:pt x="500" y="314"/>
                  </a:lnTo>
                  <a:lnTo>
                    <a:pt x="503" y="302"/>
                  </a:lnTo>
                  <a:lnTo>
                    <a:pt x="505" y="290"/>
                  </a:lnTo>
                  <a:lnTo>
                    <a:pt x="507" y="277"/>
                  </a:lnTo>
                  <a:lnTo>
                    <a:pt x="508" y="264"/>
                  </a:lnTo>
                  <a:lnTo>
                    <a:pt x="508" y="251"/>
                  </a:lnTo>
                  <a:lnTo>
                    <a:pt x="508" y="238"/>
                  </a:lnTo>
                  <a:lnTo>
                    <a:pt x="507" y="226"/>
                  </a:lnTo>
                  <a:lnTo>
                    <a:pt x="505" y="213"/>
                  </a:lnTo>
                  <a:lnTo>
                    <a:pt x="503" y="201"/>
                  </a:lnTo>
                  <a:lnTo>
                    <a:pt x="500" y="188"/>
                  </a:lnTo>
                  <a:lnTo>
                    <a:pt x="496" y="177"/>
                  </a:lnTo>
                  <a:lnTo>
                    <a:pt x="492" y="165"/>
                  </a:lnTo>
                  <a:lnTo>
                    <a:pt x="488" y="154"/>
                  </a:lnTo>
                  <a:lnTo>
                    <a:pt x="483" y="142"/>
                  </a:lnTo>
                  <a:lnTo>
                    <a:pt x="477" y="132"/>
                  </a:lnTo>
                  <a:lnTo>
                    <a:pt x="471" y="121"/>
                  </a:lnTo>
                  <a:lnTo>
                    <a:pt x="465" y="111"/>
                  </a:lnTo>
                  <a:lnTo>
                    <a:pt x="457" y="101"/>
                  </a:lnTo>
                  <a:lnTo>
                    <a:pt x="450" y="92"/>
                  </a:lnTo>
                  <a:lnTo>
                    <a:pt x="442" y="82"/>
                  </a:lnTo>
                  <a:lnTo>
                    <a:pt x="434" y="74"/>
                  </a:lnTo>
                  <a:lnTo>
                    <a:pt x="424" y="66"/>
                  </a:lnTo>
                  <a:lnTo>
                    <a:pt x="416" y="57"/>
                  </a:lnTo>
                  <a:lnTo>
                    <a:pt x="406" y="50"/>
                  </a:lnTo>
                  <a:lnTo>
                    <a:pt x="396" y="43"/>
                  </a:lnTo>
                  <a:lnTo>
                    <a:pt x="385" y="36"/>
                  </a:lnTo>
                  <a:lnTo>
                    <a:pt x="375" y="30"/>
                  </a:lnTo>
                  <a:lnTo>
                    <a:pt x="364" y="25"/>
                  </a:lnTo>
                  <a:lnTo>
                    <a:pt x="353" y="20"/>
                  </a:lnTo>
                  <a:lnTo>
                    <a:pt x="342" y="16"/>
                  </a:lnTo>
                  <a:lnTo>
                    <a:pt x="329" y="11"/>
                  </a:lnTo>
                  <a:lnTo>
                    <a:pt x="317" y="8"/>
                  </a:lnTo>
                  <a:lnTo>
                    <a:pt x="305" y="5"/>
                  </a:lnTo>
                  <a:lnTo>
                    <a:pt x="293" y="3"/>
                  </a:lnTo>
                  <a:lnTo>
                    <a:pt x="280" y="2"/>
                  </a:lnTo>
                  <a:lnTo>
                    <a:pt x="267" y="1"/>
                  </a:lnTo>
                  <a:lnTo>
                    <a:pt x="254" y="0"/>
                  </a:lnTo>
                  <a:close/>
                  <a:moveTo>
                    <a:pt x="255" y="480"/>
                  </a:moveTo>
                  <a:lnTo>
                    <a:pt x="242" y="480"/>
                  </a:lnTo>
                  <a:lnTo>
                    <a:pt x="231" y="479"/>
                  </a:lnTo>
                  <a:lnTo>
                    <a:pt x="219" y="477"/>
                  </a:lnTo>
                  <a:lnTo>
                    <a:pt x="207" y="475"/>
                  </a:lnTo>
                  <a:lnTo>
                    <a:pt x="197" y="473"/>
                  </a:lnTo>
                  <a:lnTo>
                    <a:pt x="185" y="469"/>
                  </a:lnTo>
                  <a:lnTo>
                    <a:pt x="175" y="466"/>
                  </a:lnTo>
                  <a:lnTo>
                    <a:pt x="164" y="462"/>
                  </a:lnTo>
                  <a:lnTo>
                    <a:pt x="154" y="457"/>
                  </a:lnTo>
                  <a:lnTo>
                    <a:pt x="144" y="453"/>
                  </a:lnTo>
                  <a:lnTo>
                    <a:pt x="134" y="446"/>
                  </a:lnTo>
                  <a:lnTo>
                    <a:pt x="125" y="441"/>
                  </a:lnTo>
                  <a:lnTo>
                    <a:pt x="116" y="435"/>
                  </a:lnTo>
                  <a:lnTo>
                    <a:pt x="108" y="428"/>
                  </a:lnTo>
                  <a:lnTo>
                    <a:pt x="99" y="420"/>
                  </a:lnTo>
                  <a:lnTo>
                    <a:pt x="92" y="413"/>
                  </a:lnTo>
                  <a:lnTo>
                    <a:pt x="85" y="406"/>
                  </a:lnTo>
                  <a:lnTo>
                    <a:pt x="77" y="397"/>
                  </a:lnTo>
                  <a:lnTo>
                    <a:pt x="71" y="388"/>
                  </a:lnTo>
                  <a:lnTo>
                    <a:pt x="64" y="379"/>
                  </a:lnTo>
                  <a:lnTo>
                    <a:pt x="58" y="370"/>
                  </a:lnTo>
                  <a:lnTo>
                    <a:pt x="53" y="361"/>
                  </a:lnTo>
                  <a:lnTo>
                    <a:pt x="47" y="350"/>
                  </a:lnTo>
                  <a:lnTo>
                    <a:pt x="43" y="341"/>
                  </a:lnTo>
                  <a:lnTo>
                    <a:pt x="39" y="330"/>
                  </a:lnTo>
                  <a:lnTo>
                    <a:pt x="36" y="319"/>
                  </a:lnTo>
                  <a:lnTo>
                    <a:pt x="33" y="308"/>
                  </a:lnTo>
                  <a:lnTo>
                    <a:pt x="31" y="297"/>
                  </a:lnTo>
                  <a:lnTo>
                    <a:pt x="28" y="286"/>
                  </a:lnTo>
                  <a:lnTo>
                    <a:pt x="27" y="275"/>
                  </a:lnTo>
                  <a:lnTo>
                    <a:pt x="26" y="263"/>
                  </a:lnTo>
                  <a:lnTo>
                    <a:pt x="26" y="251"/>
                  </a:lnTo>
                  <a:lnTo>
                    <a:pt x="26" y="239"/>
                  </a:lnTo>
                  <a:lnTo>
                    <a:pt x="27" y="227"/>
                  </a:lnTo>
                  <a:lnTo>
                    <a:pt x="28" y="215"/>
                  </a:lnTo>
                  <a:lnTo>
                    <a:pt x="31" y="204"/>
                  </a:lnTo>
                  <a:lnTo>
                    <a:pt x="33" y="193"/>
                  </a:lnTo>
                  <a:lnTo>
                    <a:pt x="36" y="182"/>
                  </a:lnTo>
                  <a:lnTo>
                    <a:pt x="39" y="171"/>
                  </a:lnTo>
                  <a:lnTo>
                    <a:pt x="43" y="161"/>
                  </a:lnTo>
                  <a:lnTo>
                    <a:pt x="47" y="150"/>
                  </a:lnTo>
                  <a:lnTo>
                    <a:pt x="53" y="141"/>
                  </a:lnTo>
                  <a:lnTo>
                    <a:pt x="58" y="132"/>
                  </a:lnTo>
                  <a:lnTo>
                    <a:pt x="63" y="122"/>
                  </a:lnTo>
                  <a:lnTo>
                    <a:pt x="70" y="113"/>
                  </a:lnTo>
                  <a:lnTo>
                    <a:pt x="76" y="104"/>
                  </a:lnTo>
                  <a:lnTo>
                    <a:pt x="83" y="96"/>
                  </a:lnTo>
                  <a:lnTo>
                    <a:pt x="91" y="88"/>
                  </a:lnTo>
                  <a:lnTo>
                    <a:pt x="99" y="80"/>
                  </a:lnTo>
                  <a:lnTo>
                    <a:pt x="107" y="74"/>
                  </a:lnTo>
                  <a:lnTo>
                    <a:pt x="115" y="67"/>
                  </a:lnTo>
                  <a:lnTo>
                    <a:pt x="125" y="61"/>
                  </a:lnTo>
                  <a:lnTo>
                    <a:pt x="134" y="55"/>
                  </a:lnTo>
                  <a:lnTo>
                    <a:pt x="144" y="49"/>
                  </a:lnTo>
                  <a:lnTo>
                    <a:pt x="153" y="45"/>
                  </a:lnTo>
                  <a:lnTo>
                    <a:pt x="164" y="40"/>
                  </a:lnTo>
                  <a:lnTo>
                    <a:pt x="175" y="36"/>
                  </a:lnTo>
                  <a:lnTo>
                    <a:pt x="185" y="32"/>
                  </a:lnTo>
                  <a:lnTo>
                    <a:pt x="196" y="29"/>
                  </a:lnTo>
                  <a:lnTo>
                    <a:pt x="207" y="27"/>
                  </a:lnTo>
                  <a:lnTo>
                    <a:pt x="219" y="25"/>
                  </a:lnTo>
                  <a:lnTo>
                    <a:pt x="231" y="24"/>
                  </a:lnTo>
                  <a:lnTo>
                    <a:pt x="242" y="23"/>
                  </a:lnTo>
                  <a:lnTo>
                    <a:pt x="255" y="23"/>
                  </a:lnTo>
                  <a:lnTo>
                    <a:pt x="267" y="23"/>
                  </a:lnTo>
                  <a:lnTo>
                    <a:pt x="278" y="24"/>
                  </a:lnTo>
                  <a:lnTo>
                    <a:pt x="290" y="25"/>
                  </a:lnTo>
                  <a:lnTo>
                    <a:pt x="302" y="27"/>
                  </a:lnTo>
                  <a:lnTo>
                    <a:pt x="313" y="29"/>
                  </a:lnTo>
                  <a:lnTo>
                    <a:pt x="324" y="32"/>
                  </a:lnTo>
                  <a:lnTo>
                    <a:pt x="334" y="36"/>
                  </a:lnTo>
                  <a:lnTo>
                    <a:pt x="345" y="40"/>
                  </a:lnTo>
                  <a:lnTo>
                    <a:pt x="365" y="50"/>
                  </a:lnTo>
                  <a:lnTo>
                    <a:pt x="384" y="61"/>
                  </a:lnTo>
                  <a:lnTo>
                    <a:pt x="401" y="74"/>
                  </a:lnTo>
                  <a:lnTo>
                    <a:pt x="417" y="89"/>
                  </a:lnTo>
                  <a:lnTo>
                    <a:pt x="432" y="104"/>
                  </a:lnTo>
                  <a:lnTo>
                    <a:pt x="444" y="122"/>
                  </a:lnTo>
                  <a:lnTo>
                    <a:pt x="456" y="141"/>
                  </a:lnTo>
                  <a:lnTo>
                    <a:pt x="465" y="161"/>
                  </a:lnTo>
                  <a:lnTo>
                    <a:pt x="472" y="182"/>
                  </a:lnTo>
                  <a:lnTo>
                    <a:pt x="477" y="204"/>
                  </a:lnTo>
                  <a:lnTo>
                    <a:pt x="479" y="215"/>
                  </a:lnTo>
                  <a:lnTo>
                    <a:pt x="482" y="227"/>
                  </a:lnTo>
                  <a:lnTo>
                    <a:pt x="482" y="238"/>
                  </a:lnTo>
                  <a:lnTo>
                    <a:pt x="483" y="251"/>
                  </a:lnTo>
                  <a:lnTo>
                    <a:pt x="482" y="262"/>
                  </a:lnTo>
                  <a:lnTo>
                    <a:pt x="482" y="274"/>
                  </a:lnTo>
                  <a:lnTo>
                    <a:pt x="479" y="285"/>
                  </a:lnTo>
                  <a:lnTo>
                    <a:pt x="477" y="297"/>
                  </a:lnTo>
                  <a:lnTo>
                    <a:pt x="475" y="308"/>
                  </a:lnTo>
                  <a:lnTo>
                    <a:pt x="472" y="319"/>
                  </a:lnTo>
                  <a:lnTo>
                    <a:pt x="469" y="329"/>
                  </a:lnTo>
                  <a:lnTo>
                    <a:pt x="465" y="340"/>
                  </a:lnTo>
                  <a:lnTo>
                    <a:pt x="455" y="360"/>
                  </a:lnTo>
                  <a:lnTo>
                    <a:pt x="444" y="378"/>
                  </a:lnTo>
                  <a:lnTo>
                    <a:pt x="438" y="388"/>
                  </a:lnTo>
                  <a:lnTo>
                    <a:pt x="432" y="396"/>
                  </a:lnTo>
                  <a:lnTo>
                    <a:pt x="424" y="405"/>
                  </a:lnTo>
                  <a:lnTo>
                    <a:pt x="417" y="413"/>
                  </a:lnTo>
                  <a:lnTo>
                    <a:pt x="401" y="428"/>
                  </a:lnTo>
                  <a:lnTo>
                    <a:pt x="384" y="441"/>
                  </a:lnTo>
                  <a:lnTo>
                    <a:pt x="375" y="446"/>
                  </a:lnTo>
                  <a:lnTo>
                    <a:pt x="365" y="453"/>
                  </a:lnTo>
                  <a:lnTo>
                    <a:pt x="354" y="457"/>
                  </a:lnTo>
                  <a:lnTo>
                    <a:pt x="345" y="462"/>
                  </a:lnTo>
                  <a:lnTo>
                    <a:pt x="334" y="466"/>
                  </a:lnTo>
                  <a:lnTo>
                    <a:pt x="324" y="469"/>
                  </a:lnTo>
                  <a:lnTo>
                    <a:pt x="313" y="473"/>
                  </a:lnTo>
                  <a:lnTo>
                    <a:pt x="302" y="475"/>
                  </a:lnTo>
                  <a:lnTo>
                    <a:pt x="290" y="477"/>
                  </a:lnTo>
                  <a:lnTo>
                    <a:pt x="278" y="479"/>
                  </a:lnTo>
                  <a:lnTo>
                    <a:pt x="267" y="480"/>
                  </a:lnTo>
                  <a:lnTo>
                    <a:pt x="255" y="48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03240" y="5967000"/>
              <a:ext cx="19440" cy="32400"/>
            </a:xfrm>
            <a:custGeom>
              <a:avLst/>
              <a:gdLst/>
              <a:ahLst/>
              <a:rect l="l" t="t" r="r" b="b"/>
              <a:pathLst>
                <a:path w="222" h="296">
                  <a:moveTo>
                    <a:pt x="210" y="82"/>
                  </a:moveTo>
                  <a:lnTo>
                    <a:pt x="209" y="73"/>
                  </a:lnTo>
                  <a:lnTo>
                    <a:pt x="208" y="63"/>
                  </a:lnTo>
                  <a:lnTo>
                    <a:pt x="207" y="55"/>
                  </a:lnTo>
                  <a:lnTo>
                    <a:pt x="204" y="46"/>
                  </a:lnTo>
                  <a:lnTo>
                    <a:pt x="201" y="39"/>
                  </a:lnTo>
                  <a:lnTo>
                    <a:pt x="197" y="32"/>
                  </a:lnTo>
                  <a:lnTo>
                    <a:pt x="192" y="27"/>
                  </a:lnTo>
                  <a:lnTo>
                    <a:pt x="187" y="20"/>
                  </a:lnTo>
                  <a:lnTo>
                    <a:pt x="181" y="16"/>
                  </a:lnTo>
                  <a:lnTo>
                    <a:pt x="173" y="12"/>
                  </a:lnTo>
                  <a:lnTo>
                    <a:pt x="165" y="8"/>
                  </a:lnTo>
                  <a:lnTo>
                    <a:pt x="157" y="6"/>
                  </a:lnTo>
                  <a:lnTo>
                    <a:pt x="147" y="3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296"/>
                  </a:lnTo>
                  <a:lnTo>
                    <a:pt x="25" y="296"/>
                  </a:lnTo>
                  <a:lnTo>
                    <a:pt x="25" y="159"/>
                  </a:lnTo>
                  <a:lnTo>
                    <a:pt x="104" y="159"/>
                  </a:lnTo>
                  <a:lnTo>
                    <a:pt x="194" y="296"/>
                  </a:lnTo>
                  <a:lnTo>
                    <a:pt x="222" y="296"/>
                  </a:lnTo>
                  <a:lnTo>
                    <a:pt x="133" y="160"/>
                  </a:lnTo>
                  <a:lnTo>
                    <a:pt x="148" y="157"/>
                  </a:lnTo>
                  <a:lnTo>
                    <a:pt x="163" y="152"/>
                  </a:lnTo>
                  <a:lnTo>
                    <a:pt x="169" y="149"/>
                  </a:lnTo>
                  <a:lnTo>
                    <a:pt x="176" y="145"/>
                  </a:lnTo>
                  <a:lnTo>
                    <a:pt x="182" y="142"/>
                  </a:lnTo>
                  <a:lnTo>
                    <a:pt x="187" y="136"/>
                  </a:lnTo>
                  <a:lnTo>
                    <a:pt x="192" y="131"/>
                  </a:lnTo>
                  <a:lnTo>
                    <a:pt x="197" y="126"/>
                  </a:lnTo>
                  <a:lnTo>
                    <a:pt x="201" y="120"/>
                  </a:lnTo>
                  <a:lnTo>
                    <a:pt x="204" y="113"/>
                  </a:lnTo>
                  <a:lnTo>
                    <a:pt x="206" y="106"/>
                  </a:lnTo>
                  <a:lnTo>
                    <a:pt x="208" y="99"/>
                  </a:lnTo>
                  <a:lnTo>
                    <a:pt x="209" y="90"/>
                  </a:lnTo>
                  <a:lnTo>
                    <a:pt x="210" y="82"/>
                  </a:lnTo>
                  <a:close/>
                  <a:moveTo>
                    <a:pt x="90" y="137"/>
                  </a:moveTo>
                  <a:lnTo>
                    <a:pt x="25" y="137"/>
                  </a:lnTo>
                  <a:lnTo>
                    <a:pt x="25" y="22"/>
                  </a:lnTo>
                  <a:lnTo>
                    <a:pt x="109" y="22"/>
                  </a:lnTo>
                  <a:lnTo>
                    <a:pt x="122" y="22"/>
                  </a:lnTo>
                  <a:lnTo>
                    <a:pt x="135" y="24"/>
                  </a:lnTo>
                  <a:lnTo>
                    <a:pt x="148" y="29"/>
                  </a:lnTo>
                  <a:lnTo>
                    <a:pt x="160" y="35"/>
                  </a:lnTo>
                  <a:lnTo>
                    <a:pt x="165" y="38"/>
                  </a:lnTo>
                  <a:lnTo>
                    <a:pt x="169" y="42"/>
                  </a:lnTo>
                  <a:lnTo>
                    <a:pt x="173" y="47"/>
                  </a:lnTo>
                  <a:lnTo>
                    <a:pt x="178" y="53"/>
                  </a:lnTo>
                  <a:lnTo>
                    <a:pt x="181" y="59"/>
                  </a:lnTo>
                  <a:lnTo>
                    <a:pt x="183" y="65"/>
                  </a:lnTo>
                  <a:lnTo>
                    <a:pt x="184" y="73"/>
                  </a:lnTo>
                  <a:lnTo>
                    <a:pt x="184" y="81"/>
                  </a:lnTo>
                  <a:lnTo>
                    <a:pt x="184" y="90"/>
                  </a:lnTo>
                  <a:lnTo>
                    <a:pt x="182" y="99"/>
                  </a:lnTo>
                  <a:lnTo>
                    <a:pt x="180" y="105"/>
                  </a:lnTo>
                  <a:lnTo>
                    <a:pt x="176" y="111"/>
                  </a:lnTo>
                  <a:lnTo>
                    <a:pt x="171" y="118"/>
                  </a:lnTo>
                  <a:lnTo>
                    <a:pt x="166" y="122"/>
                  </a:lnTo>
                  <a:lnTo>
                    <a:pt x="161" y="126"/>
                  </a:lnTo>
                  <a:lnTo>
                    <a:pt x="154" y="129"/>
                  </a:lnTo>
                  <a:lnTo>
                    <a:pt x="147" y="131"/>
                  </a:lnTo>
                  <a:lnTo>
                    <a:pt x="140" y="133"/>
                  </a:lnTo>
                  <a:lnTo>
                    <a:pt x="131" y="134"/>
                  </a:lnTo>
                  <a:lnTo>
                    <a:pt x="124" y="136"/>
                  </a:lnTo>
                  <a:lnTo>
                    <a:pt x="107" y="137"/>
                  </a:lnTo>
                  <a:lnTo>
                    <a:pt x="90" y="137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9200" y="358920"/>
            <a:ext cx="1146240" cy="64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26240" y="5911920"/>
            <a:ext cx="8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O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077320" y="291960"/>
            <a:ext cx="717480" cy="73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206360" y="560232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54120" y="2062080"/>
            <a:ext cx="818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MAC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havioral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del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alyzer an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96960" y="215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MAC Architectur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74760" y="1068480"/>
          <a:ext cx="678492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1068480"/>
                    <a:ext cx="67849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timization Methods Used in BMAC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get the maximum gain of simulation speed up, BMAC uses several methods to optimize the generated device co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Constant Node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Nod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Nod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90080" y="1284120"/>
            <a:ext cx="281628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stant Node Propagation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19680" y="301608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94120" y="215280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9160" y="141588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155480" y="3348000"/>
            <a:ext cx="768600" cy="657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71520" y="3371760"/>
            <a:ext cx="942840" cy="5112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6520" y="1797120"/>
            <a:ext cx="762120" cy="380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86640" y="4895280"/>
            <a:ext cx="1080" cy="5079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24480" y="13032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3SOIvc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58920" y="473724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63920" y="396864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50480" y="4300200"/>
            <a:ext cx="661680" cy="389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25840" y="4281840"/>
            <a:ext cx="621000" cy="8438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78120" y="6261120"/>
            <a:ext cx="6015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6213600"/>
            <a:ext cx="2406600" cy="393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CtoK (273.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6880" y="5518080"/>
            <a:ext cx="106668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147480" y="5816160"/>
            <a:ext cx="356400" cy="423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572480" y="5047920"/>
            <a:ext cx="677520" cy="3610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5240" y="583668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35360" y="5168880"/>
            <a:ext cx="2608560" cy="39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_q (1.60219e-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0480" y="507924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9360" y="5435640"/>
            <a:ext cx="23925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b (1.3806226e-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12080" y="454032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92760" y="377820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378480" y="4174200"/>
            <a:ext cx="628200" cy="3495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32640" y="4155840"/>
            <a:ext cx="758880" cy="386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88200" y="5410080"/>
            <a:ext cx="6019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2520" y="4559400"/>
            <a:ext cx="12747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e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5440" y="2520720"/>
            <a:ext cx="20520" cy="5072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36" idx="3"/>
            <a:endCxn id="243" idx="2"/>
          </p:cNvCxnSpPr>
          <p:nvPr/>
        </p:nvCxnSpPr>
        <p:spPr>
          <a:xfrm rot="5400000">
            <a:off x="2279520" y="2925000"/>
            <a:ext cx="2404080" cy="65520"/>
          </a:xfrm>
          <a:prstGeom prst="curvedConnector5">
            <a:avLst>
              <a:gd name="adj1" fmla="val 46892"/>
              <a:gd name="adj2" fmla="val 215469"/>
              <a:gd name="adj3" fmla="val 46892"/>
            </a:avLst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3886560" y="1171440"/>
            <a:ext cx="15120" cy="279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28840" y="342432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vt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058080" y="1208880"/>
            <a:ext cx="2858760" cy="1504080"/>
            <a:chOff x="6058080" y="1208880"/>
            <a:chExt cx="2858760" cy="1504080"/>
          </a:xfrm>
        </p:grpSpPr>
        <p:sp>
          <p:nvSpPr>
            <p:cNvPr id="266" name=""/>
            <p:cNvSpPr/>
            <p:nvPr/>
          </p:nvSpPr>
          <p:spPr>
            <a:xfrm>
              <a:off x="6058080" y="14097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11800" y="1208880"/>
              <a:ext cx="16560" cy="520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43640" y="2344680"/>
              <a:ext cx="15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3SOIvcr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59480" y="1733400"/>
              <a:ext cx="1371600" cy="53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730268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727440" y="2550960"/>
            <a:ext cx="4951440" cy="4275360"/>
            <a:chOff x="3727440" y="2550960"/>
            <a:chExt cx="4951440" cy="4275360"/>
          </a:xfrm>
        </p:grpSpPr>
        <p:sp>
          <p:nvSpPr>
            <p:cNvPr id="271" name=""/>
            <p:cNvSpPr/>
            <p:nvPr/>
          </p:nvSpPr>
          <p:spPr>
            <a:xfrm>
              <a:off x="6573960" y="2871720"/>
              <a:ext cx="2104920" cy="3211560"/>
            </a:xfrm>
            <a:custGeom>
              <a:avLst/>
              <a:gdLst/>
              <a:ahLst/>
              <a:rect l="l" t="t" r="r" b="b"/>
              <a:pathLst>
                <a:path w="1326" h="2023">
                  <a:moveTo>
                    <a:pt x="739" y="127"/>
                  </a:moveTo>
                  <a:cubicBezTo>
                    <a:pt x="544" y="0"/>
                    <a:pt x="214" y="370"/>
                    <a:pt x="107" y="535"/>
                  </a:cubicBezTo>
                  <a:cubicBezTo>
                    <a:pt x="0" y="700"/>
                    <a:pt x="39" y="896"/>
                    <a:pt x="99" y="1119"/>
                  </a:cubicBezTo>
                  <a:cubicBezTo>
                    <a:pt x="159" y="1342"/>
                    <a:pt x="307" y="1736"/>
                    <a:pt x="467" y="1871"/>
                  </a:cubicBezTo>
                  <a:cubicBezTo>
                    <a:pt x="627" y="2006"/>
                    <a:pt x="924" y="2023"/>
                    <a:pt x="1059" y="1927"/>
                  </a:cubicBezTo>
                  <a:cubicBezTo>
                    <a:pt x="1194" y="1831"/>
                    <a:pt x="1326" y="1596"/>
                    <a:pt x="1275" y="1295"/>
                  </a:cubicBezTo>
                  <a:cubicBezTo>
                    <a:pt x="1224" y="994"/>
                    <a:pt x="934" y="254"/>
                    <a:pt x="739" y="127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27440" y="3168720"/>
              <a:ext cx="3301920" cy="3657600"/>
            </a:xfrm>
            <a:custGeom>
              <a:avLst/>
              <a:gdLst/>
              <a:ahLst/>
              <a:rect l="l" t="t" r="r" b="b"/>
              <a:pathLst>
                <a:path w="2080" h="2304">
                  <a:moveTo>
                    <a:pt x="852" y="4"/>
                  </a:moveTo>
                  <a:cubicBezTo>
                    <a:pt x="548" y="8"/>
                    <a:pt x="216" y="1128"/>
                    <a:pt x="108" y="1476"/>
                  </a:cubicBezTo>
                  <a:cubicBezTo>
                    <a:pt x="0" y="1824"/>
                    <a:pt x="129" y="1964"/>
                    <a:pt x="204" y="2092"/>
                  </a:cubicBezTo>
                  <a:cubicBezTo>
                    <a:pt x="279" y="2220"/>
                    <a:pt x="296" y="2231"/>
                    <a:pt x="556" y="2244"/>
                  </a:cubicBezTo>
                  <a:cubicBezTo>
                    <a:pt x="816" y="2257"/>
                    <a:pt x="1535" y="2304"/>
                    <a:pt x="1764" y="2172"/>
                  </a:cubicBezTo>
                  <a:cubicBezTo>
                    <a:pt x="1993" y="2040"/>
                    <a:pt x="2080" y="1812"/>
                    <a:pt x="1932" y="1452"/>
                  </a:cubicBezTo>
                  <a:cubicBezTo>
                    <a:pt x="1784" y="1092"/>
                    <a:pt x="1156" y="0"/>
                    <a:pt x="852" y="4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3960" y="2550960"/>
              <a:ext cx="39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dundant nodes can be removed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04520" y="1398600"/>
            <a:ext cx="25369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92240" y="50547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38080" y="52959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3440" y="5295960"/>
            <a:ext cx="432000" cy="431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4280" y="56386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30120" y="5880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5480" y="588024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7840" y="6261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62355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78040" y="5689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523880" y="5931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19240" y="593100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84200" y="6286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97080" y="6273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371600" y="47624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66960" y="47624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50673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46440" y="5118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292640" y="53593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88000" y="5359320"/>
            <a:ext cx="431640" cy="4320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57024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80040" y="59436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44920" y="62992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32240" y="57531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978440" y="59943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73800" y="599436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38760" y="6350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51640" y="6337440"/>
            <a:ext cx="26640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826160" y="48261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21160" y="4826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87920" y="5130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9480" y="5372280"/>
            <a:ext cx="469800" cy="469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61120" y="5791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52480" y="22334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80440" y="416556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226280" y="44067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21640" y="440676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86600" y="4762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99480" y="47498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632720" y="5003640"/>
            <a:ext cx="279360" cy="368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80440" y="538488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06840" y="34290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206680" y="4064040"/>
            <a:ext cx="12600" cy="5461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238200" y="2311560"/>
            <a:ext cx="12600" cy="5461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632360" y="3632040"/>
            <a:ext cx="12600" cy="5461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76280" y="36687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89360" y="32241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Byp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41720" y="268596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932120" y="3016440"/>
            <a:ext cx="414000" cy="3520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57640" y="2977560"/>
            <a:ext cx="498240" cy="3459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57280" y="337176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38560" y="333360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87480" y="2190960"/>
            <a:ext cx="20880" cy="507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13200" y="2014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1_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46680" y="262260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437080" y="2952360"/>
            <a:ext cx="413640" cy="351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61880" y="2914560"/>
            <a:ext cx="498600" cy="346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62600" y="330840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43880" y="327024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92800" y="2126880"/>
            <a:ext cx="20880" cy="5072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8160" y="19512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1_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89080" y="5048280"/>
            <a:ext cx="106704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779480" y="5378040"/>
            <a:ext cx="413640" cy="351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04280" y="5340240"/>
            <a:ext cx="498600" cy="346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05000" y="573408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86280" y="5695920"/>
            <a:ext cx="1066680" cy="38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35200" y="4552560"/>
            <a:ext cx="20880" cy="5072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60560" y="43768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1_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860560" y="2135160"/>
            <a:ext cx="4794840" cy="3602520"/>
            <a:chOff x="2860560" y="2135160"/>
            <a:chExt cx="4794840" cy="3602520"/>
          </a:xfrm>
        </p:grpSpPr>
        <p:cxnSp>
          <p:nvCxnSpPr>
            <p:cNvPr id="365" name=""/>
            <p:cNvCxnSpPr>
              <a:stCxn id="349" idx="1"/>
              <a:endCxn id="347" idx="7"/>
            </p:cNvCxnSpPr>
            <p:nvPr/>
          </p:nvCxnSpPr>
          <p:spPr>
            <a:xfrm>
              <a:off x="3012120" y="2198520"/>
              <a:ext cx="1137240" cy="1177200"/>
            </a:xfrm>
            <a:prstGeom prst="curvedConnector5">
              <a:avLst>
                <a:gd name="adj1" fmla="val 8929"/>
                <a:gd name="adj2" fmla="val 20893"/>
                <a:gd name="adj3" fmla="val 8929"/>
              </a:avLst>
            </a:prstGeom>
            <a:ln w="28440">
              <a:solidFill>
                <a:srgbClr val="ff99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56" idx="1"/>
              <a:endCxn id="354" idx="7"/>
            </p:cNvCxnSpPr>
            <p:nvPr/>
          </p:nvCxnSpPr>
          <p:spPr>
            <a:xfrm>
              <a:off x="6518160" y="2135160"/>
              <a:ext cx="1137600" cy="1177200"/>
            </a:xfrm>
            <a:prstGeom prst="curvedConnector5">
              <a:avLst>
                <a:gd name="adj1" fmla="val 8926"/>
                <a:gd name="adj2" fmla="val 20893"/>
                <a:gd name="adj3" fmla="val 8926"/>
              </a:avLst>
            </a:prstGeom>
            <a:ln w="28440">
              <a:solidFill>
                <a:srgbClr val="ff99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3" idx="1"/>
              <a:endCxn id="361" idx="7"/>
            </p:cNvCxnSpPr>
            <p:nvPr/>
          </p:nvCxnSpPr>
          <p:spPr>
            <a:xfrm>
              <a:off x="2860560" y="4560840"/>
              <a:ext cx="1137600" cy="1177200"/>
            </a:xfrm>
            <a:prstGeom prst="curvedConnector5">
              <a:avLst>
                <a:gd name="adj1" fmla="val 8926"/>
                <a:gd name="adj2" fmla="val 20893"/>
                <a:gd name="adj3" fmla="val 8926"/>
              </a:avLst>
            </a:prstGeom>
            <a:ln w="28440">
              <a:solidFill>
                <a:srgbClr val="ff99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368" name=""/>
          <p:cNvSpPr/>
          <p:nvPr/>
        </p:nvSpPr>
        <p:spPr>
          <a:xfrm>
            <a:off x="5219640" y="5283360"/>
            <a:ext cx="203400" cy="101520"/>
          </a:xfrm>
          <a:prstGeom prst="ellipse">
            <a:avLst/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18040" y="5283360"/>
            <a:ext cx="203400" cy="101520"/>
          </a:xfrm>
          <a:prstGeom prst="ellipse">
            <a:avLst/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80160" y="5257800"/>
            <a:ext cx="203400" cy="101520"/>
          </a:xfrm>
          <a:prstGeom prst="ellipse">
            <a:avLst/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778120" cy="13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vice Byp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336760"/>
            <a:ext cx="2908080" cy="3682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evaluate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78440" y="1752480"/>
            <a:ext cx="0" cy="5842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87120" y="140796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previous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87800" y="4178160"/>
            <a:ext cx="3504960" cy="1231920"/>
          </a:xfrm>
          <a:prstGeom prst="diamond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7000" y="460836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d too m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3327480"/>
            <a:ext cx="2908440" cy="3682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nod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65840" y="2743200"/>
            <a:ext cx="0" cy="5842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3733920"/>
            <a:ext cx="0" cy="4316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78" idx="2"/>
          </p:cNvCxnSpPr>
          <p:nvPr/>
        </p:nvCxnSpPr>
        <p:spPr>
          <a:xfrm rot="5400000">
            <a:off x="2774520" y="3727440"/>
            <a:ext cx="470520" cy="3861360"/>
          </a:xfrm>
          <a:prstGeom prst="bentConnector2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379800" y="542124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-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64480" y="5319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4788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15000" y="4265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68360" y="45957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470480" y="3027240"/>
            <a:ext cx="4841640" cy="3970440"/>
          </a:xfrm>
          <a:custGeom>
            <a:avLst/>
            <a:gdLst/>
            <a:ahLst/>
            <a:rect l="l" t="t" r="r" b="b"/>
            <a:pathLst>
              <a:path w="3050" h="2501">
                <a:moveTo>
                  <a:pt x="1023" y="300"/>
                </a:moveTo>
                <a:cubicBezTo>
                  <a:pt x="1298" y="0"/>
                  <a:pt x="1651" y="107"/>
                  <a:pt x="1943" y="404"/>
                </a:cubicBezTo>
                <a:cubicBezTo>
                  <a:pt x="2235" y="701"/>
                  <a:pt x="3050" y="1784"/>
                  <a:pt x="2775" y="2084"/>
                </a:cubicBezTo>
                <a:cubicBezTo>
                  <a:pt x="2500" y="2384"/>
                  <a:pt x="590" y="2501"/>
                  <a:pt x="295" y="2204"/>
                </a:cubicBezTo>
                <a:cubicBezTo>
                  <a:pt x="0" y="1907"/>
                  <a:pt x="748" y="600"/>
                  <a:pt x="1023" y="300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618ff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-264960" y="3016080"/>
            <a:ext cx="4841640" cy="3970440"/>
          </a:xfrm>
          <a:custGeom>
            <a:avLst/>
            <a:gdLst/>
            <a:ahLst/>
            <a:rect l="l" t="t" r="r" b="b"/>
            <a:pathLst>
              <a:path w="3050" h="2501">
                <a:moveTo>
                  <a:pt x="1023" y="300"/>
                </a:moveTo>
                <a:cubicBezTo>
                  <a:pt x="1298" y="0"/>
                  <a:pt x="1651" y="107"/>
                  <a:pt x="1943" y="404"/>
                </a:cubicBezTo>
                <a:cubicBezTo>
                  <a:pt x="2235" y="701"/>
                  <a:pt x="3050" y="1784"/>
                  <a:pt x="2775" y="2084"/>
                </a:cubicBezTo>
                <a:cubicBezTo>
                  <a:pt x="2500" y="2384"/>
                  <a:pt x="590" y="2501"/>
                  <a:pt x="295" y="2204"/>
                </a:cubicBezTo>
                <a:cubicBezTo>
                  <a:pt x="0" y="1907"/>
                  <a:pt x="748" y="600"/>
                  <a:pt x="1023" y="300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618ff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34612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46040" y="4584600"/>
            <a:ext cx="106704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94000" y="5365800"/>
            <a:ext cx="106668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334960" y="5663160"/>
            <a:ext cx="356400" cy="423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59240" y="4896360"/>
            <a:ext cx="677880" cy="360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22360" y="568440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37600" y="492696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40320" y="3875040"/>
            <a:ext cx="15480" cy="6984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68480" y="6032520"/>
            <a:ext cx="48276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78240" y="5994360"/>
            <a:ext cx="48240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1640" y="5257800"/>
            <a:ext cx="736920" cy="77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86280" y="1600200"/>
            <a:ext cx="2145960" cy="157464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10360" y="4584600"/>
            <a:ext cx="10666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57960" y="5365800"/>
            <a:ext cx="106704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198920" y="5663160"/>
            <a:ext cx="356400" cy="423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623920" y="4896360"/>
            <a:ext cx="677520" cy="360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86680" y="568440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01920" y="492696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4280" y="3875040"/>
            <a:ext cx="15480" cy="6984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32440" y="6032520"/>
            <a:ext cx="48276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42200" y="5994360"/>
            <a:ext cx="48276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95960" y="5257800"/>
            <a:ext cx="736560" cy="77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789200" y="3184560"/>
            <a:ext cx="1315080" cy="7002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02360" y="3160800"/>
            <a:ext cx="1503000" cy="7128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880" y="614196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89040" y="3630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-264960" y="3016080"/>
            <a:ext cx="4841640" cy="3970440"/>
          </a:xfrm>
          <a:custGeom>
            <a:avLst/>
            <a:gdLst/>
            <a:ahLst/>
            <a:rect l="l" t="t" r="r" b="b"/>
            <a:pathLst>
              <a:path w="3050" h="2501">
                <a:moveTo>
                  <a:pt x="1023" y="300"/>
                </a:moveTo>
                <a:cubicBezTo>
                  <a:pt x="1298" y="0"/>
                  <a:pt x="1651" y="107"/>
                  <a:pt x="1943" y="404"/>
                </a:cubicBezTo>
                <a:cubicBezTo>
                  <a:pt x="2235" y="701"/>
                  <a:pt x="3050" y="1784"/>
                  <a:pt x="2775" y="2084"/>
                </a:cubicBezTo>
                <a:cubicBezTo>
                  <a:pt x="2500" y="2384"/>
                  <a:pt x="590" y="2501"/>
                  <a:pt x="295" y="2204"/>
                </a:cubicBezTo>
                <a:cubicBezTo>
                  <a:pt x="0" y="1907"/>
                  <a:pt x="748" y="600"/>
                  <a:pt x="1023" y="300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618ff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34612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Sh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46040" y="4584600"/>
            <a:ext cx="106704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94000" y="5365800"/>
            <a:ext cx="106668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334960" y="5663160"/>
            <a:ext cx="356400" cy="423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59240" y="4896360"/>
            <a:ext cx="677880" cy="360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22360" y="5684400"/>
            <a:ext cx="579960" cy="35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37600" y="4926960"/>
            <a:ext cx="717480" cy="4903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40320" y="3875040"/>
            <a:ext cx="15480" cy="6984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68480" y="6032520"/>
            <a:ext cx="48276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78240" y="5994360"/>
            <a:ext cx="48240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5257800"/>
            <a:ext cx="736920" cy="77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86280" y="1600200"/>
            <a:ext cx="2145960" cy="157464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789200" y="3184560"/>
            <a:ext cx="1315080" cy="7002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02360" y="3160800"/>
            <a:ext cx="1503000" cy="7128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4880" y="614196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78880" y="45576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 Mat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37" idx="0"/>
            <a:endCxn id="420" idx="0"/>
          </p:cNvCxnSpPr>
          <p:nvPr/>
        </p:nvCxnSpPr>
        <p:spPr>
          <a:xfrm flipV="1" rot="16200000">
            <a:off x="4640760" y="1822680"/>
            <a:ext cx="243360" cy="3886920"/>
          </a:xfrm>
          <a:prstGeom prst="curvedConnector5">
            <a:avLst>
              <a:gd name="adj1" fmla="val -91407"/>
              <a:gd name="adj2" fmla="val 23360"/>
              <a:gd name="adj3" fmla="val -91407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92240" y="50547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838080" y="52959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33440" y="5295960"/>
            <a:ext cx="432000" cy="431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4280" y="56386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30120" y="5880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25480" y="588024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7840" y="6261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62355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78040" y="56894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523880" y="5931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19240" y="593100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84200" y="6286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97080" y="6273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371600" y="47624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66960" y="47624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50673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46440" y="51181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292640" y="53593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88000" y="5359320"/>
            <a:ext cx="431640" cy="4320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38480" y="57024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80040" y="59436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44920" y="629928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32240" y="575316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978440" y="59943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73800" y="599436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38760" y="6350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51640" y="6337440"/>
            <a:ext cx="26640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826160" y="48261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21160" y="4826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87920" y="51307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29480" y="5372280"/>
            <a:ext cx="469800" cy="469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61120" y="5791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47" idx="0"/>
            <a:endCxn id="479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92240" y="5054760"/>
            <a:ext cx="266760" cy="26640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838080" y="52959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3440" y="5295960"/>
            <a:ext cx="432000" cy="431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4280" y="563868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330120" y="5880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5480" y="588024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77840" y="62611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623556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78040" y="568944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523880" y="5931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19240" y="593100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84200" y="6286680"/>
            <a:ext cx="266760" cy="26640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97080" y="62737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371600" y="47624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66960" y="47624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506736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46440" y="51181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292640" y="53593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88000" y="5359320"/>
            <a:ext cx="431640" cy="4320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38480" y="570240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80040" y="59436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44920" y="629928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32240" y="575316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4978440" y="59943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73800" y="599436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38760" y="635004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51640" y="6337440"/>
            <a:ext cx="266400" cy="26640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826160" y="482616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21160" y="4826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87920" y="51307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29480" y="5372280"/>
            <a:ext cx="469800" cy="469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261120" y="5791320"/>
            <a:ext cx="266760" cy="266760"/>
          </a:xfrm>
          <a:prstGeom prst="ellipse">
            <a:avLst/>
          </a:prstGeom>
          <a:solidFill>
            <a:srgbClr val="00ae00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stCxn id="503" idx="0"/>
            <a:endCxn id="535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6469920" y="1192320"/>
            <a:ext cx="18936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e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37080" y="1890720"/>
            <a:ext cx="443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Criteri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af nodes of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de only contain Constant, model parameter and instance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af nodes of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de may contain device voltage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at’s Model Compiler?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 Model Compiler is a CAD tool that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  <a:ea typeface="宋体"/>
              </a:rPr>
              <a:t>supports fast prototyping of device mod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3480" y="2732040"/>
            <a:ext cx="2335320" cy="1581120"/>
          </a:xfrm>
          <a:prstGeom prst="ellipse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34480" y="31798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200" y="2817720"/>
            <a:ext cx="1865160" cy="1606680"/>
          </a:xfrm>
          <a:prstGeom prst="flowChartPunchedCard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2840" y="32418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70520" y="2608200"/>
            <a:ext cx="1717920" cy="1668600"/>
          </a:xfrm>
          <a:prstGeom prst="flowChartMultidocumen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07840" y="31050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040" y="4754520"/>
            <a:ext cx="8104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 compact device models described in high level behavioral language VHDL-AM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 device code in C/C++ that can be directly compiled in Cosmos/sp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57520" y="3386160"/>
            <a:ext cx="530280" cy="284040"/>
          </a:xfrm>
          <a:prstGeom prst="rightArrow">
            <a:avLst>
              <a:gd name="adj1" fmla="val 50000"/>
              <a:gd name="adj2" fmla="val 46673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86360" y="3376440"/>
            <a:ext cx="530280" cy="284400"/>
          </a:xfrm>
          <a:prstGeom prst="rightArrow">
            <a:avLst>
              <a:gd name="adj1" fmla="val 50000"/>
              <a:gd name="adj2" fmla="val 466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61" idx="0"/>
            <a:endCxn id="566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6469920" y="1192320"/>
            <a:ext cx="18936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e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302600" y="1689120"/>
            <a:ext cx="304560" cy="33012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60840" y="2081160"/>
            <a:ext cx="221364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off Green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4098960" cy="5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22604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327480" y="250200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22840" y="2502000"/>
            <a:ext cx="30456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25760" y="4521240"/>
            <a:ext cx="26640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41680" y="344160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82880" y="3683160"/>
            <a:ext cx="304920" cy="3553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879560" y="3657600"/>
            <a:ext cx="774720" cy="901800"/>
          </a:xfrm>
          <a:prstGeom prst="line">
            <a:avLst/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79960" y="4584600"/>
            <a:ext cx="266760" cy="266760"/>
          </a:xfrm>
          <a:prstGeom prst="ellipse">
            <a:avLst/>
          </a:prstGeom>
          <a:solidFill>
            <a:srgbClr val="919191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49640" y="406404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895480" y="430524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90840" y="430524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55800" y="46609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568680" y="4648320"/>
            <a:ext cx="266760" cy="26676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301920" y="490212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49640" y="528336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11480" y="2857680"/>
            <a:ext cx="266760" cy="266400"/>
          </a:xfrm>
          <a:prstGeom prst="ellipse">
            <a:avLst/>
          </a:prstGeom>
          <a:solidFill>
            <a:srgbClr val="fc0128"/>
          </a:solidFill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857680" y="3098880"/>
            <a:ext cx="279360" cy="3682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3098880"/>
            <a:ext cx="304920" cy="3556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588" idx="0"/>
            <a:endCxn id="593" idx="0"/>
          </p:cNvCxnSpPr>
          <p:nvPr/>
        </p:nvCxnSpPr>
        <p:spPr>
          <a:xfrm flipH="1" rot="16200000">
            <a:off x="3817800" y="3178440"/>
            <a:ext cx="1703880" cy="108684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25560">
            <a:solidFill>
              <a:srgbClr val="ff6600"/>
            </a:solidFill>
            <a:prstDash val="dash"/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6469920" y="1192320"/>
            <a:ext cx="18936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e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82120" y="21700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to be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02600" y="1689120"/>
            <a:ext cx="304560" cy="33012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360840" y="2081160"/>
            <a:ext cx="221364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off Green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5200" y="2565360"/>
            <a:ext cx="304920" cy="330120"/>
          </a:xfrm>
          <a:prstGeom prst="downArrow">
            <a:avLst>
              <a:gd name="adj1" fmla="val 50000"/>
              <a:gd name="adj2" fmla="val 2706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19240" y="3021120"/>
            <a:ext cx="2023200" cy="3682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03840" y="3797280"/>
            <a:ext cx="1816200" cy="838080"/>
          </a:xfrm>
          <a:prstGeom prst="flowChartDecision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85160" y="40496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480440" y="4635360"/>
            <a:ext cx="0" cy="44460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21440" y="5116680"/>
            <a:ext cx="1349640" cy="6426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05640" y="3416400"/>
            <a:ext cx="0" cy="4442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18760" y="45324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89400" y="6031080"/>
            <a:ext cx="1387800" cy="6426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1" idx="3"/>
            <a:endCxn id="617" idx="3"/>
          </p:cNvCxnSpPr>
          <p:nvPr/>
        </p:nvCxnSpPr>
        <p:spPr>
          <a:xfrm flipH="1">
            <a:off x="8403480" y="4215960"/>
            <a:ext cx="29160" cy="2148840"/>
          </a:xfrm>
          <a:prstGeom prst="bentConnector3">
            <a:avLst>
              <a:gd name="adj1" fmla="val -755000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1420920" y="1066680"/>
            <a:ext cx="6300720" cy="472464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e-time operation VS Iterative oper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0720" y="5662440"/>
            <a:ext cx="41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time distribution for circuit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een Node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2280" y="47862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device 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227280" y="360504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 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55600" y="217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 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11960" y="1243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927680" y="1333440"/>
            <a:ext cx="1371600" cy="419040"/>
          </a:xfrm>
          <a:custGeom>
            <a:avLst/>
            <a:gdLst/>
            <a:ahLst/>
            <a:rect l="l" t="t" r="r" b="b"/>
            <a:pathLst>
              <a:path w="592" h="160">
                <a:moveTo>
                  <a:pt x="592" y="16"/>
                </a:moveTo>
                <a:cubicBezTo>
                  <a:pt x="421" y="8"/>
                  <a:pt x="251" y="0"/>
                  <a:pt x="152" y="24"/>
                </a:cubicBezTo>
                <a:cubicBezTo>
                  <a:pt x="53" y="48"/>
                  <a:pt x="23" y="137"/>
                  <a:pt x="0" y="160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1480" y="26020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Grap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1640" y="18651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Device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8880" y="120492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circuit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49640" y="1276200"/>
            <a:ext cx="1500120" cy="578160"/>
          </a:xfrm>
          <a:custGeom>
            <a:avLst/>
            <a:gdLst/>
            <a:ahLst/>
            <a:rect l="l" t="t" r="r" b="b"/>
            <a:pathLst>
              <a:path w="945" h="364">
                <a:moveTo>
                  <a:pt x="0" y="52"/>
                </a:moveTo>
                <a:cubicBezTo>
                  <a:pt x="319" y="26"/>
                  <a:pt x="639" y="0"/>
                  <a:pt x="792" y="52"/>
                </a:cubicBezTo>
                <a:cubicBezTo>
                  <a:pt x="945" y="104"/>
                  <a:pt x="900" y="313"/>
                  <a:pt x="920" y="364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1409760"/>
            <a:ext cx="1384200" cy="673200"/>
          </a:xfrm>
          <a:custGeom>
            <a:avLst/>
            <a:gdLst/>
            <a:ahLst/>
            <a:rect l="l" t="t" r="r" b="b"/>
            <a:pathLst>
              <a:path w="792" h="288">
                <a:moveTo>
                  <a:pt x="0" y="288"/>
                </a:moveTo>
                <a:cubicBezTo>
                  <a:pt x="170" y="160"/>
                  <a:pt x="340" y="32"/>
                  <a:pt x="472" y="16"/>
                </a:cubicBezTo>
                <a:cubicBezTo>
                  <a:pt x="604" y="0"/>
                  <a:pt x="739" y="159"/>
                  <a:pt x="792" y="192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29080" y="1608120"/>
            <a:ext cx="1384200" cy="1376280"/>
          </a:xfrm>
          <a:custGeom>
            <a:avLst/>
            <a:gdLst/>
            <a:ahLst/>
            <a:rect l="l" t="t" r="r" b="b"/>
            <a:pathLst>
              <a:path w="872" h="867">
                <a:moveTo>
                  <a:pt x="0" y="867"/>
                </a:moveTo>
                <a:cubicBezTo>
                  <a:pt x="235" y="548"/>
                  <a:pt x="471" y="230"/>
                  <a:pt x="616" y="115"/>
                </a:cubicBezTo>
                <a:cubicBezTo>
                  <a:pt x="761" y="0"/>
                  <a:pt x="816" y="89"/>
                  <a:pt x="872" y="179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e-time operation VS Iterative operation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1509840" y="1181160"/>
            <a:ext cx="6300720" cy="47242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12280" y="47862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device 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00200" y="402444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 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43000" y="2475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 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23040" y="1573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1612800"/>
            <a:ext cx="1181160" cy="254160"/>
          </a:xfrm>
          <a:custGeom>
            <a:avLst/>
            <a:gdLst/>
            <a:ahLst/>
            <a:rect l="l" t="t" r="r" b="b"/>
            <a:pathLst>
              <a:path w="592" h="160">
                <a:moveTo>
                  <a:pt x="592" y="16"/>
                </a:moveTo>
                <a:cubicBezTo>
                  <a:pt x="421" y="8"/>
                  <a:pt x="251" y="0"/>
                  <a:pt x="152" y="24"/>
                </a:cubicBezTo>
                <a:cubicBezTo>
                  <a:pt x="53" y="48"/>
                  <a:pt x="23" y="137"/>
                  <a:pt x="0" y="160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1480" y="26020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Grap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1640" y="18651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Device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8880" y="120492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time circuit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49640" y="1276200"/>
            <a:ext cx="1500120" cy="578160"/>
          </a:xfrm>
          <a:custGeom>
            <a:avLst/>
            <a:gdLst/>
            <a:ahLst/>
            <a:rect l="l" t="t" r="r" b="b"/>
            <a:pathLst>
              <a:path w="945" h="364">
                <a:moveTo>
                  <a:pt x="0" y="52"/>
                </a:moveTo>
                <a:cubicBezTo>
                  <a:pt x="319" y="26"/>
                  <a:pt x="639" y="0"/>
                  <a:pt x="792" y="52"/>
                </a:cubicBezTo>
                <a:cubicBezTo>
                  <a:pt x="945" y="104"/>
                  <a:pt x="900" y="313"/>
                  <a:pt x="920" y="364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71800" y="1625760"/>
            <a:ext cx="1257480" cy="457200"/>
          </a:xfrm>
          <a:custGeom>
            <a:avLst/>
            <a:gdLst/>
            <a:ahLst/>
            <a:rect l="l" t="t" r="r" b="b"/>
            <a:pathLst>
              <a:path w="792" h="288">
                <a:moveTo>
                  <a:pt x="0" y="288"/>
                </a:moveTo>
                <a:cubicBezTo>
                  <a:pt x="170" y="160"/>
                  <a:pt x="340" y="32"/>
                  <a:pt x="472" y="16"/>
                </a:cubicBezTo>
                <a:cubicBezTo>
                  <a:pt x="604" y="0"/>
                  <a:pt x="739" y="159"/>
                  <a:pt x="792" y="192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41680" y="1968480"/>
            <a:ext cx="1092240" cy="99072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0" y="624"/>
                </a:moveTo>
                <a:cubicBezTo>
                  <a:pt x="190" y="392"/>
                  <a:pt x="381" y="160"/>
                  <a:pt x="496" y="80"/>
                </a:cubicBezTo>
                <a:cubicBezTo>
                  <a:pt x="611" y="0"/>
                  <a:pt x="649" y="116"/>
                  <a:pt x="688" y="144"/>
                </a:cubicBezTo>
              </a:path>
            </a:pathLst>
          </a:custGeom>
          <a:noFill/>
          <a:ln w="507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4240" y="5764320"/>
            <a:ext cx="41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time distribution for circuit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een Node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36880" y="5738760"/>
            <a:ext cx="325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PU time was re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10.1s to 7.44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6.34% sav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71400" y="355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T-DRIVEN CODE OPTIMIZATIO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ared to directly generated codes without any global 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stant Node Propagation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5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Reduction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6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e Sharing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5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pass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40%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reen Node Optimization: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3-4 tim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peed up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13604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Models Implemented by BMAC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57120" y="2031840"/>
            <a:ext cx="8438760" cy="4453200"/>
            <a:chOff x="357120" y="2031840"/>
            <a:chExt cx="8438760" cy="4453200"/>
          </a:xfrm>
        </p:grpSpPr>
        <p:grpSp>
          <p:nvGrpSpPr>
            <p:cNvPr id="659" name=""/>
            <p:cNvGrpSpPr/>
            <p:nvPr/>
          </p:nvGrpSpPr>
          <p:grpSpPr>
            <a:xfrm>
              <a:off x="363600" y="2035440"/>
              <a:ext cx="8424360" cy="4444920"/>
              <a:chOff x="363600" y="2035440"/>
              <a:chExt cx="8424360" cy="444492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363600" y="2035440"/>
                <a:ext cx="1933200" cy="974160"/>
                <a:chOff x="363600" y="2035440"/>
                <a:chExt cx="1933200" cy="97416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61520" y="2035440"/>
                  <a:ext cx="17370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Device Mod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63600" y="2035440"/>
                  <a:ext cx="193320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2297160" y="2035440"/>
                <a:ext cx="1507320" cy="974160"/>
                <a:chOff x="2297160" y="2035440"/>
                <a:chExt cx="1507320" cy="97416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2394720" y="2035440"/>
                  <a:ext cx="131148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Nod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297160" y="2035440"/>
                  <a:ext cx="150732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3804840" y="2035440"/>
                <a:ext cx="2163240" cy="974160"/>
                <a:chOff x="3804840" y="2035440"/>
                <a:chExt cx="2163240" cy="9741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902760" y="2035440"/>
                  <a:ext cx="196740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Parameter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804840" y="2035440"/>
                  <a:ext cx="216324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968440" y="2035440"/>
                <a:ext cx="2819520" cy="974160"/>
                <a:chOff x="5968440" y="2035440"/>
                <a:chExt cx="2819520" cy="9741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6066360" y="2035440"/>
                  <a:ext cx="2623320" cy="9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omplexit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(#line of VHDL-AMS code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968440" y="2035440"/>
                  <a:ext cx="2819520" cy="97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363600" y="3009600"/>
                <a:ext cx="1933200" cy="774360"/>
                <a:chOff x="363600" y="3009600"/>
                <a:chExt cx="1933200" cy="7743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61520" y="3009600"/>
                  <a:ext cx="17370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63600" y="3009600"/>
                  <a:ext cx="193320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2297160" y="3009600"/>
                <a:ext cx="1507320" cy="774360"/>
                <a:chOff x="2297160" y="3009600"/>
                <a:chExt cx="1507320" cy="7743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2394720" y="3009600"/>
                  <a:ext cx="131148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297160" y="3009600"/>
                  <a:ext cx="15073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804840" y="3009600"/>
                <a:ext cx="2163240" cy="774360"/>
                <a:chOff x="3804840" y="3009600"/>
                <a:chExt cx="2163240" cy="7743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902760" y="3009600"/>
                  <a:ext cx="1967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804840" y="3009600"/>
                  <a:ext cx="216324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5968440" y="3009600"/>
                <a:ext cx="2819520" cy="774360"/>
                <a:chOff x="5968440" y="3009600"/>
                <a:chExt cx="2819520" cy="77436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6066360" y="3009600"/>
                  <a:ext cx="262332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968440" y="3009600"/>
                  <a:ext cx="2819520" cy="77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363600" y="3783960"/>
                <a:ext cx="1933200" cy="774000"/>
                <a:chOff x="363600" y="3783960"/>
                <a:chExt cx="1933200" cy="7740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61520" y="378396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S Level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63600" y="378396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2297160" y="3783960"/>
                <a:ext cx="1507320" cy="774000"/>
                <a:chOff x="2297160" y="3783960"/>
                <a:chExt cx="1507320" cy="7740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2394720" y="378396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297160" y="378396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3804840" y="3783960"/>
                <a:ext cx="2163240" cy="774000"/>
                <a:chOff x="3804840" y="3783960"/>
                <a:chExt cx="2163240" cy="7740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3902760" y="378396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3804840" y="378396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5968440" y="3783960"/>
                <a:ext cx="2819520" cy="774000"/>
                <a:chOff x="5968440" y="3783960"/>
                <a:chExt cx="2819520" cy="77400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066360" y="378396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968440" y="378396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363600" y="4557960"/>
                <a:ext cx="1933200" cy="573840"/>
                <a:chOff x="363600" y="4557960"/>
                <a:chExt cx="1933200" cy="5738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61520" y="455796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63600" y="455796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2297160" y="4557960"/>
                <a:ext cx="1507320" cy="573840"/>
                <a:chOff x="2297160" y="4557960"/>
                <a:chExt cx="1507320" cy="5738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2394720" y="455796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297160" y="455796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804840" y="4557960"/>
                <a:ext cx="2163240" cy="573840"/>
                <a:chOff x="3804840" y="4557960"/>
                <a:chExt cx="2163240" cy="5738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902760" y="455796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804840" y="455796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968440" y="4557960"/>
                <a:ext cx="2819520" cy="573840"/>
                <a:chOff x="5968440" y="4557960"/>
                <a:chExt cx="2819520" cy="5738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6066360" y="455796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968440" y="455796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363600" y="5132160"/>
                <a:ext cx="1933200" cy="774000"/>
                <a:chOff x="363600" y="5132160"/>
                <a:chExt cx="1933200" cy="7740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20" y="5132160"/>
                  <a:ext cx="17370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SIMSO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63600" y="5132160"/>
                  <a:ext cx="193320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2297160" y="5132160"/>
                <a:ext cx="1507320" cy="774000"/>
                <a:chOff x="2297160" y="5132160"/>
                <a:chExt cx="1507320" cy="7740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2394720" y="5132160"/>
                  <a:ext cx="131148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297160" y="5132160"/>
                  <a:ext cx="15073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3804840" y="5132160"/>
                <a:ext cx="2163240" cy="774000"/>
                <a:chOff x="3804840" y="5132160"/>
                <a:chExt cx="2163240" cy="77400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902760" y="5132160"/>
                  <a:ext cx="1967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804840" y="5132160"/>
                  <a:ext cx="216324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5968440" y="5132160"/>
                <a:ext cx="2819520" cy="774000"/>
                <a:chOff x="5968440" y="5132160"/>
                <a:chExt cx="2819520" cy="77400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066360" y="5132160"/>
                  <a:ext cx="262332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968440" y="5132160"/>
                  <a:ext cx="2819520" cy="77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363600" y="5906520"/>
                <a:ext cx="1933200" cy="573840"/>
                <a:chOff x="363600" y="5906520"/>
                <a:chExt cx="1933200" cy="5738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461520" y="5906520"/>
                  <a:ext cx="17370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63600" y="5906520"/>
                  <a:ext cx="193320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297160" y="5906520"/>
                <a:ext cx="1507320" cy="573840"/>
                <a:chOff x="2297160" y="5906520"/>
                <a:chExt cx="1507320" cy="5738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2394720" y="5906520"/>
                  <a:ext cx="131148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297160" y="5906520"/>
                  <a:ext cx="15073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3804840" y="5906520"/>
                <a:ext cx="2163240" cy="573840"/>
                <a:chOff x="3804840" y="5906520"/>
                <a:chExt cx="2163240" cy="5738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902760" y="5906520"/>
                  <a:ext cx="196740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4840" y="5906520"/>
                  <a:ext cx="216324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5968440" y="5906520"/>
                <a:ext cx="2819520" cy="573840"/>
                <a:chOff x="5968440" y="5906520"/>
                <a:chExt cx="2819520" cy="5738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6066360" y="5906520"/>
                  <a:ext cx="2623320" cy="57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968440" y="5906520"/>
                  <a:ext cx="2819520" cy="57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2" name=""/>
            <p:cNvSpPr/>
            <p:nvPr/>
          </p:nvSpPr>
          <p:spPr>
            <a:xfrm>
              <a:off x="357120" y="2031840"/>
              <a:ext cx="8438760" cy="445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117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.  Benchmark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73160" y="1650960"/>
            <a:ext cx="4186080" cy="4978440"/>
            <a:chOff x="173160" y="1650960"/>
            <a:chExt cx="4186080" cy="4978440"/>
          </a:xfrm>
        </p:grpSpPr>
        <p:grpSp>
          <p:nvGrpSpPr>
            <p:cNvPr id="736" name=""/>
            <p:cNvGrpSpPr/>
            <p:nvPr/>
          </p:nvGrpSpPr>
          <p:grpSpPr>
            <a:xfrm>
              <a:off x="176400" y="1655280"/>
              <a:ext cx="4178880" cy="4968720"/>
              <a:chOff x="176400" y="1655280"/>
              <a:chExt cx="4178880" cy="496872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176400" y="1655280"/>
                <a:ext cx="2029680" cy="621000"/>
                <a:chOff x="176400" y="1655280"/>
                <a:chExt cx="2029680" cy="62100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227160" y="1655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Circui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76400" y="1655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2206080" y="1655280"/>
                <a:ext cx="2149200" cy="621000"/>
                <a:chOff x="2206080" y="1655280"/>
                <a:chExt cx="2149200" cy="62100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2256840" y="1655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# Transis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206080" y="1655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176400" y="2276280"/>
                <a:ext cx="2029680" cy="621000"/>
                <a:chOff x="176400" y="2276280"/>
                <a:chExt cx="2029680" cy="62100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227160" y="2276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e-sh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76400" y="2276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2206080" y="2276280"/>
                <a:ext cx="2149200" cy="621000"/>
                <a:chOff x="2206080" y="2276280"/>
                <a:chExt cx="2149200" cy="6210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2256840" y="2276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206080" y="2276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176400" y="2897280"/>
                <a:ext cx="2029680" cy="621000"/>
                <a:chOff x="176400" y="2897280"/>
                <a:chExt cx="2029680" cy="62100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27160" y="289728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C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76400" y="289728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2206080" y="2897280"/>
                <a:ext cx="2149200" cy="621000"/>
                <a:chOff x="2206080" y="2897280"/>
                <a:chExt cx="2149200" cy="62100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256840" y="289728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206080" y="289728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176400" y="3518280"/>
                <a:ext cx="2029680" cy="621360"/>
                <a:chOff x="176400" y="3518280"/>
                <a:chExt cx="2029680" cy="62136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227160" y="3518280"/>
                  <a:ext cx="19274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er AM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76400" y="3518280"/>
                  <a:ext cx="202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2206080" y="3518280"/>
                <a:ext cx="2149200" cy="621360"/>
                <a:chOff x="2206080" y="3518280"/>
                <a:chExt cx="2149200" cy="62136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2256840" y="3518280"/>
                  <a:ext cx="20473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206080" y="3518280"/>
                  <a:ext cx="214920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176400" y="4140000"/>
                <a:ext cx="2029680" cy="621000"/>
                <a:chOff x="176400" y="4140000"/>
                <a:chExt cx="2029680" cy="62100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227160" y="4140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ing Oscill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76400" y="4140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2206080" y="4140000"/>
                <a:ext cx="2149200" cy="621000"/>
                <a:chOff x="2206080" y="4140000"/>
                <a:chExt cx="2149200" cy="62100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2256840" y="4140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06080" y="4140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176400" y="4761000"/>
                <a:ext cx="2029680" cy="621000"/>
                <a:chOff x="176400" y="4761000"/>
                <a:chExt cx="2029680" cy="6210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227160" y="4761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ara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76400" y="4761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2206080" y="4761000"/>
                <a:ext cx="2149200" cy="621000"/>
                <a:chOff x="2206080" y="4761000"/>
                <a:chExt cx="2149200" cy="6210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2256840" y="4761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06080" y="4761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176400" y="5382000"/>
                <a:ext cx="2029680" cy="621000"/>
                <a:chOff x="176400" y="5382000"/>
                <a:chExt cx="2029680" cy="6210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27160" y="5382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76400" y="5382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2206080" y="5382000"/>
                <a:ext cx="2149200" cy="621000"/>
                <a:chOff x="2206080" y="5382000"/>
                <a:chExt cx="2149200" cy="62100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2256840" y="5382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06080" y="5382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176400" y="6003000"/>
                <a:ext cx="2029680" cy="621000"/>
                <a:chOff x="176400" y="6003000"/>
                <a:chExt cx="2029680" cy="62100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227160" y="6003000"/>
                  <a:ext cx="19274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N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76400" y="6003000"/>
                  <a:ext cx="202968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2206080" y="6003000"/>
                <a:ext cx="2149200" cy="621000"/>
                <a:chOff x="2206080" y="6003000"/>
                <a:chExt cx="2149200" cy="62100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2256840" y="6003000"/>
                  <a:ext cx="20473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206080" y="6003000"/>
                  <a:ext cx="21492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5" name=""/>
            <p:cNvSpPr/>
            <p:nvPr/>
          </p:nvSpPr>
          <p:spPr>
            <a:xfrm>
              <a:off x="173160" y="1650960"/>
              <a:ext cx="4186080" cy="4978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4400640" y="2287440"/>
            <a:ext cx="4422600" cy="4276800"/>
            <a:chOff x="4400640" y="2287440"/>
            <a:chExt cx="4422600" cy="4276800"/>
          </a:xfrm>
        </p:grpSpPr>
        <p:grpSp>
          <p:nvGrpSpPr>
            <p:cNvPr id="787" name=""/>
            <p:cNvGrpSpPr/>
            <p:nvPr/>
          </p:nvGrpSpPr>
          <p:grpSpPr>
            <a:xfrm>
              <a:off x="4404240" y="2291760"/>
              <a:ext cx="4414680" cy="4267440"/>
              <a:chOff x="4404240" y="2291760"/>
              <a:chExt cx="4414680" cy="426744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4404240" y="2291760"/>
                <a:ext cx="2144160" cy="609480"/>
                <a:chOff x="4404240" y="2291760"/>
                <a:chExt cx="2144160" cy="6094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457880" y="22917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404240" y="22917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6548400" y="2291760"/>
                <a:ext cx="2270520" cy="609480"/>
                <a:chOff x="6548400" y="2291760"/>
                <a:chExt cx="2270520" cy="60948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6602040" y="22917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548400" y="22917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4404240" y="2901240"/>
                <a:ext cx="2144160" cy="609480"/>
                <a:chOff x="4404240" y="2901240"/>
                <a:chExt cx="2144160" cy="6094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457880" y="2901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O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404240" y="2901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6548400" y="2901240"/>
                <a:ext cx="2270520" cy="609480"/>
                <a:chOff x="6548400" y="2901240"/>
                <a:chExt cx="2270520" cy="60948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6602040" y="2901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548400" y="2901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4404240" y="3510720"/>
                <a:ext cx="2144160" cy="609480"/>
                <a:chOff x="4404240" y="3510720"/>
                <a:chExt cx="2144160" cy="6094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4457880" y="3510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AI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404240" y="3510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6548400" y="3510720"/>
                <a:ext cx="2270520" cy="609480"/>
                <a:chOff x="6548400" y="3510720"/>
                <a:chExt cx="2270520" cy="60948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6602040" y="3510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548400" y="3510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4404240" y="4120560"/>
                <a:ext cx="2144160" cy="609480"/>
                <a:chOff x="4404240" y="4120560"/>
                <a:chExt cx="2144160" cy="60948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457880" y="412056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404240" y="412056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6548400" y="4120560"/>
                <a:ext cx="2270520" cy="609480"/>
                <a:chOff x="6548400" y="4120560"/>
                <a:chExt cx="2270520" cy="60948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6602040" y="412056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548400" y="412056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4404240" y="4730040"/>
                <a:ext cx="2144160" cy="609840"/>
                <a:chOff x="4404240" y="4730040"/>
                <a:chExt cx="2144160" cy="6098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457880" y="4730040"/>
                  <a:ext cx="20361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lex Ce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404240" y="4730040"/>
                  <a:ext cx="21441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6548400" y="4730040"/>
                <a:ext cx="2270520" cy="609840"/>
                <a:chOff x="6548400" y="4730040"/>
                <a:chExt cx="2270520" cy="60984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6602040" y="4730040"/>
                  <a:ext cx="2162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548400" y="4730040"/>
                  <a:ext cx="2270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4404240" y="5340240"/>
                <a:ext cx="2144160" cy="609480"/>
                <a:chOff x="4404240" y="5340240"/>
                <a:chExt cx="2144160" cy="60948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4457880" y="534024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V cha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404240" y="534024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6548400" y="5340240"/>
                <a:ext cx="2270520" cy="609480"/>
                <a:chOff x="6548400" y="5340240"/>
                <a:chExt cx="2270520" cy="60948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6602040" y="534024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48400" y="534024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4404240" y="5949720"/>
                <a:ext cx="2144160" cy="609480"/>
                <a:chOff x="4404240" y="5949720"/>
                <a:chExt cx="2144160" cy="60948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4457880" y="5949720"/>
                  <a:ext cx="2036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-bit Ad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404240" y="5949720"/>
                  <a:ext cx="21441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548400" y="5949720"/>
                <a:ext cx="2270520" cy="609480"/>
                <a:chOff x="6548400" y="5949720"/>
                <a:chExt cx="2270520" cy="60948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602040" y="5949720"/>
                  <a:ext cx="2162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548400" y="5949720"/>
                  <a:ext cx="2270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0" name=""/>
            <p:cNvSpPr/>
            <p:nvPr/>
          </p:nvSpPr>
          <p:spPr>
            <a:xfrm>
              <a:off x="4400640" y="2287440"/>
              <a:ext cx="4422600" cy="4276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0481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187200" y="1181160"/>
          <a:ext cx="8793360" cy="54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181160"/>
                    <a:ext cx="879336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7419960" y="5403960"/>
            <a:ext cx="117144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cal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534440" y="4195800"/>
            <a:ext cx="288720" cy="10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74280" y="5329080"/>
            <a:ext cx="1413720" cy="64260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00x-1000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peed up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481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201600" y="1317600"/>
          <a:ext cx="8639280" cy="52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" y="1317600"/>
                    <a:ext cx="863928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"/>
          <p:cNvSpPr/>
          <p:nvPr/>
        </p:nvSpPr>
        <p:spPr>
          <a:xfrm>
            <a:off x="7092000" y="2685960"/>
            <a:ext cx="146232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mpa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39040" y="3006720"/>
            <a:ext cx="900000" cy="2013120"/>
          </a:xfrm>
          <a:custGeom>
            <a:avLst/>
            <a:gdLst>
              <a:gd name="textAreaLeft" fmla="*/ 120600 w 900000"/>
              <a:gd name="textAreaRight" fmla="*/ 779400 w 900000"/>
              <a:gd name="textAreaTop" fmla="*/ 352080 h 2013120"/>
              <a:gd name="textAreaBottom" fmla="*/ 1459440 h 201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78240" y="4773600"/>
            <a:ext cx="1883160" cy="36828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ext step go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0481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52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157320" y="1217520"/>
            <a:ext cx="87786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erging into target circuit simulator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550960"/>
            <a:ext cx="19810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/c++ Devi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1908000"/>
            <a:ext cx="0" cy="606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746360"/>
            <a:ext cx="2514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MOS/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r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387972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&amp;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7560" y="3021120"/>
            <a:ext cx="998640" cy="858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1640" y="3041640"/>
            <a:ext cx="1143000" cy="83808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50960" y="5489640"/>
            <a:ext cx="51055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MOS simul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ith an ability to simulate the new De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654440"/>
            <a:ext cx="0" cy="85896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6680" y="1236600"/>
            <a:ext cx="1965240" cy="67968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4720" y="1387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9040" y="357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al Results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58400" y="10429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oeing Compa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49"/>
              </a:spcBef>
              <a:buClr>
                <a:srgbClr val="00ae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3581280" y="1866960"/>
            <a:ext cx="5410440" cy="4059000"/>
          </a:xfrm>
          <a:prstGeom prst="rect">
            <a:avLst/>
          </a:prstGeom>
          <a:ln w="0">
            <a:noFill/>
          </a:ln>
        </p:spPr>
      </p:pic>
      <p:pic>
        <p:nvPicPr>
          <p:cNvPr id="853" name="SCH2" descr=""/>
          <p:cNvPicPr/>
          <p:nvPr/>
        </p:nvPicPr>
        <p:blipFill>
          <a:blip r:embed="rId2"/>
          <a:stretch/>
        </p:blipFill>
        <p:spPr>
          <a:xfrm>
            <a:off x="160200" y="2414520"/>
            <a:ext cx="36576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mmary of BMAC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BMAC has, </a:t>
            </a:r>
            <a:r>
              <a:rPr b="1" lang="en-US" sz="2200" spc="-1" strike="noStrike">
                <a:solidFill>
                  <a:srgbClr val="fc0128"/>
                </a:solidFill>
                <a:latin typeface="Times New Roman"/>
                <a:ea typeface="宋体"/>
              </a:rPr>
              <a:t>for the first tim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, successfully implemented industry -grade device models including BSIM, BSIM-SOI, EKV using VHDL-AMS and yielded the exactly simulation results as the model code implemented manuall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BMAC is shown to be the </a:t>
            </a:r>
            <a:r>
              <a:rPr b="1" lang="en-US" sz="2200" spc="-1" strike="noStrike">
                <a:solidFill>
                  <a:srgbClr val="fc0128"/>
                </a:solidFill>
                <a:latin typeface="Times New Roman"/>
                <a:ea typeface="宋体"/>
              </a:rPr>
              <a:t>first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 automatic model compiler that is comparable in efficiency to human optimized code (SPICE3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For a set of test cases, BMAC compiled code with SPICE3 is </a:t>
            </a:r>
            <a:r>
              <a:rPr b="1" lang="en-US" sz="2200" spc="-1" strike="noStrike">
                <a:solidFill>
                  <a:srgbClr val="fc0128"/>
                </a:solidFill>
                <a:latin typeface="Times New Roman"/>
                <a:ea typeface="宋体"/>
              </a:rPr>
              <a:t>100 to 1000 times faster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 than the best commercial version of the behavioral VHDL-AMS/Verilog-AMS simulators used for compact device model compi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98400" y="5692680"/>
            <a:ext cx="7706520" cy="916920"/>
          </a:xfrm>
          <a:prstGeom prst="rect">
            <a:avLst/>
          </a:prstGeom>
          <a:solidFill>
            <a:srgbClr val="ebf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Way ahead of industry”    ---- Ken Kundert, Cadence F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otentially BIG impact to semiconductor industry”  --- Justin Har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RC Dir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hedul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Dec. 2002: First release of BMAC for device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June 2003: BMAC release with frequency domain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support/behavioral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Dec. 2003: BMAC release with nonlinear time solver SIL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Dec. 2003: BMAC release with digital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宋体"/>
              </a:rPr>
              <a:t>June 2004: Final release of BMA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71400" y="57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estions?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hank y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ample: MOSFET Level 1 Model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3822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Input: VHDL-AMS file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760" y="1635120"/>
            <a:ext cx="8621640" cy="492804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evice Interface definition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evice Interface definition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equations: procedural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-- procedural stat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vds &gt; 0 TH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vgs &lt;= vthres TH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cut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s :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vgs-vthres &lt;= vds THE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s := Beta * (((vgs - vthres)**2.0) /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tri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s := Beta * ((vgs - vthres)*vds - ((vds**2.0)/2.0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ds :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procedur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ample: MOSFET Level 1 model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6160" y="1220760"/>
            <a:ext cx="8555040" cy="3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"/>
          </a:bodyPr>
          <a:p>
            <a:pPr marL="30600" indent="-306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utputs: a set of C codes files (device calculation codes and the interface to the target circuit simulator-Cosmos simul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宋体"/>
              </a:rPr>
              <a:t>ask_gen1.gh ask_gen2.gc defs_gen1.gc defs_gen2.gc defs_gen3.g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del_gen1.gh dest_gen1.gh dev_gen1.gh dev_gen2.gc dev_gen3.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dev_gen4.gc ext_gen1.gh itf_gen1.gc itf_gen2.gc load_gen1.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load_gen2.gc load_gen3.gc load_gen4.gc load_gen5.gc load_gen6.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load_gen7.gc mask_gen1.gh mask_gen2.gc mdel_gen1.gh mpar_gen1.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mpar_gen2.gc param_gen1.gh param_gen2.gc setup_gen1.gh setup_gen2.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etup_gen3.gc temp_gen1.gh temp_gen2.gc temp_gen3.gc wbr.c wbrask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wbrdefs.h wbrdel.c wbrdest.c wbrext.h wbritf.h wbrload.c wbrmask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wbrmdel.c wbrmpar.c wbrpar.c wbrset.c wbrtemp.c maked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  <a:ea typeface="宋体"/>
              </a:rPr>
              <a:t>The C codes look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9360" y="4046400"/>
            <a:ext cx="3709800" cy="24498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gs = gat_across - 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gs_gat_across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gs_src_across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ds = drn_across - 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ds_drn_across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vds_src_across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rn_through = +( ids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drn_through_ids = +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rc_through = -( ids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_src_through_ids = -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89440" y="4025880"/>
            <a:ext cx="4167360" cy="20041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lhs1_drn_across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vgs_src_across = 0 + p_vgs_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vds_src_across = 0 + p_vds_src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lhs1_src_across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vgs_gat_across = 0 + p_vgs_gat_acr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_lhs1_gat_across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34920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y Model Compiler?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5240" y="2185920"/>
            <a:ext cx="1841400" cy="1482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47240" y="54039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43760" y="5106960"/>
            <a:ext cx="1663560" cy="1004760"/>
          </a:xfrm>
          <a:prstGeom prst="ellipse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94480" y="5425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05600" y="2185920"/>
            <a:ext cx="1830240" cy="1565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023600" y="18446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宋体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2520" y="184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宋体"/>
              </a:rPr>
              <a:t>Device Model 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307040" y="1698480"/>
            <a:ext cx="782640" cy="2562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50880" y="5135400"/>
            <a:ext cx="1663920" cy="1005120"/>
          </a:xfrm>
          <a:prstGeom prst="ellipse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498400">
            <a:off x="3546000" y="4349520"/>
            <a:ext cx="457200" cy="988920"/>
          </a:xfrm>
          <a:prstGeom prst="downArrow">
            <a:avLst>
              <a:gd name="adj1" fmla="val 50000"/>
              <a:gd name="adj2" fmla="val 5407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8892800">
            <a:off x="5329800" y="4353480"/>
            <a:ext cx="457200" cy="988920"/>
          </a:xfrm>
          <a:prstGeom prst="downArrow">
            <a:avLst>
              <a:gd name="adj1" fmla="val 50000"/>
              <a:gd name="adj2" fmla="val 5407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720" y="296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ong time &amp; High cos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97080" y="1214280"/>
            <a:ext cx="3200400" cy="381240"/>
            <a:chOff x="3097080" y="1214280"/>
            <a:chExt cx="3200400" cy="381240"/>
          </a:xfrm>
        </p:grpSpPr>
        <p:sp>
          <p:nvSpPr>
            <p:cNvPr id="148" name=""/>
            <p:cNvSpPr/>
            <p:nvPr/>
          </p:nvSpPr>
          <p:spPr>
            <a:xfrm>
              <a:off x="3173400" y="1214280"/>
              <a:ext cx="2819520" cy="381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97080" y="121428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device &amp;Eq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468680" y="159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097080" y="1900080"/>
            <a:ext cx="3733920" cy="457200"/>
            <a:chOff x="3097080" y="1900080"/>
            <a:chExt cx="3733920" cy="457200"/>
          </a:xfrm>
        </p:grpSpPr>
        <p:sp>
          <p:nvSpPr>
            <p:cNvPr id="152" name=""/>
            <p:cNvSpPr/>
            <p:nvPr/>
          </p:nvSpPr>
          <p:spPr>
            <a:xfrm>
              <a:off x="3173400" y="190008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97080" y="1976400"/>
              <a:ext cx="37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Initial coding in MATL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468680" y="2357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173400" y="2738520"/>
            <a:ext cx="2895480" cy="457200"/>
            <a:chOff x="3173400" y="2738520"/>
            <a:chExt cx="2895480" cy="457200"/>
          </a:xfrm>
        </p:grpSpPr>
        <p:sp>
          <p:nvSpPr>
            <p:cNvPr id="156" name=""/>
            <p:cNvSpPr/>
            <p:nvPr/>
          </p:nvSpPr>
          <p:spPr>
            <a:xfrm>
              <a:off x="3402000" y="28144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onvert to C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73400" y="2738520"/>
              <a:ext cx="28954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468680" y="3195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68680" y="3957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30400" y="5176800"/>
            <a:ext cx="6171480" cy="457200"/>
            <a:chOff x="2030400" y="5176800"/>
            <a:chExt cx="6171480" cy="457200"/>
          </a:xfrm>
        </p:grpSpPr>
        <p:sp>
          <p:nvSpPr>
            <p:cNvPr id="161" name=""/>
            <p:cNvSpPr/>
            <p:nvPr/>
          </p:nvSpPr>
          <p:spPr>
            <a:xfrm>
              <a:off x="2496600" y="5253120"/>
              <a:ext cx="57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urchased by design company &amp; Qual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0400" y="5176800"/>
              <a:ext cx="591480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468680" y="4795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68480" y="4338720"/>
            <a:ext cx="3505320" cy="457200"/>
            <a:chOff x="2868480" y="4338720"/>
            <a:chExt cx="3505320" cy="457200"/>
          </a:xfrm>
        </p:grpSpPr>
        <p:sp>
          <p:nvSpPr>
            <p:cNvPr id="165" name=""/>
            <p:cNvSpPr/>
            <p:nvPr/>
          </p:nvSpPr>
          <p:spPr>
            <a:xfrm>
              <a:off x="3133440" y="441504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Release new simul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68480" y="4338720"/>
              <a:ext cx="335916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468680" y="5634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792520" y="6014880"/>
            <a:ext cx="3657600" cy="457200"/>
            <a:chOff x="2792520" y="6014880"/>
            <a:chExt cx="3657600" cy="457200"/>
          </a:xfrm>
        </p:grpSpPr>
        <p:sp>
          <p:nvSpPr>
            <p:cNvPr id="169" name=""/>
            <p:cNvSpPr/>
            <p:nvPr/>
          </p:nvSpPr>
          <p:spPr>
            <a:xfrm>
              <a:off x="3069000" y="6091200"/>
              <a:ext cx="338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esigners using new mod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6014880"/>
              <a:ext cx="350532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335320" y="3500280"/>
            <a:ext cx="5330880" cy="457200"/>
            <a:chOff x="2335320" y="3500280"/>
            <a:chExt cx="5330880" cy="457200"/>
          </a:xfrm>
        </p:grpSpPr>
        <p:sp>
          <p:nvSpPr>
            <p:cNvPr id="172" name=""/>
            <p:cNvSpPr/>
            <p:nvPr/>
          </p:nvSpPr>
          <p:spPr>
            <a:xfrm>
              <a:off x="2335320" y="3500280"/>
              <a:ext cx="4495680" cy="457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87600" y="3576600"/>
              <a:ext cx="51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Install &amp; test of the model in simul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811080" y="1595520"/>
            <a:ext cx="2819520" cy="1371600"/>
            <a:chOff x="811080" y="1595520"/>
            <a:chExt cx="2819520" cy="1371600"/>
          </a:xfrm>
        </p:grpSpPr>
        <p:sp>
          <p:nvSpPr>
            <p:cNvPr id="175" name=""/>
            <p:cNvSpPr/>
            <p:nvPr/>
          </p:nvSpPr>
          <p:spPr>
            <a:xfrm>
              <a:off x="3630600" y="1595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106360" y="174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06720" y="17478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06720" y="2967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1080" y="243360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New mod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0" name="IMG00096" descr=""/>
          <p:cNvPicPr/>
          <p:nvPr/>
        </p:nvPicPr>
        <p:blipFill>
          <a:blip r:embed="rId1"/>
          <a:stretch/>
        </p:blipFill>
        <p:spPr>
          <a:xfrm>
            <a:off x="7385040" y="3440160"/>
            <a:ext cx="13255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280200" y="1692360"/>
            <a:ext cx="2209680" cy="1752480"/>
            <a:chOff x="6280200" y="1692360"/>
            <a:chExt cx="2209680" cy="1752480"/>
          </a:xfrm>
        </p:grpSpPr>
        <p:sp>
          <p:nvSpPr>
            <p:cNvPr id="182" name=""/>
            <p:cNvSpPr/>
            <p:nvPr/>
          </p:nvSpPr>
          <p:spPr>
            <a:xfrm>
              <a:off x="6280200" y="1692360"/>
              <a:ext cx="2209680" cy="17524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622200" y="2067840"/>
              <a:ext cx="1729080" cy="78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 Many Bugs!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-149400" y="4781520"/>
            <a:ext cx="2666880" cy="1905120"/>
            <a:chOff x="-149400" y="4781520"/>
            <a:chExt cx="2666880" cy="1905120"/>
          </a:xfrm>
        </p:grpSpPr>
        <p:sp>
          <p:nvSpPr>
            <p:cNvPr id="185" name=""/>
            <p:cNvSpPr/>
            <p:nvPr/>
          </p:nvSpPr>
          <p:spPr>
            <a:xfrm>
              <a:off x="-149400" y="4781520"/>
              <a:ext cx="2598480" cy="1905120"/>
            </a:xfrm>
            <a:prstGeom prst="irregularSeal2">
              <a:avLst/>
            </a:prstGeom>
            <a:solidFill>
              <a:srgbClr val="00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24200" y="5306760"/>
              <a:ext cx="2393280" cy="85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333333"/>
                    </a:solidFill>
                    <a:miter/>
                  </a:ln>
                  <a:solidFill>
                    <a:srgbClr val="ffff00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TOO LONG TIME!!!</a:t>
              </a:r>
              <a:endParaRPr b="0" lang="en-US" sz="20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297120" y="1398240"/>
            <a:ext cx="2460240" cy="4845240"/>
            <a:chOff x="6297120" y="1398240"/>
            <a:chExt cx="2460240" cy="4845240"/>
          </a:xfrm>
        </p:grpSpPr>
        <p:cxnSp>
          <p:nvCxnSpPr>
            <p:cNvPr id="188" name=""/>
            <p:cNvCxnSpPr>
              <a:stCxn id="170" idx="3"/>
              <a:endCxn id="149" idx="3"/>
            </p:cNvCxnSpPr>
            <p:nvPr/>
          </p:nvCxnSpPr>
          <p:spPr>
            <a:xfrm flipV="1">
              <a:off x="6297120" y="1398240"/>
              <a:ext cx="2520" cy="4845600"/>
            </a:xfrm>
            <a:prstGeom prst="bentConnector3">
              <a:avLst>
                <a:gd name="adj1" fmla="val 1139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9" name=""/>
            <p:cNvSpPr/>
            <p:nvPr/>
          </p:nvSpPr>
          <p:spPr>
            <a:xfrm>
              <a:off x="6556680" y="58374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 effect 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Revolution with BMA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8520" y="3822840"/>
            <a:ext cx="6481800" cy="1152360"/>
            <a:chOff x="1298520" y="3822840"/>
            <a:chExt cx="6481800" cy="1152360"/>
          </a:xfrm>
        </p:grpSpPr>
        <p:grpSp>
          <p:nvGrpSpPr>
            <p:cNvPr id="192" name=""/>
            <p:cNvGrpSpPr/>
            <p:nvPr/>
          </p:nvGrpSpPr>
          <p:grpSpPr>
            <a:xfrm>
              <a:off x="1298520" y="3822840"/>
              <a:ext cx="2305080" cy="1152360"/>
              <a:chOff x="1298520" y="3822840"/>
              <a:chExt cx="2305080" cy="115236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8520" y="3822840"/>
                <a:ext cx="2305080" cy="1152360"/>
              </a:xfrm>
              <a:prstGeom prst="ellipse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12880" y="4057560"/>
                <a:ext cx="1742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  <a:ea typeface="宋体"/>
                  </a:rPr>
                  <a:t>New dev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  <a:ea typeface="宋体"/>
                  </a:rPr>
                  <a:t>In VHDL-AMS*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475240" y="3822840"/>
              <a:ext cx="2305080" cy="1152360"/>
              <a:chOff x="5475240" y="3822840"/>
              <a:chExt cx="2305080" cy="1152360"/>
            </a:xfrm>
          </p:grpSpPr>
          <p:sp>
            <p:nvSpPr>
              <p:cNvPr id="196" name=""/>
              <p:cNvSpPr/>
              <p:nvPr/>
            </p:nvSpPr>
            <p:spPr>
              <a:xfrm>
                <a:off x="5475240" y="3822840"/>
                <a:ext cx="2305080" cy="1152360"/>
              </a:xfrm>
              <a:prstGeom prst="ellipse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30680" y="4201920"/>
                <a:ext cx="218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  <a:ea typeface="宋体"/>
                  </a:rPr>
                  <a:t>BMAC + Simul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3370320" y="1969920"/>
            <a:ext cx="2619000" cy="1008000"/>
            <a:chOff x="3370320" y="1969920"/>
            <a:chExt cx="2619000" cy="1008000"/>
          </a:xfrm>
        </p:grpSpPr>
        <p:sp>
          <p:nvSpPr>
            <p:cNvPr id="199" name=""/>
            <p:cNvSpPr/>
            <p:nvPr/>
          </p:nvSpPr>
          <p:spPr>
            <a:xfrm>
              <a:off x="3728880" y="2546280"/>
              <a:ext cx="1584360" cy="431640"/>
            </a:xfrm>
            <a:prstGeom prst="leftRightArrow">
              <a:avLst>
                <a:gd name="adj1" fmla="val 50000"/>
                <a:gd name="adj2" fmla="val 73071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70320" y="1969920"/>
              <a:ext cx="26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Direct Commun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440160" y="3699000"/>
            <a:ext cx="2457720" cy="969480"/>
            <a:chOff x="3440160" y="3699000"/>
            <a:chExt cx="2457720" cy="969480"/>
          </a:xfrm>
        </p:grpSpPr>
        <p:sp>
          <p:nvSpPr>
            <p:cNvPr id="202" name=""/>
            <p:cNvSpPr/>
            <p:nvPr/>
          </p:nvSpPr>
          <p:spPr>
            <a:xfrm>
              <a:off x="3890880" y="4182840"/>
              <a:ext cx="1214640" cy="485640"/>
            </a:xfrm>
            <a:prstGeom prst="leftRightArrow">
              <a:avLst>
                <a:gd name="adj1" fmla="val 50000"/>
                <a:gd name="adj2" fmla="val 4979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40160" y="3699000"/>
              <a:ext cx="24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Short and quick 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01800" y="1486080"/>
            <a:ext cx="7279560" cy="1906560"/>
            <a:chOff x="901800" y="1486080"/>
            <a:chExt cx="7279560" cy="1906560"/>
          </a:xfrm>
        </p:grpSpPr>
        <p:grpSp>
          <p:nvGrpSpPr>
            <p:cNvPr id="205" name=""/>
            <p:cNvGrpSpPr/>
            <p:nvPr/>
          </p:nvGrpSpPr>
          <p:grpSpPr>
            <a:xfrm>
              <a:off x="6105600" y="1486080"/>
              <a:ext cx="2075760" cy="1906560"/>
              <a:chOff x="6105600" y="1486080"/>
              <a:chExt cx="2075760" cy="190656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05600" y="1827360"/>
                <a:ext cx="1830240" cy="15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7023600" y="148608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  <a:ea typeface="宋体"/>
                  </a:rPr>
                  <a:t>Desig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901800" y="1486080"/>
              <a:ext cx="2009520" cy="1824120"/>
              <a:chOff x="901800" y="1486080"/>
              <a:chExt cx="2009520" cy="1824120"/>
            </a:xfrm>
          </p:grpSpPr>
          <p:pic>
            <p:nvPicPr>
              <p:cNvPr id="2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5240" y="1827360"/>
                <a:ext cx="1841400" cy="14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901800" y="1486080"/>
                <a:ext cx="200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  <a:ea typeface="宋体"/>
                  </a:rPr>
                  <a:t>Model Develop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1208160" y="3122640"/>
            <a:ext cx="6769080" cy="1079280"/>
            <a:chOff x="1208160" y="3122640"/>
            <a:chExt cx="6769080" cy="1079280"/>
          </a:xfrm>
        </p:grpSpPr>
        <p:sp>
          <p:nvSpPr>
            <p:cNvPr id="212" name=""/>
            <p:cNvSpPr/>
            <p:nvPr/>
          </p:nvSpPr>
          <p:spPr>
            <a:xfrm>
              <a:off x="7761240" y="3193920"/>
              <a:ext cx="216000" cy="1008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08160" y="3122640"/>
              <a:ext cx="216000" cy="1008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137240" y="5315040"/>
            <a:ext cx="711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Better Model. Improved Desig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Save Time. Lower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Fast simulation due to optimized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1341360"/>
            <a:ext cx="7561440" cy="3816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32040" y="241200"/>
            <a:ext cx="444492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bstract Syntax Tree (AST)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Representation of Model Equation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2392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6704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14360" y="355680"/>
          <a:ext cx="8545320" cy="60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55680"/>
                    <a:ext cx="854532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884960" y="6213600"/>
            <a:ext cx="522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T example for MOS FET Level I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cjshi</cp:lastModifiedBy>
  <cp:lastPrinted>2001-05-19T16:33:31Z</cp:lastPrinted>
  <dcterms:modified xsi:type="dcterms:W3CDTF">2002-12-10T15:56:13Z</dcterms:modified>
  <cp:revision>304</cp:revision>
  <dc:subject>DARPA NeoCAD Program Kickoff Presentation</dc:subject>
  <dc:title>CoSMoS Project Overview</dc:title>
</cp:coreProperties>
</file>