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0.wmf" ContentType="image/x-wmf"/>
  <Override PartName="/ppt/media/image26.png" ContentType="image/png"/>
  <Override PartName="/ppt/media/image23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3.png" ContentType="image/png"/>
  <Override PartName="/ppt/media/image5.wmf" ContentType="image/x-wmf"/>
  <Override PartName="/ppt/media/image34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43020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00" y="6667560"/>
            <a:ext cx="193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Yong Wang, December 11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323-5C37-41F7-BAF1-9BEE17E3EA85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71320" y="5158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png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767088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COUPLED ELECTROMAGNETIC-CIRCUIT SIMULATION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: Yong W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  : Richard Shi and Vikram Jandhy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integral-MNA method for EM-circuit co-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ing Scheme between EM-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to various bench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w Noise Amplifie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65840" y="1530360"/>
            <a:ext cx="3752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im: Design an inductor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curat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inimum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inimum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2197080" y="1635120"/>
            <a:ext cx="2660400" cy="876240"/>
            <a:chOff x="2197080" y="1635120"/>
            <a:chExt cx="2660400" cy="876240"/>
          </a:xfrm>
        </p:grpSpPr>
        <p:grpSp>
          <p:nvGrpSpPr>
            <p:cNvPr id="701" name=""/>
            <p:cNvGrpSpPr/>
            <p:nvPr/>
          </p:nvGrpSpPr>
          <p:grpSpPr>
            <a:xfrm>
              <a:off x="2985480" y="1635120"/>
              <a:ext cx="966960" cy="876240"/>
              <a:chOff x="2985480" y="1635120"/>
              <a:chExt cx="966960" cy="87624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2985480" y="1903320"/>
                <a:ext cx="205200" cy="326520"/>
                <a:chOff x="2985480" y="1903320"/>
                <a:chExt cx="205200" cy="326520"/>
              </a:xfrm>
            </p:grpSpPr>
            <p:sp>
              <p:nvSpPr>
                <p:cNvPr id="703" name=""/>
                <p:cNvSpPr/>
                <p:nvPr/>
              </p:nvSpPr>
              <p:spPr>
                <a:xfrm rot="5400000">
                  <a:off x="3047400" y="184140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rot="5400000">
                  <a:off x="3047400" y="192312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rot="5400000">
                  <a:off x="3047400" y="200484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rot="5400000">
                  <a:off x="3047400" y="2086560"/>
                  <a:ext cx="81360" cy="20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3697200" y="2049480"/>
                <a:ext cx="255240" cy="64800"/>
                <a:chOff x="3697200" y="2049480"/>
                <a:chExt cx="255240" cy="6480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697200" y="2114280"/>
                  <a:ext cx="2552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697200" y="2049480"/>
                  <a:ext cx="2552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3092400" y="1635120"/>
                <a:ext cx="732960" cy="399960"/>
              </a:xfrm>
              <a:custGeom>
                <a:avLst/>
                <a:gdLst/>
                <a:ahLst/>
                <a:rect l="l" t="t" r="r" b="b"/>
                <a:pathLst>
                  <a:path w="294" h="252">
                    <a:moveTo>
                      <a:pt x="0" y="168"/>
                    </a:moveTo>
                    <a:lnTo>
                      <a:pt x="0" y="0"/>
                    </a:lnTo>
                    <a:lnTo>
                      <a:pt x="294" y="0"/>
                    </a:lnTo>
                    <a:lnTo>
                      <a:pt x="294" y="252"/>
                    </a:ln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92400" y="2120760"/>
                <a:ext cx="732960" cy="390600"/>
              </a:xfrm>
              <a:custGeom>
                <a:avLst/>
                <a:gdLst/>
                <a:ahLst/>
                <a:rect l="l" t="t" r="r" b="b"/>
                <a:pathLst>
                  <a:path w="282" h="246">
                    <a:moveTo>
                      <a:pt x="0" y="66"/>
                    </a:moveTo>
                    <a:lnTo>
                      <a:pt x="0" y="246"/>
                    </a:lnTo>
                    <a:lnTo>
                      <a:pt x="282" y="246"/>
                    </a:lnTo>
                    <a:lnTo>
                      <a:pt x="282" y="0"/>
                    </a:ln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59000" y="1778040"/>
                <a:ext cx="71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Arial"/>
                  </a:rPr>
                  <a:t>5.6 GH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 rot="16200000">
              <a:off x="2545920" y="1991880"/>
              <a:ext cx="219240" cy="117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4168800" y="1998720"/>
              <a:ext cx="218880" cy="117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60400" y="1638360"/>
              <a:ext cx="476280" cy="304560"/>
            </a:xfrm>
            <a:custGeom>
              <a:avLst/>
              <a:gdLst/>
              <a:ahLst/>
              <a:rect l="l" t="t" r="r" b="b"/>
              <a:pathLst>
                <a:path w="300" h="192">
                  <a:moveTo>
                    <a:pt x="0" y="192"/>
                  </a:moveTo>
                  <a:lnTo>
                    <a:pt x="0" y="0"/>
                  </a:lnTo>
                  <a:lnTo>
                    <a:pt x="300" y="0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2165400"/>
              <a:ext cx="457200" cy="342720"/>
            </a:xfrm>
            <a:custGeom>
              <a:avLst/>
              <a:gdLst/>
              <a:ahLst/>
              <a:rect l="l" t="t" r="r" b="b"/>
              <a:pathLst>
                <a:path w="288" h="232">
                  <a:moveTo>
                    <a:pt x="0" y="0"/>
                  </a:moveTo>
                  <a:lnTo>
                    <a:pt x="0" y="232"/>
                  </a:lnTo>
                  <a:lnTo>
                    <a:pt x="288" y="232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22480" y="1638360"/>
              <a:ext cx="463680" cy="311040"/>
            </a:xfrm>
            <a:custGeom>
              <a:avLst/>
              <a:gdLst/>
              <a:ahLst/>
              <a:rect l="l" t="t" r="r" b="b"/>
              <a:pathLst>
                <a:path w="292" h="196">
                  <a:moveTo>
                    <a:pt x="0" y="0"/>
                  </a:moveTo>
                  <a:lnTo>
                    <a:pt x="292" y="0"/>
                  </a:lnTo>
                  <a:lnTo>
                    <a:pt x="292" y="196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22480" y="2165400"/>
              <a:ext cx="463680" cy="342720"/>
            </a:xfrm>
            <a:custGeom>
              <a:avLst/>
              <a:gdLst/>
              <a:ahLst/>
              <a:rect l="l" t="t" r="r" b="b"/>
              <a:pathLst>
                <a:path w="304" h="216">
                  <a:moveTo>
                    <a:pt x="0" y="216"/>
                  </a:moveTo>
                  <a:lnTo>
                    <a:pt x="304" y="216"/>
                  </a:lnTo>
                  <a:lnTo>
                    <a:pt x="304" y="0"/>
                  </a:ln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79680" y="1917720"/>
              <a:ext cx="57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97080" y="1841400"/>
              <a:ext cx="577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R</a:t>
              </a:r>
              <a:r>
                <a:rPr b="0" lang="en-US" sz="1400" spc="-1" strike="noStrike" baseline="-25000">
                  <a:solidFill>
                    <a:srgbClr val="3333cc"/>
                  </a:solidFill>
                  <a:latin typeface="Arial"/>
                </a:rPr>
                <a:t>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47760" y="1352520"/>
            <a:ext cx="1893960" cy="1785960"/>
            <a:chOff x="347760" y="1352520"/>
            <a:chExt cx="1893960" cy="1785960"/>
          </a:xfrm>
        </p:grpSpPr>
        <p:sp>
          <p:nvSpPr>
            <p:cNvPr id="722" name=""/>
            <p:cNvSpPr/>
            <p:nvPr/>
          </p:nvSpPr>
          <p:spPr>
            <a:xfrm>
              <a:off x="1271520" y="2467080"/>
              <a:ext cx="0" cy="326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1168560" y="1602000"/>
              <a:ext cx="205920" cy="326520"/>
              <a:chOff x="1168560" y="1602000"/>
              <a:chExt cx="205920" cy="326520"/>
            </a:xfrm>
          </p:grpSpPr>
          <p:sp>
            <p:nvSpPr>
              <p:cNvPr id="724" name=""/>
              <p:cNvSpPr/>
              <p:nvPr/>
            </p:nvSpPr>
            <p:spPr>
              <a:xfrm rot="5400000">
                <a:off x="1230840" y="153972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400000">
                <a:off x="1230840" y="162144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1230840" y="170316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400000">
                <a:off x="1230840" y="1784880"/>
                <a:ext cx="81360" cy="20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1271520" y="193356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1520" y="135252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1057320" y="2178000"/>
              <a:ext cx="217440" cy="341280"/>
              <a:chOff x="1057320" y="2178000"/>
              <a:chExt cx="217440" cy="341280"/>
            </a:xfrm>
          </p:grpSpPr>
          <p:sp>
            <p:nvSpPr>
              <p:cNvPr id="731" name=""/>
              <p:cNvSpPr/>
              <p:nvPr/>
            </p:nvSpPr>
            <p:spPr>
              <a:xfrm>
                <a:off x="1100160" y="2178000"/>
                <a:ext cx="17244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86560" y="242172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057320" y="217800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1047600" y="2797200"/>
              <a:ext cx="217800" cy="341280"/>
              <a:chOff x="1047600" y="2797200"/>
              <a:chExt cx="217800" cy="341280"/>
            </a:xfrm>
          </p:grpSpPr>
          <p:sp>
            <p:nvSpPr>
              <p:cNvPr id="735" name=""/>
              <p:cNvSpPr/>
              <p:nvPr/>
            </p:nvSpPr>
            <p:spPr>
              <a:xfrm>
                <a:off x="1090440" y="279720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77200" y="304092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047600" y="279720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 flipH="1">
              <a:off x="809640" y="2951280"/>
              <a:ext cx="247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719280" y="1881360"/>
              <a:ext cx="64800" cy="255600"/>
              <a:chOff x="719280" y="1881360"/>
              <a:chExt cx="64800" cy="255600"/>
            </a:xfrm>
          </p:grpSpPr>
          <p:sp>
            <p:nvSpPr>
              <p:cNvPr id="740" name=""/>
              <p:cNvSpPr/>
              <p:nvPr/>
            </p:nvSpPr>
            <p:spPr>
              <a:xfrm>
                <a:off x="719280" y="188136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84080" y="188136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 flipH="1">
              <a:off x="579600" y="2013120"/>
              <a:ext cx="139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1200" y="2013120"/>
              <a:ext cx="496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9680" y="1973520"/>
              <a:ext cx="169920" cy="7920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243080" y="2000520"/>
              <a:ext cx="31680" cy="252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7760" y="17780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15920" y="163980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99920" y="2322720"/>
              <a:ext cx="2473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6279200">
              <a:off x="1280880" y="2218680"/>
              <a:ext cx="73080" cy="200160"/>
            </a:xfrm>
            <a:prstGeom prst="upArrow">
              <a:avLst>
                <a:gd name="adj1" fmla="val 50000"/>
                <a:gd name="adj2" fmla="val 68473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40000" y="2254320"/>
              <a:ext cx="801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Size decides by NF, 123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3863880" y="3440160"/>
            <a:ext cx="3927600" cy="270828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336600" y="3430440"/>
            <a:ext cx="4076640" cy="280692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857160" y="6296040"/>
            <a:ext cx="30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uctance of Spiral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52920" y="6257880"/>
            <a:ext cx="30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21 of Low Nois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96280" y="4172040"/>
            <a:ext cx="1647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deal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No Cap, No coup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Q3D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100Meg, T model, Qusi-sta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Coupled-EM: Fullwave, coupling inclu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w Noise Amplifie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3360" y="1362240"/>
            <a:ext cx="361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4920" y="12859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tual Coupling i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overlap" descr=""/>
          <p:cNvPicPr/>
          <p:nvPr/>
        </p:nvPicPr>
        <p:blipFill>
          <a:blip r:embed="rId1"/>
          <a:stretch/>
        </p:blipFill>
        <p:spPr>
          <a:xfrm>
            <a:off x="738360" y="1768320"/>
            <a:ext cx="2827080" cy="205596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047600" y="6362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, cap, much lar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360360" y="3705120"/>
            <a:ext cx="3459240" cy="2679840"/>
          </a:xfrm>
          <a:prstGeom prst="rect">
            <a:avLst/>
          </a:prstGeom>
          <a:ln w="0">
            <a:noFill/>
          </a:ln>
        </p:spPr>
      </p:pic>
      <p:grpSp>
        <p:nvGrpSpPr>
          <p:cNvPr id="762" name=""/>
          <p:cNvGrpSpPr/>
          <p:nvPr/>
        </p:nvGrpSpPr>
        <p:grpSpPr>
          <a:xfrm>
            <a:off x="4162320" y="1276200"/>
            <a:ext cx="3867120" cy="2562480"/>
            <a:chOff x="4162320" y="1276200"/>
            <a:chExt cx="3867120" cy="2562480"/>
          </a:xfrm>
        </p:grpSpPr>
        <p:pic>
          <p:nvPicPr>
            <p:cNvPr id="763" name="parallel" descr=""/>
            <p:cNvPicPr/>
            <p:nvPr/>
          </p:nvPicPr>
          <p:blipFill>
            <a:blip r:embed="rId3"/>
            <a:stretch/>
          </p:blipFill>
          <p:spPr>
            <a:xfrm>
              <a:off x="4343400" y="1352520"/>
              <a:ext cx="335772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4172040" y="3162240"/>
              <a:ext cx="37242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62320" y="1276200"/>
              <a:ext cx="386712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4233960" y="3646440"/>
            <a:ext cx="3800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3120" y="1773360"/>
            <a:ext cx="8474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vantages of Coupled Circuit EM sol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tomate including of EM structure in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n provide details of EM while solving couple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uture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eed up solution procedure with incorporation of fast sol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grate with NeoCAD kernal 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dentify test cases and large scal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8280" y="237960"/>
            <a:ext cx="729468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blem Definition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9120" y="4278240"/>
            <a:ext cx="8367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84520" y="564516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ow Noise Amplifier at 5.6G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00800" y="32670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6840" y="5326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eads" descr=""/>
          <p:cNvPicPr/>
          <p:nvPr/>
        </p:nvPicPr>
        <p:blipFill>
          <a:blip r:embed="rId1"/>
          <a:stretch/>
        </p:blipFill>
        <p:spPr>
          <a:xfrm>
            <a:off x="392040" y="4189320"/>
            <a:ext cx="1657440" cy="92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5520" y="1906560"/>
            <a:ext cx="1841400" cy="1050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10520" y="568800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3440" y="3059280"/>
            <a:ext cx="18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we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226280" y="3984480"/>
            <a:ext cx="1657440" cy="168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815160" y="1468440"/>
            <a:ext cx="21780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319480" y="1846440"/>
            <a:ext cx="4932360" cy="3325680"/>
            <a:chOff x="2319480" y="1846440"/>
            <a:chExt cx="4932360" cy="3325680"/>
          </a:xfrm>
        </p:grpSpPr>
        <p:grpSp>
          <p:nvGrpSpPr>
            <p:cNvPr id="98" name=""/>
            <p:cNvGrpSpPr/>
            <p:nvPr/>
          </p:nvGrpSpPr>
          <p:grpSpPr>
            <a:xfrm>
              <a:off x="4569120" y="4594320"/>
              <a:ext cx="279360" cy="341280"/>
              <a:chOff x="4569120" y="4594320"/>
              <a:chExt cx="279360" cy="341280"/>
            </a:xfrm>
          </p:grpSpPr>
          <p:sp>
            <p:nvSpPr>
              <p:cNvPr id="99" name=""/>
              <p:cNvSpPr/>
              <p:nvPr/>
            </p:nvSpPr>
            <p:spPr>
              <a:xfrm>
                <a:off x="4569120" y="459432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10600" y="4611600"/>
                <a:ext cx="0" cy="276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74600" y="4849200"/>
                <a:ext cx="71640" cy="4068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69120" y="470916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rot="10800000">
              <a:off x="2908440" y="3130200"/>
              <a:ext cx="249120" cy="1047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103280" y="3925800"/>
              <a:ext cx="205200" cy="326880"/>
              <a:chOff x="4103280" y="3925800"/>
              <a:chExt cx="205200" cy="326880"/>
            </a:xfrm>
          </p:grpSpPr>
          <p:sp>
            <p:nvSpPr>
              <p:cNvPr id="105" name=""/>
              <p:cNvSpPr/>
              <p:nvPr/>
            </p:nvSpPr>
            <p:spPr>
              <a:xfrm rot="5400000">
                <a:off x="4165200" y="38638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400000">
                <a:off x="4165200" y="39456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4165200" y="40273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4165200" y="41094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205520" y="367668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05520" y="4253040"/>
              <a:ext cx="546120" cy="16344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05520" y="3048120"/>
              <a:ext cx="0" cy="326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103280" y="2183040"/>
              <a:ext cx="205200" cy="326520"/>
              <a:chOff x="4103280" y="2183040"/>
              <a:chExt cx="205200" cy="32652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4165200" y="21211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400000">
                <a:off x="4165200" y="220284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400000">
                <a:off x="4165200" y="22845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400000">
                <a:off x="4165200" y="23662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205520" y="251460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05520" y="193356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32280" y="1933560"/>
              <a:ext cx="958680" cy="97812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327480" y="3451320"/>
              <a:ext cx="415440" cy="161280"/>
              <a:chOff x="3327480" y="3451320"/>
              <a:chExt cx="415440" cy="161280"/>
            </a:xfrm>
          </p:grpSpPr>
          <p:sp>
            <p:nvSpPr>
              <p:cNvPr id="121" name=""/>
              <p:cNvSpPr/>
              <p:nvPr/>
            </p:nvSpPr>
            <p:spPr>
              <a:xfrm>
                <a:off x="332748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3152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3520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39240" y="34513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951280" y="3413160"/>
              <a:ext cx="66600" cy="243000"/>
              <a:chOff x="2951280" y="3413160"/>
              <a:chExt cx="66600" cy="243000"/>
            </a:xfrm>
          </p:grpSpPr>
          <p:sp>
            <p:nvSpPr>
              <p:cNvPr id="126" name=""/>
              <p:cNvSpPr/>
              <p:nvPr/>
            </p:nvSpPr>
            <p:spPr>
              <a:xfrm>
                <a:off x="2951280" y="34131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17880" y="34131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90960" y="2759040"/>
              <a:ext cx="217800" cy="341280"/>
              <a:chOff x="3990960" y="2759040"/>
              <a:chExt cx="217800" cy="341280"/>
            </a:xfrm>
          </p:grpSpPr>
          <p:sp>
            <p:nvSpPr>
              <p:cNvPr id="129" name=""/>
              <p:cNvSpPr/>
              <p:nvPr/>
            </p:nvSpPr>
            <p:spPr>
              <a:xfrm>
                <a:off x="4033800" y="275904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20560" y="300276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90960" y="275904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3990960" y="3387960"/>
              <a:ext cx="217800" cy="341280"/>
              <a:chOff x="3990960" y="3387960"/>
              <a:chExt cx="217800" cy="341280"/>
            </a:xfrm>
          </p:grpSpPr>
          <p:sp>
            <p:nvSpPr>
              <p:cNvPr id="133" name=""/>
              <p:cNvSpPr/>
              <p:nvPr/>
            </p:nvSpPr>
            <p:spPr>
              <a:xfrm>
                <a:off x="4033800" y="338796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20560" y="363168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90960" y="338796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557440" y="4361040"/>
              <a:ext cx="3175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57520" y="4449960"/>
              <a:ext cx="123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18000" y="4400640"/>
              <a:ext cx="0" cy="101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2606760" y="4081320"/>
              <a:ext cx="218880" cy="11772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8000" y="4249800"/>
              <a:ext cx="0" cy="11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358000" y="4376160"/>
              <a:ext cx="153360" cy="93240"/>
              <a:chOff x="2358000" y="4376160"/>
              <a:chExt cx="153360" cy="93240"/>
            </a:xfrm>
          </p:grpSpPr>
          <p:sp>
            <p:nvSpPr>
              <p:cNvPr id="142" name=""/>
              <p:cNvSpPr/>
              <p:nvPr/>
            </p:nvSpPr>
            <p:spPr>
              <a:xfrm rot="16462800">
                <a:off x="2357640" y="438984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5137200">
                <a:off x="2431800" y="438156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719440" y="3532320"/>
              <a:ext cx="231840" cy="49860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743280" y="3532320"/>
              <a:ext cx="247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5000" y="3078360"/>
              <a:ext cx="4269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1920" y="4554720"/>
              <a:ext cx="93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610000" y="4843440"/>
              <a:ext cx="217440" cy="52560"/>
              <a:chOff x="2610000" y="4843440"/>
              <a:chExt cx="217440" cy="52560"/>
            </a:xfrm>
          </p:grpSpPr>
          <p:sp>
            <p:nvSpPr>
              <p:cNvPr id="149" name=""/>
              <p:cNvSpPr/>
              <p:nvPr/>
            </p:nvSpPr>
            <p:spPr>
              <a:xfrm>
                <a:off x="2610000" y="484344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2200" y="486972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92440" y="489600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719440" y="4621320"/>
              <a:ext cx="0" cy="222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3640" y="3519720"/>
              <a:ext cx="30240" cy="27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57560" y="3183120"/>
              <a:ext cx="61920" cy="3538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830680" y="3183120"/>
              <a:ext cx="77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652920" y="2462400"/>
              <a:ext cx="65160" cy="255600"/>
              <a:chOff x="3652920" y="2462400"/>
              <a:chExt cx="65160" cy="255600"/>
            </a:xfrm>
          </p:grpSpPr>
          <p:sp>
            <p:nvSpPr>
              <p:cNvPr id="157" name=""/>
              <p:cNvSpPr/>
              <p:nvPr/>
            </p:nvSpPr>
            <p:spPr>
              <a:xfrm>
                <a:off x="3652920" y="24624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18080" y="24624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3513240" y="2594160"/>
              <a:ext cx="139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14840" y="2594160"/>
              <a:ext cx="496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017880" y="3537000"/>
              <a:ext cx="309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43320" y="2554200"/>
              <a:ext cx="169920" cy="79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5800" y="258120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647240" y="1938600"/>
              <a:ext cx="2391480" cy="2957040"/>
              <a:chOff x="4647240" y="1938600"/>
              <a:chExt cx="2391480" cy="2957040"/>
            </a:xfrm>
          </p:grpSpPr>
          <p:sp>
            <p:nvSpPr>
              <p:cNvPr id="165" name=""/>
              <p:cNvSpPr/>
              <p:nvPr/>
            </p:nvSpPr>
            <p:spPr>
              <a:xfrm flipH="1" rot="10800000">
                <a:off x="6240600" y="3134160"/>
                <a:ext cx="248040" cy="1044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5089320" y="3927600"/>
                <a:ext cx="207360" cy="325440"/>
                <a:chOff x="5089320" y="3927600"/>
                <a:chExt cx="207360" cy="325440"/>
              </a:xfrm>
            </p:grpSpPr>
            <p:sp>
              <p:nvSpPr>
                <p:cNvPr id="167" name=""/>
                <p:cNvSpPr/>
                <p:nvPr/>
              </p:nvSpPr>
              <p:spPr>
                <a:xfrm flipH="1" rot="16200000">
                  <a:off x="5152680" y="38642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rot="16200000">
                  <a:off x="5152680" y="39456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rot="16200000">
                  <a:off x="5152680" y="40273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rot="16200000">
                  <a:off x="5152680" y="41090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5193000" y="367884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4647240" y="4254840"/>
                <a:ext cx="545760" cy="1623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93000" y="3050640"/>
                <a:ext cx="0" cy="326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5089320" y="2188080"/>
                <a:ext cx="207360" cy="325440"/>
                <a:chOff x="5089320" y="2188080"/>
                <a:chExt cx="207360" cy="325440"/>
              </a:xfrm>
            </p:grpSpPr>
            <p:sp>
              <p:nvSpPr>
                <p:cNvPr id="175" name=""/>
                <p:cNvSpPr/>
                <p:nvPr/>
              </p:nvSpPr>
              <p:spPr>
                <a:xfrm flipH="1" rot="16200000">
                  <a:off x="5152680" y="21247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16200000">
                  <a:off x="5152680" y="220608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rot="16200000">
                  <a:off x="5152680" y="22878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rot="16200000">
                  <a:off x="5152680" y="23695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5193000" y="251892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93000" y="193860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5406840" y="1938600"/>
                <a:ext cx="957600" cy="97668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5655240" y="3453480"/>
                <a:ext cx="414720" cy="162000"/>
                <a:chOff x="5655240" y="3453480"/>
                <a:chExt cx="414720" cy="162000"/>
              </a:xfrm>
            </p:grpSpPr>
            <p:sp>
              <p:nvSpPr>
                <p:cNvPr id="183" name=""/>
                <p:cNvSpPr/>
                <p:nvPr/>
              </p:nvSpPr>
              <p:spPr>
                <a:xfrm flipH="1">
                  <a:off x="596628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586260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575892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5654880" y="34534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380280" y="3415320"/>
                <a:ext cx="65160" cy="241920"/>
                <a:chOff x="6380280" y="3415320"/>
                <a:chExt cx="65160" cy="2419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445440" y="34153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380280" y="34153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189760" y="2762640"/>
                <a:ext cx="217080" cy="340200"/>
                <a:chOff x="5189760" y="2762640"/>
                <a:chExt cx="217080" cy="3402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5191920" y="276264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5189400" y="300564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06840" y="276264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189760" y="3391200"/>
                <a:ext cx="217080" cy="340200"/>
                <a:chOff x="5189760" y="3391200"/>
                <a:chExt cx="217080" cy="3402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5191920" y="339120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5189400" y="363420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06840" y="339120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 flipH="1">
                <a:off x="6522840" y="4362120"/>
                <a:ext cx="316440" cy="258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616080" y="4451040"/>
                <a:ext cx="12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679080" y="4401360"/>
                <a:ext cx="0" cy="1008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5400000">
                <a:off x="6571800" y="4082760"/>
                <a:ext cx="218520" cy="1170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679080" y="42508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6885720" y="4377600"/>
                <a:ext cx="153000" cy="91440"/>
                <a:chOff x="6885720" y="4377600"/>
                <a:chExt cx="153000" cy="9144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rot="5137200">
                  <a:off x="6959520" y="439020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 rot="16462800">
                  <a:off x="6885360" y="438228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 flipH="1">
                <a:off x="6445440" y="3535200"/>
                <a:ext cx="232200" cy="4971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07200" y="3535200"/>
                <a:ext cx="248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631560" y="4555800"/>
                <a:ext cx="92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6569640" y="4843440"/>
                <a:ext cx="216720" cy="52200"/>
                <a:chOff x="6569640" y="4843440"/>
                <a:chExt cx="216720" cy="522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6569640" y="4843440"/>
                  <a:ext cx="216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622200" y="4869360"/>
                  <a:ext cx="1119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6652080" y="4895640"/>
                  <a:ext cx="52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6678000" y="4621320"/>
                <a:ext cx="0" cy="22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163200" y="352188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178680" y="3186360"/>
                <a:ext cx="61920" cy="35316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89000" y="3186360"/>
                <a:ext cx="77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5679360" y="2466360"/>
                <a:ext cx="65160" cy="254880"/>
                <a:chOff x="5679360" y="2466360"/>
                <a:chExt cx="65160" cy="254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744520" y="24663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679360" y="24663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5744880" y="2597400"/>
                <a:ext cx="139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186160" y="2597400"/>
                <a:ext cx="496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70320" y="35398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883840" y="2558160"/>
                <a:ext cx="170280" cy="7848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70680" y="258444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599000" y="5119920"/>
              <a:ext cx="217440" cy="52200"/>
              <a:chOff x="4599000" y="5119920"/>
              <a:chExt cx="217440" cy="52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4599000" y="511992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651920" y="514584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681800" y="517212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708800" y="4422960"/>
              <a:ext cx="0" cy="156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692600" y="441000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8800" y="4935600"/>
              <a:ext cx="0" cy="184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815920" y="1938600"/>
              <a:ext cx="3551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17880" y="192564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195800" y="192564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173200" y="1925640"/>
              <a:ext cx="298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31200" y="31082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19480" y="45417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26400" y="45417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81400" y="235908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70520" y="231948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81560" y="229392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8360" y="2279880"/>
              <a:ext cx="3254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67160" y="3252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62880" y="324000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67160" y="3975120"/>
              <a:ext cx="3254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360" y="396252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75000" y="18464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10400" y="46767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7360" y="179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roach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53160" y="1454040"/>
            <a:ext cx="1390680" cy="1400400"/>
          </a:xfrm>
          <a:custGeom>
            <a:avLst/>
            <a:gdLst/>
            <a:ahLst/>
            <a:rect l="l" t="t" r="r" b="b"/>
            <a:pathLst>
              <a:path w="876" h="882">
                <a:moveTo>
                  <a:pt x="0" y="330"/>
                </a:moveTo>
                <a:lnTo>
                  <a:pt x="858" y="0"/>
                </a:lnTo>
                <a:lnTo>
                  <a:pt x="852" y="156"/>
                </a:lnTo>
                <a:lnTo>
                  <a:pt x="786" y="270"/>
                </a:lnTo>
                <a:lnTo>
                  <a:pt x="744" y="336"/>
                </a:lnTo>
                <a:lnTo>
                  <a:pt x="756" y="390"/>
                </a:lnTo>
                <a:lnTo>
                  <a:pt x="786" y="438"/>
                </a:lnTo>
                <a:lnTo>
                  <a:pt x="834" y="486"/>
                </a:lnTo>
                <a:lnTo>
                  <a:pt x="876" y="528"/>
                </a:lnTo>
                <a:lnTo>
                  <a:pt x="0" y="882"/>
                </a:lnTo>
                <a:lnTo>
                  <a:pt x="0" y="33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18280" y="1981080"/>
            <a:ext cx="43488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1600" y="1981080"/>
            <a:ext cx="87156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881600" y="1351080"/>
            <a:ext cx="2273400" cy="1501200"/>
            <a:chOff x="4881600" y="1351080"/>
            <a:chExt cx="2273400" cy="1501200"/>
          </a:xfrm>
        </p:grpSpPr>
        <p:sp>
          <p:nvSpPr>
            <p:cNvPr id="254" name=""/>
            <p:cNvSpPr/>
            <p:nvPr/>
          </p:nvSpPr>
          <p:spPr>
            <a:xfrm>
              <a:off x="4881600" y="1981080"/>
              <a:ext cx="871560" cy="871200"/>
            </a:xfrm>
            <a:custGeom>
              <a:avLst/>
              <a:gdLst/>
              <a:ahLst/>
              <a:rect l="l" t="t" r="r" b="b"/>
              <a:pathLst>
                <a:path w="1344" h="1330">
                  <a:moveTo>
                    <a:pt x="0" y="0"/>
                  </a:moveTo>
                  <a:lnTo>
                    <a:pt x="0" y="1330"/>
                  </a:lnTo>
                  <a:lnTo>
                    <a:pt x="1344" y="1330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81600" y="1351080"/>
              <a:ext cx="2273400" cy="1501200"/>
              <a:chOff x="4881600" y="1351080"/>
              <a:chExt cx="2273400" cy="150120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4881600" y="1402560"/>
                <a:ext cx="1467000" cy="5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753160" y="1447200"/>
                <a:ext cx="13687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5753160" y="2301480"/>
                <a:ext cx="139536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48600" y="1351080"/>
                <a:ext cx="774720" cy="95040"/>
              </a:xfrm>
              <a:custGeom>
                <a:avLst/>
                <a:gdLst/>
                <a:ahLst/>
                <a:rect l="l" t="t" r="r" b="b"/>
                <a:pathLst>
                  <a:path w="1219" h="150">
                    <a:moveTo>
                      <a:pt x="0" y="93"/>
                    </a:moveTo>
                    <a:cubicBezTo>
                      <a:pt x="40" y="98"/>
                      <a:pt x="101" y="146"/>
                      <a:pt x="240" y="131"/>
                    </a:cubicBezTo>
                    <a:cubicBezTo>
                      <a:pt x="379" y="116"/>
                      <a:pt x="669" y="0"/>
                      <a:pt x="832" y="3"/>
                    </a:cubicBezTo>
                    <a:cubicBezTo>
                      <a:pt x="995" y="6"/>
                      <a:pt x="1138" y="119"/>
                      <a:pt x="1219" y="150"/>
                    </a:cubicBez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32880" y="1446120"/>
                <a:ext cx="222120" cy="855000"/>
              </a:xfrm>
              <a:custGeom>
                <a:avLst/>
                <a:gdLst/>
                <a:ahLst/>
                <a:rect l="l" t="t" r="r" b="b"/>
                <a:pathLst>
                  <a:path w="350" h="1347">
                    <a:moveTo>
                      <a:pt x="302" y="0"/>
                    </a:moveTo>
                    <a:cubicBezTo>
                      <a:pt x="292" y="72"/>
                      <a:pt x="289" y="278"/>
                      <a:pt x="242" y="431"/>
                    </a:cubicBezTo>
                    <a:cubicBezTo>
                      <a:pt x="195" y="584"/>
                      <a:pt x="0" y="767"/>
                      <a:pt x="18" y="920"/>
                    </a:cubicBezTo>
                    <a:cubicBezTo>
                      <a:pt x="36" y="1073"/>
                      <a:pt x="281" y="1258"/>
                      <a:pt x="350" y="1347"/>
                    </a:cubicBezTo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3646440" y="2462040"/>
            <a:ext cx="123840" cy="123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318280" y="198072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881240" y="2417760"/>
            <a:ext cx="87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81600" y="2417760"/>
            <a:ext cx="43668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743280" y="1784520"/>
            <a:ext cx="1876320" cy="1230120"/>
            <a:chOff x="3743280" y="1784520"/>
            <a:chExt cx="1876320" cy="1230120"/>
          </a:xfrm>
        </p:grpSpPr>
        <p:sp>
          <p:nvSpPr>
            <p:cNvPr id="266" name=""/>
            <p:cNvSpPr/>
            <p:nvPr/>
          </p:nvSpPr>
          <p:spPr>
            <a:xfrm>
              <a:off x="3776400" y="2208240"/>
              <a:ext cx="1214640" cy="274680"/>
            </a:xfrm>
            <a:custGeom>
              <a:avLst/>
              <a:gdLst/>
              <a:ahLst/>
              <a:rect l="l" t="t" r="r" b="b"/>
              <a:pathLst>
                <a:path w="1912" h="433">
                  <a:moveTo>
                    <a:pt x="1912" y="36"/>
                  </a:moveTo>
                  <a:cubicBezTo>
                    <a:pt x="1758" y="40"/>
                    <a:pt x="1309" y="0"/>
                    <a:pt x="990" y="66"/>
                  </a:cubicBezTo>
                  <a:cubicBezTo>
                    <a:pt x="671" y="132"/>
                    <a:pt x="206" y="357"/>
                    <a:pt x="0" y="433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52640" y="1995480"/>
              <a:ext cx="1414440" cy="484200"/>
            </a:xfrm>
            <a:custGeom>
              <a:avLst/>
              <a:gdLst/>
              <a:ahLst/>
              <a:rect l="l" t="t" r="r" b="b"/>
              <a:pathLst>
                <a:path w="2228" h="762">
                  <a:moveTo>
                    <a:pt x="2228" y="160"/>
                  </a:moveTo>
                  <a:cubicBezTo>
                    <a:pt x="2036" y="150"/>
                    <a:pt x="1444" y="0"/>
                    <a:pt x="1073" y="100"/>
                  </a:cubicBezTo>
                  <a:cubicBezTo>
                    <a:pt x="702" y="200"/>
                    <a:pt x="224" y="624"/>
                    <a:pt x="0" y="76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71720" y="2497320"/>
              <a:ext cx="1359000" cy="110880"/>
            </a:xfrm>
            <a:custGeom>
              <a:avLst/>
              <a:gdLst/>
              <a:ahLst/>
              <a:rect l="l" t="t" r="r" b="b"/>
              <a:pathLst>
                <a:path w="2140" h="174">
                  <a:moveTo>
                    <a:pt x="2140" y="0"/>
                  </a:moveTo>
                  <a:cubicBezTo>
                    <a:pt x="1941" y="27"/>
                    <a:pt x="1302" y="156"/>
                    <a:pt x="945" y="165"/>
                  </a:cubicBezTo>
                  <a:cubicBezTo>
                    <a:pt x="588" y="174"/>
                    <a:pt x="197" y="76"/>
                    <a:pt x="0" y="5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62360" y="2506680"/>
              <a:ext cx="1830240" cy="222480"/>
            </a:xfrm>
            <a:custGeom>
              <a:avLst/>
              <a:gdLst/>
              <a:ahLst/>
              <a:rect l="l" t="t" r="r" b="b"/>
              <a:pathLst>
                <a:path w="2883" h="350">
                  <a:moveTo>
                    <a:pt x="2883" y="0"/>
                  </a:moveTo>
                  <a:cubicBezTo>
                    <a:pt x="2385" y="157"/>
                    <a:pt x="1921" y="322"/>
                    <a:pt x="1441" y="336"/>
                  </a:cubicBezTo>
                  <a:cubicBezTo>
                    <a:pt x="961" y="350"/>
                    <a:pt x="300" y="136"/>
                    <a:pt x="0" y="83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43280" y="1784520"/>
              <a:ext cx="1876320" cy="668160"/>
            </a:xfrm>
            <a:custGeom>
              <a:avLst/>
              <a:gdLst/>
              <a:ahLst/>
              <a:rect l="l" t="t" r="r" b="b"/>
              <a:pathLst>
                <a:path w="2954" h="1052">
                  <a:moveTo>
                    <a:pt x="2954" y="514"/>
                  </a:moveTo>
                  <a:cubicBezTo>
                    <a:pt x="2797" y="439"/>
                    <a:pt x="2325" y="114"/>
                    <a:pt x="2009" y="57"/>
                  </a:cubicBezTo>
                  <a:cubicBezTo>
                    <a:pt x="1693" y="0"/>
                    <a:pt x="1344" y="70"/>
                    <a:pt x="1057" y="169"/>
                  </a:cubicBezTo>
                  <a:cubicBezTo>
                    <a:pt x="770" y="268"/>
                    <a:pt x="460" y="502"/>
                    <a:pt x="284" y="649"/>
                  </a:cubicBezTo>
                  <a:cubicBezTo>
                    <a:pt x="108" y="796"/>
                    <a:pt x="59" y="968"/>
                    <a:pt x="0" y="105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70280" y="2266920"/>
              <a:ext cx="1680840" cy="257400"/>
            </a:xfrm>
            <a:custGeom>
              <a:avLst/>
              <a:gdLst/>
              <a:ahLst/>
              <a:rect l="l" t="t" r="r" b="b"/>
              <a:pathLst>
                <a:path w="2646" h="406">
                  <a:moveTo>
                    <a:pt x="2646" y="0"/>
                  </a:moveTo>
                  <a:cubicBezTo>
                    <a:pt x="2545" y="19"/>
                    <a:pt x="2243" y="82"/>
                    <a:pt x="2042" y="116"/>
                  </a:cubicBezTo>
                  <a:cubicBezTo>
                    <a:pt x="1841" y="150"/>
                    <a:pt x="1705" y="167"/>
                    <a:pt x="1442" y="206"/>
                  </a:cubicBezTo>
                  <a:cubicBezTo>
                    <a:pt x="1179" y="245"/>
                    <a:pt x="702" y="317"/>
                    <a:pt x="462" y="350"/>
                  </a:cubicBezTo>
                  <a:cubicBezTo>
                    <a:pt x="222" y="383"/>
                    <a:pt x="109" y="388"/>
                    <a:pt x="0" y="406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62360" y="2578320"/>
              <a:ext cx="1269720" cy="296640"/>
            </a:xfrm>
            <a:custGeom>
              <a:avLst/>
              <a:gdLst/>
              <a:ahLst/>
              <a:rect l="l" t="t" r="r" b="b"/>
              <a:pathLst>
                <a:path w="2002" h="469">
                  <a:moveTo>
                    <a:pt x="2002" y="224"/>
                  </a:moveTo>
                  <a:cubicBezTo>
                    <a:pt x="1944" y="257"/>
                    <a:pt x="1779" y="384"/>
                    <a:pt x="1651" y="421"/>
                  </a:cubicBezTo>
                  <a:cubicBezTo>
                    <a:pt x="1523" y="458"/>
                    <a:pt x="1393" y="469"/>
                    <a:pt x="1232" y="448"/>
                  </a:cubicBezTo>
                  <a:cubicBezTo>
                    <a:pt x="1071" y="427"/>
                    <a:pt x="891" y="369"/>
                    <a:pt x="686" y="294"/>
                  </a:cubicBezTo>
                  <a:cubicBezTo>
                    <a:pt x="481" y="219"/>
                    <a:pt x="240" y="109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43280" y="2586240"/>
              <a:ext cx="1689120" cy="428400"/>
            </a:xfrm>
            <a:custGeom>
              <a:avLst/>
              <a:gdLst/>
              <a:ahLst/>
              <a:rect l="l" t="t" r="r" b="b"/>
              <a:pathLst>
                <a:path w="2660" h="674">
                  <a:moveTo>
                    <a:pt x="2660" y="196"/>
                  </a:moveTo>
                  <a:cubicBezTo>
                    <a:pt x="2645" y="242"/>
                    <a:pt x="2642" y="407"/>
                    <a:pt x="2572" y="475"/>
                  </a:cubicBezTo>
                  <a:cubicBezTo>
                    <a:pt x="2502" y="543"/>
                    <a:pt x="2375" y="569"/>
                    <a:pt x="2240" y="602"/>
                  </a:cubicBezTo>
                  <a:cubicBezTo>
                    <a:pt x="2105" y="635"/>
                    <a:pt x="1932" y="670"/>
                    <a:pt x="1764" y="672"/>
                  </a:cubicBezTo>
                  <a:cubicBezTo>
                    <a:pt x="1596" y="674"/>
                    <a:pt x="1393" y="649"/>
                    <a:pt x="1229" y="617"/>
                  </a:cubicBezTo>
                  <a:cubicBezTo>
                    <a:pt x="1065" y="585"/>
                    <a:pt x="895" y="522"/>
                    <a:pt x="779" y="482"/>
                  </a:cubicBezTo>
                  <a:cubicBezTo>
                    <a:pt x="663" y="442"/>
                    <a:pt x="622" y="427"/>
                    <a:pt x="532" y="377"/>
                  </a:cubicBezTo>
                  <a:cubicBezTo>
                    <a:pt x="442" y="327"/>
                    <a:pt x="327" y="245"/>
                    <a:pt x="238" y="182"/>
                  </a:cubicBezTo>
                  <a:cubicBezTo>
                    <a:pt x="149" y="119"/>
                    <a:pt x="77" y="58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130720" y="206208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92600" y="207972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70520" y="221292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24480" y="2230560"/>
            <a:ext cx="61920" cy="6804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3720" y="2462040"/>
            <a:ext cx="61920" cy="669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57680" y="2470320"/>
            <a:ext cx="61920" cy="6804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06880" y="2684520"/>
            <a:ext cx="61920" cy="666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07200" y="2666880"/>
            <a:ext cx="61560" cy="669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46080" y="1760400"/>
            <a:ext cx="2415960" cy="1325520"/>
            <a:chOff x="946080" y="1760400"/>
            <a:chExt cx="2415960" cy="1325520"/>
          </a:xfrm>
        </p:grpSpPr>
        <p:sp>
          <p:nvSpPr>
            <p:cNvPr id="283" name=""/>
            <p:cNvSpPr/>
            <p:nvPr/>
          </p:nvSpPr>
          <p:spPr>
            <a:xfrm>
              <a:off x="946080" y="1760400"/>
              <a:ext cx="2415960" cy="13255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81360" y="2003760"/>
              <a:ext cx="2235960" cy="7304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Circu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>
            <a:off x="3362040" y="25336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68600" y="2577960"/>
            <a:ext cx="204840" cy="400320"/>
          </a:xfrm>
          <a:custGeom>
            <a:avLst/>
            <a:gdLst/>
            <a:ahLst/>
            <a:rect l="l" t="t" r="r" b="b"/>
            <a:pathLst>
              <a:path w="322" h="630">
                <a:moveTo>
                  <a:pt x="322" y="0"/>
                </a:moveTo>
                <a:cubicBezTo>
                  <a:pt x="265" y="87"/>
                  <a:pt x="208" y="175"/>
                  <a:pt x="154" y="280"/>
                </a:cubicBezTo>
                <a:cubicBezTo>
                  <a:pt x="100" y="385"/>
                  <a:pt x="50" y="507"/>
                  <a:pt x="0" y="630"/>
                </a:cubicBezTo>
              </a:path>
            </a:pathLst>
          </a:custGeom>
          <a:noFill/>
          <a:ln w="9360">
            <a:solidFill>
              <a:srgbClr val="cc66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1840" y="3003480"/>
            <a:ext cx="979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ff"/>
                </a:solidFill>
                <a:latin typeface="Times New Roman"/>
              </a:rPr>
              <a:t>Circuit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1397160"/>
            <a:ext cx="2228760" cy="581040"/>
          </a:xfrm>
          <a:custGeom>
            <a:avLst/>
            <a:gdLst/>
            <a:ahLst/>
            <a:rect l="l" t="t" r="r" b="b"/>
            <a:pathLst>
              <a:path w="1404" h="366">
                <a:moveTo>
                  <a:pt x="0" y="366"/>
                </a:moveTo>
                <a:lnTo>
                  <a:pt x="546" y="366"/>
                </a:lnTo>
                <a:lnTo>
                  <a:pt x="1404" y="36"/>
                </a:lnTo>
                <a:lnTo>
                  <a:pt x="1098" y="6"/>
                </a:lnTo>
                <a:lnTo>
                  <a:pt x="1026" y="24"/>
                </a:lnTo>
                <a:lnTo>
                  <a:pt x="954" y="24"/>
                </a:lnTo>
                <a:lnTo>
                  <a:pt x="912" y="0"/>
                </a:lnTo>
                <a:lnTo>
                  <a:pt x="0" y="36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831960" y="4076640"/>
          <a:ext cx="290808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076640"/>
                    <a:ext cx="29080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343080" y="610884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: Modified Nodal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120200">
            <a:off x="1838160" y="3454200"/>
            <a:ext cx="774720" cy="304920"/>
          </a:xfrm>
          <a:prstGeom prst="leftArrow">
            <a:avLst>
              <a:gd name="adj1" fmla="val 50000"/>
              <a:gd name="adj2" fmla="val 635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390920" y="3624120"/>
          <a:ext cx="452448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0920" y="3624120"/>
                    <a:ext cx="4524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807080" y="4319640"/>
          <a:ext cx="38368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7080" y="4319640"/>
                    <a:ext cx="3836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127400" y="496584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M: Electrical Field Integr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932440" y="2946240"/>
          <a:ext cx="25099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32440" y="2946240"/>
                    <a:ext cx="2509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432320" y="5397480"/>
            <a:ext cx="436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upling: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tential matching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tinuity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7360" y="179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upled Circuit EM Formulation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51680" y="2279520"/>
            <a:ext cx="638280" cy="24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43440" y="2198520"/>
            <a:ext cx="833400" cy="23544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35160" y="4341960"/>
            <a:ext cx="3251160" cy="763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43440" y="4336920"/>
            <a:ext cx="833400" cy="773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39840" y="2200320"/>
            <a:ext cx="2714760" cy="2136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89040" y="2614680"/>
            <a:ext cx="2057400" cy="18104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Pa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87520" y="448308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3385080" y="2862720"/>
            <a:ext cx="19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840200" y="3390840"/>
                <a:ext cx="94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5423040" y="2239920"/>
            <a:ext cx="663480" cy="2362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5038920" y="3045600"/>
            <a:ext cx="144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232680" y="3465360"/>
          <a:ext cx="8776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2680" y="3465360"/>
                    <a:ext cx="877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7051680" y="4286160"/>
            <a:ext cx="639720" cy="93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6829920" y="4479120"/>
            <a:ext cx="104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k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6849000" y="2686680"/>
            <a:ext cx="104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e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4541760"/>
            <a:ext cx="779400" cy="56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it Pa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M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9800" y="4332240"/>
            <a:ext cx="669960" cy="8352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5377680" y="4524480"/>
            <a:ext cx="75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924680" y="1639800"/>
            <a:ext cx="1076400" cy="1146240"/>
            <a:chOff x="7924680" y="1639800"/>
            <a:chExt cx="1076400" cy="1146240"/>
          </a:xfrm>
        </p:grpSpPr>
        <p:grpSp>
          <p:nvGrpSpPr>
            <p:cNvPr id="322" name=""/>
            <p:cNvGrpSpPr/>
            <p:nvPr/>
          </p:nvGrpSpPr>
          <p:grpSpPr>
            <a:xfrm>
              <a:off x="8918280" y="2211480"/>
              <a:ext cx="82800" cy="36360"/>
              <a:chOff x="8918280" y="2211480"/>
              <a:chExt cx="82800" cy="36360"/>
            </a:xfrm>
          </p:grpSpPr>
          <p:sp>
            <p:nvSpPr>
              <p:cNvPr id="323" name=""/>
              <p:cNvSpPr/>
              <p:nvPr/>
            </p:nvSpPr>
            <p:spPr>
              <a:xfrm>
                <a:off x="8918280" y="22114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934840" y="223056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947080" y="22478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961040" y="26226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7924680" y="2749320"/>
              <a:ext cx="82440" cy="36720"/>
              <a:chOff x="7924680" y="2749320"/>
              <a:chExt cx="82440" cy="36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924680" y="274932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41240" y="27684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53120" y="27860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8127720" y="2203560"/>
              <a:ext cx="11916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127720" y="1903320"/>
              <a:ext cx="50184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8246880" y="1898280"/>
              <a:ext cx="503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8246880" y="2009520"/>
              <a:ext cx="50652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961040" y="2273400"/>
              <a:ext cx="21456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61040" y="2422440"/>
              <a:ext cx="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19920" y="1733400"/>
              <a:ext cx="243000" cy="209520"/>
            </a:xfrm>
            <a:custGeom>
              <a:avLst/>
              <a:gdLst/>
              <a:ahLst/>
              <a:rect l="l" t="t" r="r" b="b"/>
              <a:pathLst>
                <a:path w="486" h="402">
                  <a:moveTo>
                    <a:pt x="0" y="324"/>
                  </a:moveTo>
                  <a:lnTo>
                    <a:pt x="486" y="0"/>
                  </a:lnTo>
                  <a:lnTo>
                    <a:pt x="486" y="4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959680" y="20797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330800">
              <a:off x="7972200" y="190332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29560" y="1901880"/>
              <a:ext cx="122040" cy="110880"/>
            </a:xfrm>
            <a:custGeom>
              <a:avLst/>
              <a:gdLst/>
              <a:ahLst/>
              <a:rect l="l" t="t" r="r" b="b"/>
              <a:pathLst>
                <a:path w="468" h="312">
                  <a:moveTo>
                    <a:pt x="0" y="0"/>
                  </a:moveTo>
                  <a:lnTo>
                    <a:pt x="468" y="0"/>
                  </a:lnTo>
                  <a:lnTo>
                    <a:pt x="468" y="3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39160" y="1940040"/>
              <a:ext cx="42840" cy="14580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3760" y="2468520"/>
              <a:ext cx="42840" cy="14616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4265400">
              <a:off x="8219880" y="175068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4" name=""/>
          <p:cNvCxnSpPr/>
          <p:nvPr/>
        </p:nvCxnSpPr>
        <p:spPr>
          <a:xfrm flipV="1" rot="10800000">
            <a:off x="7284240" y="1942920"/>
            <a:ext cx="812160" cy="4514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45" name=""/>
          <p:cNvCxnSpPr>
            <a:stCxn id="346" idx="0"/>
            <a:endCxn id="308" idx="2"/>
          </p:cNvCxnSpPr>
          <p:nvPr/>
        </p:nvCxnSpPr>
        <p:spPr>
          <a:xfrm flipH="1" rot="10800000">
            <a:off x="1922760" y="4939560"/>
            <a:ext cx="695520" cy="546480"/>
          </a:xfrm>
          <a:prstGeom prst="curvedConnector5">
            <a:avLst>
              <a:gd name="adj1" fmla="val -32884"/>
              <a:gd name="adj2" fmla="val 24983"/>
              <a:gd name="adj3" fmla="val -3288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47" name=""/>
          <p:cNvCxnSpPr/>
          <p:nvPr/>
        </p:nvCxnSpPr>
        <p:spPr>
          <a:xfrm flipH="1" flipV="1" rot="5400000">
            <a:off x="2852280" y="4471200"/>
            <a:ext cx="1002600" cy="16376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348" name=""/>
          <p:cNvGraphicFramePr/>
          <p:nvPr/>
        </p:nvGraphicFramePr>
        <p:xfrm>
          <a:off x="3424320" y="5765760"/>
          <a:ext cx="162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4320" y="5765760"/>
                    <a:ext cx="162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809880" y="5780160"/>
          <a:ext cx="44316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780160"/>
                    <a:ext cx="443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068800" y="5784840"/>
          <a:ext cx="35100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8800" y="5784840"/>
                    <a:ext cx="351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54" name=""/>
          <p:cNvCxnSpPr/>
          <p:nvPr/>
        </p:nvCxnSpPr>
        <p:spPr>
          <a:xfrm flipV="1" rot="16200000">
            <a:off x="4404960" y="4944240"/>
            <a:ext cx="930960" cy="750240"/>
          </a:xfrm>
          <a:prstGeom prst="curvedConnector5">
            <a:avLst>
              <a:gd name="adj1" fmla="val 49980"/>
              <a:gd name="adj2" fmla="val 49975"/>
              <a:gd name="adj3" fmla="val 4998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355" name=""/>
          <p:cNvGraphicFramePr/>
          <p:nvPr/>
        </p:nvGraphicFramePr>
        <p:xfrm>
          <a:off x="2408400" y="5791320"/>
          <a:ext cx="25380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5791320"/>
                    <a:ext cx="253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7" name=""/>
          <p:cNvGrpSpPr/>
          <p:nvPr/>
        </p:nvGrpSpPr>
        <p:grpSpPr>
          <a:xfrm>
            <a:off x="1038240" y="5424480"/>
            <a:ext cx="990720" cy="1035000"/>
            <a:chOff x="1038240" y="5424480"/>
            <a:chExt cx="990720" cy="1035000"/>
          </a:xfrm>
        </p:grpSpPr>
        <p:pic>
          <p:nvPicPr>
            <p:cNvPr id="358" name="cap" descr=""/>
            <p:cNvPicPr/>
            <p:nvPr/>
          </p:nvPicPr>
          <p:blipFill>
            <a:blip r:embed="rId11"/>
            <a:stretch/>
          </p:blipFill>
          <p:spPr>
            <a:xfrm>
              <a:off x="1038240" y="5424480"/>
              <a:ext cx="9907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 txBox="1"/>
            <p:nvPr/>
          </p:nvSpPr>
          <p:spPr>
            <a:xfrm>
              <a:off x="1038240" y="5424480"/>
              <a:ext cx="990720" cy="103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924200" y="5486400"/>
            <a:ext cx="637920" cy="380880"/>
          </a:xfrm>
          <a:custGeom>
            <a:avLst/>
            <a:gdLst/>
            <a:ahLst/>
            <a:rect l="l" t="t" r="r" b="b"/>
            <a:pathLst>
              <a:path w="402" h="240">
                <a:moveTo>
                  <a:pt x="0" y="0"/>
                </a:moveTo>
                <a:lnTo>
                  <a:pt x="402" y="0"/>
                </a:lnTo>
                <a:lnTo>
                  <a:pt x="402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390920" y="5829480"/>
          <a:ext cx="419040" cy="44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90920" y="5829480"/>
                    <a:ext cx="4190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2900520" y="5796000"/>
          <a:ext cx="242640" cy="54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00520" y="5796000"/>
                    <a:ext cx="2426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229520" y="5556240"/>
          <a:ext cx="1162080" cy="97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29520" y="5556240"/>
                    <a:ext cx="1162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66" name=""/>
          <p:cNvCxnSpPr>
            <a:endCxn id="316" idx="0"/>
          </p:cNvCxnSpPr>
          <p:nvPr/>
        </p:nvCxnSpPr>
        <p:spPr>
          <a:xfrm rot="10800000">
            <a:off x="7076520" y="4753800"/>
            <a:ext cx="153000" cy="128988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67" name=""/>
          <p:cNvCxnSpPr>
            <a:endCxn id="315" idx="3"/>
          </p:cNvCxnSpPr>
          <p:nvPr/>
        </p:nvCxnSpPr>
        <p:spPr>
          <a:xfrm flipV="1" rot="16200000">
            <a:off x="7434360" y="5010120"/>
            <a:ext cx="1042200" cy="5292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68" name=""/>
          <p:cNvCxnSpPr/>
          <p:nvPr/>
        </p:nvCxnSpPr>
        <p:spPr>
          <a:xfrm flipH="1" rot="10800000">
            <a:off x="1332000" y="3344040"/>
            <a:ext cx="144720" cy="2750400"/>
          </a:xfrm>
          <a:prstGeom prst="curvedConnector5">
            <a:avLst>
              <a:gd name="adj1" fmla="val -158603"/>
              <a:gd name="adj2" fmla="val 49993"/>
              <a:gd name="adj3" fmla="val -15860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369" name=""/>
          <p:cNvCxnSpPr>
            <a:endCxn id="307" idx="1"/>
          </p:cNvCxnSpPr>
          <p:nvPr/>
        </p:nvCxnSpPr>
        <p:spPr>
          <a:xfrm flipH="1" rot="16200000">
            <a:off x="454680" y="2219760"/>
            <a:ext cx="1585080" cy="68472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370" name=""/>
          <p:cNvSpPr/>
          <p:nvPr/>
        </p:nvSpPr>
        <p:spPr>
          <a:xfrm>
            <a:off x="5334120" y="13050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6232200">
            <a:off x="5438520" y="1981080"/>
            <a:ext cx="714600" cy="218880"/>
          </a:xfrm>
          <a:prstGeom prst="rightArrow">
            <a:avLst>
              <a:gd name="adj1" fmla="val 50000"/>
              <a:gd name="adj2" fmla="val 816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/>
          <p:nvPr/>
        </p:nvCxnSpPr>
        <p:spPr>
          <a:xfrm flipV="1">
            <a:off x="812880" y="3259080"/>
            <a:ext cx="437040" cy="178200"/>
          </a:xfrm>
          <a:prstGeom prst="curvedConnector5">
            <a:avLst>
              <a:gd name="adj1" fmla="val 49793"/>
              <a:gd name="adj2" fmla="val 50000"/>
              <a:gd name="adj3" fmla="val 4979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373" name=""/>
          <p:cNvSpPr/>
          <p:nvPr/>
        </p:nvSpPr>
        <p:spPr>
          <a:xfrm>
            <a:off x="5553000" y="57243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4571600">
            <a:off x="5600520" y="5190480"/>
            <a:ext cx="714240" cy="219240"/>
          </a:xfrm>
          <a:prstGeom prst="rightArrow">
            <a:avLst>
              <a:gd name="adj1" fmla="val 50000"/>
              <a:gd name="adj2" fmla="val 8144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leads" descr=""/>
          <p:cNvPicPr/>
          <p:nvPr/>
        </p:nvPicPr>
        <p:blipFill>
          <a:blip r:embed="rId18"/>
          <a:stretch/>
        </p:blipFill>
        <p:spPr>
          <a:xfrm>
            <a:off x="181080" y="1160640"/>
            <a:ext cx="1657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2066760" y="1152360"/>
          <a:ext cx="2381400" cy="1009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66760" y="1152360"/>
                    <a:ext cx="23814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8" name=""/>
          <p:cNvCxnSpPr/>
          <p:nvPr/>
        </p:nvCxnSpPr>
        <p:spPr>
          <a:xfrm flipH="1" rot="16200000">
            <a:off x="2315160" y="1950120"/>
            <a:ext cx="583560" cy="317880"/>
          </a:xfrm>
          <a:prstGeom prst="curvedConnector5">
            <a:avLst>
              <a:gd name="adj1" fmla="val 49814"/>
              <a:gd name="adj2" fmla="val 50000"/>
              <a:gd name="adj3" fmla="val 4981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379" name=""/>
          <p:cNvGraphicFramePr/>
          <p:nvPr/>
        </p:nvGraphicFramePr>
        <p:xfrm>
          <a:off x="166680" y="2814480"/>
          <a:ext cx="839880" cy="1467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6680" y="2814480"/>
                    <a:ext cx="8398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8680" y="3780000"/>
            <a:ext cx="84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23840" y="3416400"/>
            <a:ext cx="4600080" cy="1234440"/>
            <a:chOff x="123840" y="3416400"/>
            <a:chExt cx="4600080" cy="1234440"/>
          </a:xfrm>
        </p:grpSpPr>
        <p:sp>
          <p:nvSpPr>
            <p:cNvPr id="384" name=""/>
            <p:cNvSpPr/>
            <p:nvPr/>
          </p:nvSpPr>
          <p:spPr>
            <a:xfrm>
              <a:off x="261360" y="3908160"/>
              <a:ext cx="4462560" cy="742680"/>
            </a:xfrm>
            <a:prstGeom prst="parallelogram">
              <a:avLst>
                <a:gd name="adj" fmla="val 150218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068200" y="3664800"/>
              <a:ext cx="310680" cy="819000"/>
              <a:chOff x="2068200" y="3664800"/>
              <a:chExt cx="310680" cy="81900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2214000" y="4128840"/>
                <a:ext cx="156960" cy="292320"/>
                <a:chOff x="2214000" y="4128840"/>
                <a:chExt cx="156960" cy="2923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244960" y="4128840"/>
                  <a:ext cx="124560" cy="25056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307240" y="4337640"/>
                  <a:ext cx="63720" cy="835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14000" y="4128840"/>
                  <a:ext cx="0" cy="2527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2223000" y="3723480"/>
                <a:ext cx="155880" cy="288720"/>
                <a:chOff x="2223000" y="3723480"/>
                <a:chExt cx="155880" cy="2887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253960" y="3760200"/>
                  <a:ext cx="124920" cy="2494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223000" y="3760200"/>
                  <a:ext cx="0" cy="25200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2253960" y="3723480"/>
                  <a:ext cx="64080" cy="8316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 flipH="1">
                <a:off x="2315520" y="4123440"/>
                <a:ext cx="6840" cy="130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70960" y="4004640"/>
                <a:ext cx="0" cy="130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68200" y="3869280"/>
                <a:ext cx="151200" cy="385200"/>
              </a:xfrm>
              <a:custGeom>
                <a:avLst/>
                <a:gdLst/>
                <a:ahLst/>
                <a:rect l="l" t="t" r="r" b="b"/>
                <a:pathLst>
                  <a:path w="132" h="282">
                    <a:moveTo>
                      <a:pt x="132" y="0"/>
                    </a:moveTo>
                    <a:lnTo>
                      <a:pt x="0" y="0"/>
                    </a:lnTo>
                    <a:lnTo>
                      <a:pt x="0" y="282"/>
                    </a:lnTo>
                    <a:lnTo>
                      <a:pt x="126" y="282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70960" y="3664800"/>
                <a:ext cx="0" cy="97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70960" y="4377600"/>
                <a:ext cx="0" cy="106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3421440" y="3958560"/>
              <a:ext cx="229320" cy="264600"/>
              <a:chOff x="3421440" y="3958560"/>
              <a:chExt cx="229320" cy="264600"/>
            </a:xfrm>
          </p:grpSpPr>
          <p:sp>
            <p:nvSpPr>
              <p:cNvPr id="400" name=""/>
              <p:cNvSpPr/>
              <p:nvPr/>
            </p:nvSpPr>
            <p:spPr>
              <a:xfrm>
                <a:off x="3421440" y="3958560"/>
                <a:ext cx="229320" cy="264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93440" y="4048920"/>
                <a:ext cx="89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537360" y="3998160"/>
                <a:ext cx="0" cy="103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03880" y="4155480"/>
                <a:ext cx="673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flipV="1">
              <a:off x="3534840" y="3803760"/>
              <a:ext cx="0" cy="15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542040" y="4213800"/>
              <a:ext cx="0" cy="15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3840" y="3416400"/>
              <a:ext cx="4462560" cy="742680"/>
            </a:xfrm>
            <a:prstGeom prst="parallelogram">
              <a:avLst>
                <a:gd name="adj" fmla="val 150218"/>
              </a:avLst>
            </a:prstGeom>
            <a:solidFill>
              <a:srgbClr val="fc01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90600" y="1209600"/>
            <a:ext cx="3971880" cy="1629000"/>
            <a:chOff x="390600" y="1209600"/>
            <a:chExt cx="3971880" cy="1629000"/>
          </a:xfrm>
        </p:grpSpPr>
        <p:sp>
          <p:nvSpPr>
            <p:cNvPr id="408" name=""/>
            <p:cNvSpPr/>
            <p:nvPr/>
          </p:nvSpPr>
          <p:spPr>
            <a:xfrm>
              <a:off x="3188880" y="1209600"/>
              <a:ext cx="1173240" cy="162900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440" y="1209600"/>
              <a:ext cx="1485720" cy="16290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0600" y="1209600"/>
              <a:ext cx="1329480" cy="16290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600" y="1209600"/>
              <a:ext cx="3971880" cy="16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7200" y="1569240"/>
              <a:ext cx="1068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na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89720" y="1588320"/>
              <a:ext cx="1068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93280" y="1540800"/>
              <a:ext cx="1068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14440" y="290520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ypical Mixed Signal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470520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igh Speed Switching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80880" y="5210280"/>
            <a:ext cx="3324240" cy="438120"/>
            <a:chOff x="380880" y="5210280"/>
            <a:chExt cx="3324240" cy="438120"/>
          </a:xfrm>
        </p:grpSpPr>
        <p:sp>
          <p:nvSpPr>
            <p:cNvPr id="418" name=""/>
            <p:cNvSpPr/>
            <p:nvPr/>
          </p:nvSpPr>
          <p:spPr>
            <a:xfrm>
              <a:off x="380880" y="5210280"/>
              <a:ext cx="2857680" cy="438120"/>
            </a:xfrm>
            <a:custGeom>
              <a:avLst/>
              <a:gdLst/>
              <a:ahLst/>
              <a:rect l="l" t="t" r="r" b="b"/>
              <a:pathLst>
                <a:path w="1800" h="276">
                  <a:moveTo>
                    <a:pt x="0" y="264"/>
                  </a:moveTo>
                  <a:lnTo>
                    <a:pt x="180" y="264"/>
                  </a:lnTo>
                  <a:lnTo>
                    <a:pt x="282" y="0"/>
                  </a:lnTo>
                  <a:lnTo>
                    <a:pt x="678" y="0"/>
                  </a:lnTo>
                  <a:lnTo>
                    <a:pt x="762" y="270"/>
                  </a:lnTo>
                  <a:lnTo>
                    <a:pt x="1200" y="270"/>
                  </a:lnTo>
                  <a:lnTo>
                    <a:pt x="1296" y="18"/>
                  </a:lnTo>
                  <a:lnTo>
                    <a:pt x="1716" y="18"/>
                  </a:lnTo>
                  <a:lnTo>
                    <a:pt x="1800" y="276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38560" y="5638680"/>
              <a:ext cx="466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9640" y="5419800"/>
              <a:ext cx="676440" cy="114120"/>
            </a:xfrm>
            <a:prstGeom prst="leftRightArrow">
              <a:avLst>
                <a:gd name="adj1" fmla="val 50000"/>
                <a:gd name="adj2" fmla="val 118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48000" y="5419800"/>
              <a:ext cx="676080" cy="114120"/>
            </a:xfrm>
            <a:prstGeom prst="leftRightArrow">
              <a:avLst>
                <a:gd name="adj1" fmla="val 50000"/>
                <a:gd name="adj2" fmla="val 11793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76280" y="62326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ehave like Inductor GHz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5934240"/>
            <a:ext cx="1038240" cy="1807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28640" y="5959440"/>
            <a:ext cx="723960" cy="88920"/>
          </a:xfrm>
          <a:prstGeom prst="rightArrow">
            <a:avLst>
              <a:gd name="adj1" fmla="val 50000"/>
              <a:gd name="adj2" fmla="val 203543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427120" y="5942160"/>
            <a:ext cx="640800" cy="205200"/>
            <a:chOff x="2427120" y="5942160"/>
            <a:chExt cx="640800" cy="205200"/>
          </a:xfrm>
        </p:grpSpPr>
        <p:grpSp>
          <p:nvGrpSpPr>
            <p:cNvPr id="426" name=""/>
            <p:cNvGrpSpPr/>
            <p:nvPr/>
          </p:nvGrpSpPr>
          <p:grpSpPr>
            <a:xfrm>
              <a:off x="2427120" y="5942160"/>
              <a:ext cx="326520" cy="205200"/>
              <a:chOff x="2427120" y="5942160"/>
              <a:chExt cx="326520" cy="205200"/>
            </a:xfrm>
          </p:grpSpPr>
          <p:sp>
            <p:nvSpPr>
              <p:cNvPr id="427" name=""/>
              <p:cNvSpPr/>
              <p:nvPr/>
            </p:nvSpPr>
            <p:spPr>
              <a:xfrm>
                <a:off x="242712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0884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9056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7228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741400" y="5942160"/>
              <a:ext cx="326520" cy="205200"/>
              <a:chOff x="2741400" y="5942160"/>
              <a:chExt cx="326520" cy="205200"/>
            </a:xfrm>
          </p:grpSpPr>
          <p:sp>
            <p:nvSpPr>
              <p:cNvPr id="432" name=""/>
              <p:cNvSpPr/>
              <p:nvPr/>
            </p:nvSpPr>
            <p:spPr>
              <a:xfrm>
                <a:off x="274140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2312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0484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86560" y="59421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36" name="G3" descr=""/>
          <p:cNvPicPr/>
          <p:nvPr/>
        </p:nvPicPr>
        <p:blipFill>
          <a:blip r:embed="rId1"/>
          <a:stretch/>
        </p:blipFill>
        <p:spPr>
          <a:xfrm>
            <a:off x="4854600" y="4157640"/>
            <a:ext cx="3983040" cy="1905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848120" y="608976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 Fluctuation @ 3GHz (Max = 10m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05360" y="369900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 Fluctuation @ 100MHz (Max = 0.8m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G0.1" descr=""/>
          <p:cNvPicPr/>
          <p:nvPr/>
        </p:nvPicPr>
        <p:blipFill>
          <a:blip r:embed="rId2"/>
          <a:stretch/>
        </p:blipFill>
        <p:spPr>
          <a:xfrm>
            <a:off x="5022720" y="1252440"/>
            <a:ext cx="36259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8680" y="3780000"/>
            <a:ext cx="84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33480" y="5743440"/>
            <a:ext cx="78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oltage Fluctuation(Vdd-gnd) from 100MHz to 4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747800" y="1252440"/>
            <a:ext cx="56484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14360" y="3726000"/>
            <a:ext cx="4162320" cy="2806920"/>
            <a:chOff x="414360" y="3726000"/>
            <a:chExt cx="4162320" cy="2806920"/>
          </a:xfrm>
        </p:grpSpPr>
        <p:pic>
          <p:nvPicPr>
            <p:cNvPr id="445" name="decap_4c" descr=""/>
            <p:cNvPicPr/>
            <p:nvPr/>
          </p:nvPicPr>
          <p:blipFill>
            <a:blip r:embed="rId1"/>
            <a:stretch/>
          </p:blipFill>
          <p:spPr>
            <a:xfrm>
              <a:off x="414360" y="3726000"/>
              <a:ext cx="41623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066680" y="6134040"/>
              <a:ext cx="28195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4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09680" y="3730680"/>
            <a:ext cx="4160880" cy="2802240"/>
            <a:chOff x="409680" y="3730680"/>
            <a:chExt cx="4160880" cy="2802240"/>
          </a:xfrm>
        </p:grpSpPr>
        <p:pic>
          <p:nvPicPr>
            <p:cNvPr id="448" name="decap_7c" descr=""/>
            <p:cNvPicPr/>
            <p:nvPr/>
          </p:nvPicPr>
          <p:blipFill>
            <a:blip r:embed="rId2"/>
            <a:stretch/>
          </p:blipFill>
          <p:spPr>
            <a:xfrm>
              <a:off x="409680" y="3730680"/>
              <a:ext cx="416088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1076400" y="6134040"/>
              <a:ext cx="1866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3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90600" y="1343160"/>
            <a:ext cx="4190760" cy="1923840"/>
            <a:chOff x="390600" y="1343160"/>
            <a:chExt cx="4190760" cy="1923840"/>
          </a:xfrm>
        </p:grpSpPr>
        <p:grpSp>
          <p:nvGrpSpPr>
            <p:cNvPr id="452" name=""/>
            <p:cNvGrpSpPr/>
            <p:nvPr/>
          </p:nvGrpSpPr>
          <p:grpSpPr>
            <a:xfrm>
              <a:off x="390600" y="1343160"/>
              <a:ext cx="4190760" cy="1923840"/>
              <a:chOff x="390600" y="1343160"/>
              <a:chExt cx="4190760" cy="1923840"/>
            </a:xfrm>
          </p:grpSpPr>
          <p:sp>
            <p:nvSpPr>
              <p:cNvPr id="453" name=""/>
              <p:cNvSpPr/>
              <p:nvPr/>
            </p:nvSpPr>
            <p:spPr>
              <a:xfrm>
                <a:off x="3343320" y="1343160"/>
                <a:ext cx="1238040" cy="192384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84520" y="1343160"/>
                <a:ext cx="1568160" cy="192384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0600" y="1343160"/>
                <a:ext cx="1403280" cy="1923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90600" y="1343160"/>
              <a:ext cx="4190760" cy="19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90600" y="1380960"/>
            <a:ext cx="4200480" cy="1866960"/>
            <a:chOff x="390600" y="1380960"/>
            <a:chExt cx="4200480" cy="1866960"/>
          </a:xfrm>
        </p:grpSpPr>
        <p:grpSp>
          <p:nvGrpSpPr>
            <p:cNvPr id="458" name=""/>
            <p:cNvGrpSpPr/>
            <p:nvPr/>
          </p:nvGrpSpPr>
          <p:grpSpPr>
            <a:xfrm>
              <a:off x="2362320" y="1380960"/>
              <a:ext cx="285480" cy="247680"/>
              <a:chOff x="2362320" y="1380960"/>
              <a:chExt cx="285480" cy="247680"/>
            </a:xfrm>
          </p:grpSpPr>
          <p:sp>
            <p:nvSpPr>
              <p:cNvPr id="459" name=""/>
              <p:cNvSpPr/>
              <p:nvPr/>
            </p:nvSpPr>
            <p:spPr>
              <a:xfrm>
                <a:off x="2362320" y="138096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09840" y="14202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90600" y="1628640"/>
              <a:ext cx="285840" cy="247680"/>
              <a:chOff x="390600" y="1628640"/>
              <a:chExt cx="285840" cy="247680"/>
            </a:xfrm>
          </p:grpSpPr>
          <p:sp>
            <p:nvSpPr>
              <p:cNvPr id="462" name=""/>
              <p:cNvSpPr/>
              <p:nvPr/>
            </p:nvSpPr>
            <p:spPr>
              <a:xfrm>
                <a:off x="390600" y="162864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8120" y="166788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4305240" y="1380960"/>
              <a:ext cx="285840" cy="247680"/>
              <a:chOff x="4305240" y="1380960"/>
              <a:chExt cx="285840" cy="247680"/>
            </a:xfrm>
          </p:grpSpPr>
          <p:sp>
            <p:nvSpPr>
              <p:cNvPr id="465" name=""/>
              <p:cNvSpPr/>
              <p:nvPr/>
            </p:nvSpPr>
            <p:spPr>
              <a:xfrm>
                <a:off x="4305240" y="138096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52760" y="14202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428920" y="3000240"/>
              <a:ext cx="285840" cy="247680"/>
              <a:chOff x="2428920" y="3000240"/>
              <a:chExt cx="285840" cy="247680"/>
            </a:xfrm>
          </p:grpSpPr>
          <p:sp>
            <p:nvSpPr>
              <p:cNvPr id="468" name=""/>
              <p:cNvSpPr/>
              <p:nvPr/>
            </p:nvSpPr>
            <p:spPr>
              <a:xfrm>
                <a:off x="2428920" y="300024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76440" y="303948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4759200" y="1357200"/>
            <a:ext cx="3983040" cy="2401920"/>
            <a:chOff x="4759200" y="1357200"/>
            <a:chExt cx="3983040" cy="2401920"/>
          </a:xfrm>
        </p:grpSpPr>
        <p:sp>
          <p:nvSpPr>
            <p:cNvPr id="471" name=""/>
            <p:cNvSpPr/>
            <p:nvPr/>
          </p:nvSpPr>
          <p:spPr>
            <a:xfrm>
              <a:off x="4962600" y="3362400"/>
              <a:ext cx="315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759200" y="1357200"/>
              <a:ext cx="3983040" cy="2327760"/>
              <a:chOff x="4759200" y="1357200"/>
              <a:chExt cx="3983040" cy="2327760"/>
            </a:xfrm>
          </p:grpSpPr>
          <p:pic>
            <p:nvPicPr>
              <p:cNvPr id="473" name="G3" descr=""/>
              <p:cNvPicPr/>
              <p:nvPr/>
            </p:nvPicPr>
            <p:blipFill>
              <a:blip r:embed="rId3"/>
              <a:stretch/>
            </p:blipFill>
            <p:spPr>
              <a:xfrm>
                <a:off x="4759200" y="1357200"/>
                <a:ext cx="398304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5952960" y="3286080"/>
                <a:ext cx="18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Vpeak: 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4653000" y="3719520"/>
            <a:ext cx="4070160" cy="2860920"/>
            <a:chOff x="4653000" y="3719520"/>
            <a:chExt cx="4070160" cy="2860920"/>
          </a:xfrm>
        </p:grpSpPr>
        <p:pic>
          <p:nvPicPr>
            <p:cNvPr id="476" name="decap_final" descr=""/>
            <p:cNvPicPr/>
            <p:nvPr/>
          </p:nvPicPr>
          <p:blipFill>
            <a:blip r:embed="rId4"/>
            <a:stretch/>
          </p:blipFill>
          <p:spPr>
            <a:xfrm>
              <a:off x="4653000" y="3719520"/>
              <a:ext cx="40701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5038560" y="6181560"/>
              <a:ext cx="326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(20 deca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38280" y="1895400"/>
            <a:ext cx="3952440" cy="1362240"/>
            <a:chOff x="638280" y="1895400"/>
            <a:chExt cx="3952440" cy="1362240"/>
          </a:xfrm>
        </p:grpSpPr>
        <p:grpSp>
          <p:nvGrpSpPr>
            <p:cNvPr id="479" name=""/>
            <p:cNvGrpSpPr/>
            <p:nvPr/>
          </p:nvGrpSpPr>
          <p:grpSpPr>
            <a:xfrm>
              <a:off x="876240" y="1924200"/>
              <a:ext cx="3714480" cy="1333440"/>
              <a:chOff x="876240" y="1924200"/>
              <a:chExt cx="3714480" cy="13334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1599840" y="2800440"/>
                <a:ext cx="285840" cy="247680"/>
                <a:chOff x="1599840" y="2800440"/>
                <a:chExt cx="285840" cy="2476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99840" y="2800440"/>
                  <a:ext cx="285840" cy="24768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47360" y="2839680"/>
                  <a:ext cx="194760" cy="1692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876240" y="1924200"/>
                <a:ext cx="285480" cy="247680"/>
                <a:chOff x="876240" y="1924200"/>
                <a:chExt cx="285480" cy="2476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76240" y="1924200"/>
                  <a:ext cx="285480" cy="24768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923760" y="1963440"/>
                  <a:ext cx="194760" cy="1692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305240" y="3009960"/>
                <a:ext cx="285480" cy="247680"/>
                <a:chOff x="4305240" y="3009960"/>
                <a:chExt cx="285480" cy="2476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305240" y="3009960"/>
                  <a:ext cx="285480" cy="24768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352760" y="3049200"/>
                  <a:ext cx="194760" cy="1692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2381400" y="1895400"/>
              <a:ext cx="285480" cy="247680"/>
              <a:chOff x="2381400" y="1895400"/>
              <a:chExt cx="285480" cy="247680"/>
            </a:xfrm>
          </p:grpSpPr>
          <p:sp>
            <p:nvSpPr>
              <p:cNvPr id="490" name=""/>
              <p:cNvSpPr/>
              <p:nvPr/>
            </p:nvSpPr>
            <p:spPr>
              <a:xfrm>
                <a:off x="2381400" y="189540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28920" y="19346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1523880" y="2124000"/>
              <a:ext cx="285840" cy="247680"/>
              <a:chOff x="1523880" y="2124000"/>
              <a:chExt cx="285840" cy="247680"/>
            </a:xfrm>
          </p:grpSpPr>
          <p:sp>
            <p:nvSpPr>
              <p:cNvPr id="493" name=""/>
              <p:cNvSpPr/>
              <p:nvPr/>
            </p:nvSpPr>
            <p:spPr>
              <a:xfrm>
                <a:off x="1523880" y="212400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71400" y="21632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38280" y="2752560"/>
              <a:ext cx="285480" cy="247680"/>
              <a:chOff x="638280" y="2752560"/>
              <a:chExt cx="285480" cy="247680"/>
            </a:xfrm>
          </p:grpSpPr>
          <p:sp>
            <p:nvSpPr>
              <p:cNvPr id="496" name=""/>
              <p:cNvSpPr/>
              <p:nvPr/>
            </p:nvSpPr>
            <p:spPr>
              <a:xfrm>
                <a:off x="638280" y="275256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85800" y="27918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333600" y="1971720"/>
              <a:ext cx="285840" cy="247680"/>
              <a:chOff x="3333600" y="1971720"/>
              <a:chExt cx="285840" cy="247680"/>
            </a:xfrm>
          </p:grpSpPr>
          <p:sp>
            <p:nvSpPr>
              <p:cNvPr id="499" name=""/>
              <p:cNvSpPr/>
              <p:nvPr/>
            </p:nvSpPr>
            <p:spPr>
              <a:xfrm>
                <a:off x="3333600" y="197172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381120" y="201096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oupling Capacito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62600" y="3362400"/>
            <a:ext cx="31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80880" y="1371600"/>
            <a:ext cx="4191120" cy="1942920"/>
            <a:chOff x="380880" y="1371600"/>
            <a:chExt cx="4191120" cy="1942920"/>
          </a:xfrm>
        </p:grpSpPr>
        <p:sp>
          <p:nvSpPr>
            <p:cNvPr id="504" name=""/>
            <p:cNvSpPr/>
            <p:nvPr/>
          </p:nvSpPr>
          <p:spPr>
            <a:xfrm>
              <a:off x="380880" y="1371600"/>
              <a:ext cx="1393920" cy="194292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33600" y="1371600"/>
              <a:ext cx="1238400" cy="194292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32040" y="1371600"/>
              <a:ext cx="1454040" cy="194292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880" y="1371600"/>
              <a:ext cx="4191120" cy="194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62200" y="2256480"/>
              <a:ext cx="88920" cy="10548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76720" y="2237040"/>
              <a:ext cx="88920" cy="10548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divided_1" descr=""/>
          <p:cNvPicPr/>
          <p:nvPr/>
        </p:nvPicPr>
        <p:blipFill>
          <a:blip r:embed="rId1"/>
          <a:stretch/>
        </p:blipFill>
        <p:spPr>
          <a:xfrm>
            <a:off x="4719600" y="1357200"/>
            <a:ext cx="3932280" cy="19735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809960" y="3371760"/>
            <a:ext cx="36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max=10mV, Vanalog &lt; 1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24280" y="3981600"/>
            <a:ext cx="4086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an provide details of the field, current, or  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voltage distribution on EM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Base on the EM details, Given constraints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like Vmax, total mean noise and the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number and value of decoupling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capacitors, might be able to create an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optimization tool for decoupling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 capacitor plac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095560" y="1533600"/>
            <a:ext cx="904680" cy="1628640"/>
            <a:chOff x="2095560" y="1533600"/>
            <a:chExt cx="904680" cy="1628640"/>
          </a:xfrm>
        </p:grpSpPr>
        <p:grpSp>
          <p:nvGrpSpPr>
            <p:cNvPr id="514" name=""/>
            <p:cNvGrpSpPr/>
            <p:nvPr/>
          </p:nvGrpSpPr>
          <p:grpSpPr>
            <a:xfrm>
              <a:off x="2714760" y="1971720"/>
              <a:ext cx="285480" cy="247680"/>
              <a:chOff x="2714760" y="1971720"/>
              <a:chExt cx="285480" cy="247680"/>
            </a:xfrm>
          </p:grpSpPr>
          <p:sp>
            <p:nvSpPr>
              <p:cNvPr id="515" name=""/>
              <p:cNvSpPr/>
              <p:nvPr/>
            </p:nvSpPr>
            <p:spPr>
              <a:xfrm>
                <a:off x="2714760" y="1971720"/>
                <a:ext cx="28548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62280" y="201096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095560" y="1952640"/>
              <a:ext cx="285840" cy="247680"/>
              <a:chOff x="2095560" y="1952640"/>
              <a:chExt cx="285840" cy="247680"/>
            </a:xfrm>
          </p:grpSpPr>
          <p:sp>
            <p:nvSpPr>
              <p:cNvPr id="518" name=""/>
              <p:cNvSpPr/>
              <p:nvPr/>
            </p:nvSpPr>
            <p:spPr>
              <a:xfrm>
                <a:off x="2095560" y="195264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143080" y="199188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104920" y="2914560"/>
              <a:ext cx="285840" cy="247680"/>
              <a:chOff x="2104920" y="2914560"/>
              <a:chExt cx="285840" cy="247680"/>
            </a:xfrm>
          </p:grpSpPr>
          <p:sp>
            <p:nvSpPr>
              <p:cNvPr id="521" name=""/>
              <p:cNvSpPr/>
              <p:nvPr/>
            </p:nvSpPr>
            <p:spPr>
              <a:xfrm>
                <a:off x="2104920" y="291456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152440" y="29538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2685960" y="2895480"/>
              <a:ext cx="285840" cy="247680"/>
              <a:chOff x="2685960" y="2895480"/>
              <a:chExt cx="285840" cy="247680"/>
            </a:xfrm>
          </p:grpSpPr>
          <p:sp>
            <p:nvSpPr>
              <p:cNvPr id="524" name=""/>
              <p:cNvSpPr/>
              <p:nvPr/>
            </p:nvSpPr>
            <p:spPr>
              <a:xfrm>
                <a:off x="2685960" y="289548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733480" y="293472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104920" y="2523960"/>
              <a:ext cx="285840" cy="247680"/>
              <a:chOff x="2104920" y="2523960"/>
              <a:chExt cx="285840" cy="247680"/>
            </a:xfrm>
          </p:grpSpPr>
          <p:sp>
            <p:nvSpPr>
              <p:cNvPr id="527" name=""/>
              <p:cNvSpPr/>
              <p:nvPr/>
            </p:nvSpPr>
            <p:spPr>
              <a:xfrm>
                <a:off x="2104920" y="252396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52440" y="256320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685960" y="2505240"/>
              <a:ext cx="285840" cy="247320"/>
              <a:chOff x="2685960" y="2505240"/>
              <a:chExt cx="285840" cy="247320"/>
            </a:xfrm>
          </p:grpSpPr>
          <p:sp>
            <p:nvSpPr>
              <p:cNvPr id="530" name=""/>
              <p:cNvSpPr/>
              <p:nvPr/>
            </p:nvSpPr>
            <p:spPr>
              <a:xfrm>
                <a:off x="2685960" y="2505240"/>
                <a:ext cx="285840" cy="24732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733480" y="2544120"/>
                <a:ext cx="194760" cy="1688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095560" y="1533600"/>
              <a:ext cx="285840" cy="247680"/>
              <a:chOff x="2095560" y="1533600"/>
              <a:chExt cx="285840" cy="247680"/>
            </a:xfrm>
          </p:grpSpPr>
          <p:sp>
            <p:nvSpPr>
              <p:cNvPr id="533" name=""/>
              <p:cNvSpPr/>
              <p:nvPr/>
            </p:nvSpPr>
            <p:spPr>
              <a:xfrm>
                <a:off x="2095560" y="153360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43080" y="15728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676600" y="1533600"/>
              <a:ext cx="285840" cy="247680"/>
              <a:chOff x="2676600" y="1533600"/>
              <a:chExt cx="285840" cy="247680"/>
            </a:xfrm>
          </p:grpSpPr>
          <p:sp>
            <p:nvSpPr>
              <p:cNvPr id="536" name=""/>
              <p:cNvSpPr/>
              <p:nvPr/>
            </p:nvSpPr>
            <p:spPr>
              <a:xfrm>
                <a:off x="2676600" y="1533600"/>
                <a:ext cx="285840" cy="2476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724120" y="1572840"/>
                <a:ext cx="194760" cy="1692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04720" y="3797280"/>
            <a:ext cx="4179960" cy="2859480"/>
            <a:chOff x="504720" y="3797280"/>
            <a:chExt cx="4179960" cy="2859480"/>
          </a:xfrm>
        </p:grpSpPr>
        <p:pic>
          <p:nvPicPr>
            <p:cNvPr id="539" name="decal_split_ground_final" descr=""/>
            <p:cNvPicPr/>
            <p:nvPr/>
          </p:nvPicPr>
          <p:blipFill>
            <a:blip r:embed="rId2"/>
            <a:stretch/>
          </p:blipFill>
          <p:spPr>
            <a:xfrm>
              <a:off x="504720" y="3797280"/>
              <a:ext cx="4179960" cy="24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552680" y="6257880"/>
              <a:ext cx="188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7360" y="2221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ow Noise Amplifier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962600" y="3362400"/>
            <a:ext cx="31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76200" y="1655640"/>
            <a:ext cx="4932360" cy="3325680"/>
            <a:chOff x="376200" y="1655640"/>
            <a:chExt cx="4932360" cy="3325680"/>
          </a:xfrm>
        </p:grpSpPr>
        <p:grpSp>
          <p:nvGrpSpPr>
            <p:cNvPr id="544" name=""/>
            <p:cNvGrpSpPr/>
            <p:nvPr/>
          </p:nvGrpSpPr>
          <p:grpSpPr>
            <a:xfrm>
              <a:off x="2625840" y="4403520"/>
              <a:ext cx="279360" cy="341280"/>
              <a:chOff x="2625840" y="4403520"/>
              <a:chExt cx="279360" cy="341280"/>
            </a:xfrm>
          </p:grpSpPr>
          <p:sp>
            <p:nvSpPr>
              <p:cNvPr id="545" name=""/>
              <p:cNvSpPr/>
              <p:nvPr/>
            </p:nvSpPr>
            <p:spPr>
              <a:xfrm>
                <a:off x="2625840" y="440352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67320" y="4420800"/>
                <a:ext cx="0" cy="276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31320" y="4658400"/>
                <a:ext cx="71640" cy="4068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25840" y="4518360"/>
                <a:ext cx="279360" cy="2264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rot="10800000">
              <a:off x="965160" y="2939400"/>
              <a:ext cx="249120" cy="1047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160000" y="3735000"/>
              <a:ext cx="205200" cy="326880"/>
              <a:chOff x="2160000" y="3735000"/>
              <a:chExt cx="205200" cy="326880"/>
            </a:xfrm>
          </p:grpSpPr>
          <p:sp>
            <p:nvSpPr>
              <p:cNvPr id="551" name=""/>
              <p:cNvSpPr/>
              <p:nvPr/>
            </p:nvSpPr>
            <p:spPr>
              <a:xfrm rot="5400000">
                <a:off x="2221920" y="36730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400000">
                <a:off x="2221920" y="37548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5400000">
                <a:off x="2221920" y="38365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5400000">
                <a:off x="2221920" y="391860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2262240" y="348588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62240" y="4062240"/>
              <a:ext cx="546120" cy="16344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2240" y="2857320"/>
              <a:ext cx="0" cy="326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160000" y="1992240"/>
              <a:ext cx="205200" cy="326520"/>
              <a:chOff x="2160000" y="1992240"/>
              <a:chExt cx="205200" cy="326520"/>
            </a:xfrm>
          </p:grpSpPr>
          <p:sp>
            <p:nvSpPr>
              <p:cNvPr id="559" name=""/>
              <p:cNvSpPr/>
              <p:nvPr/>
            </p:nvSpPr>
            <p:spPr>
              <a:xfrm rot="5400000">
                <a:off x="2221920" y="193032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5400000">
                <a:off x="2221920" y="201204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5400000">
                <a:off x="2221920" y="209376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5400000">
                <a:off x="2221920" y="2175480"/>
                <a:ext cx="81360" cy="20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262240" y="232380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62240" y="1742760"/>
              <a:ext cx="0" cy="244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89000" y="1742760"/>
              <a:ext cx="958680" cy="97812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384200" y="3260520"/>
              <a:ext cx="415440" cy="161280"/>
              <a:chOff x="1384200" y="3260520"/>
              <a:chExt cx="415440" cy="161280"/>
            </a:xfrm>
          </p:grpSpPr>
          <p:sp>
            <p:nvSpPr>
              <p:cNvPr id="567" name=""/>
              <p:cNvSpPr/>
              <p:nvPr/>
            </p:nvSpPr>
            <p:spPr>
              <a:xfrm>
                <a:off x="138420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8824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9192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695960" y="3260520"/>
                <a:ext cx="10368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1008000" y="3222360"/>
              <a:ext cx="66600" cy="243000"/>
              <a:chOff x="1008000" y="3222360"/>
              <a:chExt cx="66600" cy="243000"/>
            </a:xfrm>
          </p:grpSpPr>
          <p:sp>
            <p:nvSpPr>
              <p:cNvPr id="572" name=""/>
              <p:cNvSpPr/>
              <p:nvPr/>
            </p:nvSpPr>
            <p:spPr>
              <a:xfrm>
                <a:off x="1008000" y="32223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074600" y="3222360"/>
                <a:ext cx="0" cy="2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2047680" y="2568240"/>
              <a:ext cx="217800" cy="341280"/>
              <a:chOff x="2047680" y="2568240"/>
              <a:chExt cx="217800" cy="341280"/>
            </a:xfrm>
          </p:grpSpPr>
          <p:sp>
            <p:nvSpPr>
              <p:cNvPr id="575" name=""/>
              <p:cNvSpPr/>
              <p:nvPr/>
            </p:nvSpPr>
            <p:spPr>
              <a:xfrm>
                <a:off x="2090520" y="256824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77280" y="281196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47680" y="256824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047680" y="3197160"/>
              <a:ext cx="217800" cy="341280"/>
              <a:chOff x="2047680" y="3197160"/>
              <a:chExt cx="217800" cy="341280"/>
            </a:xfrm>
          </p:grpSpPr>
          <p:sp>
            <p:nvSpPr>
              <p:cNvPr id="579" name=""/>
              <p:cNvSpPr/>
              <p:nvPr/>
            </p:nvSpPr>
            <p:spPr>
              <a:xfrm>
                <a:off x="2090520" y="3197160"/>
                <a:ext cx="172800" cy="2926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77280" y="3440880"/>
                <a:ext cx="88200" cy="9756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47680" y="3197160"/>
                <a:ext cx="0" cy="294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614160" y="4170240"/>
              <a:ext cx="3175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4240" y="4259160"/>
              <a:ext cx="1238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74720" y="4209840"/>
              <a:ext cx="0" cy="101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663480" y="3890520"/>
              <a:ext cx="218880" cy="11772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4720" y="4059000"/>
              <a:ext cx="0" cy="111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414720" y="4185360"/>
              <a:ext cx="153360" cy="93240"/>
              <a:chOff x="414720" y="4185360"/>
              <a:chExt cx="153360" cy="93240"/>
            </a:xfrm>
          </p:grpSpPr>
          <p:sp>
            <p:nvSpPr>
              <p:cNvPr id="588" name=""/>
              <p:cNvSpPr/>
              <p:nvPr/>
            </p:nvSpPr>
            <p:spPr>
              <a:xfrm rot="16462800">
                <a:off x="414360" y="419904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5137200">
                <a:off x="488520" y="4190760"/>
                <a:ext cx="79920" cy="73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776160" y="3341520"/>
              <a:ext cx="231840" cy="49860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1800000" y="3341520"/>
              <a:ext cx="247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1720" y="2887560"/>
              <a:ext cx="4269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8640" y="4363920"/>
              <a:ext cx="93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666720" y="4652640"/>
              <a:ext cx="217440" cy="52560"/>
              <a:chOff x="666720" y="4652640"/>
              <a:chExt cx="217440" cy="52560"/>
            </a:xfrm>
          </p:grpSpPr>
          <p:sp>
            <p:nvSpPr>
              <p:cNvPr id="595" name=""/>
              <p:cNvSpPr/>
              <p:nvPr/>
            </p:nvSpPr>
            <p:spPr>
              <a:xfrm>
                <a:off x="666720" y="465264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18920" y="467892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49160" y="470520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776160" y="4430520"/>
              <a:ext cx="0" cy="222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360" y="3328920"/>
              <a:ext cx="30240" cy="27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14280" y="2992320"/>
              <a:ext cx="61920" cy="3538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887400" y="2992320"/>
              <a:ext cx="77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1709640" y="2271600"/>
              <a:ext cx="65160" cy="255600"/>
              <a:chOff x="1709640" y="2271600"/>
              <a:chExt cx="65160" cy="255600"/>
            </a:xfrm>
          </p:grpSpPr>
          <p:sp>
            <p:nvSpPr>
              <p:cNvPr id="603" name=""/>
              <p:cNvSpPr/>
              <p:nvPr/>
            </p:nvSpPr>
            <p:spPr>
              <a:xfrm>
                <a:off x="1709640" y="22716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74800" y="2271600"/>
                <a:ext cx="0" cy="255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 flipH="1">
              <a:off x="1569960" y="2403360"/>
              <a:ext cx="1396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71560" y="2403360"/>
              <a:ext cx="496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074600" y="3346200"/>
              <a:ext cx="3096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00040" y="2363400"/>
              <a:ext cx="169920" cy="79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52520" y="239040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703960" y="1747800"/>
              <a:ext cx="2391480" cy="2957040"/>
              <a:chOff x="2703960" y="1747800"/>
              <a:chExt cx="2391480" cy="2957040"/>
            </a:xfrm>
          </p:grpSpPr>
          <p:sp>
            <p:nvSpPr>
              <p:cNvPr id="611" name=""/>
              <p:cNvSpPr/>
              <p:nvPr/>
            </p:nvSpPr>
            <p:spPr>
              <a:xfrm flipH="1" rot="10800000">
                <a:off x="4297320" y="2943360"/>
                <a:ext cx="248040" cy="1044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3146040" y="3736800"/>
                <a:ext cx="207360" cy="325440"/>
                <a:chOff x="3146040" y="3736800"/>
                <a:chExt cx="207360" cy="325440"/>
              </a:xfrm>
            </p:grpSpPr>
            <p:sp>
              <p:nvSpPr>
                <p:cNvPr id="613" name=""/>
                <p:cNvSpPr/>
                <p:nvPr/>
              </p:nvSpPr>
              <p:spPr>
                <a:xfrm flipH="1" rot="16200000">
                  <a:off x="3209400" y="36734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rot="16200000">
                  <a:off x="3209400" y="37548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rot="16200000">
                  <a:off x="3209400" y="38365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rot="16200000">
                  <a:off x="3209400" y="391824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3249720" y="348804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703960" y="4064040"/>
                <a:ext cx="545760" cy="1623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49720" y="2859840"/>
                <a:ext cx="0" cy="326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3146040" y="1997280"/>
                <a:ext cx="207360" cy="325440"/>
                <a:chOff x="3146040" y="1997280"/>
                <a:chExt cx="207360" cy="325440"/>
              </a:xfrm>
            </p:grpSpPr>
            <p:sp>
              <p:nvSpPr>
                <p:cNvPr id="621" name=""/>
                <p:cNvSpPr/>
                <p:nvPr/>
              </p:nvSpPr>
              <p:spPr>
                <a:xfrm flipH="1" rot="16200000">
                  <a:off x="3209400" y="19339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 rot="16200000">
                  <a:off x="3209400" y="201528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rot="16200000">
                  <a:off x="3209400" y="209700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16200000">
                  <a:off x="3209400" y="2178720"/>
                  <a:ext cx="806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>
                <a:off x="3249720" y="232812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49720" y="1747800"/>
                <a:ext cx="0" cy="243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463560" y="1747800"/>
                <a:ext cx="957600" cy="97668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3711960" y="3262680"/>
                <a:ext cx="414720" cy="162000"/>
                <a:chOff x="3711960" y="3262680"/>
                <a:chExt cx="414720" cy="162000"/>
              </a:xfrm>
            </p:grpSpPr>
            <p:sp>
              <p:nvSpPr>
                <p:cNvPr id="629" name=""/>
                <p:cNvSpPr/>
                <p:nvPr/>
              </p:nvSpPr>
              <p:spPr>
                <a:xfrm flipH="1">
                  <a:off x="402300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>
                  <a:off x="391932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381564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>
                  <a:off x="3711600" y="326268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437000" y="3224520"/>
                <a:ext cx="65160" cy="241920"/>
                <a:chOff x="4437000" y="3224520"/>
                <a:chExt cx="65160" cy="2419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02160" y="32245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437000" y="3224520"/>
                  <a:ext cx="0" cy="2419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3246480" y="2571840"/>
                <a:ext cx="217080" cy="340200"/>
                <a:chOff x="3246480" y="2571840"/>
                <a:chExt cx="217080" cy="340200"/>
              </a:xfrm>
            </p:grpSpPr>
            <p:sp>
              <p:nvSpPr>
                <p:cNvPr id="637" name=""/>
                <p:cNvSpPr/>
                <p:nvPr/>
              </p:nvSpPr>
              <p:spPr>
                <a:xfrm flipH="1">
                  <a:off x="3248640" y="257184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246120" y="281484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463560" y="257184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246480" y="3200400"/>
                <a:ext cx="217080" cy="340200"/>
                <a:chOff x="3246480" y="3200400"/>
                <a:chExt cx="217080" cy="340200"/>
              </a:xfrm>
            </p:grpSpPr>
            <p:sp>
              <p:nvSpPr>
                <p:cNvPr id="641" name=""/>
                <p:cNvSpPr/>
                <p:nvPr/>
              </p:nvSpPr>
              <p:spPr>
                <a:xfrm flipH="1">
                  <a:off x="3248640" y="3200400"/>
                  <a:ext cx="172080" cy="29160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3246120" y="344340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463560" y="3200400"/>
                  <a:ext cx="0" cy="294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 flipH="1">
                <a:off x="4579560" y="4171320"/>
                <a:ext cx="316440" cy="258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672800" y="4260240"/>
                <a:ext cx="12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4735800" y="4210560"/>
                <a:ext cx="0" cy="1008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rot="5400000">
                <a:off x="4628520" y="3891960"/>
                <a:ext cx="218520" cy="11700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735800" y="40600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4942440" y="4186800"/>
                <a:ext cx="153000" cy="91440"/>
                <a:chOff x="4942440" y="4186800"/>
                <a:chExt cx="153000" cy="91440"/>
              </a:xfrm>
            </p:grpSpPr>
            <p:sp>
              <p:nvSpPr>
                <p:cNvPr id="650" name=""/>
                <p:cNvSpPr/>
                <p:nvPr/>
              </p:nvSpPr>
              <p:spPr>
                <a:xfrm flipH="1" rot="5137200">
                  <a:off x="5016240" y="419940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 rot="16462800">
                  <a:off x="4942080" y="4191480"/>
                  <a:ext cx="78480" cy="7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 flipH="1">
                <a:off x="4502160" y="3344400"/>
                <a:ext cx="232200" cy="4971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63920" y="3344400"/>
                <a:ext cx="248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4688280" y="4365000"/>
                <a:ext cx="92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4626360" y="4652640"/>
                <a:ext cx="216720" cy="52200"/>
                <a:chOff x="4626360" y="4652640"/>
                <a:chExt cx="216720" cy="52200"/>
              </a:xfrm>
            </p:grpSpPr>
            <p:sp>
              <p:nvSpPr>
                <p:cNvPr id="656" name=""/>
                <p:cNvSpPr/>
                <p:nvPr/>
              </p:nvSpPr>
              <p:spPr>
                <a:xfrm flipH="1">
                  <a:off x="4626360" y="4652640"/>
                  <a:ext cx="216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4678920" y="4678560"/>
                  <a:ext cx="11196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4708800" y="4704840"/>
                  <a:ext cx="52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>
                <a:off x="4734720" y="4430520"/>
                <a:ext cx="0" cy="22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4219920" y="333108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235400" y="2995560"/>
                <a:ext cx="61920" cy="35316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545720" y="2995560"/>
                <a:ext cx="77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3736080" y="2275560"/>
                <a:ext cx="65160" cy="254880"/>
                <a:chOff x="3736080" y="2275560"/>
                <a:chExt cx="65160" cy="2548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3801240" y="22755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736080" y="2275560"/>
                  <a:ext cx="0" cy="254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" name=""/>
              <p:cNvSpPr/>
              <p:nvPr/>
            </p:nvSpPr>
            <p:spPr>
              <a:xfrm>
                <a:off x="3801600" y="2406600"/>
                <a:ext cx="139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242880" y="2406600"/>
                <a:ext cx="496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27040" y="3349080"/>
                <a:ext cx="3099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3940560" y="2367360"/>
                <a:ext cx="170280" cy="7848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227400" y="2393640"/>
                <a:ext cx="30600" cy="259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655720" y="4929120"/>
              <a:ext cx="217440" cy="52200"/>
              <a:chOff x="2655720" y="4929120"/>
              <a:chExt cx="217440" cy="52200"/>
            </a:xfrm>
          </p:grpSpPr>
          <p:sp>
            <p:nvSpPr>
              <p:cNvPr id="672" name=""/>
              <p:cNvSpPr/>
              <p:nvPr/>
            </p:nvSpPr>
            <p:spPr>
              <a:xfrm flipH="1">
                <a:off x="2655720" y="4929120"/>
                <a:ext cx="217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708640" y="4955040"/>
                <a:ext cx="1123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738520" y="4981320"/>
                <a:ext cx="52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2765520" y="4232160"/>
              <a:ext cx="0" cy="156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749320" y="421920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65520" y="4744800"/>
              <a:ext cx="0" cy="184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872640" y="1747800"/>
              <a:ext cx="3551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074600" y="1734840"/>
              <a:ext cx="3024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252520" y="1734840"/>
              <a:ext cx="316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3229920" y="1734840"/>
              <a:ext cx="29880" cy="255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29174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6200" y="4350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983120" y="4350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38120" y="216828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7240" y="212868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38280" y="2103120"/>
              <a:ext cx="327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35080" y="2089080"/>
              <a:ext cx="3254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880" y="30621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19600" y="304920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23880" y="3784320"/>
              <a:ext cx="3254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35080" y="377172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1720" y="165564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67120" y="4485960"/>
              <a:ext cx="325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5234040" y="1411200"/>
            <a:ext cx="3387600" cy="25434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609480" y="5143680"/>
            <a:ext cx="45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ow Noise Amplifier @ 5.6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248440" y="4181400"/>
            <a:ext cx="3752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fficul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curate Inductor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utual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ign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EE/CSE</cp:lastModifiedBy>
  <cp:lastPrinted>2001-05-19T16:33:31Z</cp:lastPrinted>
  <dcterms:modified xsi:type="dcterms:W3CDTF">2002-12-11T16:23:02Z</dcterms:modified>
  <cp:revision>265</cp:revision>
  <dc:subject>DARPA NeoCAD Program Kickoff Presentation</dc:subject>
  <dc:title>CoSMoS Project Overview</dc:title>
</cp:coreProperties>
</file>