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618B5-EC99-474A-91A9-E04FC1EF0A35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sample presentation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03CA-05E3-4AD5-A562-70509353F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94400"/>
            <a:ext cx="77724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ADE8-23A7-4092-AF69-7E00A06DA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9440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9440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1FED-EC2F-4CE9-841A-23090E1E2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9440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9440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9440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6149-83A4-4A5F-85E8-E72757DE2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A558-6BE2-49FD-9D07-73B59238C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14C0-277C-4F30-AE9B-3A2558F1A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60D3-4B2C-4221-A65C-22D0D3AC2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2547-A04D-4EB1-9EBD-E3D5823FF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105E-CB37-4111-B8EC-E37E62E3C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9440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D43D-56A1-48CB-8C89-5FE26BC9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9440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FD2D-A5F3-4B09-955B-0F89D10B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94400"/>
            <a:ext cx="77724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4425-E88F-44B1-B8B9-FE15BAF5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E1C06-3D5B-41D1-8964-4ABE2039E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28600" y="863640"/>
            <a:ext cx="6910560" cy="30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0000"/>
                </a:solidFill>
                <a:latin typeface="Arial"/>
              </a:rPr>
              <a:t>IPRAIL</a:t>
            </a:r>
            <a:r>
              <a:rPr b="1" lang="en-US" sz="4600" spc="-1" strike="noStrike">
                <a:solidFill>
                  <a:srgbClr val="003399"/>
                </a:solidFill>
                <a:latin typeface="Arial"/>
              </a:rPr>
              <a:t>: </a:t>
            </a: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I</a:t>
            </a:r>
            <a:r>
              <a:rPr b="1" lang="en-US" sz="4600" spc="-1" strike="noStrike">
                <a:solidFill>
                  <a:srgbClr val="003399"/>
                </a:solidFill>
                <a:latin typeface="Arial"/>
              </a:rPr>
              <a:t>ntellectual </a:t>
            </a: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1" lang="en-US" sz="4600" spc="-1" strike="noStrike">
                <a:solidFill>
                  <a:srgbClr val="003399"/>
                </a:solidFill>
                <a:latin typeface="Arial"/>
              </a:rPr>
              <a:t>roperty </a:t>
            </a: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R</a:t>
            </a:r>
            <a:r>
              <a:rPr b="1" lang="en-US" sz="4600" spc="-1" strike="noStrike">
                <a:solidFill>
                  <a:srgbClr val="003399"/>
                </a:solidFill>
                <a:latin typeface="Arial"/>
              </a:rPr>
              <a:t>euse-based </a:t>
            </a: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1" lang="en-US" sz="4600" spc="-1" strike="noStrike">
                <a:solidFill>
                  <a:srgbClr val="003399"/>
                </a:solidFill>
                <a:latin typeface="Arial"/>
              </a:rPr>
              <a:t>nalog/RF </a:t>
            </a: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I</a:t>
            </a:r>
            <a:r>
              <a:rPr b="1" lang="en-US" sz="4600" spc="-1" strike="noStrike">
                <a:solidFill>
                  <a:srgbClr val="003399"/>
                </a:solidFill>
                <a:latin typeface="Arial"/>
              </a:rPr>
              <a:t>C </a:t>
            </a: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L</a:t>
            </a:r>
            <a:r>
              <a:rPr b="1" lang="en-US" sz="4600" spc="-1" strike="noStrike">
                <a:solidFill>
                  <a:srgbClr val="003399"/>
                </a:solidFill>
                <a:latin typeface="Arial"/>
              </a:rPr>
              <a:t>ayout</a:t>
            </a:r>
            <a:br>
              <a:rPr sz="4600"/>
            </a:br>
            <a:br>
              <a:rPr sz="3200"/>
            </a:b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Automatic Analog/RF Layout Retargeting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6800" y="5319720"/>
            <a:ext cx="1447920" cy="60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" name=""/>
          <p:cNvGraphicFramePr/>
          <p:nvPr/>
        </p:nvGraphicFramePr>
        <p:xfrm>
          <a:off x="4424400" y="5243400"/>
          <a:ext cx="820800" cy="838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4400" y="5243400"/>
                    <a:ext cx="82080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7551720" y="5243400"/>
            <a:ext cx="746280" cy="7621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98400" y="4027320"/>
            <a:ext cx="777240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28680" y="6318360"/>
            <a:ext cx="701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* This research is also supported in part by National Science Found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0294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IPRAIL Internal Flow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0" y="1046160"/>
          <a:ext cx="9144000" cy="502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46160"/>
                    <a:ext cx="9144000" cy="50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Example:  Cascode Amplifier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25" name="25_cascode_circled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5791320" cy="36576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57200" y="563868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Original Layout in TSMC 0.25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00800" y="1523880"/>
            <a:ext cx="2514600" cy="2654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Vdd </a:t>
            </a: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2.5V</a:t>
            </a:r>
            <a:br>
              <a:rPr sz="2400"/>
            </a:b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Gain </a:t>
            </a: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60.9dB</a:t>
            </a:r>
            <a:br>
              <a:rPr sz="2400"/>
            </a:b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BW </a:t>
            </a: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51.7MHz</a:t>
            </a:r>
            <a:br>
              <a:rPr sz="2400"/>
            </a:b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PM </a:t>
            </a: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63</a:t>
            </a:r>
            <a:r>
              <a:rPr b="0" lang="en-US" sz="2400" spc="-1" strike="noStrike">
                <a:solidFill>
                  <a:srgbClr val="3366cc"/>
                </a:solidFill>
                <a:latin typeface="Symbol"/>
                <a:ea typeface="Symbol"/>
              </a:rPr>
              <a:t></a:t>
            </a:r>
            <a:br>
              <a:rPr sz="2400"/>
            </a:b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GM </a:t>
            </a: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12.5dB</a:t>
            </a:r>
            <a:br>
              <a:rPr sz="2400"/>
            </a:b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Power 1.48mW</a:t>
            </a:r>
            <a:br>
              <a:rPr sz="2400"/>
            </a:b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Area </a:t>
            </a: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4,813</a:t>
            </a:r>
            <a:r>
              <a:rPr b="0" i="1" lang="en-US" sz="2400" spc="-1" strike="noStrike">
                <a:solidFill>
                  <a:srgbClr val="3366cc"/>
                </a:solidFill>
                <a:latin typeface="Arial"/>
              </a:rPr>
              <a:t>um</a:t>
            </a:r>
            <a:r>
              <a:rPr b="0" i="1" lang="en-US" sz="2400" spc="-1" strike="noStrike" baseline="30000">
                <a:solidFill>
                  <a:srgbClr val="3366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6400800" y="4876920"/>
          <a:ext cx="2514600" cy="130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00800" y="4876920"/>
                    <a:ext cx="2514600" cy="13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Example:  Cascode Amplifier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563868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arget Layout in TSMC 0.18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805360" y="1417680"/>
            <a:ext cx="2911680" cy="2654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Vdd </a:t>
            </a: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1.8V</a:t>
            </a:r>
            <a:br>
              <a:rPr sz="2400"/>
            </a:b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Gain </a:t>
            </a: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60.6dB</a:t>
            </a:r>
            <a:br>
              <a:rPr sz="2400"/>
            </a:b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BW </a:t>
            </a: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63.5MHz</a:t>
            </a:r>
            <a:br>
              <a:rPr sz="2400"/>
            </a:b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PM </a:t>
            </a: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71</a:t>
            </a:r>
            <a:r>
              <a:rPr b="0" lang="en-US" sz="2400" spc="-1" strike="noStrike">
                <a:solidFill>
                  <a:srgbClr val="3366cc"/>
                </a:solidFill>
                <a:latin typeface="Symbol"/>
                <a:ea typeface="Symbol"/>
              </a:rPr>
              <a:t></a:t>
            </a:r>
            <a:br>
              <a:rPr sz="2400"/>
            </a:b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GM </a:t>
            </a: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10.5dB</a:t>
            </a:r>
            <a:br>
              <a:rPr sz="2400"/>
            </a:b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Power 0.88mW</a:t>
            </a:r>
            <a:br>
              <a:rPr sz="2400"/>
            </a:b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Area </a:t>
            </a: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2,083</a:t>
            </a:r>
            <a:r>
              <a:rPr b="0" i="1" lang="en-US" sz="2400" spc="-1" strike="noStrike">
                <a:solidFill>
                  <a:srgbClr val="3366cc"/>
                </a:solidFill>
                <a:latin typeface="Arial"/>
              </a:rPr>
              <a:t>um</a:t>
            </a:r>
            <a:r>
              <a:rPr b="0" i="1" lang="en-US" sz="2400" spc="-1" strike="noStrike" baseline="30000">
                <a:solidFill>
                  <a:srgbClr val="3366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18_tar_cascode" descr=""/>
          <p:cNvPicPr/>
          <p:nvPr/>
        </p:nvPicPr>
        <p:blipFill>
          <a:blip r:embed="rId1"/>
          <a:stretch/>
        </p:blipFill>
        <p:spPr>
          <a:xfrm>
            <a:off x="663480" y="1533600"/>
            <a:ext cx="4606920" cy="3270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4" name=""/>
          <p:cNvGraphicFramePr/>
          <p:nvPr/>
        </p:nvGraphicFramePr>
        <p:xfrm>
          <a:off x="6400800" y="4876920"/>
          <a:ext cx="2514600" cy="130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00800" y="4876920"/>
                    <a:ext cx="2514600" cy="13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Ongoing Work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2720" y="817560"/>
            <a:ext cx="826452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ive devi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828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282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28200"/>
                </a:solidFill>
                <a:latin typeface="Arial"/>
              </a:rPr>
              <a:t>Detection, extraction and retarg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828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282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28200"/>
                </a:solidFill>
                <a:latin typeface="Arial"/>
              </a:rPr>
              <a:t>Resistor, inductor and capac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828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282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28200"/>
                </a:solidFill>
                <a:latin typeface="Arial"/>
              </a:rPr>
              <a:t>Symmetry between passive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828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a/contact clus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828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282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28200"/>
                </a:solidFill>
                <a:latin typeface="Arial"/>
              </a:rPr>
              <a:t>Reducing problem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828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archical symmetry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828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282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28200"/>
                </a:solidFill>
                <a:latin typeface="Arial"/>
              </a:rPr>
              <a:t>Automatic gathering of match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828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282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28200"/>
                </a:solidFill>
                <a:latin typeface="Arial"/>
              </a:rPr>
              <a:t>Reducing problem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parasitic ex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828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282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28200"/>
                </a:solidFill>
                <a:latin typeface="Arial"/>
              </a:rPr>
              <a:t>Pattern matching based RC ex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 rot="5400000">
            <a:off x="1837800" y="-506160"/>
            <a:ext cx="5407200" cy="8442360"/>
          </a:xfrm>
          <a:prstGeom prst="rtTriangl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911240" y="685800"/>
            <a:ext cx="3740400" cy="263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7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bffff"/>
                </a:solidFill>
                <a:latin typeface="Arial Black"/>
              </a:rPr>
              <a:t>Extension with synthesis too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1bffff"/>
              </a:solidFill>
              <a:latin typeface="Arial Black"/>
              <a:ea typeface="Arial Black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320040" y="1004760"/>
            <a:ext cx="8442360" cy="5413680"/>
          </a:xfrm>
          <a:prstGeom prst="rtTriangl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711760" y="3362400"/>
            <a:ext cx="2425680" cy="251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7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a1f"/>
                </a:solidFill>
                <a:latin typeface="Arial Black"/>
              </a:rPr>
              <a:t>Original IPRAI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a1f"/>
              </a:solidFill>
              <a:latin typeface="Arial Black"/>
              <a:ea typeface="Arial Black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Expanded IPRAIL Design Flow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519120" y="1617840"/>
            <a:ext cx="8148600" cy="4701960"/>
            <a:chOff x="519120" y="1617840"/>
            <a:chExt cx="8148600" cy="4701960"/>
          </a:xfrm>
        </p:grpSpPr>
        <p:sp>
          <p:nvSpPr>
            <p:cNvPr id="144" name=""/>
            <p:cNvSpPr/>
            <p:nvPr/>
          </p:nvSpPr>
          <p:spPr>
            <a:xfrm>
              <a:off x="5896080" y="2879640"/>
              <a:ext cx="1504800" cy="1146240"/>
            </a:xfrm>
            <a:custGeom>
              <a:avLst/>
              <a:gdLst/>
              <a:ahLst/>
              <a:rect l="l" t="t" r="r" b="b"/>
              <a:pathLst>
                <a:path w="2845" h="2167">
                  <a:moveTo>
                    <a:pt x="508" y="2167"/>
                  </a:moveTo>
                  <a:lnTo>
                    <a:pt x="2337" y="2167"/>
                  </a:lnTo>
                  <a:cubicBezTo>
                    <a:pt x="2617" y="2167"/>
                    <a:pt x="2845" y="1924"/>
                    <a:pt x="2845" y="1625"/>
                  </a:cubicBezTo>
                  <a:cubicBezTo>
                    <a:pt x="2845" y="1625"/>
                    <a:pt x="2845" y="1625"/>
                    <a:pt x="2845" y="1625"/>
                  </a:cubicBezTo>
                  <a:lnTo>
                    <a:pt x="2845" y="1625"/>
                  </a:lnTo>
                  <a:lnTo>
                    <a:pt x="2845" y="541"/>
                  </a:lnTo>
                  <a:cubicBezTo>
                    <a:pt x="2845" y="242"/>
                    <a:pt x="2617" y="0"/>
                    <a:pt x="2337" y="0"/>
                  </a:cubicBezTo>
                  <a:lnTo>
                    <a:pt x="508" y="0"/>
                  </a:lnTo>
                  <a:cubicBezTo>
                    <a:pt x="227" y="0"/>
                    <a:pt x="0" y="242"/>
                    <a:pt x="0" y="541"/>
                  </a:cubicBezTo>
                  <a:lnTo>
                    <a:pt x="0" y="541"/>
                  </a:lnTo>
                  <a:lnTo>
                    <a:pt x="0" y="1625"/>
                  </a:lnTo>
                  <a:cubicBezTo>
                    <a:pt x="0" y="1924"/>
                    <a:pt x="227" y="2167"/>
                    <a:pt x="508" y="2167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96080" y="2879640"/>
              <a:ext cx="1504800" cy="1146240"/>
            </a:xfrm>
            <a:custGeom>
              <a:avLst/>
              <a:gdLst/>
              <a:ahLst/>
              <a:rect l="l" t="t" r="r" b="b"/>
              <a:pathLst>
                <a:path w="2845" h="2167">
                  <a:moveTo>
                    <a:pt x="508" y="2167"/>
                  </a:moveTo>
                  <a:lnTo>
                    <a:pt x="2337" y="2167"/>
                  </a:lnTo>
                  <a:cubicBezTo>
                    <a:pt x="2617" y="2167"/>
                    <a:pt x="2845" y="1924"/>
                    <a:pt x="2845" y="1625"/>
                  </a:cubicBezTo>
                  <a:cubicBezTo>
                    <a:pt x="2845" y="1625"/>
                    <a:pt x="2845" y="1625"/>
                    <a:pt x="2845" y="1625"/>
                  </a:cubicBezTo>
                  <a:lnTo>
                    <a:pt x="2845" y="1625"/>
                  </a:lnTo>
                  <a:lnTo>
                    <a:pt x="2845" y="541"/>
                  </a:lnTo>
                  <a:cubicBezTo>
                    <a:pt x="2845" y="242"/>
                    <a:pt x="2617" y="0"/>
                    <a:pt x="2337" y="0"/>
                  </a:cubicBezTo>
                  <a:lnTo>
                    <a:pt x="508" y="0"/>
                  </a:lnTo>
                  <a:cubicBezTo>
                    <a:pt x="227" y="0"/>
                    <a:pt x="0" y="242"/>
                    <a:pt x="0" y="541"/>
                  </a:cubicBezTo>
                  <a:lnTo>
                    <a:pt x="0" y="541"/>
                  </a:lnTo>
                  <a:lnTo>
                    <a:pt x="0" y="1625"/>
                  </a:lnTo>
                  <a:cubicBezTo>
                    <a:pt x="0" y="1924"/>
                    <a:pt x="227" y="2167"/>
                    <a:pt x="508" y="2167"/>
                  </a:cubicBezTo>
                  <a:close/>
                </a:path>
              </a:pathLst>
            </a:custGeom>
            <a:noFill/>
            <a:ln cap="rnd" w="4932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06840" y="3174840"/>
              <a:ext cx="724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ircu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121440" y="3446640"/>
              <a:ext cx="1117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xtr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9120" y="2879640"/>
              <a:ext cx="1506600" cy="1146240"/>
            </a:xfrm>
            <a:custGeom>
              <a:avLst/>
              <a:gdLst/>
              <a:ahLst/>
              <a:rect l="l" t="t" r="r" b="b"/>
              <a:pathLst>
                <a:path w="2845" h="2167">
                  <a:moveTo>
                    <a:pt x="508" y="2167"/>
                  </a:moveTo>
                  <a:lnTo>
                    <a:pt x="2337" y="2167"/>
                  </a:lnTo>
                  <a:cubicBezTo>
                    <a:pt x="2617" y="2167"/>
                    <a:pt x="2845" y="1924"/>
                    <a:pt x="2845" y="1625"/>
                  </a:cubicBezTo>
                  <a:cubicBezTo>
                    <a:pt x="2845" y="1625"/>
                    <a:pt x="2845" y="1625"/>
                    <a:pt x="2845" y="1625"/>
                  </a:cubicBezTo>
                  <a:lnTo>
                    <a:pt x="2845" y="1625"/>
                  </a:lnTo>
                  <a:lnTo>
                    <a:pt x="2845" y="541"/>
                  </a:lnTo>
                  <a:cubicBezTo>
                    <a:pt x="2845" y="242"/>
                    <a:pt x="2617" y="0"/>
                    <a:pt x="2337" y="0"/>
                  </a:cubicBezTo>
                  <a:lnTo>
                    <a:pt x="508" y="0"/>
                  </a:lnTo>
                  <a:cubicBezTo>
                    <a:pt x="227" y="0"/>
                    <a:pt x="0" y="242"/>
                    <a:pt x="0" y="541"/>
                  </a:cubicBezTo>
                  <a:lnTo>
                    <a:pt x="0" y="541"/>
                  </a:lnTo>
                  <a:lnTo>
                    <a:pt x="0" y="1625"/>
                  </a:lnTo>
                  <a:cubicBezTo>
                    <a:pt x="0" y="1924"/>
                    <a:pt x="227" y="2167"/>
                    <a:pt x="508" y="2167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19120" y="2879640"/>
              <a:ext cx="1506600" cy="1146240"/>
            </a:xfrm>
            <a:custGeom>
              <a:avLst/>
              <a:gdLst/>
              <a:ahLst/>
              <a:rect l="l" t="t" r="r" b="b"/>
              <a:pathLst>
                <a:path w="2845" h="2167">
                  <a:moveTo>
                    <a:pt x="508" y="2167"/>
                  </a:moveTo>
                  <a:lnTo>
                    <a:pt x="2337" y="2167"/>
                  </a:lnTo>
                  <a:cubicBezTo>
                    <a:pt x="2617" y="2167"/>
                    <a:pt x="2845" y="1924"/>
                    <a:pt x="2845" y="1625"/>
                  </a:cubicBezTo>
                  <a:cubicBezTo>
                    <a:pt x="2845" y="1625"/>
                    <a:pt x="2845" y="1625"/>
                    <a:pt x="2845" y="1625"/>
                  </a:cubicBezTo>
                  <a:lnTo>
                    <a:pt x="2845" y="1625"/>
                  </a:lnTo>
                  <a:lnTo>
                    <a:pt x="2845" y="541"/>
                  </a:lnTo>
                  <a:cubicBezTo>
                    <a:pt x="2845" y="242"/>
                    <a:pt x="2617" y="0"/>
                    <a:pt x="2337" y="0"/>
                  </a:cubicBezTo>
                  <a:lnTo>
                    <a:pt x="508" y="0"/>
                  </a:lnTo>
                  <a:cubicBezTo>
                    <a:pt x="227" y="0"/>
                    <a:pt x="0" y="242"/>
                    <a:pt x="0" y="541"/>
                  </a:cubicBezTo>
                  <a:lnTo>
                    <a:pt x="0" y="541"/>
                  </a:lnTo>
                  <a:lnTo>
                    <a:pt x="0" y="1625"/>
                  </a:lnTo>
                  <a:cubicBezTo>
                    <a:pt x="0" y="1924"/>
                    <a:pt x="227" y="2167"/>
                    <a:pt x="508" y="2167"/>
                  </a:cubicBezTo>
                  <a:close/>
                </a:path>
              </a:pathLst>
            </a:custGeom>
            <a:noFill/>
            <a:ln cap="rnd" w="4932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21160" y="3032280"/>
              <a:ext cx="951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arasit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04160" y="3311640"/>
              <a:ext cx="1204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waren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62120" y="3581280"/>
              <a:ext cx="1079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ynthe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08320" y="5059440"/>
              <a:ext cx="1504800" cy="1146240"/>
            </a:xfrm>
            <a:custGeom>
              <a:avLst/>
              <a:gdLst/>
              <a:ahLst/>
              <a:rect l="l" t="t" r="r" b="b"/>
              <a:pathLst>
                <a:path w="2845" h="2167">
                  <a:moveTo>
                    <a:pt x="508" y="2167"/>
                  </a:moveTo>
                  <a:lnTo>
                    <a:pt x="2337" y="2167"/>
                  </a:lnTo>
                  <a:cubicBezTo>
                    <a:pt x="2617" y="2167"/>
                    <a:pt x="2845" y="1925"/>
                    <a:pt x="2845" y="1625"/>
                  </a:cubicBezTo>
                  <a:cubicBezTo>
                    <a:pt x="2845" y="1625"/>
                    <a:pt x="2845" y="1625"/>
                    <a:pt x="2845" y="1625"/>
                  </a:cubicBezTo>
                  <a:lnTo>
                    <a:pt x="2845" y="1625"/>
                  </a:lnTo>
                  <a:lnTo>
                    <a:pt x="2845" y="542"/>
                  </a:lnTo>
                  <a:cubicBezTo>
                    <a:pt x="2845" y="242"/>
                    <a:pt x="2617" y="0"/>
                    <a:pt x="2337" y="0"/>
                  </a:cubicBezTo>
                  <a:lnTo>
                    <a:pt x="508" y="0"/>
                  </a:lnTo>
                  <a:cubicBezTo>
                    <a:pt x="227" y="0"/>
                    <a:pt x="0" y="242"/>
                    <a:pt x="0" y="542"/>
                  </a:cubicBezTo>
                  <a:lnTo>
                    <a:pt x="0" y="542"/>
                  </a:lnTo>
                  <a:lnTo>
                    <a:pt x="0" y="1625"/>
                  </a:lnTo>
                  <a:cubicBezTo>
                    <a:pt x="0" y="1925"/>
                    <a:pt x="227" y="2167"/>
                    <a:pt x="508" y="2167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08320" y="5059440"/>
              <a:ext cx="1504800" cy="1146240"/>
            </a:xfrm>
            <a:custGeom>
              <a:avLst/>
              <a:gdLst/>
              <a:ahLst/>
              <a:rect l="l" t="t" r="r" b="b"/>
              <a:pathLst>
                <a:path w="2845" h="2167">
                  <a:moveTo>
                    <a:pt x="508" y="2167"/>
                  </a:moveTo>
                  <a:lnTo>
                    <a:pt x="2337" y="2167"/>
                  </a:lnTo>
                  <a:cubicBezTo>
                    <a:pt x="2617" y="2167"/>
                    <a:pt x="2845" y="1925"/>
                    <a:pt x="2845" y="1625"/>
                  </a:cubicBezTo>
                  <a:cubicBezTo>
                    <a:pt x="2845" y="1625"/>
                    <a:pt x="2845" y="1625"/>
                    <a:pt x="2845" y="1625"/>
                  </a:cubicBezTo>
                  <a:lnTo>
                    <a:pt x="2845" y="1625"/>
                  </a:lnTo>
                  <a:lnTo>
                    <a:pt x="2845" y="542"/>
                  </a:lnTo>
                  <a:cubicBezTo>
                    <a:pt x="2845" y="242"/>
                    <a:pt x="2617" y="0"/>
                    <a:pt x="2337" y="0"/>
                  </a:cubicBezTo>
                  <a:lnTo>
                    <a:pt x="508" y="0"/>
                  </a:lnTo>
                  <a:cubicBezTo>
                    <a:pt x="227" y="0"/>
                    <a:pt x="0" y="242"/>
                    <a:pt x="0" y="542"/>
                  </a:cubicBezTo>
                  <a:lnTo>
                    <a:pt x="0" y="542"/>
                  </a:lnTo>
                  <a:lnTo>
                    <a:pt x="0" y="1625"/>
                  </a:lnTo>
                  <a:cubicBezTo>
                    <a:pt x="0" y="1925"/>
                    <a:pt x="227" y="2167"/>
                    <a:pt x="508" y="2167"/>
                  </a:cubicBezTo>
                  <a:close/>
                </a:path>
              </a:pathLst>
            </a:custGeom>
            <a:noFill/>
            <a:ln cap="rnd" w="4932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606120" y="5351400"/>
              <a:ext cx="750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ay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46640" y="5630760"/>
              <a:ext cx="1091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Gener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26440" y="1617840"/>
              <a:ext cx="1241280" cy="917280"/>
            </a:xfrm>
            <a:custGeom>
              <a:avLst/>
              <a:gdLst/>
              <a:ahLst/>
              <a:rect l="l" t="t" r="r" b="b"/>
              <a:pathLst>
                <a:path w="782" h="578">
                  <a:moveTo>
                    <a:pt x="782" y="0"/>
                  </a:moveTo>
                  <a:lnTo>
                    <a:pt x="391" y="578"/>
                  </a:lnTo>
                  <a:lnTo>
                    <a:pt x="0" y="0"/>
                  </a:lnTo>
                  <a:lnTo>
                    <a:pt x="782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26440" y="1617840"/>
              <a:ext cx="1241280" cy="917280"/>
            </a:xfrm>
            <a:custGeom>
              <a:avLst/>
              <a:gdLst/>
              <a:ahLst/>
              <a:rect l="l" t="t" r="r" b="b"/>
              <a:pathLst>
                <a:path w="782" h="578">
                  <a:moveTo>
                    <a:pt x="782" y="0"/>
                  </a:moveTo>
                  <a:lnTo>
                    <a:pt x="391" y="578"/>
                  </a:lnTo>
                  <a:lnTo>
                    <a:pt x="0" y="0"/>
                  </a:lnTo>
                  <a:lnTo>
                    <a:pt x="782" y="0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770960" y="1811160"/>
              <a:ext cx="582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Layou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630680" y="1617840"/>
              <a:ext cx="1241640" cy="917280"/>
            </a:xfrm>
            <a:custGeom>
              <a:avLst/>
              <a:gdLst/>
              <a:ahLst/>
              <a:rect l="l" t="t" r="r" b="b"/>
              <a:pathLst>
                <a:path w="782" h="578">
                  <a:moveTo>
                    <a:pt x="782" y="0"/>
                  </a:moveTo>
                  <a:lnTo>
                    <a:pt x="391" y="578"/>
                  </a:lnTo>
                  <a:lnTo>
                    <a:pt x="0" y="0"/>
                  </a:lnTo>
                  <a:lnTo>
                    <a:pt x="782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30680" y="1617840"/>
              <a:ext cx="1241640" cy="917280"/>
            </a:xfrm>
            <a:custGeom>
              <a:avLst/>
              <a:gdLst/>
              <a:ahLst/>
              <a:rect l="l" t="t" r="r" b="b"/>
              <a:pathLst>
                <a:path w="782" h="578">
                  <a:moveTo>
                    <a:pt x="782" y="0"/>
                  </a:moveTo>
                  <a:lnTo>
                    <a:pt x="391" y="578"/>
                  </a:lnTo>
                  <a:lnTo>
                    <a:pt x="0" y="0"/>
                  </a:lnTo>
                  <a:lnTo>
                    <a:pt x="782" y="0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932720" y="1701720"/>
              <a:ext cx="675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Origi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053680" y="1913040"/>
              <a:ext cx="41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e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50880" y="1617840"/>
              <a:ext cx="1243080" cy="917280"/>
            </a:xfrm>
            <a:custGeom>
              <a:avLst/>
              <a:gdLst/>
              <a:ahLst/>
              <a:rect l="l" t="t" r="r" b="b"/>
              <a:pathLst>
                <a:path w="783" h="578">
                  <a:moveTo>
                    <a:pt x="783" y="0"/>
                  </a:moveTo>
                  <a:lnTo>
                    <a:pt x="391" y="578"/>
                  </a:lnTo>
                  <a:lnTo>
                    <a:pt x="0" y="0"/>
                  </a:lnTo>
                  <a:lnTo>
                    <a:pt x="783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50880" y="1617840"/>
              <a:ext cx="1243080" cy="917280"/>
            </a:xfrm>
            <a:custGeom>
              <a:avLst/>
              <a:gdLst/>
              <a:ahLst/>
              <a:rect l="l" t="t" r="r" b="b"/>
              <a:pathLst>
                <a:path w="783" h="578">
                  <a:moveTo>
                    <a:pt x="783" y="0"/>
                  </a:moveTo>
                  <a:lnTo>
                    <a:pt x="391" y="578"/>
                  </a:lnTo>
                  <a:lnTo>
                    <a:pt x="0" y="0"/>
                  </a:lnTo>
                  <a:lnTo>
                    <a:pt x="783" y="0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014480" y="1701720"/>
              <a:ext cx="544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rg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073880" y="1913040"/>
              <a:ext cx="425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pe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44680" y="5345280"/>
              <a:ext cx="1241280" cy="917280"/>
            </a:xfrm>
            <a:custGeom>
              <a:avLst/>
              <a:gdLst/>
              <a:ahLst/>
              <a:rect l="l" t="t" r="r" b="b"/>
              <a:pathLst>
                <a:path w="782" h="578">
                  <a:moveTo>
                    <a:pt x="782" y="0"/>
                  </a:moveTo>
                  <a:lnTo>
                    <a:pt x="391" y="578"/>
                  </a:lnTo>
                  <a:lnTo>
                    <a:pt x="0" y="0"/>
                  </a:lnTo>
                  <a:lnTo>
                    <a:pt x="782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44680" y="5345280"/>
              <a:ext cx="1241280" cy="917280"/>
            </a:xfrm>
            <a:custGeom>
              <a:avLst/>
              <a:gdLst/>
              <a:ahLst/>
              <a:rect l="l" t="t" r="r" b="b"/>
              <a:pathLst>
                <a:path w="782" h="578">
                  <a:moveTo>
                    <a:pt x="782" y="0"/>
                  </a:moveTo>
                  <a:lnTo>
                    <a:pt x="391" y="578"/>
                  </a:lnTo>
                  <a:lnTo>
                    <a:pt x="0" y="0"/>
                  </a:lnTo>
                  <a:lnTo>
                    <a:pt x="782" y="0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05040" y="5425920"/>
              <a:ext cx="544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rg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64080" y="5638680"/>
              <a:ext cx="41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e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21120" y="4141800"/>
              <a:ext cx="1289160" cy="917640"/>
            </a:xfrm>
            <a:custGeom>
              <a:avLst/>
              <a:gdLst/>
              <a:ahLst/>
              <a:rect l="l" t="t" r="r" b="b"/>
              <a:pathLst>
                <a:path w="2438" h="1734">
                  <a:moveTo>
                    <a:pt x="0" y="867"/>
                  </a:moveTo>
                  <a:cubicBezTo>
                    <a:pt x="0" y="388"/>
                    <a:pt x="546" y="0"/>
                    <a:pt x="1219" y="0"/>
                  </a:cubicBezTo>
                  <a:cubicBezTo>
                    <a:pt x="1893" y="0"/>
                    <a:pt x="2438" y="388"/>
                    <a:pt x="2438" y="867"/>
                  </a:cubicBezTo>
                  <a:cubicBezTo>
                    <a:pt x="2438" y="867"/>
                    <a:pt x="2438" y="867"/>
                    <a:pt x="2438" y="867"/>
                  </a:cubicBezTo>
                  <a:cubicBezTo>
                    <a:pt x="2438" y="1346"/>
                    <a:pt x="1893" y="1734"/>
                    <a:pt x="1219" y="1734"/>
                  </a:cubicBezTo>
                  <a:cubicBezTo>
                    <a:pt x="546" y="1734"/>
                    <a:pt x="0" y="1346"/>
                    <a:pt x="0" y="867"/>
                  </a:cubicBezTo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821120" y="4141800"/>
              <a:ext cx="1289160" cy="917640"/>
            </a:xfrm>
            <a:custGeom>
              <a:avLst/>
              <a:gdLst/>
              <a:ahLst/>
              <a:rect l="l" t="t" r="r" b="b"/>
              <a:pathLst>
                <a:path w="812" h="578">
                  <a:moveTo>
                    <a:pt x="0" y="289"/>
                  </a:moveTo>
                  <a:cubicBezTo>
                    <a:pt x="0" y="129"/>
                    <a:pt x="182" y="0"/>
                    <a:pt x="406" y="0"/>
                  </a:cubicBezTo>
                  <a:cubicBezTo>
                    <a:pt x="631" y="0"/>
                    <a:pt x="812" y="129"/>
                    <a:pt x="812" y="289"/>
                  </a:cubicBezTo>
                  <a:cubicBezTo>
                    <a:pt x="812" y="289"/>
                    <a:pt x="812" y="289"/>
                    <a:pt x="812" y="289"/>
                  </a:cubicBezTo>
                  <a:cubicBezTo>
                    <a:pt x="812" y="448"/>
                    <a:pt x="631" y="578"/>
                    <a:pt x="406" y="578"/>
                  </a:cubicBezTo>
                  <a:cubicBezTo>
                    <a:pt x="182" y="578"/>
                    <a:pt x="0" y="448"/>
                    <a:pt x="0" y="289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001840" y="4267080"/>
              <a:ext cx="982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ym Axis &amp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187960" y="4486320"/>
              <a:ext cx="582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Layou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001120" y="4699080"/>
              <a:ext cx="989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onstrai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314880" y="2994120"/>
              <a:ext cx="1290600" cy="917640"/>
            </a:xfrm>
            <a:custGeom>
              <a:avLst/>
              <a:gdLst/>
              <a:ahLst/>
              <a:rect l="l" t="t" r="r" b="b"/>
              <a:pathLst>
                <a:path w="2439" h="1734">
                  <a:moveTo>
                    <a:pt x="0" y="867"/>
                  </a:moveTo>
                  <a:cubicBezTo>
                    <a:pt x="0" y="388"/>
                    <a:pt x="546" y="0"/>
                    <a:pt x="1219" y="0"/>
                  </a:cubicBezTo>
                  <a:cubicBezTo>
                    <a:pt x="1893" y="0"/>
                    <a:pt x="2439" y="388"/>
                    <a:pt x="2439" y="867"/>
                  </a:cubicBezTo>
                  <a:cubicBezTo>
                    <a:pt x="2439" y="867"/>
                    <a:pt x="2439" y="867"/>
                    <a:pt x="2439" y="867"/>
                  </a:cubicBezTo>
                  <a:cubicBezTo>
                    <a:pt x="2439" y="1346"/>
                    <a:pt x="1893" y="1734"/>
                    <a:pt x="1219" y="1734"/>
                  </a:cubicBezTo>
                  <a:cubicBezTo>
                    <a:pt x="546" y="1734"/>
                    <a:pt x="0" y="1346"/>
                    <a:pt x="0" y="867"/>
                  </a:cubicBezTo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14880" y="2994120"/>
              <a:ext cx="1290600" cy="917640"/>
            </a:xfrm>
            <a:custGeom>
              <a:avLst/>
              <a:gdLst/>
              <a:ahLst/>
              <a:rect l="l" t="t" r="r" b="b"/>
              <a:pathLst>
                <a:path w="813" h="578">
                  <a:moveTo>
                    <a:pt x="0" y="289"/>
                  </a:moveTo>
                  <a:cubicBezTo>
                    <a:pt x="0" y="129"/>
                    <a:pt x="182" y="0"/>
                    <a:pt x="407" y="0"/>
                  </a:cubicBezTo>
                  <a:cubicBezTo>
                    <a:pt x="631" y="0"/>
                    <a:pt x="813" y="129"/>
                    <a:pt x="813" y="289"/>
                  </a:cubicBezTo>
                  <a:cubicBezTo>
                    <a:pt x="813" y="289"/>
                    <a:pt x="813" y="289"/>
                    <a:pt x="813" y="289"/>
                  </a:cubicBezTo>
                  <a:cubicBezTo>
                    <a:pt x="813" y="449"/>
                    <a:pt x="631" y="578"/>
                    <a:pt x="407" y="578"/>
                  </a:cubicBezTo>
                  <a:cubicBezTo>
                    <a:pt x="182" y="578"/>
                    <a:pt x="0" y="449"/>
                    <a:pt x="0" y="289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680280" y="3013200"/>
              <a:ext cx="596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Netlist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27280" y="3225960"/>
              <a:ext cx="924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arasitic &amp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688920" y="344484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ircu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707640" y="365760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ar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809720" y="4141800"/>
              <a:ext cx="1290600" cy="917640"/>
            </a:xfrm>
            <a:custGeom>
              <a:avLst/>
              <a:gdLst/>
              <a:ahLst/>
              <a:rect l="l" t="t" r="r" b="b"/>
              <a:pathLst>
                <a:path w="2439" h="1734">
                  <a:moveTo>
                    <a:pt x="0" y="867"/>
                  </a:moveTo>
                  <a:cubicBezTo>
                    <a:pt x="0" y="388"/>
                    <a:pt x="546" y="0"/>
                    <a:pt x="1220" y="0"/>
                  </a:cubicBezTo>
                  <a:cubicBezTo>
                    <a:pt x="1893" y="0"/>
                    <a:pt x="2439" y="388"/>
                    <a:pt x="2439" y="867"/>
                  </a:cubicBezTo>
                  <a:cubicBezTo>
                    <a:pt x="2439" y="867"/>
                    <a:pt x="2439" y="867"/>
                    <a:pt x="2439" y="867"/>
                  </a:cubicBezTo>
                  <a:cubicBezTo>
                    <a:pt x="2439" y="1346"/>
                    <a:pt x="1893" y="1734"/>
                    <a:pt x="1220" y="1734"/>
                  </a:cubicBezTo>
                  <a:cubicBezTo>
                    <a:pt x="546" y="1734"/>
                    <a:pt x="0" y="1346"/>
                    <a:pt x="0" y="867"/>
                  </a:cubicBezTo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809720" y="4141800"/>
              <a:ext cx="1290600" cy="917640"/>
            </a:xfrm>
            <a:custGeom>
              <a:avLst/>
              <a:gdLst/>
              <a:ahLst/>
              <a:rect l="l" t="t" r="r" b="b"/>
              <a:pathLst>
                <a:path w="813" h="578">
                  <a:moveTo>
                    <a:pt x="0" y="289"/>
                  </a:moveTo>
                  <a:cubicBezTo>
                    <a:pt x="0" y="129"/>
                    <a:pt x="182" y="0"/>
                    <a:pt x="407" y="0"/>
                  </a:cubicBezTo>
                  <a:cubicBezTo>
                    <a:pt x="631" y="0"/>
                    <a:pt x="813" y="129"/>
                    <a:pt x="813" y="289"/>
                  </a:cubicBezTo>
                  <a:cubicBezTo>
                    <a:pt x="813" y="289"/>
                    <a:pt x="813" y="289"/>
                    <a:pt x="813" y="289"/>
                  </a:cubicBezTo>
                  <a:cubicBezTo>
                    <a:pt x="813" y="448"/>
                    <a:pt x="631" y="578"/>
                    <a:pt x="407" y="578"/>
                  </a:cubicBezTo>
                  <a:cubicBezTo>
                    <a:pt x="182" y="578"/>
                    <a:pt x="0" y="448"/>
                    <a:pt x="0" y="289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200320" y="4376880"/>
              <a:ext cx="544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rg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201040" y="458784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ar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057320" y="2535120"/>
              <a:ext cx="430200" cy="344520"/>
            </a:xfrm>
            <a:custGeom>
              <a:avLst/>
              <a:gdLst/>
              <a:ahLst/>
              <a:rect l="l" t="t" r="r" b="b"/>
              <a:pathLst>
                <a:path w="271" h="217">
                  <a:moveTo>
                    <a:pt x="135" y="217"/>
                  </a:moveTo>
                  <a:lnTo>
                    <a:pt x="271" y="119"/>
                  </a:lnTo>
                  <a:lnTo>
                    <a:pt x="182" y="119"/>
                  </a:lnTo>
                  <a:lnTo>
                    <a:pt x="182" y="0"/>
                  </a:lnTo>
                  <a:lnTo>
                    <a:pt x="89" y="0"/>
                  </a:lnTo>
                  <a:lnTo>
                    <a:pt x="89" y="119"/>
                  </a:lnTo>
                  <a:lnTo>
                    <a:pt x="0" y="119"/>
                  </a:lnTo>
                  <a:lnTo>
                    <a:pt x="135" y="2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57320" y="2535120"/>
              <a:ext cx="430200" cy="344520"/>
            </a:xfrm>
            <a:custGeom>
              <a:avLst/>
              <a:gdLst/>
              <a:ahLst/>
              <a:rect l="l" t="t" r="r" b="b"/>
              <a:pathLst>
                <a:path w="271" h="217">
                  <a:moveTo>
                    <a:pt x="135" y="217"/>
                  </a:moveTo>
                  <a:lnTo>
                    <a:pt x="271" y="119"/>
                  </a:lnTo>
                  <a:lnTo>
                    <a:pt x="182" y="119"/>
                  </a:lnTo>
                  <a:lnTo>
                    <a:pt x="182" y="0"/>
                  </a:lnTo>
                  <a:lnTo>
                    <a:pt x="89" y="0"/>
                  </a:lnTo>
                  <a:lnTo>
                    <a:pt x="89" y="119"/>
                  </a:lnTo>
                  <a:lnTo>
                    <a:pt x="0" y="119"/>
                  </a:lnTo>
                  <a:lnTo>
                    <a:pt x="135" y="217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229360" y="2460600"/>
              <a:ext cx="1069920" cy="569880"/>
            </a:xfrm>
            <a:custGeom>
              <a:avLst/>
              <a:gdLst/>
              <a:ahLst/>
              <a:rect l="l" t="t" r="r" b="b"/>
              <a:pathLst>
                <a:path w="674" h="359">
                  <a:moveTo>
                    <a:pt x="674" y="264"/>
                  </a:moveTo>
                  <a:lnTo>
                    <a:pt x="505" y="359"/>
                  </a:lnTo>
                  <a:lnTo>
                    <a:pt x="531" y="268"/>
                  </a:lnTo>
                  <a:lnTo>
                    <a:pt x="0" y="94"/>
                  </a:lnTo>
                  <a:lnTo>
                    <a:pt x="27" y="0"/>
                  </a:lnTo>
                  <a:lnTo>
                    <a:pt x="558" y="174"/>
                  </a:lnTo>
                  <a:lnTo>
                    <a:pt x="584" y="83"/>
                  </a:lnTo>
                  <a:lnTo>
                    <a:pt x="674" y="2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229360" y="2460600"/>
              <a:ext cx="1069920" cy="569880"/>
            </a:xfrm>
            <a:custGeom>
              <a:avLst/>
              <a:gdLst/>
              <a:ahLst/>
              <a:rect l="l" t="t" r="r" b="b"/>
              <a:pathLst>
                <a:path w="674" h="359">
                  <a:moveTo>
                    <a:pt x="674" y="264"/>
                  </a:moveTo>
                  <a:lnTo>
                    <a:pt x="505" y="359"/>
                  </a:lnTo>
                  <a:lnTo>
                    <a:pt x="531" y="268"/>
                  </a:lnTo>
                  <a:lnTo>
                    <a:pt x="0" y="94"/>
                  </a:lnTo>
                  <a:lnTo>
                    <a:pt x="27" y="0"/>
                  </a:lnTo>
                  <a:lnTo>
                    <a:pt x="558" y="174"/>
                  </a:lnTo>
                  <a:lnTo>
                    <a:pt x="584" y="83"/>
                  </a:lnTo>
                  <a:lnTo>
                    <a:pt x="674" y="264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958080" y="2460600"/>
              <a:ext cx="1109520" cy="573120"/>
            </a:xfrm>
            <a:custGeom>
              <a:avLst/>
              <a:gdLst/>
              <a:ahLst/>
              <a:rect l="l" t="t" r="r" b="b"/>
              <a:pathLst>
                <a:path w="699" h="361">
                  <a:moveTo>
                    <a:pt x="0" y="264"/>
                  </a:moveTo>
                  <a:lnTo>
                    <a:pt x="91" y="84"/>
                  </a:lnTo>
                  <a:lnTo>
                    <a:pt x="117" y="176"/>
                  </a:lnTo>
                  <a:lnTo>
                    <a:pt x="673" y="0"/>
                  </a:lnTo>
                  <a:lnTo>
                    <a:pt x="699" y="94"/>
                  </a:lnTo>
                  <a:lnTo>
                    <a:pt x="143" y="270"/>
                  </a:lnTo>
                  <a:lnTo>
                    <a:pt x="168" y="361"/>
                  </a:lnTo>
                  <a:lnTo>
                    <a:pt x="0" y="2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958080" y="2460600"/>
              <a:ext cx="1109520" cy="573120"/>
            </a:xfrm>
            <a:custGeom>
              <a:avLst/>
              <a:gdLst/>
              <a:ahLst/>
              <a:rect l="l" t="t" r="r" b="b"/>
              <a:pathLst>
                <a:path w="699" h="361">
                  <a:moveTo>
                    <a:pt x="0" y="264"/>
                  </a:moveTo>
                  <a:lnTo>
                    <a:pt x="91" y="84"/>
                  </a:lnTo>
                  <a:lnTo>
                    <a:pt x="117" y="176"/>
                  </a:lnTo>
                  <a:lnTo>
                    <a:pt x="673" y="0"/>
                  </a:lnTo>
                  <a:lnTo>
                    <a:pt x="699" y="94"/>
                  </a:lnTo>
                  <a:lnTo>
                    <a:pt x="143" y="270"/>
                  </a:lnTo>
                  <a:lnTo>
                    <a:pt x="168" y="361"/>
                  </a:lnTo>
                  <a:lnTo>
                    <a:pt x="0" y="264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596960" y="5402160"/>
              <a:ext cx="1611360" cy="459000"/>
            </a:xfrm>
            <a:custGeom>
              <a:avLst/>
              <a:gdLst/>
              <a:ahLst/>
              <a:rect l="l" t="t" r="r" b="b"/>
              <a:pathLst>
                <a:path w="1015" h="289">
                  <a:moveTo>
                    <a:pt x="1015" y="145"/>
                  </a:moveTo>
                  <a:lnTo>
                    <a:pt x="880" y="0"/>
                  </a:lnTo>
                  <a:lnTo>
                    <a:pt x="879" y="95"/>
                  </a:lnTo>
                  <a:lnTo>
                    <a:pt x="0" y="91"/>
                  </a:lnTo>
                  <a:lnTo>
                    <a:pt x="0" y="189"/>
                  </a:lnTo>
                  <a:lnTo>
                    <a:pt x="879" y="193"/>
                  </a:lnTo>
                  <a:lnTo>
                    <a:pt x="879" y="289"/>
                  </a:lnTo>
                  <a:lnTo>
                    <a:pt x="1015" y="1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596960" y="5402160"/>
              <a:ext cx="1611360" cy="459000"/>
            </a:xfrm>
            <a:custGeom>
              <a:avLst/>
              <a:gdLst/>
              <a:ahLst/>
              <a:rect l="l" t="t" r="r" b="b"/>
              <a:pathLst>
                <a:path w="1015" h="289">
                  <a:moveTo>
                    <a:pt x="1015" y="145"/>
                  </a:moveTo>
                  <a:lnTo>
                    <a:pt x="880" y="0"/>
                  </a:lnTo>
                  <a:lnTo>
                    <a:pt x="879" y="95"/>
                  </a:lnTo>
                  <a:lnTo>
                    <a:pt x="0" y="91"/>
                  </a:lnTo>
                  <a:lnTo>
                    <a:pt x="0" y="189"/>
                  </a:lnTo>
                  <a:lnTo>
                    <a:pt x="879" y="193"/>
                  </a:lnTo>
                  <a:lnTo>
                    <a:pt x="879" y="289"/>
                  </a:lnTo>
                  <a:lnTo>
                    <a:pt x="1015" y="145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735200" y="3956040"/>
              <a:ext cx="322200" cy="372960"/>
            </a:xfrm>
            <a:custGeom>
              <a:avLst/>
              <a:gdLst/>
              <a:ahLst/>
              <a:rect l="l" t="t" r="r" b="b"/>
              <a:pathLst>
                <a:path w="203" h="235">
                  <a:moveTo>
                    <a:pt x="203" y="178"/>
                  </a:moveTo>
                  <a:lnTo>
                    <a:pt x="202" y="0"/>
                  </a:lnTo>
                  <a:lnTo>
                    <a:pt x="150" y="78"/>
                  </a:lnTo>
                  <a:lnTo>
                    <a:pt x="54" y="4"/>
                  </a:lnTo>
                  <a:lnTo>
                    <a:pt x="0" y="84"/>
                  </a:lnTo>
                  <a:lnTo>
                    <a:pt x="97" y="158"/>
                  </a:lnTo>
                  <a:lnTo>
                    <a:pt x="45" y="235"/>
                  </a:lnTo>
                  <a:lnTo>
                    <a:pt x="203" y="1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735200" y="3956040"/>
              <a:ext cx="322200" cy="372960"/>
            </a:xfrm>
            <a:custGeom>
              <a:avLst/>
              <a:gdLst/>
              <a:ahLst/>
              <a:rect l="l" t="t" r="r" b="b"/>
              <a:pathLst>
                <a:path w="203" h="235">
                  <a:moveTo>
                    <a:pt x="203" y="178"/>
                  </a:moveTo>
                  <a:lnTo>
                    <a:pt x="202" y="0"/>
                  </a:lnTo>
                  <a:lnTo>
                    <a:pt x="150" y="78"/>
                  </a:lnTo>
                  <a:lnTo>
                    <a:pt x="54" y="4"/>
                  </a:lnTo>
                  <a:lnTo>
                    <a:pt x="0" y="84"/>
                  </a:lnTo>
                  <a:lnTo>
                    <a:pt x="97" y="158"/>
                  </a:lnTo>
                  <a:lnTo>
                    <a:pt x="45" y="235"/>
                  </a:lnTo>
                  <a:lnTo>
                    <a:pt x="203" y="178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881440" y="4856040"/>
              <a:ext cx="384120" cy="454320"/>
            </a:xfrm>
            <a:custGeom>
              <a:avLst/>
              <a:gdLst/>
              <a:ahLst/>
              <a:rect l="l" t="t" r="r" b="b"/>
              <a:pathLst>
                <a:path w="242" h="286">
                  <a:moveTo>
                    <a:pt x="207" y="286"/>
                  </a:moveTo>
                  <a:lnTo>
                    <a:pt x="242" y="87"/>
                  </a:lnTo>
                  <a:lnTo>
                    <a:pt x="169" y="142"/>
                  </a:lnTo>
                  <a:lnTo>
                    <a:pt x="76" y="0"/>
                  </a:lnTo>
                  <a:lnTo>
                    <a:pt x="0" y="56"/>
                  </a:lnTo>
                  <a:lnTo>
                    <a:pt x="93" y="198"/>
                  </a:lnTo>
                  <a:lnTo>
                    <a:pt x="20" y="253"/>
                  </a:lnTo>
                  <a:lnTo>
                    <a:pt x="207" y="2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81440" y="4856040"/>
              <a:ext cx="384120" cy="454320"/>
            </a:xfrm>
            <a:custGeom>
              <a:avLst/>
              <a:gdLst/>
              <a:ahLst/>
              <a:rect l="l" t="t" r="r" b="b"/>
              <a:pathLst>
                <a:path w="242" h="286">
                  <a:moveTo>
                    <a:pt x="207" y="286"/>
                  </a:moveTo>
                  <a:lnTo>
                    <a:pt x="242" y="87"/>
                  </a:lnTo>
                  <a:lnTo>
                    <a:pt x="169" y="142"/>
                  </a:lnTo>
                  <a:lnTo>
                    <a:pt x="76" y="0"/>
                  </a:lnTo>
                  <a:lnTo>
                    <a:pt x="0" y="56"/>
                  </a:lnTo>
                  <a:lnTo>
                    <a:pt x="93" y="198"/>
                  </a:lnTo>
                  <a:lnTo>
                    <a:pt x="20" y="253"/>
                  </a:lnTo>
                  <a:lnTo>
                    <a:pt x="207" y="286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681440" y="4871880"/>
              <a:ext cx="381240" cy="412920"/>
            </a:xfrm>
            <a:custGeom>
              <a:avLst/>
              <a:gdLst/>
              <a:ahLst/>
              <a:rect l="l" t="t" r="r" b="b"/>
              <a:pathLst>
                <a:path w="240" h="260">
                  <a:moveTo>
                    <a:pt x="16" y="260"/>
                  </a:moveTo>
                  <a:lnTo>
                    <a:pt x="203" y="254"/>
                  </a:lnTo>
                  <a:lnTo>
                    <a:pt x="136" y="190"/>
                  </a:lnTo>
                  <a:lnTo>
                    <a:pt x="240" y="65"/>
                  </a:lnTo>
                  <a:lnTo>
                    <a:pt x="171" y="0"/>
                  </a:lnTo>
                  <a:lnTo>
                    <a:pt x="67" y="125"/>
                  </a:lnTo>
                  <a:lnTo>
                    <a:pt x="0" y="61"/>
                  </a:lnTo>
                  <a:lnTo>
                    <a:pt x="16" y="2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681440" y="4871880"/>
              <a:ext cx="381240" cy="412920"/>
            </a:xfrm>
            <a:custGeom>
              <a:avLst/>
              <a:gdLst/>
              <a:ahLst/>
              <a:rect l="l" t="t" r="r" b="b"/>
              <a:pathLst>
                <a:path w="240" h="260">
                  <a:moveTo>
                    <a:pt x="16" y="260"/>
                  </a:moveTo>
                  <a:lnTo>
                    <a:pt x="203" y="254"/>
                  </a:lnTo>
                  <a:lnTo>
                    <a:pt x="136" y="190"/>
                  </a:lnTo>
                  <a:lnTo>
                    <a:pt x="240" y="65"/>
                  </a:lnTo>
                  <a:lnTo>
                    <a:pt x="171" y="0"/>
                  </a:lnTo>
                  <a:lnTo>
                    <a:pt x="67" y="125"/>
                  </a:lnTo>
                  <a:lnTo>
                    <a:pt x="0" y="61"/>
                  </a:lnTo>
                  <a:lnTo>
                    <a:pt x="16" y="260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605480" y="3224160"/>
              <a:ext cx="1290600" cy="459000"/>
            </a:xfrm>
            <a:custGeom>
              <a:avLst/>
              <a:gdLst/>
              <a:ahLst/>
              <a:rect l="l" t="t" r="r" b="b"/>
              <a:pathLst>
                <a:path w="813" h="289">
                  <a:moveTo>
                    <a:pt x="0" y="144"/>
                  </a:moveTo>
                  <a:lnTo>
                    <a:pt x="136" y="289"/>
                  </a:lnTo>
                  <a:lnTo>
                    <a:pt x="136" y="193"/>
                  </a:lnTo>
                  <a:lnTo>
                    <a:pt x="813" y="193"/>
                  </a:lnTo>
                  <a:lnTo>
                    <a:pt x="813" y="95"/>
                  </a:lnTo>
                  <a:lnTo>
                    <a:pt x="136" y="95"/>
                  </a:lnTo>
                  <a:lnTo>
                    <a:pt x="136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605480" y="3224160"/>
              <a:ext cx="1290600" cy="459000"/>
            </a:xfrm>
            <a:custGeom>
              <a:avLst/>
              <a:gdLst/>
              <a:ahLst/>
              <a:rect l="l" t="t" r="r" b="b"/>
              <a:pathLst>
                <a:path w="813" h="289">
                  <a:moveTo>
                    <a:pt x="0" y="144"/>
                  </a:moveTo>
                  <a:lnTo>
                    <a:pt x="136" y="289"/>
                  </a:lnTo>
                  <a:lnTo>
                    <a:pt x="136" y="193"/>
                  </a:lnTo>
                  <a:lnTo>
                    <a:pt x="813" y="193"/>
                  </a:lnTo>
                  <a:lnTo>
                    <a:pt x="813" y="95"/>
                  </a:lnTo>
                  <a:lnTo>
                    <a:pt x="136" y="95"/>
                  </a:lnTo>
                  <a:lnTo>
                    <a:pt x="136" y="0"/>
                  </a:lnTo>
                  <a:lnTo>
                    <a:pt x="0" y="144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025720" y="3224160"/>
              <a:ext cx="1289160" cy="459000"/>
            </a:xfrm>
            <a:custGeom>
              <a:avLst/>
              <a:gdLst/>
              <a:ahLst/>
              <a:rect l="l" t="t" r="r" b="b"/>
              <a:pathLst>
                <a:path w="812" h="289">
                  <a:moveTo>
                    <a:pt x="0" y="144"/>
                  </a:moveTo>
                  <a:lnTo>
                    <a:pt x="135" y="289"/>
                  </a:lnTo>
                  <a:lnTo>
                    <a:pt x="135" y="193"/>
                  </a:lnTo>
                  <a:lnTo>
                    <a:pt x="812" y="193"/>
                  </a:lnTo>
                  <a:lnTo>
                    <a:pt x="812" y="95"/>
                  </a:lnTo>
                  <a:lnTo>
                    <a:pt x="135" y="95"/>
                  </a:lnTo>
                  <a:lnTo>
                    <a:pt x="135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025720" y="3224160"/>
              <a:ext cx="1289160" cy="459000"/>
            </a:xfrm>
            <a:custGeom>
              <a:avLst/>
              <a:gdLst/>
              <a:ahLst/>
              <a:rect l="l" t="t" r="r" b="b"/>
              <a:pathLst>
                <a:path w="812" h="289">
                  <a:moveTo>
                    <a:pt x="0" y="144"/>
                  </a:moveTo>
                  <a:lnTo>
                    <a:pt x="135" y="289"/>
                  </a:lnTo>
                  <a:lnTo>
                    <a:pt x="135" y="193"/>
                  </a:lnTo>
                  <a:lnTo>
                    <a:pt x="812" y="193"/>
                  </a:lnTo>
                  <a:lnTo>
                    <a:pt x="812" y="95"/>
                  </a:lnTo>
                  <a:lnTo>
                    <a:pt x="135" y="95"/>
                  </a:lnTo>
                  <a:lnTo>
                    <a:pt x="135" y="0"/>
                  </a:lnTo>
                  <a:lnTo>
                    <a:pt x="0" y="144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13120" y="5402160"/>
              <a:ext cx="2278080" cy="459000"/>
            </a:xfrm>
            <a:custGeom>
              <a:avLst/>
              <a:gdLst/>
              <a:ahLst/>
              <a:rect l="l" t="t" r="r" b="b"/>
              <a:pathLst>
                <a:path w="1435" h="289">
                  <a:moveTo>
                    <a:pt x="1435" y="145"/>
                  </a:moveTo>
                  <a:lnTo>
                    <a:pt x="1299" y="0"/>
                  </a:lnTo>
                  <a:lnTo>
                    <a:pt x="1299" y="96"/>
                  </a:lnTo>
                  <a:lnTo>
                    <a:pt x="0" y="96"/>
                  </a:lnTo>
                  <a:lnTo>
                    <a:pt x="0" y="194"/>
                  </a:lnTo>
                  <a:lnTo>
                    <a:pt x="1299" y="194"/>
                  </a:lnTo>
                  <a:lnTo>
                    <a:pt x="1299" y="289"/>
                  </a:lnTo>
                  <a:lnTo>
                    <a:pt x="1435" y="1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713120" y="5402160"/>
              <a:ext cx="2278080" cy="459000"/>
            </a:xfrm>
            <a:custGeom>
              <a:avLst/>
              <a:gdLst/>
              <a:ahLst/>
              <a:rect l="l" t="t" r="r" b="b"/>
              <a:pathLst>
                <a:path w="1435" h="289">
                  <a:moveTo>
                    <a:pt x="1435" y="145"/>
                  </a:moveTo>
                  <a:lnTo>
                    <a:pt x="1299" y="0"/>
                  </a:lnTo>
                  <a:lnTo>
                    <a:pt x="1299" y="96"/>
                  </a:lnTo>
                  <a:lnTo>
                    <a:pt x="0" y="96"/>
                  </a:lnTo>
                  <a:lnTo>
                    <a:pt x="0" y="194"/>
                  </a:lnTo>
                  <a:lnTo>
                    <a:pt x="1299" y="194"/>
                  </a:lnTo>
                  <a:lnTo>
                    <a:pt x="1299" y="289"/>
                  </a:lnTo>
                  <a:lnTo>
                    <a:pt x="1435" y="145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830920" y="3941640"/>
              <a:ext cx="318960" cy="379440"/>
            </a:xfrm>
            <a:custGeom>
              <a:avLst/>
              <a:gdLst/>
              <a:ahLst/>
              <a:rect l="l" t="t" r="r" b="b"/>
              <a:pathLst>
                <a:path w="201" h="239">
                  <a:moveTo>
                    <a:pt x="0" y="176"/>
                  </a:moveTo>
                  <a:lnTo>
                    <a:pt x="155" y="239"/>
                  </a:lnTo>
                  <a:lnTo>
                    <a:pt x="105" y="160"/>
                  </a:lnTo>
                  <a:lnTo>
                    <a:pt x="201" y="90"/>
                  </a:lnTo>
                  <a:lnTo>
                    <a:pt x="150" y="9"/>
                  </a:lnTo>
                  <a:lnTo>
                    <a:pt x="53" y="79"/>
                  </a:lnTo>
                  <a:lnTo>
                    <a:pt x="3" y="0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30920" y="3941640"/>
              <a:ext cx="318960" cy="379440"/>
            </a:xfrm>
            <a:custGeom>
              <a:avLst/>
              <a:gdLst/>
              <a:ahLst/>
              <a:rect l="l" t="t" r="r" b="b"/>
              <a:pathLst>
                <a:path w="201" h="239">
                  <a:moveTo>
                    <a:pt x="0" y="176"/>
                  </a:moveTo>
                  <a:lnTo>
                    <a:pt x="155" y="239"/>
                  </a:lnTo>
                  <a:lnTo>
                    <a:pt x="105" y="160"/>
                  </a:lnTo>
                  <a:lnTo>
                    <a:pt x="201" y="90"/>
                  </a:lnTo>
                  <a:lnTo>
                    <a:pt x="150" y="9"/>
                  </a:lnTo>
                  <a:lnTo>
                    <a:pt x="53" y="79"/>
                  </a:lnTo>
                  <a:lnTo>
                    <a:pt x="3" y="0"/>
                  </a:lnTo>
                  <a:lnTo>
                    <a:pt x="0" y="176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711840" y="4714920"/>
              <a:ext cx="1808280" cy="1604880"/>
            </a:xfrm>
            <a:custGeom>
              <a:avLst/>
              <a:gdLst/>
              <a:ahLst/>
              <a:rect l="l" t="t" r="r" b="b"/>
              <a:pathLst>
                <a:path w="1139" h="1011">
                  <a:moveTo>
                    <a:pt x="698" y="386"/>
                  </a:moveTo>
                  <a:lnTo>
                    <a:pt x="570" y="0"/>
                  </a:lnTo>
                  <a:lnTo>
                    <a:pt x="435" y="386"/>
                  </a:lnTo>
                  <a:lnTo>
                    <a:pt x="0" y="386"/>
                  </a:lnTo>
                  <a:lnTo>
                    <a:pt x="352" y="625"/>
                  </a:lnTo>
                  <a:lnTo>
                    <a:pt x="218" y="1011"/>
                  </a:lnTo>
                  <a:lnTo>
                    <a:pt x="570" y="773"/>
                  </a:lnTo>
                  <a:lnTo>
                    <a:pt x="922" y="1011"/>
                  </a:lnTo>
                  <a:lnTo>
                    <a:pt x="787" y="625"/>
                  </a:lnTo>
                  <a:lnTo>
                    <a:pt x="1139" y="386"/>
                  </a:lnTo>
                  <a:lnTo>
                    <a:pt x="698" y="38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711840" y="4714920"/>
              <a:ext cx="1808280" cy="1604880"/>
            </a:xfrm>
            <a:custGeom>
              <a:avLst/>
              <a:gdLst/>
              <a:ahLst/>
              <a:rect l="l" t="t" r="r" b="b"/>
              <a:pathLst>
                <a:path w="1139" h="1011">
                  <a:moveTo>
                    <a:pt x="698" y="386"/>
                  </a:moveTo>
                  <a:lnTo>
                    <a:pt x="570" y="0"/>
                  </a:lnTo>
                  <a:lnTo>
                    <a:pt x="435" y="386"/>
                  </a:lnTo>
                  <a:lnTo>
                    <a:pt x="0" y="386"/>
                  </a:lnTo>
                  <a:lnTo>
                    <a:pt x="352" y="625"/>
                  </a:lnTo>
                  <a:lnTo>
                    <a:pt x="218" y="1011"/>
                  </a:lnTo>
                  <a:lnTo>
                    <a:pt x="570" y="773"/>
                  </a:lnTo>
                  <a:lnTo>
                    <a:pt x="922" y="1011"/>
                  </a:lnTo>
                  <a:lnTo>
                    <a:pt x="787" y="625"/>
                  </a:lnTo>
                  <a:lnTo>
                    <a:pt x="1139" y="386"/>
                  </a:lnTo>
                  <a:lnTo>
                    <a:pt x="698" y="386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91520" y="5369040"/>
              <a:ext cx="47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263720" y="5648400"/>
              <a:ext cx="750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ay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58800" y="45396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chedul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98400" y="1413000"/>
            <a:ext cx="6892920" cy="52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Q3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out Retargeting for Large Analog Blocks and RF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8582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582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58200"/>
                </a:solidFill>
                <a:latin typeface="Arial"/>
              </a:rPr>
              <a:t>Passive Device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8582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582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58200"/>
                </a:solidFill>
                <a:latin typeface="Arial"/>
              </a:rPr>
              <a:t>Problem Reduction for Hierarchical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Q4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out Retargeting Incorporating Synthes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Q2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sitic Aware Layout Retarg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71400" y="4680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Publication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41440" y="1357200"/>
            <a:ext cx="813276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Jangkrajarng, S. Bhattacharya, R. Hartono and C-J. R. Shi, </a:t>
            </a:r>
            <a:r>
              <a:rPr b="0" lang="en-US" sz="2000" spc="-1" strike="noStrike">
                <a:solidFill>
                  <a:srgbClr val="4855fc"/>
                </a:solidFill>
                <a:latin typeface="Arial"/>
              </a:rPr>
              <a:t>"Automatic analog  layout automation for new  process  and  device sizes"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EEE International Symposium  of  Circuits  and  Systems, Bangkok, May 20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Jangkrajarng, S. Bhattacharya, R. Hartono and C-J. R. Shi, </a:t>
            </a:r>
            <a:r>
              <a:rPr b="0" lang="en-US" sz="2000" spc="-1" strike="noStrike">
                <a:solidFill>
                  <a:srgbClr val="4855fc"/>
                </a:solidFill>
                <a:latin typeface="Arial"/>
              </a:rPr>
              <a:t>"IPRAIL: Intellectual  Property  Reuse-based  Analog  IC  Layout  Automation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4855f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of Washington Electrical Engineering Technical Report, 20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Team Member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5720" y="1312920"/>
            <a:ext cx="81248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ichard S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ttorn Jangkrajar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Ph.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buddha Bhattachary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Ph.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y Harton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M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istopher Ba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Sen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1320" y="1308240"/>
            <a:ext cx="7127640" cy="30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ion and previous wor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goals and appl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olo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flo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and resul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Motiv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680" y="903240"/>
            <a:ext cx="8834760" cy="548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og/RF design performance strongly dependent on layout intrica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58200"/>
                </a:solidFill>
                <a:latin typeface="Arial"/>
              </a:rPr>
              <a:t>Matchings and symme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58200"/>
                </a:solidFill>
                <a:latin typeface="Arial"/>
              </a:rPr>
              <a:t>Placement top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58200"/>
                </a:solidFill>
                <a:latin typeface="Arial"/>
              </a:rPr>
              <a:t>Parasitic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58200"/>
                </a:solidFill>
                <a:latin typeface="Arial"/>
              </a:rPr>
              <a:t>Substrate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og/RF layouts are manually craf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58200"/>
                </a:solidFill>
                <a:latin typeface="Arial"/>
              </a:rPr>
              <a:t>Slow and tedi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id change in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58200"/>
                </a:solidFill>
                <a:latin typeface="Arial"/>
              </a:rPr>
              <a:t>Analog/RF blocks have longer design cy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1280" y="228240"/>
            <a:ext cx="8580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Arial"/>
              </a:rPr>
              <a:t>Previous Work: Macro-cell Layout Automation</a:t>
            </a:r>
            <a:endParaRPr b="1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2960" y="1254240"/>
            <a:ext cx="856944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pired by digital CAD method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izations embedded in auto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Floorplanning, placement and r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ution of Macro-cell based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808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Layout generation as an optimization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buClr>
                <a:srgbClr val="00808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Lacks critical designer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808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With incorporation of designer expert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buClr>
                <a:srgbClr val="00808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Better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buClr>
                <a:srgbClr val="00808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Comparatively time consu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27040" y="45396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Goal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000" y="1066320"/>
            <a:ext cx="8294760" cy="508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ion of analog/RF layout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rporate expertise of designer into automation by </a:t>
            </a:r>
            <a:r>
              <a:rPr b="0" lang="en-US" sz="2800" spc="-1" strike="noStrike">
                <a:solidFill>
                  <a:srgbClr val="cc0000"/>
                </a:solidFill>
                <a:latin typeface="MS LineDraw"/>
                <a:ea typeface="MS LineDraw"/>
              </a:rPr>
              <a:t>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Template-Based Design </a:t>
            </a:r>
            <a:r>
              <a:rPr b="0" lang="en-US" sz="2800" spc="-1" strike="noStrike">
                <a:solidFill>
                  <a:srgbClr val="cc0000"/>
                </a:solidFill>
                <a:latin typeface="MS LineDraw"/>
                <a:ea typeface="MS LineDraw"/>
              </a:rPr>
              <a:t>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litate design re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t  layout  generation  under 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technology mig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and 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pecification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19200" y="3870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Application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279080"/>
            <a:ext cx="7772400" cy="483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 fontScale="99000"/>
          </a:bodyPr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gressive design cyc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58200"/>
                </a:solidFill>
                <a:latin typeface="Arial"/>
              </a:rPr>
              <a:t>Reuse available layo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58200"/>
                </a:solidFill>
                <a:latin typeface="Arial"/>
              </a:rPr>
              <a:t>Reuse embedded designer expert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58200"/>
                </a:solidFill>
                <a:latin typeface="Arial"/>
              </a:rPr>
              <a:t>Optimizations autom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exploration via design re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58200"/>
                </a:solidFill>
                <a:latin typeface="Arial"/>
              </a:rPr>
              <a:t>Quickly gauge layout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582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58200"/>
                </a:solidFill>
                <a:latin typeface="Arial"/>
              </a:rPr>
              <a:t>Evaluate topology v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ion of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582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58200"/>
                </a:solidFill>
                <a:latin typeface="Arial"/>
              </a:rPr>
              <a:t>Various designs with different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582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58200"/>
                </a:solidFill>
                <a:latin typeface="Arial"/>
              </a:rPr>
              <a:t>Pick the best one based on requi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urrent IPRAIL methodology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93680" y="1971360"/>
            <a:ext cx="8727480" cy="4046040"/>
            <a:chOff x="193680" y="1971360"/>
            <a:chExt cx="8727480" cy="4046040"/>
          </a:xfrm>
        </p:grpSpPr>
        <p:sp>
          <p:nvSpPr>
            <p:cNvPr id="69" name=""/>
            <p:cNvSpPr/>
            <p:nvPr/>
          </p:nvSpPr>
          <p:spPr>
            <a:xfrm rot="10800000">
              <a:off x="2459520" y="1971000"/>
              <a:ext cx="4512240" cy="1043640"/>
            </a:xfrm>
            <a:prstGeom prst="wedgeEllipseCallout">
              <a:avLst>
                <a:gd name="adj1" fmla="val 25935"/>
                <a:gd name="adj2" fmla="val -100879"/>
              </a:avLst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mplate-Driven Analog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ayout Retarget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193680" y="3367440"/>
              <a:ext cx="8727480" cy="790920"/>
              <a:chOff x="193680" y="3367440"/>
              <a:chExt cx="8727480" cy="790920"/>
            </a:xfrm>
          </p:grpSpPr>
          <p:sp>
            <p:nvSpPr>
              <p:cNvPr id="71" name=""/>
              <p:cNvSpPr/>
              <p:nvPr/>
            </p:nvSpPr>
            <p:spPr>
              <a:xfrm>
                <a:off x="193680" y="3367440"/>
                <a:ext cx="2098080" cy="790920"/>
              </a:xfrm>
              <a:prstGeom prst="rect">
                <a:avLst/>
              </a:prstGeom>
              <a:solidFill>
                <a:srgbClr val="ff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ahoma"/>
                  </a:rPr>
                  <a:t>Analog Layout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ahoma"/>
                  </a:rPr>
                  <a:t>in Tech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823080" y="3367440"/>
                <a:ext cx="2098080" cy="790920"/>
              </a:xfrm>
              <a:prstGeom prst="rect">
                <a:avLst/>
              </a:prstGeom>
              <a:solidFill>
                <a:srgbClr val="ff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ahoma"/>
                  </a:rPr>
                  <a:t>Analog Layout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ahoma"/>
                  </a:rPr>
                  <a:t>in Tech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375640" y="3525840"/>
                <a:ext cx="4363200" cy="395280"/>
              </a:xfrm>
              <a:prstGeom prst="rightArrow">
                <a:avLst>
                  <a:gd name="adj1" fmla="val 50000"/>
                  <a:gd name="adj2" fmla="val 275956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1728720" y="3894840"/>
              <a:ext cx="2349000" cy="2109600"/>
              <a:chOff x="1728720" y="3894840"/>
              <a:chExt cx="2349000" cy="2109600"/>
            </a:xfrm>
          </p:grpSpPr>
          <p:sp>
            <p:nvSpPr>
              <p:cNvPr id="75" name=""/>
              <p:cNvSpPr/>
              <p:nvPr/>
            </p:nvSpPr>
            <p:spPr>
              <a:xfrm>
                <a:off x="1728720" y="4711320"/>
                <a:ext cx="1761840" cy="47628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990000"/>
                    </a:solidFill>
                    <a:latin typeface="Tahoma"/>
                  </a:rPr>
                  <a:t>Tech 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315880" y="5528160"/>
                <a:ext cx="1761840" cy="47628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990000"/>
                    </a:solidFill>
                    <a:latin typeface="Tahoma"/>
                  </a:rPr>
                  <a:t>Tech 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154680" y="3894840"/>
                <a:ext cx="251640" cy="816480"/>
              </a:xfrm>
              <a:prstGeom prst="upArrow">
                <a:avLst>
                  <a:gd name="adj1" fmla="val 50000"/>
                  <a:gd name="adj2" fmla="val 81116"/>
                </a:avLst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742200" y="3894840"/>
                <a:ext cx="251640" cy="1633320"/>
              </a:xfrm>
              <a:prstGeom prst="upArrow">
                <a:avLst>
                  <a:gd name="adj1" fmla="val 51389"/>
                  <a:gd name="adj2" fmla="val 79451"/>
                </a:avLst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4797360" y="3907800"/>
              <a:ext cx="2097360" cy="2109600"/>
              <a:chOff x="4797360" y="3907800"/>
              <a:chExt cx="2097360" cy="2109600"/>
            </a:xfrm>
          </p:grpSpPr>
          <p:sp>
            <p:nvSpPr>
              <p:cNvPr id="80" name=""/>
              <p:cNvSpPr/>
              <p:nvPr/>
            </p:nvSpPr>
            <p:spPr>
              <a:xfrm>
                <a:off x="4797360" y="5337000"/>
                <a:ext cx="2097360" cy="680400"/>
              </a:xfrm>
              <a:prstGeom prst="rect">
                <a:avLst/>
              </a:prstGeom>
              <a:solidFill>
                <a:srgbClr val="ffcccc"/>
              </a:solidFill>
              <a:ln w="1908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New </a:t>
                </a:r>
                <a:br>
                  <a:rPr sz="2400"/>
                </a:b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Specificatio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880880" y="3907800"/>
                <a:ext cx="251640" cy="1429200"/>
              </a:xfrm>
              <a:prstGeom prst="upArrow">
                <a:avLst>
                  <a:gd name="adj1" fmla="val 51389"/>
                  <a:gd name="adj2" fmla="val 69522"/>
                </a:avLst>
              </a:prstGeom>
              <a:solidFill>
                <a:srgbClr val="ffcccc"/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"/>
            <p:cNvSpPr/>
            <p:nvPr/>
          </p:nvSpPr>
          <p:spPr>
            <a:xfrm>
              <a:off x="5372280" y="4686120"/>
              <a:ext cx="2098080" cy="364680"/>
            </a:xfrm>
            <a:prstGeom prst="rect">
              <a:avLst/>
            </a:prstGeom>
            <a:solidFill>
              <a:srgbClr val="ffcccc"/>
            </a:solidFill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ymmet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456160" y="3920400"/>
              <a:ext cx="251640" cy="765360"/>
            </a:xfrm>
            <a:prstGeom prst="upArrow">
              <a:avLst>
                <a:gd name="adj1" fmla="val 51389"/>
                <a:gd name="adj2" fmla="val 67673"/>
              </a:avLst>
            </a:prstGeom>
            <a:solidFill>
              <a:srgbClr val="ffcccc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4" name="2stage" descr=""/>
          <p:cNvPicPr/>
          <p:nvPr/>
        </p:nvPicPr>
        <p:blipFill>
          <a:blip r:embed="rId1"/>
          <a:stretch/>
        </p:blipFill>
        <p:spPr>
          <a:xfrm>
            <a:off x="165240" y="1711440"/>
            <a:ext cx="2230200" cy="1390680"/>
          </a:xfrm>
          <a:prstGeom prst="rect">
            <a:avLst/>
          </a:prstGeom>
          <a:ln w="0">
            <a:noFill/>
          </a:ln>
        </p:spPr>
      </p:pic>
      <p:pic>
        <p:nvPicPr>
          <p:cNvPr id="85" name="2stage_target" descr=""/>
          <p:cNvPicPr/>
          <p:nvPr/>
        </p:nvPicPr>
        <p:blipFill>
          <a:blip r:embed="rId2"/>
          <a:stretch/>
        </p:blipFill>
        <p:spPr>
          <a:xfrm>
            <a:off x="7203960" y="1881360"/>
            <a:ext cx="1698840" cy="105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IPRAIL Interfac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52720" y="4495680"/>
            <a:ext cx="1752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cc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681520" y="3505320"/>
            <a:ext cx="1143000" cy="761760"/>
          </a:xfrm>
          <a:prstGeom prst="rect">
            <a:avLst/>
          </a:prstGeom>
          <a:solidFill>
            <a:srgbClr val="ff0000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769000" y="3679920"/>
            <a:ext cx="10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IPR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557440" y="3352680"/>
            <a:ext cx="2286000" cy="1143000"/>
            <a:chOff x="2557440" y="3352680"/>
            <a:chExt cx="2286000" cy="1143000"/>
          </a:xfrm>
        </p:grpSpPr>
        <p:sp>
          <p:nvSpPr>
            <p:cNvPr id="91" name=""/>
            <p:cNvSpPr/>
            <p:nvPr/>
          </p:nvSpPr>
          <p:spPr>
            <a:xfrm>
              <a:off x="2557440" y="3352680"/>
              <a:ext cx="2286000" cy="1143000"/>
            </a:xfrm>
            <a:prstGeom prst="rect">
              <a:avLst/>
            </a:prstGeom>
            <a:solidFill>
              <a:srgbClr val="f381b5"/>
            </a:soli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557440" y="3485520"/>
              <a:ext cx="228600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Tahoma"/>
                </a:rPr>
                <a:t>Design Engineers      or            Optimization Tools</a:t>
              </a:r>
              <a:r>
                <a:rPr b="0" lang="en-US" sz="1800" spc="-1" strike="noStrike">
                  <a:solidFill>
                    <a:srgbClr val="003366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2847960" y="1523880"/>
            <a:ext cx="1798560" cy="685800"/>
          </a:xfrm>
          <a:prstGeom prst="ellipse">
            <a:avLst/>
          </a:prstGeom>
          <a:solidFill>
            <a:srgbClr val="66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60640" y="1523880"/>
            <a:ext cx="158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Original Lay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7499520" y="3429000"/>
            <a:ext cx="1512720" cy="838080"/>
            <a:chOff x="7499520" y="3429000"/>
            <a:chExt cx="1512720" cy="838080"/>
          </a:xfrm>
        </p:grpSpPr>
        <p:sp>
          <p:nvSpPr>
            <p:cNvPr id="96" name=""/>
            <p:cNvSpPr/>
            <p:nvPr/>
          </p:nvSpPr>
          <p:spPr>
            <a:xfrm>
              <a:off x="7499520" y="3429000"/>
              <a:ext cx="1512720" cy="838080"/>
            </a:xfrm>
            <a:prstGeom prst="ellipse">
              <a:avLst/>
            </a:prstGeom>
            <a:solidFill>
              <a:srgbClr val="66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637040" y="3504960"/>
              <a:ext cx="128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Tahoma"/>
                </a:rPr>
                <a:t>Target Lay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5300640" y="1523880"/>
            <a:ext cx="1676520" cy="838080"/>
            <a:chOff x="5300640" y="1523880"/>
            <a:chExt cx="1676520" cy="838080"/>
          </a:xfrm>
        </p:grpSpPr>
        <p:sp>
          <p:nvSpPr>
            <p:cNvPr id="99" name=""/>
            <p:cNvSpPr/>
            <p:nvPr/>
          </p:nvSpPr>
          <p:spPr>
            <a:xfrm>
              <a:off x="5300640" y="1523880"/>
              <a:ext cx="1676520" cy="838080"/>
            </a:xfrm>
            <a:prstGeom prst="rect">
              <a:avLst/>
            </a:prstGeom>
            <a:solidFill>
              <a:srgbClr val="ffcc99"/>
            </a:soli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76960" y="159984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Tahoma"/>
                </a:rPr>
                <a:t>Original Technolog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862360" y="5257800"/>
            <a:ext cx="1676160" cy="838080"/>
            <a:chOff x="2862360" y="5257800"/>
            <a:chExt cx="1676160" cy="838080"/>
          </a:xfrm>
        </p:grpSpPr>
        <p:sp>
          <p:nvSpPr>
            <p:cNvPr id="102" name=""/>
            <p:cNvSpPr/>
            <p:nvPr/>
          </p:nvSpPr>
          <p:spPr>
            <a:xfrm>
              <a:off x="2862360" y="5257800"/>
              <a:ext cx="1676160" cy="838080"/>
            </a:xfrm>
            <a:prstGeom prst="rect">
              <a:avLst/>
            </a:prstGeom>
            <a:solidFill>
              <a:srgbClr val="ffcc99"/>
            </a:solid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38320" y="5334120"/>
              <a:ext cx="152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Tahoma"/>
                </a:rPr>
                <a:t>Target Technolog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228600" y="3516480"/>
            <a:ext cx="1676520" cy="761760"/>
          </a:xfrm>
          <a:prstGeom prst="rect">
            <a:avLst/>
          </a:prstGeom>
          <a:solidFill>
            <a:srgbClr val="ffcc99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6000" y="3635280"/>
            <a:ext cx="167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New Design Specif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548160" y="4648320"/>
            <a:ext cx="304560" cy="490320"/>
          </a:xfrm>
          <a:prstGeom prst="upArrow">
            <a:avLst>
              <a:gd name="adj1" fmla="val 50000"/>
              <a:gd name="adj2" fmla="val 40248"/>
            </a:avLst>
          </a:prstGeom>
          <a:solidFill>
            <a:srgbClr val="ffcc99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003400" y="3787920"/>
            <a:ext cx="446040" cy="304560"/>
          </a:xfrm>
          <a:prstGeom prst="rightArrow">
            <a:avLst>
              <a:gd name="adj1" fmla="val 50000"/>
              <a:gd name="adj2" fmla="val 36613"/>
            </a:avLst>
          </a:prstGeom>
          <a:solidFill>
            <a:srgbClr val="ffcc99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95720" y="3733920"/>
            <a:ext cx="533520" cy="304560"/>
          </a:xfrm>
          <a:prstGeom prst="rightArrow">
            <a:avLst>
              <a:gd name="adj1" fmla="val 50000"/>
              <a:gd name="adj2" fmla="val 43794"/>
            </a:avLst>
          </a:prstGeom>
          <a:solidFill>
            <a:srgbClr val="f4aad4"/>
          </a:solidFill>
          <a:ln w="190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945480" y="3733920"/>
            <a:ext cx="457200" cy="304560"/>
          </a:xfrm>
          <a:prstGeom prst="rightArrow">
            <a:avLst>
              <a:gd name="adj1" fmla="val 50000"/>
              <a:gd name="adj2" fmla="val 56815"/>
            </a:avLst>
          </a:prstGeom>
          <a:solidFill>
            <a:srgbClr val="ffcc99"/>
          </a:solidFill>
          <a:ln w="190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76560" y="4800600"/>
            <a:ext cx="1447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Tahoma"/>
              </a:rPr>
              <a:t>Spice Mod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3547800" y="2328480"/>
            <a:ext cx="282600" cy="893880"/>
          </a:xfrm>
          <a:prstGeom prst="upArrow">
            <a:avLst>
              <a:gd name="adj1" fmla="val 50000"/>
              <a:gd name="adj2" fmla="val 79076"/>
            </a:avLst>
          </a:prstGeom>
          <a:solidFill>
            <a:srgbClr val="ccffff"/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09720" y="25909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Tahoma"/>
              </a:rPr>
              <a:t>Net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5986080" y="2480760"/>
            <a:ext cx="304920" cy="871560"/>
          </a:xfrm>
          <a:prstGeom prst="upArrow">
            <a:avLst>
              <a:gd name="adj1" fmla="val 50000"/>
              <a:gd name="adj2" fmla="val 71458"/>
            </a:avLst>
          </a:prstGeom>
          <a:solidFill>
            <a:srgbClr val="ffcc99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38720" y="26668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Tahoma"/>
              </a:rPr>
              <a:t>Design R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8400000">
            <a:off x="4801680" y="2076480"/>
            <a:ext cx="304920" cy="1566720"/>
          </a:xfrm>
          <a:prstGeom prst="upArrow">
            <a:avLst>
              <a:gd name="adj1" fmla="val 50000"/>
              <a:gd name="adj2" fmla="val 128453"/>
            </a:avLst>
          </a:prstGeom>
          <a:solidFill>
            <a:srgbClr val="ccffff"/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19760" y="4114800"/>
            <a:ext cx="6858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Tahoma"/>
              </a:rPr>
              <a:t>Device      Siz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3000000">
            <a:off x="5274000" y="4101120"/>
            <a:ext cx="304560" cy="1808280"/>
          </a:xfrm>
          <a:prstGeom prst="upArrow">
            <a:avLst>
              <a:gd name="adj1" fmla="val 50000"/>
              <a:gd name="adj2" fmla="val 148434"/>
            </a:avLst>
          </a:prstGeom>
          <a:solidFill>
            <a:srgbClr val="ffcc99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11800" y="5149800"/>
            <a:ext cx="1523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Tahoma"/>
              </a:rPr>
              <a:t>Design R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33960" y="27432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Tahoma"/>
              </a:rPr>
              <a:t>C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24520" y="342900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Tahoma"/>
              </a:rPr>
              <a:t>C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26T05:25:42Z</dcterms:created>
  <dc:creator>Art Downey</dc:creator>
  <dc:description>V4.0 12/23/01 changes for 2001
V4.1 05/13/01 remove references to '97 and 4
V4.2 05/18/01 feedback from select meeting</dc:description>
  <dc:language>en-US</dc:language>
  <cp:lastModifiedBy>.</cp:lastModifiedBy>
  <cp:lastPrinted>2002-02-05T19:22:32Z</cp:lastPrinted>
  <dcterms:modified xsi:type="dcterms:W3CDTF">2003-06-18T19:11:30Z</dcterms:modified>
  <cp:revision>146</cp:revision>
  <dc:subject>ITC '01 Electronic presentation guide/template</dc:subject>
  <dc:title>Presentation Guide</dc:title>
</cp:coreProperties>
</file>