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.wmf" ContentType="image/x-wmf"/>
  <Override PartName="/ppt/media/image3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764-6167-4EE6-8AEC-ADA02F85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99A-D14C-4863-81ED-7175203E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B18-CC77-49DB-A30C-C1910007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EA4-B0F0-48C4-AFBF-B46C41B3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AD16-2AC7-433E-8C6B-A8DFB2C7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2C54-3E18-435E-A854-2F6F2199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9C03-610A-4569-BB63-7693B577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EE0F-2C52-4E74-96CA-A1CEF187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3C97-BE5B-48E7-9149-BA60A55A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ED18-4F60-4FE8-86D5-B9F70B75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F10A-D6F9-4910-834C-4034F570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424-1F8B-4165-B258-128F8C21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2AEB-2C69-401A-AFD9-C5C2C1FF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D15D-9A14-49BF-A56E-54C8CD4F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2C8C-EE74-4F35-99C0-19ACAE47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7124-B486-4CF5-9727-FDA2783E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6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37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6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37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9553-8BE9-4528-AD0F-DD859E90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C7C-5D0C-48B6-8F21-E1FB2732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341-8CC2-41D2-B812-B4908B33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07E-4DC1-4EC7-A262-0AC4B164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E06-47ED-43FC-B5CF-09E69255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B81-6CE8-44D1-835E-103CE787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4EF-A091-43B2-B6B5-968C219A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8DA-A694-4325-8CC2-AF8EBAAA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f01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Tahoma"/>
              </a:rPr>
              <a:t>&lt;date/time&gt;</a:t>
            </a:r>
            <a:r>
              <a:rPr b="0" lang="en-US" sz="1200" spc="-1" strike="noStrike">
                <a:solidFill>
                  <a:srgbClr val="75d1ff"/>
                </a:solidFill>
                <a:latin typeface="Tahoma"/>
              </a:rPr>
              <a:t>Jun. 19~20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4004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f01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Tahoma"/>
              </a:rPr>
              <a:t>&lt;footer&gt;</a:t>
            </a:r>
            <a:r>
              <a:rPr b="0" lang="en-US" sz="1200" spc="-1" strike="noStrike">
                <a:solidFill>
                  <a:srgbClr val="75d1ff"/>
                </a:solidFill>
                <a:latin typeface="Tahoma"/>
              </a:rPr>
              <a:t>NeoCAD Quarterly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3962160" y="6324120"/>
            <a:ext cx="533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5d1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5E41-FAEF-4F43-A43F-3E8B2F3A7FAF}" type="slidenum">
              <a:rPr b="0" lang="en-US" sz="1200" spc="-1" strike="noStrike">
                <a:solidFill>
                  <a:srgbClr val="75d1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4786-4FF0-4F44-A41D-A5C6E35825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111456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Progress on Linear Solv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894040"/>
            <a:ext cx="7796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85760" indent="-185760"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Research Team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Dr. Guoyong 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Zhao Li, Bo 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ixed Signal CAD Research Lab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Department of 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University of Washington, Seattle 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038480" y="563868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563868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814-6A35-411C-BE77-A1CEB17545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765000"/>
            <a:ext cx="662940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Proposed Linear Centric Circuit Analysis Metho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3800" y="2057040"/>
            <a:ext cx="736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mprove numerical integration formulae to keep circuit matrices constant for a large tim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mi-implicit integration formulae as a predi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erative integration formulae as a corr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7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mprove nonlinear iteration methods to keep circuit matrices constant for a large voltage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ccessive variable chord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nk-one update techn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DCA-08B7-4DED-B8E8-A8A5514FAD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23888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Semi-Implicit Trapezoid (SI-TRAP) Formul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33520" y="4714920"/>
                <a:ext cx="40399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724280" y="4678560"/>
            <a:ext cx="38102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Variable-step integration formula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0" i="1" lang="en-GB" sz="2400" spc="-1" strike="noStrike">
                <a:solidFill>
                  <a:srgbClr val="fc0128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c0128"/>
                </a:solidFill>
                <a:latin typeface="Arial"/>
              </a:rPr>
              <a:t> is the basis time step size, </a:t>
            </a:r>
            <a:r>
              <a:rPr b="0" i="1" lang="en-GB" sz="2400" spc="-1" strike="noStrike">
                <a:solidFill>
                  <a:srgbClr val="fc0128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fc0128"/>
                </a:solidFill>
                <a:latin typeface="Arial"/>
              </a:rPr>
              <a:t> is the variable-step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cap_comp_model_si" descr=""/>
          <p:cNvPicPr/>
          <p:nvPr/>
        </p:nvPicPr>
        <p:blipFill>
          <a:blip r:embed="rId1"/>
          <a:stretch/>
        </p:blipFill>
        <p:spPr>
          <a:xfrm>
            <a:off x="1066680" y="1724040"/>
            <a:ext cx="6934320" cy="2612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66680" y="4648320"/>
            <a:ext cx="533520" cy="9144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191120"/>
            <a:ext cx="3276720" cy="457200"/>
          </a:xfrm>
          <a:prstGeom prst="wedgeRectCallout">
            <a:avLst>
              <a:gd name="adj1" fmla="val -68120"/>
              <a:gd name="adj2" fmla="val 50347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Constant co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D98-A0E6-4AEF-BC6B-98660BBA6C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1160" y="617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Numerical Stability of SI-TR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36200" y="483084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22286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222286"/>
                </a:solidFill>
                <a:latin typeface="Tahoma"/>
              </a:rPr>
              <a:t>= 0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35260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_stb" descr=""/>
          <p:cNvPicPr/>
          <p:nvPr/>
        </p:nvPicPr>
        <p:blipFill>
          <a:blip r:embed="rId1"/>
          <a:stretch/>
        </p:blipFill>
        <p:spPr>
          <a:xfrm>
            <a:off x="838080" y="1654200"/>
            <a:ext cx="3581640" cy="3475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23526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ex_stb2" descr=""/>
          <p:cNvPicPr/>
          <p:nvPr/>
        </p:nvPicPr>
        <p:blipFill>
          <a:blip r:embed="rId2"/>
          <a:stretch/>
        </p:blipFill>
        <p:spPr>
          <a:xfrm>
            <a:off x="4648320" y="1622520"/>
            <a:ext cx="3581280" cy="3471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791320" y="479124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22286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222286"/>
                </a:solidFill>
                <a:latin typeface="Tahoma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" y="5356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SI-TRAP is only A-stable when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&lt; 1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宋体"/>
              </a:rPr>
              <a:t> so it is only used as a predictor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when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051440" y="3867120"/>
                <a:ext cx="1117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11F-15CD-4993-B0B2-02E9452AD9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23888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Iterative Trapezoid (IR-TRAP) Formul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419720"/>
            <a:ext cx="533520" cy="9144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5334120"/>
            <a:ext cx="3276720" cy="457200"/>
          </a:xfrm>
          <a:prstGeom prst="wedgeRectCallout">
            <a:avLst>
              <a:gd name="adj1" fmla="val -73740"/>
              <a:gd name="adj2" fmla="val -57291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Constant co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cap_comp_model_ir" descr=""/>
          <p:cNvPicPr/>
          <p:nvPr/>
        </p:nvPicPr>
        <p:blipFill>
          <a:blip r:embed="rId1"/>
          <a:stretch/>
        </p:blipFill>
        <p:spPr>
          <a:xfrm>
            <a:off x="647640" y="1752480"/>
            <a:ext cx="7925040" cy="268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752480" y="4343400"/>
                <a:ext cx="51087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αh</m:t>
                        </m:r>
                      </m:den>
                    </m:f>
                    <m:r>
                      <m:t xml:space="preserve">−</m:t>
                    </m:r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990720" y="5943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TE is the same as TRAP if converge success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D4B-D196-4494-820A-DE87E415CA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1160" y="617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Numerical Stability of IR-TR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36560" y="4830840"/>
            <a:ext cx="1640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0.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35260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3526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4791240"/>
            <a:ext cx="121896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r_trap1_2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33920" cy="2801880"/>
          </a:xfrm>
          <a:prstGeom prst="rect">
            <a:avLst/>
          </a:prstGeom>
          <a:ln w="0">
            <a:noFill/>
          </a:ln>
        </p:spPr>
      </p:pic>
      <p:pic>
        <p:nvPicPr>
          <p:cNvPr id="157" name="ir_trap2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733560" cy="280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65680" y="3867120"/>
                <a:ext cx="1117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662120" y="57862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bsolute stability region is related t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C32-EEFE-4881-9C47-DE84A04861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1160" y="617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Numerical Stability of IR-TR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36560" y="4876920"/>
            <a:ext cx="1640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0.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4876920"/>
            <a:ext cx="1218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5729400"/>
            <a:ext cx="64771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bsolute stability region approaches to that of standard TRAP method with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ir_trap1_10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3733560" cy="2803320"/>
          </a:xfrm>
          <a:prstGeom prst="rect">
            <a:avLst/>
          </a:prstGeom>
          <a:ln w="0">
            <a:noFill/>
          </a:ln>
        </p:spPr>
      </p:pic>
      <p:pic>
        <p:nvPicPr>
          <p:cNvPr id="165" name="ir_trap2_10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657600" cy="2760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865680" y="3867120"/>
                <a:ext cx="1117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248-CEC8-45E8-8D5E-F6B5678844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1218960"/>
            <a:ext cx="6627960" cy="5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Linear Circuit Analysis Examp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1990800"/>
            <a:ext cx="8077320" cy="1852560"/>
            <a:chOff x="457200" y="1990800"/>
            <a:chExt cx="8077320" cy="1852560"/>
          </a:xfrm>
        </p:grpSpPr>
        <p:sp>
          <p:nvSpPr>
            <p:cNvPr id="169" name=""/>
            <p:cNvSpPr/>
            <p:nvPr/>
          </p:nvSpPr>
          <p:spPr>
            <a:xfrm>
              <a:off x="457200" y="1990800"/>
              <a:ext cx="8077320" cy="185256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1990800"/>
              <a:ext cx="8077320" cy="9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lnSpc>
                  <a:spcPct val="100000"/>
                </a:lnSpc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Tahoma"/>
                </a:rPr>
                <a:t>Two RCL circuits with 100X time constant differ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lnSpc>
                  <a:spcPct val="100000"/>
                </a:lnSpc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Tahoma"/>
                </a:rPr>
                <a:t>Initial time step size 0.01 sec, simulation interval 160 sec, 16001 simulation points for fixed time-step 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24040" y="3166920"/>
            <a:ext cx="5486400" cy="1676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7200" y="4565520"/>
            <a:ext cx="3832200" cy="2063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800600" y="4681440"/>
            <a:ext cx="3733920" cy="19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82D-38D8-4C49-8BD8-79407AD28A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6170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Time Step Size Distribu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8960" y="57913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ss than 3000 simulation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st time step sizes between 0.05 and 0.2 s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stiff_time1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335560" cy="399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35E-AC96-45B5-BAC2-F34796F69F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4920" y="6170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sis Time Step Size Distribu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stiff_time2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88200" cy="41133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5866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stant basis time step size means constant equivalent conduc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8DA-0351-4D69-83B3-C7124F7DBC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4920" y="617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pplications of Successive Chord It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6"/>
                </a:solidFill>
                <a:latin typeface="Tahoma"/>
              </a:rPr>
              <a:t>Weakly nonlinear analysis for Analog/RF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in harmonic balance analysis (C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6"/>
                </a:solidFill>
                <a:latin typeface="Tahoma"/>
              </a:rPr>
              <a:t>Timing analysis of single-stage logic gate driving interconnec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TA (C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Main drawback – A chord ensuring convergence generally leads to a slow convergence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EFF-BFEB-450C-8B33-D64874F133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CoSMoS Linear Solver Candida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119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spcBef>
                <a:spcPts val="476"/>
              </a:spcBef>
              <a:buClr>
                <a:srgbClr val="3333cc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PARSE1.3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Direct solver in SP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spcBef>
                <a:spcPts val="476"/>
              </a:spcBef>
              <a:buClr>
                <a:srgbClr val="3333cc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uperLU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Direct solv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spcBef>
                <a:spcPts val="476"/>
              </a:spcBef>
              <a:buClr>
                <a:srgbClr val="3333cc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ZTEC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Direct and iterative solv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spcBef>
                <a:spcPts val="476"/>
              </a:spcBef>
              <a:buClr>
                <a:srgbClr val="3333cc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YPRE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Direct and iterative solv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spcBef>
                <a:spcPts val="476"/>
              </a:spcBef>
              <a:buClr>
                <a:srgbClr val="3333cc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ASSL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DAE solv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4D0-B4A8-4205-8C46-22E3C652F4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Piecewise Weakly Nonlinear Analysis (PWNL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57146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local chords are defined for different weakly nonlinear segments – Successive Varaible Chord (SV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VSC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192560" cy="39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DFF-72CD-4213-878D-0C097C3F9D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4920" y="6170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Successive Variable Chord Method for MOSFE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mos_region" descr=""/>
          <p:cNvPicPr/>
          <p:nvPr/>
        </p:nvPicPr>
        <p:blipFill>
          <a:blip r:embed="rId1"/>
          <a:stretch/>
        </p:blipFill>
        <p:spPr>
          <a:xfrm>
            <a:off x="-76320" y="2133720"/>
            <a:ext cx="4876920" cy="413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4724280" y="2133720"/>
          <a:ext cx="4191120" cy="4064040"/>
        </p:xfrm>
        <a:graphic>
          <a:graphicData uri="http://schemas.openxmlformats.org/drawingml/2006/table">
            <a:tbl>
              <a:tblPr/>
              <a:tblGrid>
                <a:gridCol w="1047960"/>
                <a:gridCol w="1047600"/>
                <a:gridCol w="1104840"/>
                <a:gridCol w="9907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#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#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#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-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bs-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#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-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bs-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r>
                        <a:rPr b="0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AB7-CEE2-4E77-AB61-0E9FD74729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Rank-one Upda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7150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2108160"/>
            <a:ext cx="8534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222286"/>
                </a:solidFill>
                <a:latin typeface="Verdana"/>
              </a:rPr>
              <a:t>A local chord update will only affect four elements in the circuit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 new LU factorizatio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62120" y="3521160"/>
                <a:ext cx="1904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066680" y="4572000"/>
                <a:ext cx="4876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685800" y="4038480"/>
            <a:ext cx="800100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Householder ‘s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Update of L\U matrices – O(m*n</a:t>
            </a:r>
            <a:r>
              <a:rPr b="0" lang="en-US" sz="24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shio Fujisawa, et. al., “A Sparse Matrix Method for Analysis of Piecewise-Linear Resistive Networks”, IEEE Trans on Circuit Theory, vol. CT-19, no. 6, pp. 571-584, Nov. 19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E2A-31B2-4CF2-B14A-89DD014B58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Substrate Coupling Examp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5" name="substrate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3EC9-9080-4930-968F-C6D4F2A92F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617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eed-through via Substra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substrate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B0A-8E1A-472B-B5F0-E02E1B2C90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Speed-up vs. #El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speed-up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3D4-631F-4045-9776-22312BE3D1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Power/Ground Examp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1" name="pg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477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9D5-2563-4A33-B723-3C22D50DCD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IR-drop and L*dI/dt effe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3" name="pg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155-2773-4B43-9290-733D8F5124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617040"/>
            <a:ext cx="78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Test 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228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ve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80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LU speed-up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0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overall speed-up on substrate and power/ground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2228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re speed-up for larg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2228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peed-up reas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LU/FBS cost ratio – large &amp; dens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LU speed-up – RCL parasitic eff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k-one update for fast LU fact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2228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est a few digital and analog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53A-58A2-4587-AA06-784F099D91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spcBef>
                <a:spcPts val="561"/>
              </a:spcBef>
              <a:buNone/>
              <a:tabLst>
                <a:tab algn="l" pos="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ILCA –  A prototype of time-domain nonlinear circuit simulator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5520" indent="0">
              <a:spcBef>
                <a:spcPts val="561"/>
              </a:spcBef>
              <a:buNone/>
              <a:tabLst>
                <a:tab algn="l" pos="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62"/>
              </a:spcBef>
              <a:buClr>
                <a:srgbClr val="000000"/>
              </a:buClr>
              <a:buSzPct val="144000"/>
              <a:buFont typeface="Symbol" charset="2"/>
              <a:buChar char="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riable-step semi-implicit iterative numerical integration formul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62"/>
              </a:spcBef>
              <a:buClr>
                <a:srgbClr val="000000"/>
              </a:buClr>
              <a:buSzPct val="144000"/>
              <a:buFont typeface="Symbol" charset="2"/>
              <a:buChar char="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WNL analysis realized by the SVC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62"/>
              </a:spcBef>
              <a:buClr>
                <a:srgbClr val="000000"/>
              </a:buClr>
              <a:buSzPct val="144000"/>
              <a:buFont typeface="Symbol" charset="2"/>
              <a:buChar char="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nk-one update techn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5520" indent="0">
              <a:spcBef>
                <a:spcPts val="462"/>
              </a:spcBef>
              <a:buNone/>
              <a:tabLst>
                <a:tab algn="l" pos="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62"/>
              </a:spcBef>
              <a:buClr>
                <a:srgbClr val="ff0000"/>
              </a:buClr>
              <a:buSzPct val="144000"/>
              <a:buFont typeface="Wingdings" charset="2"/>
              <a:buChar char="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Orders of magnitude speed-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62"/>
              </a:spcBef>
              <a:buClr>
                <a:srgbClr val="ff0000"/>
              </a:buClr>
              <a:buSzPct val="144000"/>
              <a:buFont typeface="Wingdings" charset="2"/>
              <a:buChar char="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Work without derivatives if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145-AE29-4F66-9E73-BC4ADCA419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66294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3800" y="2057040"/>
            <a:ext cx="736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Multiple solver options for different circuit simulation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Unified circuit-EM for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Orders of magnitude speed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209680" y="3781440"/>
                <a:ext cx="378648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M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KT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DD5-664B-49FD-8A70-0671102A1D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4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8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0" y="326232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Schedu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2057400"/>
            <a:ext cx="8153640" cy="36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ummer Quarter (June 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Sept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research on PWN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are with DASSL (fixed leading coefficient B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est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ext 6 months (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Dec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oupled nonlinear/linear circuit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gration of nonlinear capac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36E-22AE-4DC8-82D7-358DD95547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66294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All solver libraries have been installed in our Unix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valuations have been made on direct solvers: SPARSE1.3 and Super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perLU can be an alternative for circuit simulator (SPICE), i.e., DC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istributed parallel solvers (AZTEC, HYPRE) are options for EM coupled 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040" indent="-272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YPRE is the option for stamping EM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07880" indent="-3063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ASSL is the option for direct simulation without discretized stamping (speed-up for some circui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652-9FDF-4E92-BFFF-5B13363939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66294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irect sol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perLU is good for well ordered matr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ARSE1.3 is good for repeated solving of the same patterned matr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0">
              <a:spcBef>
                <a:spcPts val="524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Solvers for distributed problems (i.e., 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mping based formulation – HYPRE is a good o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F7E-40CC-4D10-BCC2-3AD3C17FB5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66294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Targe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rdering is the key to speedup direct sol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ultiple solver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tamping based matrix building unifies circuit and EM for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encil used in HYPRE is stamping for distributed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tamping based matrix formulation can unify ODE and PDE 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Mixed solvers are needed for unified for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E65-99FF-4F0F-9702-2DEB6B63B1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1114200"/>
            <a:ext cx="754380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Tahoma"/>
              </a:rPr>
              <a:t>SILCA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S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emi-</a:t>
            </a: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I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mplicit </a:t>
            </a: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L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inear </a:t>
            </a: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C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entric </a:t>
            </a:r>
            <a:r>
              <a:rPr b="1" lang="en-GB" sz="3200" spc="-1" strike="noStrike">
                <a:solidFill>
                  <a:srgbClr val="fc0128"/>
                </a:solidFill>
                <a:latin typeface="Tahoma"/>
              </a:rPr>
              <a:t>A</a:t>
            </a: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nalysis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198960"/>
            <a:ext cx="779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85760" indent="-185760"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hD Student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Zhao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dvisor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Richard 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ixed Signal CAD Research Lab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Department of 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University of Washington, Seattle 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4038480" y="563868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563868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04B-F15B-47ED-BC04-9F2EE17A56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0720" y="950760"/>
            <a:ext cx="649764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Challenges for Time-Domain Circuit Sim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2174760"/>
            <a:ext cx="8119800" cy="34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6520" indent="0"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ccurate analysis of VLSI circuits together with surrounding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16520" indent="0"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43840" indent="-279720">
              <a:spcBef>
                <a:spcPts val="476"/>
              </a:spcBef>
              <a:buClr>
                <a:srgbClr val="000000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wer/ground network, common substrate, interconnect lines, packaging inductanc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43840" indent="-279720">
              <a:spcBef>
                <a:spcPts val="476"/>
              </a:spcBef>
              <a:buClr>
                <a:srgbClr val="000000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ep-submicron circuits with extracted parasitic eff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43840" indent="-279720">
              <a:spcBef>
                <a:spcPts val="476"/>
              </a:spcBef>
              <a:buClr>
                <a:srgbClr val="000000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upled circuit-EM 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43840" indent="-279720">
              <a:spcBef>
                <a:spcPts val="476"/>
              </a:spcBef>
              <a:buClr>
                <a:srgbClr val="000000"/>
              </a:buClr>
              <a:buSzPct val="84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mal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A06-FB8A-4B20-8FBF-2AA896EA70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765000"/>
            <a:ext cx="7535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Per-iteration Cost Distribution in Transient Sim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3800" y="2057400"/>
            <a:ext cx="7364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evice eval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ble look-up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allel and distributed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U facto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arse matrix solve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.1~1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lose to worst cas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considering surrounding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Forward/backward substitution(FB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uch lower than LU fact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014880" y="2657520"/>
            <a:ext cx="2971800" cy="1752480"/>
            <a:chOff x="6014880" y="2657520"/>
            <a:chExt cx="2971800" cy="1752480"/>
          </a:xfrm>
        </p:grpSpPr>
        <p:sp>
          <p:nvSpPr>
            <p:cNvPr id="126" name=""/>
            <p:cNvSpPr/>
            <p:nvPr/>
          </p:nvSpPr>
          <p:spPr>
            <a:xfrm>
              <a:off x="6014880" y="2657520"/>
              <a:ext cx="2971800" cy="1752480"/>
            </a:xfrm>
            <a:prstGeom prst="irregularSeal2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77000" y="3190320"/>
              <a:ext cx="1447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2306f8"/>
                  </a:solidFill>
                  <a:latin typeface="Tahoma"/>
                </a:rPr>
                <a:t>Decrease LU cost 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60F-37FF-4C41-B881-061DA94A71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6:21:53Z</dcterms:created>
  <dc:creator>gshi</dc:creator>
  <dc:description/>
  <dc:language>en-US</dc:language>
  <cp:lastModifiedBy>Zhao Li</cp:lastModifiedBy>
  <dcterms:modified xsi:type="dcterms:W3CDTF">2003-06-19T08:50:01Z</dcterms:modified>
  <cp:revision>144</cp:revision>
  <dc:subject/>
  <dc:title>Solver Development</dc:title>
</cp:coreProperties>
</file>