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1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22.jpeg" ContentType="image/jpeg"/>
  <Override PartName="/ppt/media/image15.wmf" ContentType="image/x-wmf"/>
  <Override PartName="/ppt/media/image14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AB46-DF2B-4C3F-B41F-5BC5ADDBE1A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375A-D19F-4866-84EE-7CE7B981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C43-DFEE-4803-9D01-4B47CBD5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E8F5-7861-45F2-80DD-CA68F7C8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B83-D6C6-42A4-B933-E6908FE6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94E-011F-422E-B331-673FCAAE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47EC-47E4-48B7-9C84-F9849B78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576C-8F3D-43B2-8C2D-35F713FA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12CA-8AAE-4E8C-988B-7E654D27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18E-5D70-4BE0-868F-F1231C50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470-0703-48AB-96F5-F0A87EAF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14D-2C24-4F68-B9F1-5B32C206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930-54FC-4EF7-AC1E-FE156F75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58ED-EA70-4A16-A3F6-A65815393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511200"/>
            <a:ext cx="845820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Progress on VHDL-AMS extension for EM and mixed-technology modeling </a:t>
            </a:r>
            <a:endParaRPr b="1" lang="en-US" sz="5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S2003/RFIC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352760" y="57006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2760" y="57006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4178160"/>
            <a:ext cx="77724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vel Niki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xamples and Tool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E and I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a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scatter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mster (Ansoft Simplor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MAC (MC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ransmission Line Exampl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3800" y="1968480"/>
            <a:ext cx="44197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ar interconnect connected to a simple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EM mode, Maxwell’s equations can be reduced to Telegrapher’s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0" y="1554120"/>
          <a:ext cx="4046400" cy="42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554120"/>
                    <a:ext cx="404640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ransmission Line Exampl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16080" y="4356000"/>
                <a:ext cx="18824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058080" y="4280040"/>
                <a:ext cx="1568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714760" y="4132440"/>
                <a:ext cx="29559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L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3" name=""/>
          <p:cNvGraphicFramePr/>
          <p:nvPr/>
        </p:nvGraphicFramePr>
        <p:xfrm>
          <a:off x="266760" y="1398600"/>
          <a:ext cx="8610480" cy="28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398600"/>
                    <a:ext cx="8610480" cy="28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DTD/Circuit coupling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67040" y="4280040"/>
                <a:ext cx="548640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Cdx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7" name=""/>
          <p:cNvGraphicFramePr/>
          <p:nvPr/>
        </p:nvGraphicFramePr>
        <p:xfrm>
          <a:off x="671400" y="1231920"/>
          <a:ext cx="7391520" cy="31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231920"/>
                    <a:ext cx="739152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18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ircuit Model and Finite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ifference Model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79520" y="2409840"/>
          <a:ext cx="4584960" cy="29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9520" y="2409840"/>
                    <a:ext cx="4584960" cy="29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969240" y="2460600"/>
                <a:ext cx="2000160" cy="27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178680" y="5246640"/>
            <a:ext cx="277812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 discretized P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" y="5478480"/>
            <a:ext cx="276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ped circuit KCL/KV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01680" y="2408400"/>
                <a:ext cx="2000160" cy="27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801960" y="1487520"/>
                <a:ext cx="1081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VHDL-AMS Simulation Resul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36680" y="1784520"/>
            <a:ext cx="6816600" cy="4240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359160" y="1163520"/>
            <a:ext cx="242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hermal Modeling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905120"/>
            <a:ext cx="408924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</a:rPr>
              <a:t>------------------- Thermoelectric resistor 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LIBRARY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ISCIPLINES;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LIBRARY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IEE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US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ISCIPLINES.ELECTROMAGNETIC_SYSTEM.ALL;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US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ISCIPLINES.THERMAL_SYSTEM.ALL;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US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IEEE.MATH_REAL.ALL;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ENTITY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hermoelectric_resistor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IC  (resistance, alpha: REAL)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POR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TERMINAL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, b  : ELECTRICAL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TERMINAL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: THERMAL)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ARCHITECTUR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ehav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OF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hermoelectric_resistor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QUANTITY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v_r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ACROS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i_r THROUGH a TO b;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QUANTITY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emp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ACROS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heatflow 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THROUGH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 to thermal_ground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CONSTAN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ref : REAL := 273.00; -- temperature at which resistance is defi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BEGIN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_r == v_r/ (resistance + alpha * (temp - tref) 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tflow == i_r*v_r;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ehav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5600" y="2879640"/>
            <a:ext cx="3770280" cy="2189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0" y="1241280"/>
            <a:ext cx="303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-AM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0480" y="2160720"/>
            <a:ext cx="3035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hermal Exampl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8120" y="4535640"/>
          <a:ext cx="328428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535640"/>
                    <a:ext cx="3284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993600" y="1487520"/>
          <a:ext cx="6966000" cy="25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3600" y="1487520"/>
                    <a:ext cx="69660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784600" y="415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D Heat Balance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hermo-Electrical interac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944720" y="1670040"/>
          <a:ext cx="5254560" cy="35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4720" y="1670040"/>
                    <a:ext cx="525456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iscretization: Control Volume Method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2133720"/>
          <a:ext cx="420372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42037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28600" y="4572000"/>
          <a:ext cx="861048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572000"/>
                    <a:ext cx="861048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0880" y="40384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internal n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105520" y="1447920"/>
          <a:ext cx="3510000" cy="33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447920"/>
                    <a:ext cx="3510000" cy="33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/time domain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emperature Distribu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1600" y="1498680"/>
            <a:ext cx="6399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VHDL-AMS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7" name="hAMSter_plot_2" descr=""/>
          <p:cNvPicPr/>
          <p:nvPr/>
        </p:nvPicPr>
        <p:blipFill>
          <a:blip r:embed="rId1"/>
          <a:stretch/>
        </p:blipFill>
        <p:spPr>
          <a:xfrm>
            <a:off x="846000" y="1716120"/>
            <a:ext cx="7450200" cy="4221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36840" y="1108080"/>
            <a:ext cx="606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to variable pow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M Scattering Exampl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643200" y="4829040"/>
                <a:ext cx="47102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∇</m:t>
                            </m:r>
                            <m:r>
                              <m:t xml:space="preserve">Ψ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4381560" y="3792600"/>
            <a:ext cx="347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Domain E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44720" y="1685880"/>
          <a:ext cx="463536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1685880"/>
                    <a:ext cx="463536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65040" y="1147680"/>
            <a:ext cx="164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uture Work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discretization support in VHDL-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operators (gradient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on existing PDE solvers and multiphysics packages (FEML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ultiphysics System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85960" y="1227240"/>
          <a:ext cx="7370640" cy="50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227240"/>
                    <a:ext cx="737064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VHDL-A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ckgrou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1076.1 behavioral language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time domain simulation of mixed circuits and simple multiple physics via DAE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hierarchical system description independent of solving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can have different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actical language extension is need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technology support (distributed inter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model exchange between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requency-time domain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5680" y="1395360"/>
          <a:ext cx="609264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395360"/>
                    <a:ext cx="609264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838080" y="3886200"/>
            <a:ext cx="77724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457200" indent="-45720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ays to co-simul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circuit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e response con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requency domain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886200"/>
            <a:ext cx="77724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457200" indent="-45720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eded VHDL-AMS exte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domai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16240" y="3592440"/>
            <a:ext cx="6620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65920" y="3637080"/>
            <a:ext cx="6620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143000" y="1230480"/>
          <a:ext cx="6453360" cy="25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30480"/>
                    <a:ext cx="645336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ime domain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886200"/>
            <a:ext cx="77724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457200" indent="-45720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eded VHDL-AMS exte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operator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6520" y="3637080"/>
            <a:ext cx="22874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AE, dis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04960" y="3624120"/>
            <a:ext cx="22748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AE, PDE, 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5680" y="1149480"/>
          <a:ext cx="6092640" cy="26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149480"/>
                    <a:ext cx="6092640" cy="26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istributed Physics in VHDL-A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patial differential and integral operators support in VHDL-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o ODE’s via spatial discretization (leave time discretization to VHDL-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DE Support Requirements for VHDL-A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779560"/>
            <a:ext cx="7772400" cy="342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E’s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E’s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ary and 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424160" y="1847880"/>
                <a:ext cx="62942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nikitin</cp:lastModifiedBy>
  <cp:lastPrinted>2002-02-05T19:22:32Z</cp:lastPrinted>
  <dcterms:modified xsi:type="dcterms:W3CDTF">2003-06-19T19:46:07Z</dcterms:modified>
  <cp:revision>250</cp:revision>
  <dc:subject>ITC '01 Electronic presentation guide/template</dc:subject>
  <dc:title>Presentation Guide</dc:title>
</cp:coreProperties>
</file>