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wmf" ContentType="image/x-wmf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9824-5FFE-4530-96A0-986F53145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5499-FC28-4CBD-ADC2-4912F070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4FED-AFC9-4785-9B13-B32D73C05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4858-6BC9-40A3-8F14-9E5550341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DE95-EED3-4347-A450-A46B03D8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1A01-C114-4086-9F1A-C0B614E4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3DE0-67A4-4454-B8B7-7F244D81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D9F1-1101-4F4F-90FC-32241427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72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8DF7-0DA8-468F-86C9-9DAC1B1F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7F83-429A-4CE7-82E1-F05AFBF9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111D-4128-4F02-9B13-519E5652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7A12-CD53-4778-9CF0-8EB212CC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2560" cy="148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25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E63E-5801-459C-9BA6-AA808AFEE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33720" y="3276720"/>
            <a:ext cx="606240" cy="663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1145880" cy="642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3520" y="350532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ahoma"/>
              </a:rPr>
              <a:t>O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3520" y="2438280"/>
            <a:ext cx="717480" cy="73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23920" y="6188040"/>
            <a:ext cx="3252600" cy="52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800600" y="2971800"/>
            <a:ext cx="3505320" cy="20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1360" rIns="171360" tIns="84240" bIns="8424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1704960"/>
                <a:tab algn="l" pos="3409920"/>
                <a:tab algn="l" pos="5114880"/>
                <a:tab algn="l" pos="6819840"/>
                <a:tab algn="l" pos="8524800"/>
                <a:tab algn="l" pos="10229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Tom Fridd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1704960"/>
                <a:tab algn="l" pos="3409920"/>
                <a:tab algn="l" pos="5114880"/>
                <a:tab algn="l" pos="6819840"/>
                <a:tab algn="l" pos="8524800"/>
                <a:tab algn="l" pos="10229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Associate Technical Fellow,  Microelectronic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1704960"/>
                <a:tab algn="l" pos="3409920"/>
                <a:tab algn="l" pos="5114880"/>
                <a:tab algn="l" pos="6819840"/>
                <a:tab algn="l" pos="8524800"/>
                <a:tab algn="l" pos="10229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Boeing Electronic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1704960"/>
                <a:tab algn="l" pos="3409920"/>
                <a:tab algn="l" pos="5114880"/>
                <a:tab algn="l" pos="6819840"/>
                <a:tab algn="l" pos="8524800"/>
                <a:tab algn="l" pos="10229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eattle, W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1704960"/>
                <a:tab algn="l" pos="3409920"/>
                <a:tab algn="l" pos="5114880"/>
                <a:tab algn="l" pos="6819840"/>
                <a:tab algn="l" pos="8524800"/>
                <a:tab algn="l" pos="1022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Phone: (253) 773-927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43400" y="1752480"/>
            <a:ext cx="4114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Presented to DAR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June 19,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04920"/>
            <a:ext cx="6934320" cy="4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eing CoSMoS Tool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logo_sm" descr="NeoCad Logo"/>
          <p:cNvPicPr/>
          <p:nvPr/>
        </p:nvPicPr>
        <p:blipFill>
          <a:blip r:embed="rId5"/>
          <a:stretch/>
        </p:blipFill>
        <p:spPr>
          <a:xfrm>
            <a:off x="1600200" y="1600200"/>
            <a:ext cx="144612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ROSTY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unction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Extract high-level netlist from layout database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trengths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imulation of gate-level behavioral model much faster than transistor-level simulation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Flexible, process-independent input file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pplicability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Layout verification by simulation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343400" y="3048120"/>
          <a:ext cx="4495680" cy="35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048120"/>
                    <a:ext cx="4495680" cy="35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4876920" y="1981080"/>
            <a:ext cx="380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Rounded MT Bold"/>
              </a:rPr>
              <a:t>Applications:  Verification, DMS Part Reverse Engine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4572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st Hierarchy Extraction T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IPRAI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191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unction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nalog library retargeting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trengths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Preserves expert knowledge from existing layout by feature recognition, e.g. symmetry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cales and compacts layout to new technology rule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pplicability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llows reuse of handcrafted analog layouts in new proces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486400" y="1752480"/>
          <a:ext cx="3454560" cy="403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752480"/>
                    <a:ext cx="3454560" cy="40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4800600" y="6019920"/>
            <a:ext cx="380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Rounded MT Bold"/>
              </a:rPr>
              <a:t>Applications:  Library port between compatible 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14479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556272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echnology Fil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iz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5803200" y="3924000"/>
            <a:ext cx="990720" cy="1219320"/>
          </a:xfrm>
          <a:custGeom>
            <a:avLst/>
            <a:gdLst>
              <a:gd name="textAreaLeft" fmla="*/ 330120 w 990720"/>
              <a:gd name="textAreaRight" fmla="*/ 848520 w 990720"/>
              <a:gd name="textAreaTop" fmla="*/ 702360 h 1219320"/>
              <a:gd name="textAreaBottom" fmla="*/ 10443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cccc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05720" y="5410080"/>
            <a:ext cx="19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ully-Routed Re-Sized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79960" y="4495680"/>
            <a:ext cx="1143000" cy="4572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99ff66"/>
              </a:gs>
            </a:gsLst>
            <a:lin ang="5400000"/>
          </a:gradFill>
          <a:ln w="28440">
            <a:solidFill>
              <a:srgbClr val="ffff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IPR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334120" y="502920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gradFill rotWithShape="0">
            <a:gsLst>
              <a:gs pos="0">
                <a:srgbClr val="3333cc"/>
              </a:gs>
              <a:gs pos="50000">
                <a:srgbClr val="cccc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45720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llectual Property Reuse Analog IC Lay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BMAC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uto-generate simulator model code from high-level language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trength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llows expression of device behavior in high-level language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aves much time generating all files necessary for simulator integration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Virtually eliminates debug time as code is generated correctly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06" name="bmac" descr=""/>
          <p:cNvPicPr/>
          <p:nvPr/>
        </p:nvPicPr>
        <p:blipFill>
          <a:blip r:embed="rId1"/>
          <a:stretch/>
        </p:blipFill>
        <p:spPr>
          <a:xfrm>
            <a:off x="5791320" y="3048120"/>
            <a:ext cx="2828880" cy="33526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562720" y="1371600"/>
            <a:ext cx="327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Rounded MT Bold"/>
              </a:rPr>
              <a:t>Applications:  Foundry process setup, modeling accel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34320" y="2133720"/>
            <a:ext cx="1143000" cy="4572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99ff66"/>
              </a:gs>
            </a:gsLst>
            <a:lin ang="5400000"/>
          </a:gradFill>
          <a:ln w="28440">
            <a:solidFill>
              <a:srgbClr val="ffff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67480" y="2666880"/>
            <a:ext cx="457200" cy="533520"/>
          </a:xfrm>
          <a:prstGeom prst="downArrow">
            <a:avLst>
              <a:gd name="adj1" fmla="val 57639"/>
              <a:gd name="adj2" fmla="val 48967"/>
            </a:avLst>
          </a:prstGeom>
          <a:gradFill rotWithShape="0">
            <a:gsLst>
              <a:gs pos="0">
                <a:srgbClr val="3333cc"/>
              </a:gs>
              <a:gs pos="50000">
                <a:srgbClr val="cccc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6438960" y="2095560"/>
            <a:ext cx="457200" cy="533520"/>
          </a:xfrm>
          <a:prstGeom prst="downArrow">
            <a:avLst>
              <a:gd name="adj1" fmla="val 53472"/>
              <a:gd name="adj2" fmla="val 53489"/>
            </a:avLst>
          </a:prstGeom>
          <a:gradFill rotWithShape="0">
            <a:gsLst>
              <a:gs pos="0">
                <a:srgbClr val="3333cc"/>
              </a:gs>
              <a:gs pos="50000">
                <a:srgbClr val="cccc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05520" y="21337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VHDL-AMS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5880" y="609588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PICE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457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ehavioral Modeling Analyzer Comp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Evaluation Results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1828800"/>
            <a:ext cx="281952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Produ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4267080"/>
            <a:ext cx="8229600" cy="20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Productivity Improvement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– All tools are capable of reducing engineering flow time for their function.  IPRAIL can greatly reduce library port time between compatible processes – may require adjustments for new parasitic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Production Readiness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– Some user documentation and initial setup effort remains.  File structure changes needed for integration into production environmen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Skill Level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– No difficult skill requirem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Potential for reducing engineering errors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– FROSTY could augment existing design verification, IPRAIL eliminates manual layout work in porting librar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2362320"/>
            <a:ext cx="281952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Production Read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2895480"/>
            <a:ext cx="281952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kill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3429000"/>
            <a:ext cx="281952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Error Re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1828800"/>
            <a:ext cx="99036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5 – 10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19720" y="1295280"/>
            <a:ext cx="99036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FROS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2362320"/>
            <a:ext cx="99036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N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2895480"/>
            <a:ext cx="99036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Med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19720" y="3429000"/>
            <a:ext cx="99036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86400" y="1828800"/>
            <a:ext cx="99072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2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86400" y="1295280"/>
            <a:ext cx="99072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IPR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86400" y="2362320"/>
            <a:ext cx="99072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N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2895480"/>
            <a:ext cx="99072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Med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3429000"/>
            <a:ext cx="99072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G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1828800"/>
            <a:ext cx="99072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2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53080" y="1295280"/>
            <a:ext cx="99072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BM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53080" y="2362320"/>
            <a:ext cx="99072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N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53080" y="2895480"/>
            <a:ext cx="99072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553080" y="3429000"/>
            <a:ext cx="99072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G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Evaluation Comments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ll tools performed their function – Actual hands-on work needed for a final evaluation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Pre-release versions evaluated represent an initial capability with growth potential, e.g. number of circuits recognized by Frosty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ome tools would benefit from integration with a design database system like Milkyway or DFII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Remaining Tasks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Provide continuing design center support to develop additional CoSMoS functionality as it becomes available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Installation of CoSMoS tool set at Boeing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4Q03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Hands-on benchmark CoSMoS tools against existing and other automated design tools to quantify design time and error reduction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1Q04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inal report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 Rounded MT Bold"/>
              </a:rPr>
              <a:t>2Q04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Outline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escription of the Evaluation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ools Evaluated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Remaining work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447920"/>
            <a:ext cx="8305560" cy="33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Boeing is in a unique position to evaluate EDA infra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Actively using a state-of-the-art military ASIC development 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Related program involvement – e.g. ACME, DTRA-RHM, VD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Not foundry-captive:  Foundry-flexible design 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Not EDA vendor-cap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Capability ranges from front-end to back-end and test, RF, Analog, Digital, and mixed-signal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Technology background:  Sub-micron, SiGe, SOI, Bipolar, CMOS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Boeing Role on CoS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Contribute test cases, user feedback, and design expert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Evaluate tool capa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Provide EDA deployment test be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Related Tool Experience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57" name="big%20chart%203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0880" y="144792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 of Orora Tools to Avoid a Design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Related Tool Experience  (Cont’d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e BoeSTM Problem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8b 40 MHz Pipelined ADC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ew design did not function on first pass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Difficult to diagnose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Repeatability issues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Required experience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Design, test, or process?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ause:  Routing via mismatch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3795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Related Tool Experience  (Cont’d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If Arana/Arsyn had Been Used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In the test diagnosis stage: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horter analysis/test time – parasitic effect analysis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Quicker to find a solution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In the design review stage: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mis-matching problem was spotted by the very experienced designers, however, thought to be OK (only 1 or 2 ohms)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ools could have avoided a second pass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st in the design stage: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ensitivity analysis helps designers spot critical design points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rsyn helps obtain more robust design – larger design space explored, what if analysis, automated search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Related Tool Experience  (Cont’d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Impact of  Arana/Arsyn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test use by Boeing SSED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t design time in half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expertise needed for succes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expensive debugging and additional pas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4800600"/>
            <a:ext cx="7925040" cy="99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4876920"/>
            <a:ext cx="73911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ana/Arsyn has become a key part of the Boeing mixed-signal design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95280" y="3886200"/>
            <a:ext cx="7620120" cy="0"/>
          </a:xfrm>
          <a:prstGeom prst="line">
            <a:avLst/>
          </a:prstGeom>
          <a:ln w="7632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143000"/>
            <a:ext cx="304812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100000">
                <a:srgbClr val="000000"/>
              </a:gs>
            </a:gsLst>
            <a:lin ang="5400000"/>
          </a:gradFill>
          <a:ln w="1908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stablish Evaluation Crite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User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38280" y="1752480"/>
            <a:ext cx="0" cy="304920"/>
          </a:xfrm>
          <a:prstGeom prst="line">
            <a:avLst/>
          </a:prstGeom>
          <a:ln w="28440">
            <a:solidFill>
              <a:srgbClr val="ffff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81280" y="2666880"/>
            <a:ext cx="0" cy="381240"/>
          </a:xfrm>
          <a:prstGeom prst="line">
            <a:avLst/>
          </a:prstGeom>
          <a:ln w="28440">
            <a:solidFill>
              <a:srgbClr val="ffff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4648320"/>
            <a:ext cx="0" cy="380880"/>
          </a:xfrm>
          <a:prstGeom prst="line">
            <a:avLst/>
          </a:prstGeom>
          <a:ln w="28440">
            <a:solidFill>
              <a:srgbClr val="ffff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2057400"/>
            <a:ext cx="327672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100000">
                <a:srgbClr val="000000"/>
              </a:gs>
            </a:gsLst>
            <a:lin ang="5400000"/>
          </a:gradFill>
          <a:ln w="1908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Prepare Design Development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3048120"/>
            <a:ext cx="304812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100000">
                <a:srgbClr val="000000"/>
              </a:gs>
            </a:gsLst>
            <a:lin ang="5400000"/>
          </a:gradFill>
          <a:ln w="1908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oSMoS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4038480"/>
            <a:ext cx="304812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100000">
                <a:srgbClr val="000000"/>
              </a:gs>
            </a:gsLst>
            <a:lin ang="5400000"/>
          </a:gradFill>
          <a:ln w="1908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Host CoSMoS at Boe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67080" y="5029200"/>
            <a:ext cx="304812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100000">
                <a:srgbClr val="000000"/>
              </a:gs>
            </a:gsLst>
            <a:lin ang="5400000"/>
          </a:gradFill>
          <a:ln w="1908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oSMoS Benchmar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5638680"/>
            <a:ext cx="0" cy="381240"/>
          </a:xfrm>
          <a:prstGeom prst="line">
            <a:avLst/>
          </a:prstGeom>
          <a:ln w="28440">
            <a:solidFill>
              <a:srgbClr val="ffff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81480" y="6019920"/>
            <a:ext cx="304812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100000">
                <a:srgbClr val="000000"/>
              </a:gs>
            </a:gsLst>
            <a:lin ang="5400000"/>
          </a:gradFill>
          <a:ln w="1908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Final Rep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32004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OSTY, IPRAIL, BMA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3657600"/>
            <a:ext cx="1219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Rounded MT Bold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62481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Introduction:  Boeing Task Overview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" name=""/>
          <p:cNvSpPr/>
          <p:nvPr/>
        </p:nvSpPr>
        <p:spPr>
          <a:xfrm>
            <a:off x="4343400" y="3657600"/>
            <a:ext cx="0" cy="380880"/>
          </a:xfrm>
          <a:prstGeom prst="line">
            <a:avLst/>
          </a:prstGeom>
          <a:ln w="28440">
            <a:solidFill>
              <a:srgbClr val="ffff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4191120"/>
            <a:ext cx="259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maining CoSMoS Functionality &amp; Final Vers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Description of the Evaluation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Evaluated three tools from the CoSMoS toolse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BMAC, Frosty, and IPRAIL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Evaluation Criteria: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Engineering time saving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uitability for production engineering design flow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Ease of use and skill requirement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Potential for reducing engineering error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Evaluation team:  5 Digital/Analog/RF/EDA Boeing engineers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Evaluation included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UW presentation and tool demonstration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nstallation from scratch on a clean system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3T20:08:07Z</dcterms:created>
  <dc:creator>Amort, Anthony L</dc:creator>
  <dc:description/>
  <dc:language>en-US</dc:language>
  <cp:lastModifiedBy>Friddell, Thomas H</cp:lastModifiedBy>
  <dcterms:modified xsi:type="dcterms:W3CDTF">2003-06-19T00:10:27Z</dcterms:modified>
  <cp:revision>15</cp:revision>
  <dc:subject/>
  <dc:title>Tom, put a title on this</dc:title>
</cp:coreProperties>
</file>