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A9CE-C964-4CC5-91F0-07178B38553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B48-F1BD-4B6D-A8A3-F6577374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50120"/>
            <a:ext cx="77724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226-973F-4F0E-A891-F33F74DC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501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501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9FB-CF11-432E-9166-00C8F725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501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501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50120"/>
            <a:ext cx="250236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531-4D5D-4BAA-A55B-426FCD16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DCF-A988-40F9-96C5-76D082EC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33E-A55B-41F8-A93C-103617B2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84A-994C-4CC9-A6E0-F0D88964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FFB-5205-4006-83AE-A32D0AD0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B66A-44C0-470D-8CE0-24F82820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501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661-9CC1-4FA6-BC0A-757AA01D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501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813-D04E-4181-9133-D2AD7D99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50120"/>
            <a:ext cx="7772400" cy="23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C9C-D90B-4073-8A0B-ABEAE055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6B06-B7D9-4C91-81CE-BA74523A4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53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2760" y="2118960"/>
            <a:ext cx="750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ast Frequen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omain Simulation of Coupled Systems</a:t>
            </a: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17560" y="60325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175280" y="5956200"/>
          <a:ext cx="82044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5280" y="5956200"/>
                    <a:ext cx="820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324560" y="5978520"/>
            <a:ext cx="74628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95080" y="3654360"/>
            <a:ext cx="7132680" cy="62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d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LAFMA for a DARPA test cas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CSU 0.25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 spiral pai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makes fast solution challe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ades FMM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other FMM codes to resort to “cheat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U normally faster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–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290760"/>
            <a:ext cx="4743360" cy="3567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08560" y="3297240"/>
            <a:ext cx="473544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lassCFieldSolverIterative__coll__graph" descr=""/>
          <p:cNvPicPr/>
          <p:nvPr/>
        </p:nvPicPr>
        <p:blipFill>
          <a:blip r:embed="rId1"/>
          <a:stretch/>
        </p:blipFill>
        <p:spPr>
          <a:xfrm>
            <a:off x="911160" y="1846440"/>
            <a:ext cx="5475240" cy="3520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earch Directio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mulate current analog RF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baseline on EM and circui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 FMM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fast convergence of circuit coupled F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dynamic preconditioning not well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tioning of coupled systems unexpl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ontinue tuning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st approximat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MM accelerated P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638760" y="4554360"/>
            <a:ext cx="2033640" cy="2033640"/>
            <a:chOff x="6638760" y="4554360"/>
            <a:chExt cx="2033640" cy="2033640"/>
          </a:xfrm>
        </p:grpSpPr>
        <p:sp>
          <p:nvSpPr>
            <p:cNvPr id="129" name=""/>
            <p:cNvSpPr/>
            <p:nvPr/>
          </p:nvSpPr>
          <p:spPr>
            <a:xfrm>
              <a:off x="6940080" y="4855680"/>
              <a:ext cx="716040" cy="7160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8520" y="4697640"/>
              <a:ext cx="1017720" cy="10177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56480" y="4855680"/>
              <a:ext cx="716760" cy="7160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04920" y="4700160"/>
              <a:ext cx="1017720" cy="10177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37560" y="5572080"/>
              <a:ext cx="716040" cy="7160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6000" y="5420880"/>
              <a:ext cx="1017720" cy="10177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53960" y="5572080"/>
              <a:ext cx="716760" cy="7160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02400" y="5423400"/>
              <a:ext cx="1017720" cy="10177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38760" y="4554360"/>
              <a:ext cx="2033640" cy="20336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1120" y="195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311f5"/>
                </a:solidFill>
                <a:latin typeface="Arial"/>
              </a:rPr>
              <a:t>Parting Sho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82680" y="61164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brid FMM solution of NCSU spi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physics: different sol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use best available solver for each part of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iterative solver for 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se LU for circu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ackup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Hybrid Solver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428840" y="2655720"/>
                <a:ext cx="7029360" cy="12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0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C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0</m:t>
                                  </m:r>
                                </m:e>
                              </m:acc>
                            </m:e>
                            <m:e>
                              <m:sSup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</m:acc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A</m:t>
                                  </m:r>
                                </m:e>
                              </m:ba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kt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k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Z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C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p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</m:acc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A</m:t>
                                  </m:r>
                                </m:e>
                              </m:ba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kt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e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k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447920" y="5095800"/>
                <a:ext cx="47894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NA</m:t>
                                </m:r>
                              </m:e>
                            </m:ba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A</m:t>
                            </m:r>
                          </m:e>
                        </m:ba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k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368520" y="5783400"/>
                <a:ext cx="2880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kt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A</m:t>
                            </m:r>
                          </m:e>
                        </m:ba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kt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ed form of system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exploration of variations in circuit or EM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orde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solution of entir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ackup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duced Syste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82760" y="2684520"/>
                <a:ext cx="47894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NA</m:t>
                                </m:r>
                              </m:e>
                            </m:ba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A</m:t>
                            </m:r>
                          </m:e>
                        </m:ba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k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405080" y="3435480"/>
                <a:ext cx="46609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A</m:t>
                            </m:r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rPr>
                        <m:lit/>
                        <m:nor/>
                      </m:rPr>
                      <m:t xml:space="preserve">ck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kt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447920" y="4836960"/>
                <a:ext cx="662148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Z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C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p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</m:acc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A</m:t>
                                  </m:r>
                                </m:e>
                              </m:ba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kt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e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k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452600" y="5487840"/>
                <a:ext cx="594360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ξγ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γ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γ</m:t>
                            </m:r>
                          </m:e>
                        </m:d>
                      </m:e>
                      <m:sup>
                        <m:r>
                          <m:t xml:space="preserve">k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ξγ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ξγ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0200" cy="6954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00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Field Solve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ess in last six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FMM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s for next six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lassCFieldSolverFMM__coll__graph" descr=""/>
          <p:cNvPicPr/>
          <p:nvPr/>
        </p:nvPicPr>
        <p:blipFill>
          <a:blip r:embed="rId1"/>
          <a:stretch/>
        </p:blipFill>
        <p:spPr>
          <a:xfrm>
            <a:off x="1600200" y="711360"/>
            <a:ext cx="6321600" cy="5989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hysics simulation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operates in frequency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circuits and electromag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mod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add new electromagnetic for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 to time domain, thermals, other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s workstation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” comput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 on fast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04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dvanced Field Solver Architectur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ecember 2002 POR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Arial"/>
              </a:rPr>
              <a:t>–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requency Domain Modul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5800" y="557064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geometry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360" y="465768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uadrature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52560" y="368460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ield solver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122200" y="4032360"/>
            <a:ext cx="996840" cy="62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19320" y="5005440"/>
            <a:ext cx="1440" cy="55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426760" y="4030560"/>
            <a:ext cx="1173240" cy="15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0080" y="4032360"/>
            <a:ext cx="1528560" cy="59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39000" y="2197080"/>
            <a:ext cx="219060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ntroller/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(Matlab test dri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4920" y="1352520"/>
            <a:ext cx="3111480" cy="5097600"/>
          </a:xfrm>
          <a:custGeom>
            <a:avLst/>
            <a:gdLst/>
            <a:ahLst/>
            <a:rect l="l" t="t" r="r" b="b"/>
            <a:pathLst>
              <a:path w="1960" h="3211">
                <a:moveTo>
                  <a:pt x="0" y="0"/>
                </a:moveTo>
                <a:cubicBezTo>
                  <a:pt x="248" y="252"/>
                  <a:pt x="1334" y="1127"/>
                  <a:pt x="1488" y="1514"/>
                </a:cubicBezTo>
                <a:cubicBezTo>
                  <a:pt x="1642" y="1901"/>
                  <a:pt x="843" y="2040"/>
                  <a:pt x="922" y="2323"/>
                </a:cubicBezTo>
                <a:cubicBezTo>
                  <a:pt x="1001" y="2606"/>
                  <a:pt x="1744" y="3026"/>
                  <a:pt x="1960" y="3211"/>
                </a:cubicBezTo>
              </a:path>
            </a:pathLst>
          </a:custGeom>
          <a:noFill/>
          <a:ln w="38160">
            <a:solidFill>
              <a:srgbClr val="9b31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935160" y="2678040"/>
            <a:ext cx="2104920" cy="99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9720" y="2279520"/>
            <a:ext cx="351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upled EM cod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43800" y="324180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SMoS sol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930560" y="3416400"/>
            <a:ext cx="1716120" cy="38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18360" y="4351320"/>
            <a:ext cx="219060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pice/HD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(circuit test dri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03880" y="1328760"/>
            <a:ext cx="35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SMoS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28960" y="5913360"/>
            <a:ext cx="22780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M and EM to circuit coupling matr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868200" y="4029120"/>
            <a:ext cx="173160" cy="187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500720" y="1728360"/>
            <a:ext cx="2023920" cy="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246040" y="2706840"/>
            <a:ext cx="1460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93640" y="539280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9200" y="447984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uad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4240" y="359244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M field sol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701720" y="3954600"/>
            <a:ext cx="34920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8200" y="4834080"/>
            <a:ext cx="0" cy="55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157968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velop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31000" y="358920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ircui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75160" y="262584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upled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5960" y="191916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at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32480" y="1579680"/>
            <a:ext cx="2190960" cy="33732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abb9"/>
                </a:solidFill>
                <a:latin typeface="Arial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32480" y="1919160"/>
            <a:ext cx="2190960" cy="33732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aaaea"/>
                </a:solidFill>
                <a:latin typeface="Arial"/>
              </a:rPr>
              <a:t>Windows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11440" y="613728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BLAS, LAP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62640" y="611820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uper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138120" y="2978280"/>
            <a:ext cx="438120" cy="60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69000" y="2970360"/>
            <a:ext cx="438120" cy="61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60600" y="3956040"/>
            <a:ext cx="0" cy="217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70640" y="3940200"/>
            <a:ext cx="0" cy="217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03680" y="2266920"/>
            <a:ext cx="766440" cy="35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776560" y="2263680"/>
            <a:ext cx="655560" cy="355680"/>
          </a:xfrm>
          <a:prstGeom prst="line">
            <a:avLst/>
          </a:prstGeom>
          <a:ln w="1260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693520" y="4853160"/>
            <a:ext cx="38916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079800" y="3956040"/>
            <a:ext cx="0" cy="90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359892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hybrid sol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3948120"/>
            <a:ext cx="0" cy="2165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24200" y="3949560"/>
            <a:ext cx="0" cy="21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97280" y="2975040"/>
            <a:ext cx="0" cy="61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urrent POR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Arial"/>
              </a:rPr>
              <a:t>–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Standalone Frequency Domain Simulato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lassCFMMoperatorQuasistatic__coll__graph" descr=""/>
          <p:cNvPicPr/>
          <p:nvPr/>
        </p:nvPicPr>
        <p:blipFill>
          <a:blip r:embed="rId1"/>
          <a:stretch/>
        </p:blipFill>
        <p:spPr>
          <a:xfrm>
            <a:off x="2879640" y="3611520"/>
            <a:ext cx="6264360" cy="3246480"/>
          </a:xfrm>
          <a:prstGeom prst="rect">
            <a:avLst/>
          </a:prstGeom>
          <a:ln w="0">
            <a:noFill/>
          </a:ln>
        </p:spPr>
      </p:pic>
      <p:pic>
        <p:nvPicPr>
          <p:cNvPr id="108" name="classCEMblockMapped__coll__graph" descr=""/>
          <p:cNvPicPr/>
          <p:nvPr/>
        </p:nvPicPr>
        <p:blipFill>
          <a:blip r:embed="rId2"/>
          <a:stretch/>
        </p:blipFill>
        <p:spPr>
          <a:xfrm>
            <a:off x="657360" y="879480"/>
            <a:ext cx="4354200" cy="2664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rchitectural Improvemen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&lt;source|Green’s function|tes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lexible quadrature extensible to equivalence principle EFIE, PMC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pgrades of entire object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chitecture is 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de unified into a singl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6,500 lines of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I refinements and improved 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roaching beta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lassCFMMoctTree__coll__graph" descr=""/>
          <p:cNvPicPr/>
          <p:nvPr/>
        </p:nvPicPr>
        <p:blipFill>
          <a:blip r:embed="rId1"/>
          <a:stretch/>
        </p:blipFill>
        <p:spPr>
          <a:xfrm>
            <a:off x="3162240" y="154080"/>
            <a:ext cx="5864400" cy="6572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ew Featur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level adaptive fast multipol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sistatic E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veral preconditioners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alable to full wave, equivalence principle EFIE, PMCHW, electrostatics, and magnetost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ybrid s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 dense LU solution, circuit sparse LU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 iterative solution, circuit sparse LU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stly improve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I, configuration files, and physics for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lassCEMsystem__coll__graph" descr=""/>
          <p:cNvPicPr/>
          <p:nvPr/>
        </p:nvPicPr>
        <p:blipFill>
          <a:blip r:embed="rId1"/>
          <a:stretch/>
        </p:blipFill>
        <p:spPr>
          <a:xfrm>
            <a:off x="482760" y="1122480"/>
            <a:ext cx="8332560" cy="5257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earch Statu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infrastructure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y for true coupled system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ing test suite of analog RF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nalysis of FMM performanc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with on-die system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ructures and algorithms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tioners surveyed (need faster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solver for coupl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preconditioner survey for hybrid F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ultilevel Adaptive Fast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ultipole Algorithm (MLAFMA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08560" y="3297240"/>
            <a:ext cx="4735440" cy="3560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3297240"/>
            <a:ext cx="4735440" cy="3560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 method for fast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 derived from electromagnet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s clustering to mesh and system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MMs best understood class of EM fast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twest</cp:lastModifiedBy>
  <cp:lastPrinted>2002-02-05T19:22:32Z</cp:lastPrinted>
  <dcterms:modified xsi:type="dcterms:W3CDTF">2003-06-19T21:31:27Z</dcterms:modified>
  <cp:revision>151</cp:revision>
  <dc:subject>ITC '01 Electronic presentation guide/template</dc:subject>
  <dc:title>Presentation Guide</dc:title>
</cp:coreProperties>
</file>