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.wmf" ContentType="image/x-wmf"/>
  <Override PartName="/ppt/media/image1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3C5E-0A18-49E3-8451-1EA43A08324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81D2-6FA7-4EAA-80A4-B76AE23F1E7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4366-0922-41EA-804A-68B61141CC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7F3B-27EF-4154-B725-138B90B945A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12E4-6EF9-4667-8181-8E5BF1CC3F1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5270-8478-4301-9E7F-4B9CA36AE5C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80C-A539-4417-AAD0-35F189C564A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of system with random (1) position and (2) velocity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BF6-AD33-41F8-8540-887EEF4AC3C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best among the group.  Decide the Gbest vector of each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DFA2-41B1-44E1-BD09-2AA4FC7287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movement of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AC99-8699-44AF-8012-6A6ABD0C896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and update G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B94-001A-4F27-B0A9-9472B12DCF8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ing for global optim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80DD-748D-45CF-82EF-578FE319A89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A396-D291-4D8D-BEDA-97549BD575B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4EE-9E58-4580-8E1C-4D683027FAE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61BE-65B0-4EA6-96DB-C48DD49B399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DD5-C07D-4F9E-A3B7-8D5354E9F8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BF6F-C6DC-4244-9314-11F70D7A90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F28-3508-4FF6-953E-E006DFF68B4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76A-CD87-4D3D-B90B-8983BEB504D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D3A-721D-487B-A96B-6B5120F5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C72-D605-40C5-82E3-BD5D843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1AB-31B2-4FD4-BE73-12E72EA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E66-8F72-42EF-9B7C-25B62FBC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9E4-2A0D-4EF9-88F4-EE899F61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D20-8E60-4EE0-BAB2-A1D5B25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6EE-D243-4B1B-881F-C5BAD54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02E-89B7-4F59-AA93-77F50C3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3E4-16DD-43D0-A381-DE0C17D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27C-0F08-4611-A624-7A1FA7E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80C-EB5F-41ED-90CA-18919CC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EB5-8A48-4DBD-9B6E-1AF6316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976-E4B9-405D-8D36-E8EB1C29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Parasitic-Aware Analog/RF Synthesis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J. Alls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ircuit Simulato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ircuit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Spice/Spectre (No simplified circuit simul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radeof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굴림"/>
              </a:rPr>
              <a:t>optimizatio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굴림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ttleneck in the overall optimization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Only way to reduce the optimization time is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reduce the total number of iteratio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ed a fast and efficient optimiz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0040" y="6553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s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ngle criterion whether evaluated circuit is good or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xpressed as weighted sum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.g. broadband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st = 50%*(target_gain – gain) + 50%*fla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F optimization =&gt; Minimiz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06440" y="3273480"/>
                <a:ext cx="6927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formanc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bjectiv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350120" y="65530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Simulated 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788000" cy="33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d annea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hance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more time to fin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: Temperature 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: to control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: to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246640" y="1446120"/>
            <a:ext cx="3457800" cy="2438640"/>
            <a:chOff x="5246640" y="1446120"/>
            <a:chExt cx="3457800" cy="2438640"/>
          </a:xfrm>
        </p:grpSpPr>
        <p:sp>
          <p:nvSpPr>
            <p:cNvPr id="280" name=""/>
            <p:cNvSpPr/>
            <p:nvPr/>
          </p:nvSpPr>
          <p:spPr>
            <a:xfrm>
              <a:off x="5275440" y="1522440"/>
              <a:ext cx="3429000" cy="2362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37560" y="2055960"/>
              <a:ext cx="2057400" cy="939600"/>
            </a:xfrm>
            <a:custGeom>
              <a:avLst/>
              <a:gdLst/>
              <a:ahLst/>
              <a:rect l="l" t="t" r="r" b="b"/>
              <a:pathLst>
                <a:path w="3408" h="2896">
                  <a:moveTo>
                    <a:pt x="0" y="288"/>
                  </a:moveTo>
                  <a:cubicBezTo>
                    <a:pt x="196" y="1172"/>
                    <a:pt x="392" y="2056"/>
                    <a:pt x="576" y="2208"/>
                  </a:cubicBezTo>
                  <a:cubicBezTo>
                    <a:pt x="760" y="2360"/>
                    <a:pt x="920" y="1096"/>
                    <a:pt x="1104" y="1200"/>
                  </a:cubicBezTo>
                  <a:cubicBezTo>
                    <a:pt x="1288" y="1304"/>
                    <a:pt x="1472" y="2896"/>
                    <a:pt x="1680" y="2832"/>
                  </a:cubicBezTo>
                  <a:cubicBezTo>
                    <a:pt x="1888" y="2768"/>
                    <a:pt x="2176" y="944"/>
                    <a:pt x="2352" y="816"/>
                  </a:cubicBezTo>
                  <a:cubicBezTo>
                    <a:pt x="2528" y="688"/>
                    <a:pt x="2560" y="2200"/>
                    <a:pt x="2736" y="2064"/>
                  </a:cubicBezTo>
                  <a:cubicBezTo>
                    <a:pt x="2912" y="1928"/>
                    <a:pt x="3160" y="964"/>
                    <a:pt x="34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84920" y="1598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84920" y="31989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6640" y="210348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18640" y="2738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3000" y="2890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5120" y="2665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3520" y="228456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85120" y="1446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7040" y="15224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83480" y="16747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5240" y="16747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58920" y="16747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I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49480" y="3317760"/>
              <a:ext cx="305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l minima and global minim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86040" y="4468680"/>
                <a:ext cx="28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d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1554120" y="5357880"/>
          <a:ext cx="609588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5357880"/>
                    <a:ext cx="6095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254640" y="47480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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ost=costnew-cost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ed Annealin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Optimiz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 climbing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iteration to climb up the h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re is no min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lot of iterations when # of parameter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next simulation point randomly                                      (not to stuck at local min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parameters 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000,000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Temp coefficient manu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low : fast, but easy to stuck at local min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is high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re ch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nd global min, but t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t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굴림"/>
              </a:rPr>
              <a:t>Simulated annealing with tunneling proces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with 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is too slow (1 day per transis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 is 4X to 10X faster than hill climbing proces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mparison%20of%20SA%20and%20NSA" descr=""/>
          <p:cNvPicPr/>
          <p:nvPr/>
        </p:nvPicPr>
        <p:blipFill>
          <a:blip r:embed="rId1"/>
          <a:stretch/>
        </p:blipFill>
        <p:spPr>
          <a:xfrm>
            <a:off x="458640" y="2968560"/>
            <a:ext cx="8229600" cy="2600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14320" y="543888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ill climb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Simulated anne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4240" y="5607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unnel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1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pired by a social behavior of a swarm of bees searching for the location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chang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information to find the 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ork on a population of potential solution candidates calle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ell-balanced between global / loc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fast / accurate (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and Easy to be implemented as optimization core for parasitic-aware synthesis an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ticle Swarm (2/2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nlike simulated annealing i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) Initialized with a population of rando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) Assigned a random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) Potential solutions flying through proble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best – each particle keeps track of best solution it has experie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best – best solution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nverge towar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t each iteration, changing the velocity of each particle toward its Pbest and Gbe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sition (particle location, Pbest, G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locity (next position – current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49760" y="655308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PSO eq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Equa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tion of searching agents (Particles) by keeping track of individual and group experience (Competition and Coop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inerti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굴림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warming Process: Initial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70000" y="1123920"/>
            <a:ext cx="8488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70000" y="1114560"/>
            <a:ext cx="841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1111320"/>
            <a:ext cx="75837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—parasitic-aware desig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imulated Annealing with Tunn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Swarm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T/Particle Swarm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Noise Amplifier Synthesi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Flying particl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warm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: Updating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368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void trapping in local minim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31840" y="1123920"/>
            <a:ext cx="86025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A    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 Particle Swar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itial point depen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ance to trap in loc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allel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Which technique is better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0840" y="850680"/>
            <a:ext cx="8496360" cy="43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wo different parasitic-aware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Particle Sw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it parasitic-aware syn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9800" y="4159080"/>
          <a:ext cx="403884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4159080"/>
                    <a:ext cx="40388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Design Targe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-stage Distributed 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3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6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8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1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2920" y="1219320"/>
            <a:ext cx="381492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-by-4 Matrix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Sp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0.25µm CMO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~ 20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andwidth &gt; 12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6 desig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e Cost (COST = 50% for Gain + 50% for Fla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1163520"/>
            <a:ext cx="0" cy="510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mparison 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parable initial performance for both DA and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formance difference increases as the constraints become tighter and the total iterations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 performs very poor in complex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cle swarm is 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mor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9440" y="3083040"/>
            <a:ext cx="8242200" cy="349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73240" y="5925960"/>
            <a:ext cx="2976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  <a:ea typeface="굴림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Optimization Results (MA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LNA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2896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F = 3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IP3 =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ain = 2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put and Output                                matching &lt; -1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bility factor 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ias current &lt;4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448160" y="1817640"/>
            <a:ext cx="46958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in HSPIC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60560" y="1123920"/>
            <a:ext cx="5722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MOS for 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08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s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integration capability (Small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oo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F circuits in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transconductance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igh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rg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r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w breakdown voltage (gate oxide / drain j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ducting substrate (highly doped lossy subst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or on-chip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strate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NF simulation resul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2720" y="1862280"/>
            <a:ext cx="5038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07680" y="533160"/>
            <a:ext cx="600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"/>
              </a:rPr>
              <a:t>Saving optimization time by skipping IIP3 simulatio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700360" y="1219320"/>
            <a:ext cx="403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ost Func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913040" y="1959120"/>
                <a:ext cx="5149800" cy="37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F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in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e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P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ability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746600" y="1290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is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7880" y="1519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20200" y="29606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0" y="34624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I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89360" y="54291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7440" y="55958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863880" y="1736640"/>
            <a:ext cx="14479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06800" y="1920960"/>
            <a:ext cx="71604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874880" y="3543120"/>
            <a:ext cx="8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438600" y="3208320"/>
            <a:ext cx="12193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094200" y="5037120"/>
            <a:ext cx="45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364000" y="535608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ummary of LN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85800" y="1219320"/>
          <a:ext cx="7772400" cy="4929120"/>
        </p:xfrm>
        <a:graphic>
          <a:graphicData uri="http://schemas.openxmlformats.org/drawingml/2006/table">
            <a:tbl>
              <a:tblPr/>
              <a:tblGrid>
                <a:gridCol w="1144080"/>
                <a:gridCol w="1729800"/>
                <a:gridCol w="1608840"/>
                <a:gridCol w="1644840"/>
                <a:gridCol w="1644840"/>
              </a:tblGrid>
              <a:tr h="886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deal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parasitic laden indu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out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with optim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3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94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6.3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3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.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4.7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I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0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.3 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26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S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&lt;-10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8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3.5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- 12 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I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B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5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1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379520" y="1432080"/>
          <a:ext cx="6118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1432080"/>
                    <a:ext cx="6118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1] B. Kleveland, et al., “Monolithic CMOS distributed amplifier and oscillator”,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SSCC99.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[2] B.M. Ballweber, R. Gupta, and D.J. Allstot, “A fully integrated 0.5-5.5GHz CMOS distributed amplifier,” </a:t>
            </a:r>
            <a:r>
              <a:rPr b="0" i="1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IEEE J. Solid-State Circuits,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굴림"/>
              </a:rPr>
              <a:t>vol. 35, pp.231-239, Feb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굴림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CMOS DA Example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  <a:ea typeface="굴림"/>
              </a:rPr>
              <a:t>[2]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38560" y="1325520"/>
          <a:ext cx="327024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8560" y="1325520"/>
                    <a:ext cx="32702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Parasitic-Aware Optimiz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8640" y="1763640"/>
            <a:ext cx="8385480" cy="4165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1840" y="5157720"/>
            <a:ext cx="2803320" cy="806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 laden Spiral inductor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굴림"/>
              </a:rPr>
              <a:t>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27212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about 4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xide Thick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rate resistivity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desig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 cente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: metal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u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: spacing between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21160" y="2820960"/>
            <a:ext cx="4571640" cy="1980360"/>
            <a:chOff x="4421160" y="2820960"/>
            <a:chExt cx="4571640" cy="1980360"/>
          </a:xfrm>
        </p:grpSpPr>
        <p:sp>
          <p:nvSpPr>
            <p:cNvPr id="94" name=""/>
            <p:cNvSpPr/>
            <p:nvPr/>
          </p:nvSpPr>
          <p:spPr>
            <a:xfrm>
              <a:off x="4421160" y="3831840"/>
              <a:ext cx="2217240" cy="58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21160" y="3600000"/>
              <a:ext cx="221724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3520" y="3312000"/>
              <a:ext cx="1447560" cy="287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34640" y="3059280"/>
              <a:ext cx="204840" cy="174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34640" y="2820960"/>
              <a:ext cx="1445400" cy="238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80040" y="2820960"/>
              <a:ext cx="212400" cy="1516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69520" y="4337640"/>
              <a:ext cx="1223280" cy="235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69520" y="3464640"/>
              <a:ext cx="228960" cy="873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69520" y="3188520"/>
              <a:ext cx="722520" cy="27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03760" y="3464640"/>
              <a:ext cx="188280" cy="523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72320" y="31827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e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0040" y="3493800"/>
              <a:ext cx="414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O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97800" y="399996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i-waf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/>
            <p:nvPr/>
          </p:nvCxnSpPr>
          <p:spPr>
            <a:xfrm flipV="1">
              <a:off x="4999320" y="400824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V="1">
              <a:off x="4999320" y="4181400"/>
              <a:ext cx="14436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 flipH="1" flipV="1">
              <a:off x="4998960" y="394956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 flipH="1" flipV="1">
              <a:off x="4998960" y="4122720"/>
              <a:ext cx="14436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/>
            <p:nvPr/>
          </p:nvCxnSpPr>
          <p:spPr>
            <a:xfrm flipH="1" flipV="1">
              <a:off x="49993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>
              <a:off x="509724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9724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96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96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9996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9724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/>
            <p:nvPr/>
          </p:nvCxnSpPr>
          <p:spPr>
            <a:xfrm flipV="1">
              <a:off x="6059520" y="400824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 flipV="1">
              <a:off x="6059520" y="4181400"/>
              <a:ext cx="1472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 flipH="1" flipV="1">
              <a:off x="6059160" y="394956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 flipH="1" flipV="1">
              <a:off x="6059160" y="4122720"/>
              <a:ext cx="14724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 flipV="1">
              <a:off x="6059520" y="4295880"/>
              <a:ext cx="97920" cy="5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6157080" y="37173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57080" y="43549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59880" y="3658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9880" y="3717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059880" y="3890520"/>
              <a:ext cx="9720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57080" y="34851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92280" y="3426480"/>
              <a:ext cx="9792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0560" y="3426480"/>
              <a:ext cx="9504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0" y="3426480"/>
              <a:ext cx="97200" cy="1170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5080" y="3479400"/>
              <a:ext cx="336960" cy="79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7240" y="348516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8848400">
              <a:off x="5616000" y="3436920"/>
              <a:ext cx="117000" cy="9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8848400">
              <a:off x="5760720" y="3436920"/>
              <a:ext cx="117000" cy="9504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848400">
              <a:off x="5905800" y="3435840"/>
              <a:ext cx="117000" cy="9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3320" y="3493800"/>
              <a:ext cx="443880" cy="9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8200" y="348516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92720" y="404964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ubst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3320" y="2932920"/>
              <a:ext cx="5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20720" y="2932920"/>
              <a:ext cx="35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91640" y="3755880"/>
              <a:ext cx="297720" cy="2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3775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0800" y="3964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45600" y="3764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1080" y="4528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96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6120" y="4646160"/>
              <a:ext cx="9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3080" y="45284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59880" y="45903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4646160"/>
              <a:ext cx="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0360" y="3482640"/>
              <a:ext cx="1393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94200" y="3667320"/>
              <a:ext cx="26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255200" y="46879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piral Inductor cross-section and Top vi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36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928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16840" y="3430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1289160"/>
            <a:ext cx="4678200" cy="2776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Parasitic inductor model extra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4878360"/>
            <a:ext cx="3068640" cy="747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" y="3909960"/>
            <a:ext cx="2292480" cy="673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59480" y="4222800"/>
            <a:ext cx="4647600" cy="2518920"/>
            <a:chOff x="4659480" y="4222800"/>
            <a:chExt cx="4647600" cy="2518920"/>
          </a:xfrm>
        </p:grpSpPr>
        <p:sp>
          <p:nvSpPr>
            <p:cNvPr id="164" name=""/>
            <p:cNvSpPr/>
            <p:nvPr/>
          </p:nvSpPr>
          <p:spPr>
            <a:xfrm>
              <a:off x="4735440" y="4241880"/>
              <a:ext cx="457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subckt spind in1 in2 g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1 in1b in2b ‘sl*1e-9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1 in1 a1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3 a1 gnd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x2 in2 a2   '(-0.0005*sl*sl+0.0312*sl+0.0543)/2*1e-1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ub4 a2 gnd   '(-0.0789*sl+31.7071+ 3.4892/sl)*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1 in1 in1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ser2 in2 in2b '(-0.0296*sl*sl+1.830007*sl+2.2875)/2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e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9480" y="4222800"/>
              <a:ext cx="4130280" cy="2448000"/>
            </a:xfrm>
            <a:prstGeom prst="flowChartAlternate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925280" y="1700280"/>
            <a:ext cx="593640" cy="164520"/>
            <a:chOff x="1925280" y="1700280"/>
            <a:chExt cx="593640" cy="164520"/>
          </a:xfrm>
        </p:grpSpPr>
        <p:grpSp>
          <p:nvGrpSpPr>
            <p:cNvPr id="167" name=""/>
            <p:cNvGrpSpPr/>
            <p:nvPr/>
          </p:nvGrpSpPr>
          <p:grpSpPr>
            <a:xfrm>
              <a:off x="2272320" y="1700280"/>
              <a:ext cx="98280" cy="164160"/>
              <a:chOff x="2272320" y="1700280"/>
              <a:chExt cx="98280" cy="16416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2321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272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73320" y="1700280"/>
              <a:ext cx="98280" cy="164160"/>
              <a:chOff x="2173320" y="1700280"/>
              <a:chExt cx="98280" cy="164160"/>
            </a:xfrm>
          </p:grpSpPr>
          <p:sp>
            <p:nvSpPr>
              <p:cNvPr id="171" name=""/>
              <p:cNvSpPr/>
              <p:nvPr/>
            </p:nvSpPr>
            <p:spPr>
              <a:xfrm flipH="1" flipV="1">
                <a:off x="2222640" y="1700280"/>
                <a:ext cx="4896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17332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073960" y="1700280"/>
              <a:ext cx="99000" cy="164160"/>
              <a:chOff x="2073960" y="1700280"/>
              <a:chExt cx="99000" cy="164160"/>
            </a:xfrm>
          </p:grpSpPr>
          <p:sp>
            <p:nvSpPr>
              <p:cNvPr id="174" name=""/>
              <p:cNvSpPr/>
              <p:nvPr/>
            </p:nvSpPr>
            <p:spPr>
              <a:xfrm flipH="1" flipV="1">
                <a:off x="2123640" y="1700280"/>
                <a:ext cx="4932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073960" y="1700280"/>
                <a:ext cx="49680" cy="16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37060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25280" y="186480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42680" y="1878120"/>
            <a:ext cx="299160" cy="677520"/>
            <a:chOff x="742680" y="1878120"/>
            <a:chExt cx="299160" cy="677520"/>
          </a:xfrm>
        </p:grpSpPr>
        <p:sp>
          <p:nvSpPr>
            <p:cNvPr id="179" name=""/>
            <p:cNvSpPr/>
            <p:nvPr/>
          </p:nvSpPr>
          <p:spPr>
            <a:xfrm>
              <a:off x="889560" y="187812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2080" y="2216880"/>
              <a:ext cx="2520" cy="33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2680" y="2159640"/>
              <a:ext cx="29844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576000">
              <a:off x="743040" y="2216880"/>
              <a:ext cx="298440" cy="56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327400" y="3062160"/>
            <a:ext cx="298440" cy="405000"/>
            <a:chOff x="2327400" y="3062160"/>
            <a:chExt cx="298440" cy="405000"/>
          </a:xfrm>
        </p:grpSpPr>
        <p:sp>
          <p:nvSpPr>
            <p:cNvPr id="184" name=""/>
            <p:cNvSpPr/>
            <p:nvPr/>
          </p:nvSpPr>
          <p:spPr>
            <a:xfrm>
              <a:off x="2476440" y="3062160"/>
              <a:ext cx="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27400" y="33656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7080" y="341640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6760" y="346716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52600" y="1727280"/>
            <a:ext cx="518760" cy="269640"/>
            <a:chOff x="1452600" y="1727280"/>
            <a:chExt cx="518760" cy="269640"/>
          </a:xfrm>
        </p:grpSpPr>
        <p:grpSp>
          <p:nvGrpSpPr>
            <p:cNvPr id="189" name=""/>
            <p:cNvGrpSpPr/>
            <p:nvPr/>
          </p:nvGrpSpPr>
          <p:grpSpPr>
            <a:xfrm>
              <a:off x="1549080" y="1727280"/>
              <a:ext cx="346680" cy="269640"/>
              <a:chOff x="1549080" y="1727280"/>
              <a:chExt cx="346680" cy="2696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740240" y="1727280"/>
                <a:ext cx="155520" cy="260640"/>
                <a:chOff x="1740240" y="1727280"/>
                <a:chExt cx="155520" cy="2606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5238600">
                  <a:off x="169020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 rot="5238600">
                  <a:off x="1691280" y="1785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44480" y="1731960"/>
                <a:ext cx="155520" cy="260640"/>
                <a:chOff x="1644480" y="1731960"/>
                <a:chExt cx="155520" cy="26064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5238600">
                  <a:off x="159444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 rot="5238600">
                  <a:off x="1595520" y="179064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549080" y="1736280"/>
                <a:ext cx="155160" cy="260640"/>
                <a:chOff x="1549080" y="1736280"/>
                <a:chExt cx="155160" cy="26064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5238600">
                  <a:off x="149904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 rot="5238600">
                  <a:off x="1499760" y="1794960"/>
                  <a:ext cx="254160" cy="14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 rot="5238600">
                <a:off x="1744560" y="1858680"/>
                <a:ext cx="5040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238600">
                <a:off x="1648800" y="1858680"/>
                <a:ext cx="50040" cy="45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cubicBezTo>
                      <a:pt x="10" y="44"/>
                      <a:pt x="21" y="42"/>
                      <a:pt x="27" y="37"/>
                    </a:cubicBezTo>
                    <a:cubicBezTo>
                      <a:pt x="33" y="32"/>
                      <a:pt x="38" y="21"/>
                      <a:pt x="33" y="15"/>
                    </a:cubicBezTo>
                    <a:cubicBezTo>
                      <a:pt x="28" y="9"/>
                      <a:pt x="14" y="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884240" y="1857600"/>
              <a:ext cx="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2600" y="1877400"/>
              <a:ext cx="10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02880" y="1717200"/>
            <a:ext cx="593640" cy="165240"/>
            <a:chOff x="902880" y="1717200"/>
            <a:chExt cx="593640" cy="165240"/>
          </a:xfrm>
        </p:grpSpPr>
        <p:grpSp>
          <p:nvGrpSpPr>
            <p:cNvPr id="204" name=""/>
            <p:cNvGrpSpPr/>
            <p:nvPr/>
          </p:nvGrpSpPr>
          <p:grpSpPr>
            <a:xfrm>
              <a:off x="1249920" y="1717200"/>
              <a:ext cx="98280" cy="164880"/>
              <a:chOff x="1249920" y="1717200"/>
              <a:chExt cx="98280" cy="164880"/>
            </a:xfrm>
          </p:grpSpPr>
          <p:sp>
            <p:nvSpPr>
              <p:cNvPr id="205" name=""/>
              <p:cNvSpPr/>
              <p:nvPr/>
            </p:nvSpPr>
            <p:spPr>
              <a:xfrm flipH="1" flipV="1">
                <a:off x="1299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249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50920" y="1717200"/>
              <a:ext cx="98280" cy="164880"/>
              <a:chOff x="1150920" y="1717200"/>
              <a:chExt cx="98280" cy="164880"/>
            </a:xfrm>
          </p:grpSpPr>
          <p:sp>
            <p:nvSpPr>
              <p:cNvPr id="208" name=""/>
              <p:cNvSpPr/>
              <p:nvPr/>
            </p:nvSpPr>
            <p:spPr>
              <a:xfrm flipH="1" flipV="1">
                <a:off x="1200240" y="1717200"/>
                <a:ext cx="4896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150920" y="171756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051560" y="1717200"/>
              <a:ext cx="99000" cy="164880"/>
              <a:chOff x="1051560" y="1717200"/>
              <a:chExt cx="99000" cy="164880"/>
            </a:xfrm>
          </p:grpSpPr>
          <p:sp>
            <p:nvSpPr>
              <p:cNvPr id="211" name=""/>
              <p:cNvSpPr/>
              <p:nvPr/>
            </p:nvSpPr>
            <p:spPr>
              <a:xfrm flipH="1" flipV="1">
                <a:off x="1101240" y="1717200"/>
                <a:ext cx="4932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051560" y="1717560"/>
                <a:ext cx="49680" cy="16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34820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02880" y="1882440"/>
              <a:ext cx="1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330280" y="1857240"/>
            <a:ext cx="298800" cy="675000"/>
            <a:chOff x="2330280" y="1857240"/>
            <a:chExt cx="298800" cy="675000"/>
          </a:xfrm>
        </p:grpSpPr>
        <p:sp>
          <p:nvSpPr>
            <p:cNvPr id="216" name=""/>
            <p:cNvSpPr/>
            <p:nvPr/>
          </p:nvSpPr>
          <p:spPr>
            <a:xfrm>
              <a:off x="2494440" y="1857240"/>
              <a:ext cx="216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0040" y="2193840"/>
              <a:ext cx="216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330280" y="2138760"/>
              <a:ext cx="297000" cy="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576000">
              <a:off x="2331720" y="2193840"/>
              <a:ext cx="297000" cy="572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76" y="80"/>
                    <a:pt x="192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1240" y="3029040"/>
            <a:ext cx="298440" cy="404640"/>
            <a:chOff x="741240" y="3029040"/>
            <a:chExt cx="298440" cy="404640"/>
          </a:xfrm>
        </p:grpSpPr>
        <p:sp>
          <p:nvSpPr>
            <p:cNvPr id="221" name=""/>
            <p:cNvSpPr/>
            <p:nvPr/>
          </p:nvSpPr>
          <p:spPr>
            <a:xfrm>
              <a:off x="890280" y="3029040"/>
              <a:ext cx="0" cy="3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1240" y="33321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0920" y="3382920"/>
              <a:ext cx="19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0600" y="3433680"/>
              <a:ext cx="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77880" y="2438640"/>
            <a:ext cx="146160" cy="673200"/>
            <a:chOff x="2477880" y="2438640"/>
            <a:chExt cx="146160" cy="673200"/>
          </a:xfrm>
        </p:grpSpPr>
        <p:grpSp>
          <p:nvGrpSpPr>
            <p:cNvPr id="226" name=""/>
            <p:cNvGrpSpPr/>
            <p:nvPr/>
          </p:nvGrpSpPr>
          <p:grpSpPr>
            <a:xfrm>
              <a:off x="2477880" y="2831400"/>
              <a:ext cx="146160" cy="111960"/>
              <a:chOff x="2477880" y="2831400"/>
              <a:chExt cx="146160" cy="11196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2478240" y="288756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2477880" y="283140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477880" y="2719080"/>
              <a:ext cx="146160" cy="111960"/>
              <a:chOff x="2477880" y="2719080"/>
              <a:chExt cx="146160" cy="11196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2478240" y="277524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2477880" y="271908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477880" y="2607120"/>
              <a:ext cx="146160" cy="111960"/>
              <a:chOff x="2477880" y="2607120"/>
              <a:chExt cx="146160" cy="11196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478240" y="2663280"/>
                <a:ext cx="14580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2477880" y="2607120"/>
                <a:ext cx="14580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477880" y="294372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77880" y="243864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30080" y="2429280"/>
            <a:ext cx="160200" cy="673200"/>
            <a:chOff x="730080" y="2429280"/>
            <a:chExt cx="160200" cy="673200"/>
          </a:xfrm>
        </p:grpSpPr>
        <p:grpSp>
          <p:nvGrpSpPr>
            <p:cNvPr id="238" name=""/>
            <p:cNvGrpSpPr/>
            <p:nvPr/>
          </p:nvGrpSpPr>
          <p:grpSpPr>
            <a:xfrm>
              <a:off x="730080" y="2822040"/>
              <a:ext cx="159840" cy="111960"/>
              <a:chOff x="730080" y="2822040"/>
              <a:chExt cx="159840" cy="111960"/>
            </a:xfrm>
          </p:grpSpPr>
          <p:sp>
            <p:nvSpPr>
              <p:cNvPr id="239" name=""/>
              <p:cNvSpPr/>
              <p:nvPr/>
            </p:nvSpPr>
            <p:spPr>
              <a:xfrm flipH="1" flipV="1">
                <a:off x="730080" y="287820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30080" y="282204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30080" y="2709720"/>
              <a:ext cx="159840" cy="111960"/>
              <a:chOff x="730080" y="2709720"/>
              <a:chExt cx="159840" cy="111960"/>
            </a:xfrm>
          </p:grpSpPr>
          <p:sp>
            <p:nvSpPr>
              <p:cNvPr id="242" name=""/>
              <p:cNvSpPr/>
              <p:nvPr/>
            </p:nvSpPr>
            <p:spPr>
              <a:xfrm flipH="1" flipV="1">
                <a:off x="730080" y="276588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0080" y="270972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30080" y="2597760"/>
              <a:ext cx="159840" cy="111960"/>
              <a:chOff x="730080" y="2597760"/>
              <a:chExt cx="159840" cy="111960"/>
            </a:xfrm>
          </p:grpSpPr>
          <p:sp>
            <p:nvSpPr>
              <p:cNvPr id="245" name=""/>
              <p:cNvSpPr/>
              <p:nvPr/>
            </p:nvSpPr>
            <p:spPr>
              <a:xfrm flipH="1" flipV="1">
                <a:off x="730080" y="2653920"/>
                <a:ext cx="159840" cy="5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730080" y="2597760"/>
                <a:ext cx="159840" cy="5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90280" y="293436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90280" y="2429280"/>
              <a:ext cx="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95800" y="1368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99360" y="13413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9440" y="13622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e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16480" y="2057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2360" y="26208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su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760" y="390204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bricate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280" y="48909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te and interp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using EM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70120" y="5899320"/>
            <a:ext cx="1744560" cy="5061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8040" y="59054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ve 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780800">
            <a:off x="3315960" y="3808440"/>
            <a:ext cx="1028520" cy="619200"/>
          </a:xfrm>
          <a:prstGeom prst="rightArrow">
            <a:avLst>
              <a:gd name="adj1" fmla="val 50000"/>
              <a:gd name="adj2" fmla="val 415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12880" y="4560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8480" y="56275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3160" y="189216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16480" y="164448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5840" y="144936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99000" y="28130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32680" y="2690640"/>
            <a:ext cx="10620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1680" y="256860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13400" y="3648240"/>
            <a:ext cx="10620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57880" y="3714840"/>
            <a:ext cx="106560" cy="8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3740040"/>
            <a:ext cx="106560" cy="84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Valued Sony Customer</cp:lastModifiedBy>
  <cp:lastPrinted>2002-02-05T19:22:32Z</cp:lastPrinted>
  <dcterms:modified xsi:type="dcterms:W3CDTF">2003-06-18T19:29:08Z</dcterms:modified>
  <cp:revision>138</cp:revision>
  <dc:subject>ITC '01 Electronic presentation guide/template</dc:subject>
  <dc:title>Presentation Guide</dc:title>
</cp:coreProperties>
</file>