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18B8-4B02-410C-AA93-5772FC232E7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e presentation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022-A01F-49DB-BE3C-B6748D37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F9F-1AEB-42EF-9D8B-290523CA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06C-C9A5-4D8E-A51A-F884CDAB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4400"/>
            <a:ext cx="250236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0BF-6AA2-4E10-AAA5-B680CBF2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D21-02A2-4823-AB16-C4B249AE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DBF-2435-4FFF-A8E0-1C827EE6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C9E-6AAD-44FA-BE91-4B4018A2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5D7-F561-4AF1-8F2F-F7C3D2F6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6BB-2344-4EFB-9968-0ABA42E7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47C-9275-48CC-A3AD-F1E97F7A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440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C8A-415B-4414-B754-1AD46085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4400"/>
            <a:ext cx="7772400" cy="23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3F3-573E-4622-B983-10E972B7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87A8-9E00-445B-AF1F-D116CC7BF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CoSMoS: Coupled Simulation and Modeling 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of Systems-on-Chips </a:t>
            </a:r>
            <a:endParaRPr b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S2003/RFIC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5160" y="5776920"/>
            <a:ext cx="14479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2760" y="5700600"/>
          <a:ext cx="8208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2760" y="5700600"/>
                    <a:ext cx="820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0440" y="5700600"/>
            <a:ext cx="7459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17816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9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ther Research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solv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linear time-domain solver research (SIL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delay estimation in digital circuits with parasitics (SAM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complishments Since Last Review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ed implementation of transistor models: BSIM3, SOI, EK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-technology support in B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oS tools demo and test installation and Bo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STY and IPRAIL development and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ileston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July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AC release at AF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ugus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-AMS mixed-technology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ptemb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omain support in B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omain CoSMoS simulator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emb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support in B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domain CoSMoS simulator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transfer to Boeing (BMAC, IPRAIL, FROS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lease of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 Simulation in CoSMO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Lead Prof. Vikram Jandhya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Robert Sharpe, Dr. Daniel White, Dr. Nathan Champag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L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gato Chakraborty, Dipanjan Gope (NSF-SRC), Gong Ouyang, Todd West, Yong Wang (NSF-SRC), Chuanyi Yang (NSF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s to Circuit Simulation Work – Dr. Pavel Nikitin, Todd West, Yong Wa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sential Formulation : Coupled EM and Circuit Simulation in Time and Frequency Domains : Hierarchical / Telescoping Approach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193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circuit coupling applications and visualization/desig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effects on E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2819520"/>
            <a:ext cx="3983040" cy="2327400"/>
            <a:chOff x="228600" y="2819520"/>
            <a:chExt cx="3983040" cy="2327400"/>
          </a:xfrm>
        </p:grpSpPr>
        <p:pic>
          <p:nvPicPr>
            <p:cNvPr id="107" name="G3" descr=""/>
            <p:cNvPicPr/>
            <p:nvPr/>
          </p:nvPicPr>
          <p:blipFill>
            <a:blip r:embed="rId1"/>
            <a:stretch/>
          </p:blipFill>
          <p:spPr>
            <a:xfrm>
              <a:off x="228600" y="2819520"/>
              <a:ext cx="39830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22360" y="4748040"/>
              <a:ext cx="18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05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6781680" y="5486400"/>
            <a:ext cx="1933560" cy="1143000"/>
            <a:chOff x="6781680" y="5486400"/>
            <a:chExt cx="1933560" cy="1143000"/>
          </a:xfrm>
        </p:grpSpPr>
        <p:pic>
          <p:nvPicPr>
            <p:cNvPr id="111" name="parallel" descr=""/>
            <p:cNvPicPr/>
            <p:nvPr/>
          </p:nvPicPr>
          <p:blipFill>
            <a:blip r:embed="rId3"/>
            <a:stretch/>
          </p:blipFill>
          <p:spPr>
            <a:xfrm>
              <a:off x="6872040" y="5520240"/>
              <a:ext cx="1678680" cy="10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786360" y="6327720"/>
              <a:ext cx="18619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5486400"/>
              <a:ext cx="1933560" cy="17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495680" y="5181480"/>
            <a:ext cx="1803600" cy="1447920"/>
            <a:chOff x="4495680" y="5181480"/>
            <a:chExt cx="1803600" cy="1447920"/>
          </a:xfrm>
        </p:grpSpPr>
        <p:grpSp>
          <p:nvGrpSpPr>
            <p:cNvPr id="115" name=""/>
            <p:cNvGrpSpPr/>
            <p:nvPr/>
          </p:nvGrpSpPr>
          <p:grpSpPr>
            <a:xfrm>
              <a:off x="5318280" y="6377760"/>
              <a:ext cx="101880" cy="148320"/>
              <a:chOff x="5318280" y="6377760"/>
              <a:chExt cx="101880" cy="148320"/>
            </a:xfrm>
          </p:grpSpPr>
          <p:sp>
            <p:nvSpPr>
              <p:cNvPr id="116" name=""/>
              <p:cNvSpPr/>
              <p:nvPr/>
            </p:nvSpPr>
            <p:spPr>
              <a:xfrm>
                <a:off x="5318280" y="637776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69760" y="6385320"/>
                <a:ext cx="0" cy="119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56800" y="6488640"/>
                <a:ext cx="25920" cy="1764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18280" y="642744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rot="10800000">
              <a:off x="4710600" y="5740560"/>
              <a:ext cx="91080" cy="45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148360" y="6086880"/>
              <a:ext cx="74160" cy="141840"/>
              <a:chOff x="5148360" y="6086880"/>
              <a:chExt cx="74160" cy="141840"/>
            </a:xfrm>
          </p:grpSpPr>
          <p:sp>
            <p:nvSpPr>
              <p:cNvPr id="122" name=""/>
              <p:cNvSpPr/>
              <p:nvPr/>
            </p:nvSpPr>
            <p:spPr>
              <a:xfrm rot="5400000">
                <a:off x="5167800" y="606744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400000">
                <a:off x="5167800" y="61030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400000">
                <a:off x="5167800" y="61383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400000">
                <a:off x="5167800" y="61740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185080" y="59781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5080" y="6229080"/>
              <a:ext cx="199440" cy="7092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5080" y="5704560"/>
              <a:ext cx="0" cy="142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148360" y="5328000"/>
              <a:ext cx="74160" cy="141840"/>
              <a:chOff x="5148360" y="5328000"/>
              <a:chExt cx="74160" cy="141840"/>
            </a:xfrm>
          </p:grpSpPr>
          <p:sp>
            <p:nvSpPr>
              <p:cNvPr id="130" name=""/>
              <p:cNvSpPr/>
              <p:nvPr/>
            </p:nvSpPr>
            <p:spPr>
              <a:xfrm rot="5400000">
                <a:off x="5167800" y="53085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5167800" y="53442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5400000">
                <a:off x="5167800" y="53794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400000">
                <a:off x="5167800" y="541512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185080" y="54723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85080" y="521928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6320" y="5219280"/>
              <a:ext cx="350280" cy="42588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863960" y="5880240"/>
              <a:ext cx="151560" cy="69120"/>
              <a:chOff x="4863960" y="5880240"/>
              <a:chExt cx="151560" cy="69120"/>
            </a:xfrm>
          </p:grpSpPr>
          <p:sp>
            <p:nvSpPr>
              <p:cNvPr id="138" name=""/>
              <p:cNvSpPr/>
              <p:nvPr/>
            </p:nvSpPr>
            <p:spPr>
              <a:xfrm>
                <a:off x="48639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017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3992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7808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726440" y="5863680"/>
              <a:ext cx="24120" cy="105480"/>
              <a:chOff x="4726440" y="5863680"/>
              <a:chExt cx="24120" cy="105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72644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5056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106960" y="5578560"/>
              <a:ext cx="79560" cy="147960"/>
              <a:chOff x="5106960" y="5578560"/>
              <a:chExt cx="79560" cy="147960"/>
            </a:xfrm>
          </p:grpSpPr>
          <p:sp>
            <p:nvSpPr>
              <p:cNvPr id="146" name=""/>
              <p:cNvSpPr/>
              <p:nvPr/>
            </p:nvSpPr>
            <p:spPr>
              <a:xfrm>
                <a:off x="5122440" y="557856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54120" y="568440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06960" y="557856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106960" y="5852520"/>
              <a:ext cx="79560" cy="147960"/>
              <a:chOff x="5106960" y="5852520"/>
              <a:chExt cx="79560" cy="147960"/>
            </a:xfrm>
          </p:grpSpPr>
          <p:sp>
            <p:nvSpPr>
              <p:cNvPr id="150" name=""/>
              <p:cNvSpPr/>
              <p:nvPr/>
            </p:nvSpPr>
            <p:spPr>
              <a:xfrm>
                <a:off x="5122440" y="585252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54120" y="595836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06960" y="585252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582440" y="6276240"/>
              <a:ext cx="115920" cy="113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9160" y="6315120"/>
              <a:ext cx="45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641120" y="6293520"/>
              <a:ext cx="0" cy="43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4592880" y="6158520"/>
              <a:ext cx="95040" cy="4284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1120" y="6227640"/>
              <a:ext cx="0" cy="48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509000" y="6283440"/>
              <a:ext cx="56520" cy="39600"/>
              <a:chOff x="4509000" y="6283440"/>
              <a:chExt cx="56520" cy="39600"/>
            </a:xfrm>
          </p:grpSpPr>
          <p:sp>
            <p:nvSpPr>
              <p:cNvPr id="159" name=""/>
              <p:cNvSpPr/>
              <p:nvPr/>
            </p:nvSpPr>
            <p:spPr>
              <a:xfrm rot="16462800">
                <a:off x="4506120" y="629136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 rot="5137200">
                <a:off x="4533480" y="628812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641840" y="5915520"/>
              <a:ext cx="84600" cy="21708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015880" y="5915520"/>
              <a:ext cx="903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2200" y="5717880"/>
              <a:ext cx="15588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24560" y="6360480"/>
              <a:ext cx="34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601880" y="6486480"/>
              <a:ext cx="79200" cy="22680"/>
              <a:chOff x="4601880" y="6486480"/>
              <a:chExt cx="79200" cy="22680"/>
            </a:xfrm>
          </p:grpSpPr>
          <p:sp>
            <p:nvSpPr>
              <p:cNvPr id="166" name=""/>
              <p:cNvSpPr/>
              <p:nvPr/>
            </p:nvSpPr>
            <p:spPr>
              <a:xfrm>
                <a:off x="4601880" y="648648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20960" y="649764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31760" y="650916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641840" y="6389640"/>
              <a:ext cx="0" cy="96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18960" y="5909760"/>
              <a:ext cx="10800" cy="115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2040" y="5763240"/>
              <a:ext cx="22320" cy="1540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682520" y="5763240"/>
              <a:ext cx="2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983120" y="5449680"/>
              <a:ext cx="23760" cy="111240"/>
              <a:chOff x="4983120" y="5449680"/>
              <a:chExt cx="23760" cy="111240"/>
            </a:xfrm>
          </p:grpSpPr>
          <p:sp>
            <p:nvSpPr>
              <p:cNvPr id="174" name=""/>
              <p:cNvSpPr/>
              <p:nvPr/>
            </p:nvSpPr>
            <p:spPr>
              <a:xfrm>
                <a:off x="498312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0688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H="1">
              <a:off x="4931640" y="5506920"/>
              <a:ext cx="50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5800" y="5506920"/>
              <a:ext cx="181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750920" y="5917320"/>
              <a:ext cx="1130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70080" y="5489640"/>
              <a:ext cx="61920" cy="34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1840" y="550116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46360" y="5221440"/>
              <a:ext cx="874800" cy="1287720"/>
              <a:chOff x="5346360" y="5221440"/>
              <a:chExt cx="874800" cy="1287720"/>
            </a:xfrm>
          </p:grpSpPr>
          <p:sp>
            <p:nvSpPr>
              <p:cNvPr id="182" name=""/>
              <p:cNvSpPr/>
              <p:nvPr/>
            </p:nvSpPr>
            <p:spPr>
              <a:xfrm flipH="1" rot="10800000">
                <a:off x="5929200" y="5742000"/>
                <a:ext cx="90720" cy="4536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5508360" y="6087600"/>
                <a:ext cx="74880" cy="141480"/>
                <a:chOff x="5508360" y="6087600"/>
                <a:chExt cx="74880" cy="141480"/>
              </a:xfrm>
            </p:grpSpPr>
            <p:sp>
              <p:nvSpPr>
                <p:cNvPr id="184" name=""/>
                <p:cNvSpPr/>
                <p:nvPr/>
              </p:nvSpPr>
              <p:spPr>
                <a:xfrm flipH="1" rot="16200000">
                  <a:off x="5528160" y="60674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rot="16200000">
                  <a:off x="5528160" y="61027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rot="16200000">
                  <a:off x="5528160" y="61383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16200000">
                  <a:off x="5528160" y="61740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5545800" y="59792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346360" y="6230160"/>
                <a:ext cx="199440" cy="705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45800" y="5705640"/>
                <a:ext cx="0" cy="141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508360" y="5329800"/>
                <a:ext cx="74880" cy="141480"/>
                <a:chOff x="5508360" y="5329800"/>
                <a:chExt cx="74880" cy="14148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rot="16200000">
                  <a:off x="5528160" y="53096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16200000">
                  <a:off x="5528160" y="53449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rot="16200000">
                  <a:off x="5528160" y="53805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16200000">
                  <a:off x="5528160" y="54162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5545800" y="547416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45800" y="52214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623920" y="5221440"/>
                <a:ext cx="350280" cy="42516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715360" y="5880960"/>
                <a:ext cx="151200" cy="69840"/>
                <a:chOff x="5715360" y="5880960"/>
                <a:chExt cx="151200" cy="6984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58291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7913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57535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71536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980320" y="5864400"/>
                <a:ext cx="23760" cy="105120"/>
                <a:chOff x="5980320" y="5864400"/>
                <a:chExt cx="23760" cy="105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0408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8032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545080" y="5580360"/>
                <a:ext cx="79200" cy="147960"/>
                <a:chOff x="5545080" y="5580360"/>
                <a:chExt cx="79200" cy="14796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5545440" y="55803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5544720" y="56862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24280" y="55803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545080" y="5853960"/>
                <a:ext cx="79200" cy="147960"/>
                <a:chOff x="5545080" y="5853960"/>
                <a:chExt cx="79200" cy="14796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5545440" y="58539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5544720" y="59598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624280" y="58539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 flipH="1">
                <a:off x="6032520" y="6276960"/>
                <a:ext cx="115560" cy="1126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066360" y="6315480"/>
                <a:ext cx="45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089400" y="6293880"/>
                <a:ext cx="0" cy="43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5400000">
                <a:off x="6042240" y="6159240"/>
                <a:ext cx="95040" cy="4284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89400" y="6228360"/>
                <a:ext cx="0" cy="48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164640" y="6284160"/>
                <a:ext cx="56520" cy="38520"/>
                <a:chOff x="6164640" y="6284160"/>
                <a:chExt cx="56520" cy="3852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5137200">
                  <a:off x="6189480" y="629172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flipV="1" rot="16462800">
                  <a:off x="6161760" y="628848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 flipH="1">
                <a:off x="6004080" y="5916600"/>
                <a:ext cx="84960" cy="2163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24280" y="5916600"/>
                <a:ext cx="90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072120" y="6361200"/>
                <a:ext cx="3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6049440" y="6486480"/>
                <a:ext cx="79200" cy="22680"/>
                <a:chOff x="6049440" y="6486480"/>
                <a:chExt cx="79200" cy="226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>
                  <a:off x="6049440" y="6486480"/>
                  <a:ext cx="79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6068520" y="6497640"/>
                  <a:ext cx="410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6079680" y="6509160"/>
                  <a:ext cx="19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6089040" y="6389640"/>
                <a:ext cx="0" cy="96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900760" y="591084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906160" y="5764680"/>
                <a:ext cx="22680" cy="15372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20280" y="5764680"/>
                <a:ext cx="28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724000" y="5451120"/>
                <a:ext cx="23760" cy="110880"/>
                <a:chOff x="5724000" y="5451120"/>
                <a:chExt cx="23760" cy="110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74776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2400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5748120" y="5508360"/>
                <a:ext cx="507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5543640" y="5508360"/>
                <a:ext cx="181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7280" y="5918760"/>
                <a:ext cx="113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798520" y="5491080"/>
                <a:ext cx="62280" cy="3420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537520" y="550260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329080" y="6606720"/>
              <a:ext cx="79200" cy="22680"/>
              <a:chOff x="5329080" y="6606720"/>
              <a:chExt cx="79200" cy="2268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5329080" y="660672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348160" y="661788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359320" y="662940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369400" y="6303240"/>
              <a:ext cx="0" cy="68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63280" y="62974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69400" y="6526440"/>
              <a:ext cx="0" cy="79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676760" y="5221440"/>
              <a:ext cx="1298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7509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81840" y="521568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5393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72480" y="5730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56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804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7400" y="54046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94200" y="538740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49520" y="537624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31320" y="53701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15080" y="5793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4960" y="5788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44480" y="6108120"/>
              <a:ext cx="1188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1320" y="61027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52200" y="51814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43200" y="641376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920" y="5181480"/>
            <a:ext cx="3785760" cy="1320840"/>
            <a:chOff x="304920" y="5181480"/>
            <a:chExt cx="3785760" cy="1320840"/>
          </a:xfrm>
        </p:grpSpPr>
        <p:sp>
          <p:nvSpPr>
            <p:cNvPr id="267" name=""/>
            <p:cNvSpPr/>
            <p:nvPr/>
          </p:nvSpPr>
          <p:spPr>
            <a:xfrm>
              <a:off x="3208320" y="5181480"/>
              <a:ext cx="873360" cy="132084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47800" y="5181480"/>
              <a:ext cx="1105200" cy="1320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5181480"/>
              <a:ext cx="988920" cy="13208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130400" y="5202360"/>
              <a:ext cx="2960280" cy="1280880"/>
              <a:chOff x="1130400" y="5202360"/>
              <a:chExt cx="2960280" cy="12808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2520000" y="5202360"/>
                <a:ext cx="200880" cy="169920"/>
                <a:chOff x="2520000" y="5202360"/>
                <a:chExt cx="200880" cy="1699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20000" y="520236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5348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130400" y="5372280"/>
                <a:ext cx="201240" cy="169920"/>
                <a:chOff x="1130400" y="5372280"/>
                <a:chExt cx="201240" cy="169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130400" y="53722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163880" y="53989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889440" y="5202360"/>
                <a:ext cx="201240" cy="169920"/>
                <a:chOff x="3889440" y="5202360"/>
                <a:chExt cx="201240" cy="1699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889440" y="520236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2292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566800" y="6313320"/>
                <a:ext cx="201240" cy="169920"/>
                <a:chOff x="2566800" y="6313320"/>
                <a:chExt cx="201240" cy="1699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566800" y="631332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00280" y="63399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1305000" y="5557680"/>
              <a:ext cx="2785320" cy="934560"/>
              <a:chOff x="1305000" y="5557680"/>
              <a:chExt cx="2785320" cy="93456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472400" y="5577120"/>
                <a:ext cx="2617920" cy="915120"/>
                <a:chOff x="1472400" y="5577120"/>
                <a:chExt cx="2617920" cy="9151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1982160" y="6178680"/>
                  <a:ext cx="201240" cy="169920"/>
                  <a:chOff x="1982160" y="6178680"/>
                  <a:chExt cx="201240" cy="169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1982160" y="6178680"/>
                    <a:ext cx="20124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15640" y="620532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472400" y="5577120"/>
                  <a:ext cx="200880" cy="169920"/>
                  <a:chOff x="1472400" y="5577120"/>
                  <a:chExt cx="200880" cy="1699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472400" y="55771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505880" y="56037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889440" y="6322320"/>
                  <a:ext cx="200880" cy="169920"/>
                  <a:chOff x="3889440" y="6322320"/>
                  <a:chExt cx="200880" cy="169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3889440" y="63223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922920" y="63489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2533320" y="5557680"/>
                <a:ext cx="200880" cy="169920"/>
                <a:chOff x="2533320" y="5557680"/>
                <a:chExt cx="200880" cy="1699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533320" y="555768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66800" y="55843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1928880" y="5714640"/>
                <a:ext cx="201240" cy="169920"/>
                <a:chOff x="1928880" y="5714640"/>
                <a:chExt cx="201240" cy="1699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928880" y="571464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962360" y="574128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305000" y="6145920"/>
                <a:ext cx="200880" cy="169920"/>
                <a:chOff x="1305000" y="6145920"/>
                <a:chExt cx="200880" cy="1699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305000" y="614592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338480" y="61725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204720" y="5609880"/>
                <a:ext cx="201240" cy="169920"/>
                <a:chOff x="3204720" y="5609880"/>
                <a:chExt cx="201240" cy="1699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204720" y="56098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38200" y="56365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6" name=""/>
          <p:cNvSpPr/>
          <p:nvPr/>
        </p:nvSpPr>
        <p:spPr>
          <a:xfrm>
            <a:off x="513000" y="2525760"/>
            <a:ext cx="25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upling capacitors : A/D/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87360" y="24382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A: Mutual inductance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" y="1776240"/>
            <a:ext cx="120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 W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W EM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multi-region formulation including exact loss effects, volumetric models, and effective surface impe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Completed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On track for December 2003 deliverable of multi-region 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reen's function-independent QR fast iterative and direct sol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Iterative solver completed (improves over existing commercial solvers)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On track for fast direct solver completion for December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l-conditioned, multi-frequency fast multipole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Initial FMM implementation in EM prototype code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urther testing and optimization for July 2003 completion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EM Model Order Reduction into CoSM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AWE based methodology transferred to EIGER, implemented in EIGER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Other NeoCAD MOR schemes – PRIME : No response/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me domain integral equation (TDIE) with exact circuit coup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Stand-alone prototype solver completed ahead of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work on stability, accuracy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st solver and time stepper for Time domain integral equation (TDI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Not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LNL-UW EM Statu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R : Frequency Domain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 File Format – interface for using any commercial mesher : Completed on schedule, delivered to 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-alone multilayered Green’s function interface : Delivered to UW for prototype testing of fast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MOR-AWE into EIGER : Completed ahead of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model generation : Completed on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olve : Time Domain 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CFDRC Micromesh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static solver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f test case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MSolv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7560" y="461520"/>
            <a:ext cx="363348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998640" y="1143000"/>
            <a:ext cx="5867280" cy="5715000"/>
            <a:chOff x="998640" y="1143000"/>
            <a:chExt cx="5867280" cy="5715000"/>
          </a:xfrm>
        </p:grpSpPr>
        <p:pic>
          <p:nvPicPr>
            <p:cNvPr id="316" name="slant_view_metal0003" descr=""/>
            <p:cNvPicPr/>
            <p:nvPr/>
          </p:nvPicPr>
          <p:blipFill>
            <a:blip r:embed="rId1"/>
            <a:stretch/>
          </p:blipFill>
          <p:spPr>
            <a:xfrm>
              <a:off x="2141640" y="2438640"/>
              <a:ext cx="4724280" cy="36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n" descr=""/>
            <p:cNvPicPr/>
            <p:nvPr/>
          </p:nvPicPr>
          <p:blipFill>
            <a:blip r:embed="rId2"/>
            <a:stretch/>
          </p:blipFill>
          <p:spPr>
            <a:xfrm>
              <a:off x="998640" y="1143000"/>
              <a:ext cx="236232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out" descr=""/>
            <p:cNvPicPr/>
            <p:nvPr/>
          </p:nvPicPr>
          <p:blipFill>
            <a:blip r:embed="rId3"/>
            <a:stretch/>
          </p:blipFill>
          <p:spPr>
            <a:xfrm>
              <a:off x="998640" y="4724640"/>
              <a:ext cx="213372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065320" y="2362320"/>
              <a:ext cx="1219320" cy="10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836720" y="4267080"/>
              <a:ext cx="16002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27960" y="30481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28680" y="44960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343400" y="1203480"/>
            <a:ext cx="457200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lanar wave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piral i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EEE bench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W V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64160" y="781200"/>
            <a:ext cx="1205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57080" y="820800"/>
            <a:ext cx="3637080" cy="3537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716360" y="1165320"/>
            <a:ext cx="3086280" cy="2232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09680" y="1236600"/>
            <a:ext cx="177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c_hrl_tc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 million p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RHS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149960" y="1612800"/>
            <a:ext cx="595440" cy="354240"/>
            <a:chOff x="7149960" y="1612800"/>
            <a:chExt cx="595440" cy="354240"/>
          </a:xfrm>
        </p:grpSpPr>
        <p:sp>
          <p:nvSpPr>
            <p:cNvPr id="329" name=""/>
            <p:cNvSpPr/>
            <p:nvPr/>
          </p:nvSpPr>
          <p:spPr>
            <a:xfrm flipH="1">
              <a:off x="7149960" y="161280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61120" y="1859040"/>
              <a:ext cx="43200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13760" y="1620720"/>
              <a:ext cx="4316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521480" y="1689120"/>
              <a:ext cx="18576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503520" y="2849400"/>
            <a:ext cx="1068480" cy="514440"/>
          </a:xfrm>
          <a:prstGeom prst="rightArrow">
            <a:avLst>
              <a:gd name="adj1" fmla="val 50000"/>
              <a:gd name="adj2" fmla="val 519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741840" y="3727440"/>
          <a:ext cx="5126040" cy="3132000"/>
        </p:xfrm>
        <a:graphic>
          <a:graphicData uri="http://schemas.openxmlformats.org/drawingml/2006/table">
            <a:tbl>
              <a:tblPr/>
              <a:tblGrid>
                <a:gridCol w="1135080"/>
                <a:gridCol w="1220760"/>
                <a:gridCol w="27702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lgorit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 Parasitic Sol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dence / Lucent IES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-CAP/ Ansoft Q3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58640" y="4243320"/>
            <a:ext cx="3143520" cy="2652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W EM Parasitic Extraction (completed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5160" y="552600"/>
            <a:ext cx="2941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Gope and V. Jandhy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98400" y="517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sitics in massively coupled problems (complete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41520" y="1008000"/>
            <a:ext cx="7489800" cy="5434200"/>
            <a:chOff x="641520" y="1008000"/>
            <a:chExt cx="7489800" cy="5434200"/>
          </a:xfrm>
        </p:grpSpPr>
        <p:sp>
          <p:nvSpPr>
            <p:cNvPr id="340" name=""/>
            <p:cNvSpPr/>
            <p:nvPr/>
          </p:nvSpPr>
          <p:spPr>
            <a:xfrm>
              <a:off x="641520" y="1008000"/>
              <a:ext cx="7489800" cy="54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178280" y="1078920"/>
              <a:ext cx="6369120" cy="2039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42" name=""/>
          <p:cNvGraphicFramePr/>
          <p:nvPr/>
        </p:nvGraphicFramePr>
        <p:xfrm>
          <a:off x="1176480" y="3225960"/>
          <a:ext cx="6825960" cy="2504880"/>
        </p:xfrm>
        <a:graphic>
          <a:graphicData uri="http://schemas.openxmlformats.org/drawingml/2006/table">
            <a:tbl>
              <a:tblPr/>
              <a:tblGrid>
                <a:gridCol w="1707840"/>
                <a:gridCol w="1706760"/>
                <a:gridCol w="1706400"/>
                <a:gridCol w="170496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(3R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 Parasitic So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S^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CAP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oft Q3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Fit in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W EM parasitic solver : 0.9 million patches in 1.5 hour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51880" y="5823000"/>
            <a:ext cx="2941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Gope and V. Jandhy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5760" y="6384960"/>
            <a:ext cx="78368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ster than commercial solvers, Green’s function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oS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o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 since la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simulation in Co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19640" y="1200240"/>
            <a:ext cx="239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vel Niki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9280" y="4687920"/>
            <a:ext cx="314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kram Jandhy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17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roadband Full-Wave Parasitic Extraction (completed)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82760" y="1090440"/>
            <a:ext cx="4371840" cy="3168720"/>
            <a:chOff x="482760" y="1090440"/>
            <a:chExt cx="4371840" cy="316872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482760" y="1090440"/>
              <a:ext cx="43718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044720" y="1710360"/>
              <a:ext cx="686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79120" y="3639240"/>
              <a:ext cx="874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357200" y="1572480"/>
              <a:ext cx="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7200" y="1572480"/>
              <a:ext cx="31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5600" y="1403280"/>
              <a:ext cx="99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17520" y="3639240"/>
              <a:ext cx="0" cy="1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667680" y="3776760"/>
              <a:ext cx="24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47120" y="3625920"/>
              <a:ext cx="68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541760" y="1014480"/>
            <a:ext cx="4095720" cy="3368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973240" y="4351320"/>
            <a:ext cx="3686400" cy="25066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7920" y="4251240"/>
            <a:ext cx="279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Solver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130400" y="2045880"/>
            <a:ext cx="71280" cy="21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174680" y="3595320"/>
            <a:ext cx="210672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78360" y="1733400"/>
            <a:ext cx="20530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63360" y="1808280"/>
            <a:ext cx="2071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240" y="5151600"/>
            <a:ext cx="2870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. Chakraborty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61400" y="5189400"/>
            <a:ext cx="30438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and Volum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94560" y="6384960"/>
            <a:ext cx="6451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available in commercial surface-based sol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4640" y="1036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daptive Fast Multipole Method for Realistic Geometries with Arbitrary Aspect Ratio Elemen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5807160" cy="4365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734080" y="4294080"/>
            <a:ext cx="3409920" cy="2563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435720" y="2697120"/>
            <a:ext cx="2293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. West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4160" y="6384960"/>
            <a:ext cx="6942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sting FMMs do not completely address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rect Time Domain EM Simul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76360" y="1785960"/>
            <a:ext cx="3862440" cy="289728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5232240" y="944640"/>
            <a:ext cx="3481200" cy="4987440"/>
            <a:chOff x="5232240" y="944640"/>
            <a:chExt cx="3481200" cy="4987440"/>
          </a:xfrm>
        </p:grpSpPr>
        <p:pic>
          <p:nvPicPr>
            <p:cNvPr id="375" name="" descr=""/>
            <p:cNvPicPr/>
            <p:nvPr/>
          </p:nvPicPr>
          <p:blipFill>
            <a:blip r:embed="rId2"/>
            <a:stretch/>
          </p:blipFill>
          <p:spPr>
            <a:xfrm>
              <a:off x="5284800" y="944640"/>
              <a:ext cx="3428640" cy="238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5232240" y="3372120"/>
              <a:ext cx="3428280" cy="255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106920" y="5451480"/>
            <a:ext cx="51012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onnect-Substrat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74760" y="97632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9560" y="661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upled Circuit-EM Simulation in the Time Domai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2600" y="1757520"/>
            <a:ext cx="3409920" cy="28670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068720" y="1978200"/>
            <a:ext cx="4570560" cy="24685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68120" y="5184720"/>
            <a:ext cx="3733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CES IEEE/EMC Society TC9        2001 Challenge Problem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Find:Volt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etween Line+ and CM Ground Point On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473720" y="4491000"/>
            <a:ext cx="4198680" cy="2367000"/>
            <a:chOff x="4473720" y="4491000"/>
            <a:chExt cx="4198680" cy="236700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4473720" y="4491000"/>
              <a:ext cx="380196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4"/>
            <a:stretch/>
          </p:blipFill>
          <p:spPr>
            <a:xfrm>
              <a:off x="6810480" y="5060880"/>
              <a:ext cx="186192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/>
          <p:cNvSpPr/>
          <p:nvPr/>
        </p:nvSpPr>
        <p:spPr>
          <a:xfrm>
            <a:off x="3043440" y="132552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836720" y="200160"/>
            <a:ext cx="5869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bilization of UW EM TDIE : Eigenvalu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28480" y="763560"/>
            <a:ext cx="7928280" cy="4873680"/>
            <a:chOff x="528480" y="763560"/>
            <a:chExt cx="7928280" cy="487368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870120" y="1149480"/>
              <a:ext cx="3255840" cy="18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4460760" y="763560"/>
              <a:ext cx="3996000" cy="23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528480" y="3078000"/>
              <a:ext cx="3884760" cy="255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4508640" y="3070080"/>
              <a:ext cx="3660480" cy="256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043520" y="5500800"/>
            <a:ext cx="1454040" cy="1357200"/>
            <a:chOff x="4043520" y="5500800"/>
            <a:chExt cx="1454040" cy="1357200"/>
          </a:xfrm>
        </p:grpSpPr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4043520" y="5500800"/>
              <a:ext cx="145404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twoplates" descr=""/>
            <p:cNvPicPr/>
            <p:nvPr/>
          </p:nvPicPr>
          <p:blipFill>
            <a:blip r:embed="rId6"/>
            <a:stretch/>
          </p:blipFill>
          <p:spPr>
            <a:xfrm>
              <a:off x="4679640" y="5848920"/>
              <a:ext cx="660600" cy="5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/>
          <p:cNvSpPr/>
          <p:nvPr/>
        </p:nvSpPr>
        <p:spPr>
          <a:xfrm>
            <a:off x="1059120" y="915840"/>
            <a:ext cx="3337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ng, G. Ouyang, and V. Jandhy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ummary of EM Progres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8000"/>
          </a:bodyPr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GER and EMSo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rporation of AWE, contact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Neutral fil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hysics capable (EMSolve and UW EM TDIE to work in conjunction) for device layer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W EM Frequency Domai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ing to SPICE-lik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olvers (FMM and QR-ba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region formulations and lossy materi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frequency sweep / Integrated 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from commercial mes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riven from Mat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W EM Time Domain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ing to SPICE-lik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ty analysis and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ble to EMI/EMC and device/multi-physics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eam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s: Richard Shi, Vikram Jandhyala, David Allstot, Carl Se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doctoral researchers: Guoyong Shi, Pavel Nik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.D. students: Bo Wan, Bo Hu, Sam Bhattacharya, Zhao Li, Nuttorn Jangkrajarng, Lei Yang, Lili Zhou, Renpi Yu, Yong Wang, Dipanjan Gope,Todd West, Swagato Chakraborty, Chuanyi Ya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awrence Livermore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 Sharpe, Dan White, John Rock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pace and Naval Warfare Systems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Rock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eing Solid Stat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rora Desig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odeling and simulation capability for mixed-signal and mixed-technolog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ignificant simulation spee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e “device model in a day” concept using  a behavioral model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ccurate EM tools for coupl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VHDL-AMS to mixed-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 tools on realistic Do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SMoS Structur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50840" y="987480"/>
          <a:ext cx="741996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987480"/>
                    <a:ext cx="741996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8360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MAC (MCAST): VHDL-AMS model compil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85880" y="2046240"/>
          <a:ext cx="71755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046240"/>
                    <a:ext cx="71755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645000" y="1366920"/>
            <a:ext cx="53244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industry-grade transistor models and mixed-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s into commercial circuit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VHDL-AMS 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ckground on VHDL-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1076.1 behavioral languag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time domain simulation of mixed circuits and simple multiple physics via DAE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erarchical system description independent of solv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an have different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actical language extension is need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technology support (distributed 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model exchange between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PRAI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680" y="1971360"/>
            <a:ext cx="8727480" cy="4046040"/>
            <a:chOff x="193680" y="1971360"/>
            <a:chExt cx="8727480" cy="4046040"/>
          </a:xfrm>
        </p:grpSpPr>
        <p:sp>
          <p:nvSpPr>
            <p:cNvPr id="74" name=""/>
            <p:cNvSpPr/>
            <p:nvPr/>
          </p:nvSpPr>
          <p:spPr>
            <a:xfrm rot="10800000">
              <a:off x="2459520" y="1971000"/>
              <a:ext cx="4512240" cy="1043640"/>
            </a:xfrm>
            <a:prstGeom prst="wedgeEllipseCallout">
              <a:avLst>
                <a:gd name="adj1" fmla="val 25935"/>
                <a:gd name="adj2" fmla="val -100879"/>
              </a:avLst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late-Driven Analog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out Retarg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93680" y="3367440"/>
              <a:ext cx="8727480" cy="790920"/>
              <a:chOff x="193680" y="3367440"/>
              <a:chExt cx="8727480" cy="790920"/>
            </a:xfrm>
          </p:grpSpPr>
          <p:sp>
            <p:nvSpPr>
              <p:cNvPr id="76" name=""/>
              <p:cNvSpPr/>
              <p:nvPr/>
            </p:nvSpPr>
            <p:spPr>
              <a:xfrm>
                <a:off x="1936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23080" y="3367440"/>
                <a:ext cx="2098080" cy="79092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Analog Layou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in Tech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375640" y="3525840"/>
                <a:ext cx="4363200" cy="395280"/>
              </a:xfrm>
              <a:prstGeom prst="rightArrow">
                <a:avLst>
                  <a:gd name="adj1" fmla="val 50000"/>
                  <a:gd name="adj2" fmla="val 27595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728720" y="3894840"/>
              <a:ext cx="2349000" cy="2109600"/>
              <a:chOff x="1728720" y="3894840"/>
              <a:chExt cx="2349000" cy="2109600"/>
            </a:xfrm>
          </p:grpSpPr>
          <p:sp>
            <p:nvSpPr>
              <p:cNvPr id="80" name=""/>
              <p:cNvSpPr/>
              <p:nvPr/>
            </p:nvSpPr>
            <p:spPr>
              <a:xfrm>
                <a:off x="1728720" y="471132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315880" y="5528160"/>
                <a:ext cx="1761840" cy="47628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ahoma"/>
                  </a:rPr>
                  <a:t>Tech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54680" y="3894840"/>
                <a:ext cx="251640" cy="816480"/>
              </a:xfrm>
              <a:prstGeom prst="upArrow">
                <a:avLst>
                  <a:gd name="adj1" fmla="val 50000"/>
                  <a:gd name="adj2" fmla="val 81116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742200" y="3894840"/>
                <a:ext cx="251640" cy="1633320"/>
              </a:xfrm>
              <a:prstGeom prst="upArrow">
                <a:avLst>
                  <a:gd name="adj1" fmla="val 51389"/>
                  <a:gd name="adj2" fmla="val 79451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797360" y="3907800"/>
              <a:ext cx="2097360" cy="2109600"/>
              <a:chOff x="4797360" y="3907800"/>
              <a:chExt cx="2097360" cy="2109600"/>
            </a:xfrm>
          </p:grpSpPr>
          <p:sp>
            <p:nvSpPr>
              <p:cNvPr id="85" name=""/>
              <p:cNvSpPr/>
              <p:nvPr/>
            </p:nvSpPr>
            <p:spPr>
              <a:xfrm>
                <a:off x="4797360" y="5337000"/>
                <a:ext cx="2097360" cy="6804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ew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pecifi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80880" y="3907800"/>
                <a:ext cx="251640" cy="1429200"/>
              </a:xfrm>
              <a:prstGeom prst="upArrow">
                <a:avLst>
                  <a:gd name="adj1" fmla="val 51389"/>
                  <a:gd name="adj2" fmla="val 69522"/>
                </a:avLst>
              </a:prstGeom>
              <a:solidFill>
                <a:srgbClr val="ffcccc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372280" y="4686120"/>
              <a:ext cx="2098080" cy="3646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mme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56160" y="3920400"/>
              <a:ext cx="251640" cy="765360"/>
            </a:xfrm>
            <a:prstGeom prst="upArrow">
              <a:avLst>
                <a:gd name="adj1" fmla="val 51389"/>
                <a:gd name="adj2" fmla="val 67673"/>
              </a:avLst>
            </a:prstGeom>
            <a:solidFill>
              <a:srgbClr val="ffcc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2stage" descr=""/>
          <p:cNvPicPr/>
          <p:nvPr/>
        </p:nvPicPr>
        <p:blipFill>
          <a:blip r:embed="rId1"/>
          <a:stretch/>
        </p:blipFill>
        <p:spPr>
          <a:xfrm>
            <a:off x="165240" y="1711440"/>
            <a:ext cx="2230200" cy="1390680"/>
          </a:xfrm>
          <a:prstGeom prst="rect">
            <a:avLst/>
          </a:prstGeom>
          <a:ln w="0">
            <a:noFill/>
          </a:ln>
        </p:spPr>
      </p:pic>
      <p:pic>
        <p:nvPicPr>
          <p:cNvPr id="90" name="2stage_target" descr=""/>
          <p:cNvPicPr/>
          <p:nvPr/>
        </p:nvPicPr>
        <p:blipFill>
          <a:blip r:embed="rId2"/>
          <a:stretch/>
        </p:blipFill>
        <p:spPr>
          <a:xfrm>
            <a:off x="7203960" y="1881360"/>
            <a:ext cx="1698840" cy="1056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932200" y="519120"/>
            <a:ext cx="58626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previous RF/analog design to do resizing for new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ROST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63760" y="1770120"/>
          <a:ext cx="621648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1770120"/>
                    <a:ext cx="621648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919240" y="679320"/>
            <a:ext cx="5931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gate-level netlist from extracted ne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6T05:25:42Z</dcterms:created>
  <dc:creator>Art Downey</dc:creator>
  <dc:description>V4.0 12/23/01 changes for 2001
V4.1 05/13/01 remove references to '97 and 4
V4.2 05/18/01 feedback from select meeting</dc:description>
  <dc:language>en-US</dc:language>
  <cp:lastModifiedBy>nikitin</cp:lastModifiedBy>
  <cp:lastPrinted>2002-02-05T19:22:32Z</cp:lastPrinted>
  <dcterms:modified xsi:type="dcterms:W3CDTF">2003-06-18T22:30:16Z</dcterms:modified>
  <cp:revision>291</cp:revision>
  <dc:subject>ITC '01 Electronic presentation guide/template</dc:subject>
  <dc:title>Presentation Guide</dc:title>
</cp:coreProperties>
</file>