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A7E1-C5CD-4CEE-A2C6-FBD736E70E6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788-7458-41B8-B68C-F4CCA7C5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D45-56C5-4425-960C-8C1698C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7CF-3A31-461C-98E6-B6B2EF9D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C08-41D8-4EE6-A74B-03CF991E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D55-3DCF-4E20-9FCF-C00FE434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55F-B667-49BE-9878-B58ADCD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FB8-53CA-457D-9B65-7EF743AD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F81-B6D8-4E61-A5B6-3FB8E168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658-8F8A-4C90-B5BD-EB406962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895-E044-41B1-91F6-03141E3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DF2-D181-4CA6-8FE1-624CE543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A37-3630-419F-A3DE-E626099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1E5E-A5C7-4902-A204-689729B81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Superfast Parasitic Extraction for Frequency Domain EM-Circuit Si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S200Adviso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3880" y="1674720"/>
            <a:ext cx="78343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anjan G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ged Interaction Lis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2000" y="1652760"/>
            <a:ext cx="6891120" cy="1253880"/>
            <a:chOff x="792000" y="1652760"/>
            <a:chExt cx="6891120" cy="1253880"/>
          </a:xfrm>
        </p:grpSpPr>
        <p:grpSp>
          <p:nvGrpSpPr>
            <p:cNvPr id="138" name=""/>
            <p:cNvGrpSpPr/>
            <p:nvPr/>
          </p:nvGrpSpPr>
          <p:grpSpPr>
            <a:xfrm>
              <a:off x="792000" y="1656000"/>
              <a:ext cx="1666800" cy="1250640"/>
              <a:chOff x="792000" y="1656000"/>
              <a:chExt cx="1666800" cy="125064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2000" y="1656000"/>
                <a:ext cx="1666800" cy="12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331640" y="2000520"/>
                <a:ext cx="328680" cy="26640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508120" y="1652760"/>
              <a:ext cx="1698480" cy="1235160"/>
              <a:chOff x="2508120" y="1652760"/>
              <a:chExt cx="1698480" cy="12351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8120" y="1652760"/>
                <a:ext cx="169848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3055680" y="1997280"/>
                <a:ext cx="318960" cy="24876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296960" y="1654200"/>
              <a:ext cx="1724040" cy="1243080"/>
              <a:chOff x="4296960" y="1654200"/>
              <a:chExt cx="1724040" cy="1243080"/>
            </a:xfrm>
          </p:grpSpPr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96960" y="1654200"/>
                <a:ext cx="1724040" cy="12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4844880" y="1995840"/>
                <a:ext cx="350640" cy="24660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60960" y="1656000"/>
              <a:ext cx="1622160" cy="1247760"/>
              <a:chOff x="6060960" y="1656000"/>
              <a:chExt cx="1622160" cy="124776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60960" y="1656000"/>
                <a:ext cx="1622160" cy="12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98800" y="1990800"/>
                <a:ext cx="319320" cy="257040"/>
              </a:xfrm>
              <a:prstGeom prst="rect">
                <a:avLst/>
              </a:prstGeom>
              <a:noFill/>
              <a:ln w="381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014120" y="1744920"/>
              <a:ext cx="65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14120" y="2751120"/>
              <a:ext cx="649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25040" y="1122480"/>
            <a:ext cx="66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iblings have common cubes in their interac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1160" y="3151080"/>
            <a:ext cx="7843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Merging sibling observers and common cub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sed on maximum memory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ntifying merged interaction list for 1 sibling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ame pattern repeats for all sibling combinations and acro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rged interaction list replaces “rank-map” of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rged interaction list possible due to regular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312920" y="4952880"/>
            <a:ext cx="2158920" cy="161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34840" y="5581800"/>
            <a:ext cx="365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entry of Merged Interaction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ged Interaction Lis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9880" y="1022400"/>
            <a:ext cx="7993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720" y="228240"/>
            <a:ext cx="901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and Memory Scal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13000" y="10665000"/>
            <a:ext cx="3794040" cy="25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65280" y="1081080"/>
            <a:ext cx="2965320" cy="2232720"/>
            <a:chOff x="665280" y="1081080"/>
            <a:chExt cx="2965320" cy="223272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65280" y="1081080"/>
              <a:ext cx="2965320" cy="20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079640" y="3006720"/>
              <a:ext cx="200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5 X 5 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"/>
          <p:cNvGraphicFramePr/>
          <p:nvPr/>
        </p:nvGraphicFramePr>
        <p:xfrm>
          <a:off x="909720" y="3686040"/>
          <a:ext cx="4017960" cy="1452600"/>
        </p:xfrm>
        <a:graphic>
          <a:graphicData uri="http://schemas.openxmlformats.org/drawingml/2006/table">
            <a:tbl>
              <a:tblPr/>
              <a:tblGrid>
                <a:gridCol w="984240"/>
                <a:gridCol w="1027440"/>
                <a:gridCol w="1002960"/>
                <a:gridCol w="10033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5197320" y="866880"/>
            <a:ext cx="3335400" cy="5518080"/>
            <a:chOff x="5197320" y="866880"/>
            <a:chExt cx="3335400" cy="5518080"/>
          </a:xfrm>
        </p:grpSpPr>
        <p:grpSp>
          <p:nvGrpSpPr>
            <p:cNvPr id="165" name=""/>
            <p:cNvGrpSpPr/>
            <p:nvPr/>
          </p:nvGrpSpPr>
          <p:grpSpPr>
            <a:xfrm>
              <a:off x="5197320" y="866880"/>
              <a:ext cx="3335400" cy="5518080"/>
              <a:chOff x="5197320" y="866880"/>
              <a:chExt cx="3335400" cy="55180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29080" y="3598920"/>
                <a:ext cx="3203640" cy="278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1800" y="866880"/>
                <a:ext cx="3190680" cy="27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5197320" y="3618000"/>
                <a:ext cx="3311640" cy="92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V="1">
              <a:off x="7704000" y="3286080"/>
              <a:ext cx="0" cy="379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36760" y="26528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32680" y="5421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73240" y="4098960"/>
            <a:ext cx="871560" cy="1019160"/>
          </a:xfrm>
          <a:prstGeom prst="rect">
            <a:avLst/>
          </a:prstGeom>
          <a:noFill/>
          <a:ln w="255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040" y="4078440"/>
            <a:ext cx="88920" cy="693720"/>
          </a:xfrm>
          <a:custGeom>
            <a:avLst/>
            <a:gdLst>
              <a:gd name="textAreaLeft" fmla="*/ 56880 w 88920"/>
              <a:gd name="textAreaRight" fmla="*/ 89280 w 88920"/>
              <a:gd name="textAreaTop" fmla="*/ 18000 h 693720"/>
              <a:gd name="textAreaBottom" fmla="*/ 675720 h 69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240" y="4232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86680" y="517860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Arial"/>
              </a:rPr>
              <a:t>* At 0.4 million unknow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80" y="586584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SAME ACCURACY I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406680" y="1398600"/>
          <a:ext cx="1978200" cy="1096920"/>
        </p:xfrm>
        <a:graphic>
          <a:graphicData uri="http://schemas.openxmlformats.org/drawingml/2006/table">
            <a:tbl>
              <a:tblPr/>
              <a:tblGrid>
                <a:gridCol w="660600"/>
                <a:gridCol w="657000"/>
                <a:gridCol w="66060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me Scaling with number of RH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9720" y="1298520"/>
            <a:ext cx="4122720" cy="425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51120" y="6039000"/>
            <a:ext cx="58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1,600 patches 14 lea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4480" y="1011240"/>
            <a:ext cx="2762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st-Ca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78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MBT-Q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COT-QR       441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4760" y="2374920"/>
            <a:ext cx="4284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ARPA Test Example (ic_hrl_tc1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7080" y="1252440"/>
            <a:ext cx="3637080" cy="3537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16360" y="1165320"/>
            <a:ext cx="308628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705200" y="3429000"/>
            <a:ext cx="3086280" cy="2857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58680" y="4900680"/>
            <a:ext cx="33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 million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RHS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25160" y="2075040"/>
            <a:ext cx="2475360" cy="1763640"/>
            <a:chOff x="1325160" y="2075040"/>
            <a:chExt cx="2475360" cy="1763640"/>
          </a:xfrm>
        </p:grpSpPr>
        <p:sp>
          <p:nvSpPr>
            <p:cNvPr id="189" name=""/>
            <p:cNvSpPr/>
            <p:nvPr/>
          </p:nvSpPr>
          <p:spPr>
            <a:xfrm flipH="1">
              <a:off x="1325160" y="2085840"/>
              <a:ext cx="986040" cy="13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35240" y="3429000"/>
              <a:ext cx="1469880" cy="39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782440" y="2495520"/>
              <a:ext cx="986040" cy="13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11560" y="2075040"/>
              <a:ext cx="1488960" cy="41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49960" y="1612800"/>
            <a:ext cx="595440" cy="354240"/>
            <a:chOff x="7149960" y="1612800"/>
            <a:chExt cx="595440" cy="354240"/>
          </a:xfrm>
        </p:grpSpPr>
        <p:sp>
          <p:nvSpPr>
            <p:cNvPr id="194" name=""/>
            <p:cNvSpPr/>
            <p:nvPr/>
          </p:nvSpPr>
          <p:spPr>
            <a:xfrm flipH="1">
              <a:off x="7149960" y="161280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1120" y="1859040"/>
              <a:ext cx="43200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3760" y="1620720"/>
              <a:ext cx="4316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521480" y="168912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8343600">
            <a:off x="7684200" y="2319480"/>
            <a:ext cx="932040" cy="984240"/>
          </a:xfrm>
          <a:custGeom>
            <a:avLst/>
            <a:gdLst>
              <a:gd name="textAreaLeft" fmla="*/ 0 w 932040"/>
              <a:gd name="textAreaRight" fmla="*/ 932400 w 93204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3520" y="2849400"/>
            <a:ext cx="1068480" cy="514440"/>
          </a:xfrm>
          <a:prstGeom prst="rightArrow">
            <a:avLst>
              <a:gd name="adj1" fmla="val 50000"/>
              <a:gd name="adj2" fmla="val 519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erformance Comparis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9800" y="1461960"/>
            <a:ext cx="4997520" cy="421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5364000" y="1827360"/>
          <a:ext cx="3456000" cy="308592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  <a:gridCol w="11523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-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5495760" y="2646360"/>
            <a:ext cx="3165480" cy="6634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822240" y="936720"/>
            <a:ext cx="7478640" cy="5422680"/>
            <a:chOff x="822240" y="936720"/>
            <a:chExt cx="7478640" cy="5422680"/>
          </a:xfrm>
        </p:grpSpPr>
        <p:grpSp>
          <p:nvGrpSpPr>
            <p:cNvPr id="205" name=""/>
            <p:cNvGrpSpPr/>
            <p:nvPr/>
          </p:nvGrpSpPr>
          <p:grpSpPr>
            <a:xfrm>
              <a:off x="822240" y="936720"/>
              <a:ext cx="7478640" cy="5422680"/>
              <a:chOff x="822240" y="936720"/>
              <a:chExt cx="7478640" cy="542268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2240" y="1233360"/>
                <a:ext cx="7478640" cy="512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036880" y="936720"/>
                <a:ext cx="503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28200"/>
                    </a:solidFill>
                    <a:latin typeface="Arial"/>
                  </a:rPr>
                  <a:t>30 copies of ic_hrl_tc1 placed in 10 X 3 arr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822840" y="2957400"/>
              <a:ext cx="739800" cy="1685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822240" y="987480"/>
            <a:ext cx="7489800" cy="5433840"/>
            <a:chOff x="822240" y="987480"/>
            <a:chExt cx="7489800" cy="5433840"/>
          </a:xfrm>
        </p:grpSpPr>
        <p:grpSp>
          <p:nvGrpSpPr>
            <p:cNvPr id="210" name=""/>
            <p:cNvGrpSpPr/>
            <p:nvPr/>
          </p:nvGrpSpPr>
          <p:grpSpPr>
            <a:xfrm>
              <a:off x="822240" y="987480"/>
              <a:ext cx="7489800" cy="5433840"/>
              <a:chOff x="822240" y="987480"/>
              <a:chExt cx="7489800" cy="54338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822240" y="987480"/>
                <a:ext cx="7489800" cy="5433840"/>
                <a:chOff x="822240" y="987480"/>
                <a:chExt cx="7489800" cy="54338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822240" y="987480"/>
                  <a:ext cx="7489800" cy="5433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59000" y="1058400"/>
                  <a:ext cx="6369120" cy="20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4" name=""/>
              <p:cNvSpPr/>
              <p:nvPr/>
            </p:nvSpPr>
            <p:spPr>
              <a:xfrm>
                <a:off x="1965960" y="3438360"/>
                <a:ext cx="520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.9 million patches; 1200 ne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878840" y="5799240"/>
              <a:ext cx="535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R Tolerance 1e-3; GMRES Tolerance 1e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pability of Superfast DICOT-Q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1720" y="955800"/>
            <a:ext cx="74991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9480" y="4024440"/>
          <a:ext cx="6825960" cy="1763640"/>
        </p:xfrm>
        <a:graphic>
          <a:graphicData uri="http://schemas.openxmlformats.org/drawingml/2006/table">
            <a:tbl>
              <a:tblPr/>
              <a:tblGrid>
                <a:gridCol w="1708200"/>
                <a:gridCol w="1706400"/>
                <a:gridCol w="1706400"/>
                <a:gridCol w="170496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(3R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BT-Q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1633680" y="5886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s and Future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1720" y="1278000"/>
            <a:ext cx="81532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uperfast QR Iterative solver based on “best of both algorith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emory optimized as in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olve time optimized as in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tup time drastically reduced from that of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MM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440" y="3281400"/>
            <a:ext cx="68572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Versatile ap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- Parasitic capacitance extraction (electro-static):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rasitic inductance extraction (magneto-stati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ayered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ctric field integral equations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gnetic field integral equations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MCHW coupled to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ime domain QR fast sol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3880" y="1486080"/>
            <a:ext cx="7692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ic Extraction in Cutting-edge 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Fas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08"/>
                </a:solidFill>
                <a:latin typeface="Arial"/>
              </a:rPr>
              <a:t>Superfast Parasitic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Study with Exis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Practica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and Future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 Extra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03480"/>
            <a:ext cx="784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Deep Sub-micr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gh aspect ratio to reduce wire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inimum wir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re delay exceeds gat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High Frequenc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lay analysis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lay computed from parasit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4600" y="14479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Increas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parasi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capac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69000" y="1390680"/>
            <a:ext cx="154080" cy="1079640"/>
          </a:xfrm>
          <a:custGeom>
            <a:avLst/>
            <a:gdLst>
              <a:gd name="textAreaLeft" fmla="*/ 0 w 154080"/>
              <a:gd name="textAreaRight" fmla="*/ 55440 w 154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67560" y="2639880"/>
            <a:ext cx="139680" cy="1094040"/>
          </a:xfrm>
          <a:custGeom>
            <a:avLst/>
            <a:gdLst>
              <a:gd name="textAreaLeft" fmla="*/ 0 w 139680"/>
              <a:gd name="textAreaRight" fmla="*/ 50400 w 139680"/>
              <a:gd name="textAreaTop" fmla="*/ 28440 h 1094040"/>
              <a:gd name="textAreaBottom" fmla="*/ 10656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21720" y="2733840"/>
            <a:ext cx="15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Ext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of paras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8200"/>
                </a:solidFill>
                <a:latin typeface="Arial"/>
              </a:rPr>
              <a:t>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1480" y="408312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SIA97: SRC’s 10 year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95520" y="4549680"/>
          <a:ext cx="5951520" cy="1785960"/>
        </p:xfrm>
        <a:graphic>
          <a:graphicData uri="http://schemas.openxmlformats.org/drawingml/2006/table">
            <a:tbl>
              <a:tblPr/>
              <a:tblGrid>
                <a:gridCol w="2071440"/>
                <a:gridCol w="1963800"/>
                <a:gridCol w="19162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Featur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Spa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9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m Wir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692360" y="5670720"/>
            <a:ext cx="5670360" cy="617400"/>
          </a:xfrm>
          <a:prstGeom prst="rect">
            <a:avLst/>
          </a:prstGeom>
          <a:noFill/>
          <a:ln w="255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ast Extraction Algorith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7320" y="2238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2880" y="1206360"/>
            <a:ext cx="8097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Numerical Method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3D complex on-chip/package/board geo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gh accurac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Integral Equation based Solver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Method of Moments (M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maller siz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ell condition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ense system of equ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421320" y="2908440"/>
            <a:ext cx="20880" cy="264960"/>
          </a:xfrm>
          <a:prstGeom prst="line">
            <a:avLst/>
          </a:prstGeom>
          <a:ln w="633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429240" y="3219480"/>
            <a:ext cx="20880" cy="264960"/>
          </a:xfrm>
          <a:prstGeom prst="line">
            <a:avLst/>
          </a:prstGeom>
          <a:ln w="6336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38240" y="3559320"/>
            <a:ext cx="6840" cy="303120"/>
          </a:xfrm>
          <a:prstGeom prst="line">
            <a:avLst/>
          </a:prstGeom>
          <a:ln w="63360">
            <a:solidFill>
              <a:srgbClr val="ff500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33560" y="4151160"/>
          <a:ext cx="5091120" cy="1887840"/>
        </p:xfrm>
        <a:graphic>
          <a:graphicData uri="http://schemas.openxmlformats.org/drawingml/2006/table">
            <a:tbl>
              <a:tblPr/>
              <a:tblGrid>
                <a:gridCol w="1697040"/>
                <a:gridCol w="1697040"/>
                <a:gridCol w="1697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03280" y="4081320"/>
            <a:ext cx="8412120" cy="250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Fast Solvers for Method of Momen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)-O(NlogN) memory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ast Multipo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e-corrected FF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QR bas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228240"/>
            <a:ext cx="8174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: QR based Fast Solv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8240" y="121608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QR decomposition of a far-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44400" y="2174760"/>
            <a:ext cx="2840040" cy="1021680"/>
            <a:chOff x="1544400" y="2174760"/>
            <a:chExt cx="2840040" cy="1021680"/>
          </a:xfrm>
        </p:grpSpPr>
        <p:grpSp>
          <p:nvGrpSpPr>
            <p:cNvPr id="77" name=""/>
            <p:cNvGrpSpPr/>
            <p:nvPr/>
          </p:nvGrpSpPr>
          <p:grpSpPr>
            <a:xfrm>
              <a:off x="1778040" y="2174760"/>
              <a:ext cx="2257560" cy="687600"/>
              <a:chOff x="1778040" y="2174760"/>
              <a:chExt cx="2257560" cy="687600"/>
            </a:xfrm>
          </p:grpSpPr>
          <p:sp>
            <p:nvSpPr>
              <p:cNvPr id="78" name=""/>
              <p:cNvSpPr/>
              <p:nvPr/>
            </p:nvSpPr>
            <p:spPr>
              <a:xfrm>
                <a:off x="1778040" y="2174760"/>
                <a:ext cx="770040" cy="677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48080" y="2494080"/>
                <a:ext cx="718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65560" y="2184480"/>
                <a:ext cx="770040" cy="677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1824120" y="2352600"/>
                <a:ext cx="660240" cy="257040"/>
                <a:chOff x="1824120" y="2352600"/>
                <a:chExt cx="660240" cy="257040"/>
              </a:xfrm>
            </p:grpSpPr>
            <p:sp>
              <p:nvSpPr>
                <p:cNvPr id="82" name=""/>
                <p:cNvSpPr/>
                <p:nvPr/>
              </p:nvSpPr>
              <p:spPr>
                <a:xfrm flipV="1">
                  <a:off x="1824120" y="235764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1824120" y="25045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308320" y="250452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2039400" y="25117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2066040" y="23526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308320" y="235764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322800" y="2371680"/>
                <a:ext cx="660240" cy="257040"/>
                <a:chOff x="3322800" y="2371680"/>
                <a:chExt cx="660240" cy="257040"/>
              </a:xfrm>
            </p:grpSpPr>
            <p:sp>
              <p:nvSpPr>
                <p:cNvPr id="89" name=""/>
                <p:cNvSpPr/>
                <p:nvPr/>
              </p:nvSpPr>
              <p:spPr>
                <a:xfrm flipV="1">
                  <a:off x="3322800" y="237672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3322800" y="25236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07000" y="252360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3538080" y="253080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564720" y="2371680"/>
                  <a:ext cx="17568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3807000" y="2376720"/>
                  <a:ext cx="176040" cy="9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1544400" y="2859120"/>
              <a:ext cx="119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1560" y="285768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 obser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559480" y="2174760"/>
            <a:ext cx="1965240" cy="1015920"/>
            <a:chOff x="5559480" y="2174760"/>
            <a:chExt cx="1965240" cy="1015920"/>
          </a:xfrm>
        </p:grpSpPr>
        <p:grpSp>
          <p:nvGrpSpPr>
            <p:cNvPr id="98" name=""/>
            <p:cNvGrpSpPr/>
            <p:nvPr/>
          </p:nvGrpSpPr>
          <p:grpSpPr>
            <a:xfrm>
              <a:off x="5559480" y="2174760"/>
              <a:ext cx="1909440" cy="615600"/>
              <a:chOff x="5559480" y="2174760"/>
              <a:chExt cx="1909440" cy="615600"/>
            </a:xfrm>
          </p:grpSpPr>
          <p:sp>
            <p:nvSpPr>
              <p:cNvPr id="99" name=""/>
              <p:cNvSpPr/>
              <p:nvPr/>
            </p:nvSpPr>
            <p:spPr>
              <a:xfrm>
                <a:off x="5559480" y="2174760"/>
                <a:ext cx="576000" cy="615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03160" y="2224800"/>
                <a:ext cx="2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21040" y="2174760"/>
                <a:ext cx="236160" cy="615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70680" y="2177640"/>
                <a:ext cx="498240" cy="2980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3" name=""/>
            <p:cNvGraphicFramePr/>
            <p:nvPr/>
          </p:nvGraphicFramePr>
          <p:xfrm>
            <a:off x="5627880" y="2773080"/>
            <a:ext cx="534960" cy="4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7880" y="2773080"/>
                      <a:ext cx="5349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451560" y="2809800"/>
            <a:ext cx="560520" cy="36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51560" y="2809800"/>
                      <a:ext cx="56052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061400" y="2773080"/>
            <a:ext cx="46332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61400" y="2773080"/>
                      <a:ext cx="4633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2315520" y="18162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3240" y="1828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9200" y="3656160"/>
            <a:ext cx="6884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Geometry recursively subdivided to form a binary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d box divided along its largest 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sultant boxes of unequal shapes, sizes and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17720" y="4314960"/>
            <a:ext cx="6472080" cy="28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7680" y="5051520"/>
            <a:ext cx="6662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Rank-Map oriented matrix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ank-map provides the starting point of matrix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e tuned by merges/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1170000"/>
            <a:ext cx="7305840" cy="5479920"/>
            <a:chOff x="914400" y="1170000"/>
            <a:chExt cx="7305840" cy="547992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914400" y="1170000"/>
              <a:ext cx="730584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454840" y="5680080"/>
              <a:ext cx="423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ical Matrix Struct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lgorithm flow of 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86407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erits and Demerits of IE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200" y="1092240"/>
            <a:ext cx="79027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Kernel Independ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rectly applicable to multi-layered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Low Frequency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like FMM applicable to small electric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Less Memory and Number of Matrix Vector produc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ven for free-space capacitance extraction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15960" y="1243080"/>
            <a:ext cx="0" cy="2185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3880" y="435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7360" y="4317840"/>
            <a:ext cx="79365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High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al Rank-map impossible to con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ervative Rank-map will necessitate more 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iberal Rank-map will waste time doing unacceptable Q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d choice for large problems with interest in limited number of 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2720" y="4370400"/>
            <a:ext cx="0" cy="1428840"/>
          </a:xfrm>
          <a:prstGeom prst="line">
            <a:avLst/>
          </a:prstGeom>
          <a:ln w="50760">
            <a:solidFill>
              <a:srgbClr val="ff5008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228240"/>
            <a:ext cx="840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COT-QR: Superfast Iterative solv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880" y="1206360"/>
            <a:ext cx="88232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eterministic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nterac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apacitate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ct-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ree Base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50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A smart mix of the best of both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QR decomposition of low-rank interaction matrices     : I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ct-Tree based regular geometry of levels of cubes     : F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2.   Optimum compression through merged interactio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MM interaction shells merged FMM shells and QR flexi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8200"/>
                </a:solidFill>
                <a:latin typeface="Arial"/>
              </a:rPr>
              <a:t>Maintain the compression of IES</a:t>
            </a:r>
            <a:r>
              <a:rPr b="1" lang="en-US" sz="2000" spc="-1" strike="noStrike" baseline="30000">
                <a:solidFill>
                  <a:srgbClr val="8282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28200"/>
                </a:solidFill>
                <a:latin typeface="Arial"/>
              </a:rPr>
              <a:t> with faster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ccurate matrix structure pre-determined by Merged Interac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terministic matrix structure precludes merges 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wanted 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60920" y="3057480"/>
            <a:ext cx="1628640" cy="1220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3440" y="228240"/>
            <a:ext cx="8377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eometry and shell structure of FM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27240" y="1633680"/>
            <a:ext cx="3089160" cy="1100160"/>
            <a:chOff x="3027240" y="1633680"/>
            <a:chExt cx="3089160" cy="11001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538520" y="1633680"/>
              <a:ext cx="157788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3027240" y="1680120"/>
              <a:ext cx="144072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404720" y="1103400"/>
            <a:ext cx="63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Oct-Tree decomposition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ach cube is broken into equal sized 8 children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67520" y="2795760"/>
            <a:ext cx="58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Geometry recursively decomposed into 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14000" y="4324320"/>
            <a:ext cx="47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FMM interaction shell for each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imilar shell for all cubes acro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567240" y="5075280"/>
            <a:ext cx="2008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ikram Jandhyala</cp:lastModifiedBy>
  <cp:lastPrinted>2002-02-05T19:22:32Z</cp:lastPrinted>
  <dcterms:modified xsi:type="dcterms:W3CDTF">2003-06-18T23:23:58Z</dcterms:modified>
  <cp:revision>154</cp:revision>
  <dc:subject>ITC '01 Electronic presentation guide/template</dc:subject>
  <dc:title>Presentation Guide</dc:title>
</cp:coreProperties>
</file>