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.wmf" ContentType="image/x-wmf"/>
  <Override PartName="/ppt/media/image26.wmf" ContentType="image/x-wmf"/>
  <Override PartName="/ppt/media/image15.png" ContentType="image/png"/>
  <Override PartName="/ppt/media/image14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DDC1-9763-4F5C-B06F-8AE35B8782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775-352A-4AB8-B7E1-77162A63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C81-DB7A-4998-8C9E-4AE749F6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034-02BD-49C7-B924-9A0BCC17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A5B-DF6B-439B-AD2D-D926105E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878-E7EE-4EBC-9C26-9456F52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0BE-2D45-425C-8727-9F743C3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255-048B-4109-9BF5-B040A24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49F-1105-4FB9-8E96-43F0966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E5F-3837-4ECB-9779-69C227C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069-CBAB-49AE-AA7A-9127247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26-3C6B-4F7C-A2E8-4CD8D5D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6F4-CB1B-464B-927D-318D71EF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1C4-C4CA-45A5-B9D5-7D86C0F2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MA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4400" spc="-1" strike="noStrike">
                <a:solidFill>
                  <a:srgbClr val="ff5008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mpile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or Circuit Simulation of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ixed-Technology Systems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A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CAD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Processing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1360" y="1461960"/>
          <a:ext cx="8778960" cy="30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61960"/>
                    <a:ext cx="8778960" cy="30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2480" y="679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rchitecture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f BMAC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95800" y="0"/>
          <a:ext cx="36115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0"/>
                    <a:ext cx="36115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ified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01840" y="1158840"/>
          <a:ext cx="656568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1158840"/>
                    <a:ext cx="65656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lock diagram in VHDL-A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22480" y="1000080"/>
          <a:ext cx="845676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1000080"/>
                    <a:ext cx="845676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SIMSOI model in VHDL-AMS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module soimos(drain, gate, source, ebulk);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nout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drain, gate, source, ebu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electrical pbody,body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SMOOTHFACTOR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OX 3.453133e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`define EPSSI 1.03594e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type = `NMOS;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integer mB3SOImobMod = 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0 = 1.0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parameter real mB3SOIags = 0.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//////////////////////////////////EQUATIONS//////////////////////////////////////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@(initial_step or initial_step("static"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beg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Cboxt = mB3SOIcbox * mB3SOIcsi / (mB3SOIcbox + mB3SOIcsi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         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vds =  mB3SOItype * V(drain, sourc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………………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	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  <a:ea typeface="宋体"/>
              </a:rPr>
              <a:t>I(drain) &lt;+ mB3SOItype*(Ids + Ic - Ibd + Iii + Idgidl) + mB3SOItype*ddt(qdr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45268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3724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xed-Technology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demand for concurrent mixed-technology co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effects need to be considered: electrical, electromagnetic (RF and microwave), thermal, optical, chemical, mechanica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no CAD tool that support the concurrent modeling and simulation of mixed-technology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72880"/>
            <a:ext cx="8948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ixed-Technology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ulation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thodology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52760" y="0"/>
          <a:ext cx="5469120" cy="68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2760" y="0"/>
                    <a:ext cx="546912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A Thermal resis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9360" y="990720"/>
            <a:ext cx="8061120" cy="549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tity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generic ( r2 : real := 1.0e3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lpha : real := 0.1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port ( terminal pos, neg : electrical;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erminal t1, t2 : therma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wb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architecture arch1 of wb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volt across curr through pos to n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quantity temp across heatflow through t1 to t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Thermal_equations: procedur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begin -- procedur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curr := volt / (r2 + alpha * (temp - tref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heatflow := -volt * cur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proced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  <a:ea typeface="宋体"/>
              </a:rPr>
              <a:t>end architecture arch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rmal resistor test circui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657600"/>
            <a:ext cx="800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Parameters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1 : step Pulse,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V2 :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1=R2=R3=R4=1k o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t1=Rt2=Rt3=10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4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9080" y="1060560"/>
          <a:ext cx="644364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060560"/>
                    <a:ext cx="644364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: Voltage over R2 and R3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100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4952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oup Memb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i 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: Laser diod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1019160"/>
            <a:ext cx="7372080" cy="5471640"/>
            <a:chOff x="195120" y="1019160"/>
            <a:chExt cx="7372080" cy="5471640"/>
          </a:xfrm>
        </p:grpSpPr>
        <p:grpSp>
          <p:nvGrpSpPr>
            <p:cNvPr id="177" name=""/>
            <p:cNvGrpSpPr/>
            <p:nvPr/>
          </p:nvGrpSpPr>
          <p:grpSpPr>
            <a:xfrm>
              <a:off x="200880" y="1025640"/>
              <a:ext cx="7359480" cy="5457600"/>
              <a:chOff x="200880" y="1025640"/>
              <a:chExt cx="7359480" cy="5457600"/>
            </a:xfrm>
          </p:grpSpPr>
          <p:sp>
            <p:nvSpPr>
              <p:cNvPr id="178" name=""/>
              <p:cNvSpPr/>
              <p:nvPr/>
            </p:nvSpPr>
            <p:spPr>
              <a:xfrm>
                <a:off x="288000" y="1025640"/>
                <a:ext cx="718524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TITY LD I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ENERIC (T:REAL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PORT(TERMINAL P, M: ELECTRICAL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TERMINAL J: RADIANT);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LD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ARCHITECTURE BEHAVE OF LD I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V ACROSS I THROUGH P TO M;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OPTIC_POWER ACROSS OPTIC_FLUX THROUGH J TO RADIANT_REF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QUANTITY Z: REAL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BEGIN                                                   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NE*EXP(Q*V/(N*K*T))*(Q/(N*K*T))*V'DOT == I/(Q*VO)-(NE/TAUN)*EXP(Q*V/(N*K*T))+NE/TAUN-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GO *EXP(-T/TOA)*(NE*EXP(Q*V/(N*K*T))-NO *EXP(T/TOA))*(1.0-EPEPSILON*THITA*(Z+SIGMA)*(Z+SIGMA))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THITA*(Z+SIGMA)  *(Z+SIGMA)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2.0*Z'DOT == GAMMA*GO *EXP(-T/TOA)*(NE*EXP(Q*V/(N*K*T))-NO *EXP(T/TOA))*(1.0-EPSILON*TH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*(Z+SIGMA)*(Z+SIGMA)) *(Z+SIGMA)+(GAMMA*BETA*NE)/(THITA*TAUN*(Z+SIGMA)) *EXP(Q*V/(N*K*T))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(Z+SIGMA)/TAUP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OPTIC_POWER==(Z+SIGMA)*(Z+SIGMA);                                                      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END BEHAVE;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0880" y="1025640"/>
                <a:ext cx="7359480" cy="54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5120" y="1019160"/>
              <a:ext cx="7372080" cy="54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9955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45320" y="905040"/>
                <a:ext cx="27828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θ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Γβ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θ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kT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testbench" descr=""/>
          <p:cNvPicPr/>
          <p:nvPr/>
        </p:nvPicPr>
        <p:blipFill>
          <a:blip r:embed="rId1"/>
          <a:srcRect l="57942" t="14157" r="0" b="0"/>
          <a:stretch/>
        </p:blipFill>
        <p:spPr>
          <a:xfrm>
            <a:off x="7400880" y="3648240"/>
            <a:ext cx="1346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 : Laser Dio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estbench" descr=""/>
          <p:cNvPicPr/>
          <p:nvPr/>
        </p:nvPicPr>
        <p:blipFill>
          <a:blip r:embed="rId1"/>
          <a:stretch/>
        </p:blipFill>
        <p:spPr>
          <a:xfrm>
            <a:off x="306360" y="2462040"/>
            <a:ext cx="4100400" cy="2111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18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ransient" descr=""/>
          <p:cNvPicPr/>
          <p:nvPr/>
        </p:nvPicPr>
        <p:blipFill>
          <a:blip r:embed="rId2"/>
          <a:stretch/>
        </p:blipFill>
        <p:spPr>
          <a:xfrm>
            <a:off x="4465800" y="2262240"/>
            <a:ext cx="4073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098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M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57120" y="1770120"/>
            <a:ext cx="8438760" cy="4452840"/>
            <a:chOff x="357120" y="1770120"/>
            <a:chExt cx="8438760" cy="4452840"/>
          </a:xfrm>
        </p:grpSpPr>
        <p:grpSp>
          <p:nvGrpSpPr>
            <p:cNvPr id="193" name=""/>
            <p:cNvGrpSpPr/>
            <p:nvPr/>
          </p:nvGrpSpPr>
          <p:grpSpPr>
            <a:xfrm>
              <a:off x="363600" y="1773720"/>
              <a:ext cx="8424360" cy="4444560"/>
              <a:chOff x="363600" y="1773720"/>
              <a:chExt cx="8424360" cy="44445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600" y="1773720"/>
                <a:ext cx="1933200" cy="973800"/>
                <a:chOff x="363600" y="1773720"/>
                <a:chExt cx="1933200" cy="973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61520" y="1773720"/>
                  <a:ext cx="17370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3600" y="1773720"/>
                  <a:ext cx="193320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297160" y="1773720"/>
                <a:ext cx="1507320" cy="973800"/>
                <a:chOff x="2297160" y="1773720"/>
                <a:chExt cx="1507320" cy="973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94720" y="1773720"/>
                  <a:ext cx="131148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97160" y="1773720"/>
                  <a:ext cx="15073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804840" y="1773720"/>
                <a:ext cx="2163240" cy="973800"/>
                <a:chOff x="3804840" y="1773720"/>
                <a:chExt cx="2163240" cy="9738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02760" y="1773720"/>
                  <a:ext cx="196740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04840" y="1773720"/>
                  <a:ext cx="216324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968440" y="1773720"/>
                <a:ext cx="2819520" cy="973800"/>
                <a:chOff x="5968440" y="1773720"/>
                <a:chExt cx="2819520" cy="973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066360" y="1773720"/>
                  <a:ext cx="2623320" cy="97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68440" y="1773720"/>
                  <a:ext cx="2819520" cy="97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63600" y="2747520"/>
                <a:ext cx="1933200" cy="774360"/>
                <a:chOff x="363600" y="2747520"/>
                <a:chExt cx="1933200" cy="774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61520" y="274752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63600" y="274752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297160" y="2747520"/>
                <a:ext cx="1507320" cy="774360"/>
                <a:chOff x="2297160" y="2747520"/>
                <a:chExt cx="1507320" cy="774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394720" y="274752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97160" y="274752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804840" y="2747520"/>
                <a:ext cx="2163240" cy="774360"/>
                <a:chOff x="3804840" y="2747520"/>
                <a:chExt cx="2163240" cy="774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02760" y="274752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04840" y="274752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968440" y="2747520"/>
                <a:ext cx="2819520" cy="774360"/>
                <a:chOff x="5968440" y="2747520"/>
                <a:chExt cx="2819520" cy="774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066360" y="274752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968440" y="274752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3600" y="3522240"/>
                <a:ext cx="1933200" cy="774000"/>
                <a:chOff x="363600" y="3522240"/>
                <a:chExt cx="1933200" cy="774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61520" y="35222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3600" y="35222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297160" y="3522240"/>
                <a:ext cx="1507320" cy="774000"/>
                <a:chOff x="2297160" y="3522240"/>
                <a:chExt cx="1507320" cy="77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94720" y="35222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297160" y="35222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04840" y="3522240"/>
                <a:ext cx="2163240" cy="774000"/>
                <a:chOff x="3804840" y="3522240"/>
                <a:chExt cx="2163240" cy="774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2760" y="35222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04840" y="35222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968440" y="3522240"/>
                <a:ext cx="2819520" cy="774000"/>
                <a:chOff x="5968440" y="3522240"/>
                <a:chExt cx="2819520" cy="774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66360" y="35222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68440" y="35222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63600" y="4296240"/>
                <a:ext cx="1933200" cy="573840"/>
                <a:chOff x="363600" y="4296240"/>
                <a:chExt cx="1933200" cy="573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61520" y="42962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3600" y="42962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297160" y="4296240"/>
                <a:ext cx="1507320" cy="573840"/>
                <a:chOff x="2297160" y="4296240"/>
                <a:chExt cx="1507320" cy="573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394720" y="42962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297160" y="42962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804840" y="4296240"/>
                <a:ext cx="2163240" cy="573840"/>
                <a:chOff x="3804840" y="4296240"/>
                <a:chExt cx="2163240" cy="57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902760" y="42962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4840" y="42962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968440" y="4296240"/>
                <a:ext cx="2819520" cy="573840"/>
                <a:chOff x="5968440" y="4296240"/>
                <a:chExt cx="2819520" cy="573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066360" y="42962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68440" y="42962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3600" y="4870440"/>
                <a:ext cx="1933200" cy="774000"/>
                <a:chOff x="363600" y="4870440"/>
                <a:chExt cx="1933200" cy="774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1520" y="487044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3600" y="487044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297160" y="4870440"/>
                <a:ext cx="1507320" cy="774000"/>
                <a:chOff x="2297160" y="4870440"/>
                <a:chExt cx="1507320" cy="7740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394720" y="487044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297160" y="487044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804840" y="4870440"/>
                <a:ext cx="2163240" cy="774000"/>
                <a:chOff x="3804840" y="4870440"/>
                <a:chExt cx="2163240" cy="774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902760" y="487044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04840" y="487044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968440" y="4870440"/>
                <a:ext cx="2819520" cy="774000"/>
                <a:chOff x="5968440" y="4870440"/>
                <a:chExt cx="2819520" cy="774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066360" y="487044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968440" y="487044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63600" y="5644440"/>
                <a:ext cx="1933200" cy="573840"/>
                <a:chOff x="363600" y="5644440"/>
                <a:chExt cx="1933200" cy="573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61520" y="564444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63600" y="564444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160" y="5644440"/>
                <a:ext cx="1507320" cy="573840"/>
                <a:chOff x="2297160" y="5644440"/>
                <a:chExt cx="1507320" cy="573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94720" y="564444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160" y="564444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04840" y="5644440"/>
                <a:ext cx="2163240" cy="573840"/>
                <a:chOff x="3804840" y="5644440"/>
                <a:chExt cx="2163240" cy="573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02760" y="564444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04840" y="564444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968440" y="5644440"/>
                <a:ext cx="2819520" cy="573840"/>
                <a:chOff x="5968440" y="5644440"/>
                <a:chExt cx="2819520" cy="573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066360" y="564444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68440" y="564444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57120" y="1770120"/>
              <a:ext cx="8438760" cy="445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270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321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369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76400" y="10429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V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257800" cy="3856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7414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76560" y="1042920"/>
            <a:ext cx="63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ne-shot Plus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3373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0388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28200" y="1042920"/>
            <a:ext cx="409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 Amplif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907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67520" y="104292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ing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59372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038480" y="1822320"/>
            <a:ext cx="5105520" cy="38307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80880" y="1441440"/>
            <a:ext cx="3322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292400" y="1616040"/>
          <a:ext cx="60483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616040"/>
                    <a:ext cx="60483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e of compact devic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mpiler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device model implement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95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is the first model compiler that can handle industry-grade device models, such as BSIM3 and BSIMS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model is very effic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ST supports devices in multi-physics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CAST + COSMOS/SPICE) supports Mixed-Technology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. 2002: MCAST supports BSI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2: MCAST with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. 2003: MCAST with BSIMSOI, EKV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3: MCAST release, Demo &amp; Test in 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03: MCAST supports Mixed-Technology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 2003: MCAST release with Frequency-domain/Behavior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2003: MCAST release with digit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. 2004: Final release of 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08"/>
                </a:solidFill>
                <a:latin typeface="Blackadder ITC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Model Flo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27200" y="1397160"/>
          <a:ext cx="749916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397160"/>
                    <a:ext cx="749916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Develop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0240" y="1168560"/>
            <a:ext cx="7772400" cy="52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mplementation is more difficult than model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mplementation is time consuming and error-p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independent implementations for different simulator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lose cooperation with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new model created, few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of model i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signer Issu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ccurate and robus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wide range of models to be available and easily ob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ll models to simulat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asily modify the device equations to add new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del Compiler Defini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upports fast implementation of compact devic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language VHDL-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2880" y="2951280"/>
            <a:ext cx="289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1480" y="3027240"/>
            <a:ext cx="228600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Convert to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ypical Implementation Flow for New Device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806560" y="1427040"/>
            <a:ext cx="3200400" cy="381240"/>
            <a:chOff x="2806560" y="1427040"/>
            <a:chExt cx="3200400" cy="381240"/>
          </a:xfrm>
        </p:grpSpPr>
        <p:sp>
          <p:nvSpPr>
            <p:cNvPr id="81" name=""/>
            <p:cNvSpPr/>
            <p:nvPr/>
          </p:nvSpPr>
          <p:spPr>
            <a:xfrm>
              <a:off x="2882880" y="142704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6560" y="142704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06560" y="2112840"/>
            <a:ext cx="3733920" cy="457200"/>
            <a:chOff x="2806560" y="2112840"/>
            <a:chExt cx="3733920" cy="457200"/>
          </a:xfrm>
        </p:grpSpPr>
        <p:sp>
          <p:nvSpPr>
            <p:cNvPr id="85" name=""/>
            <p:cNvSpPr/>
            <p:nvPr/>
          </p:nvSpPr>
          <p:spPr>
            <a:xfrm>
              <a:off x="2882880" y="211284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6560" y="218916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78160" y="3408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8160" y="4170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39880" y="5389560"/>
            <a:ext cx="6171480" cy="457200"/>
            <a:chOff x="1739880" y="5389560"/>
            <a:chExt cx="6171480" cy="457200"/>
          </a:xfrm>
        </p:grpSpPr>
        <p:sp>
          <p:nvSpPr>
            <p:cNvPr id="91" name=""/>
            <p:cNvSpPr/>
            <p:nvPr/>
          </p:nvSpPr>
          <p:spPr>
            <a:xfrm>
              <a:off x="2206080" y="546588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9880" y="538956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78160" y="5008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77960" y="4551480"/>
            <a:ext cx="3505320" cy="457200"/>
            <a:chOff x="2577960" y="4551480"/>
            <a:chExt cx="3505320" cy="457200"/>
          </a:xfrm>
        </p:grpSpPr>
        <p:sp>
          <p:nvSpPr>
            <p:cNvPr id="95" name=""/>
            <p:cNvSpPr/>
            <p:nvPr/>
          </p:nvSpPr>
          <p:spPr>
            <a:xfrm>
              <a:off x="2842920" y="46278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7960" y="455148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178160" y="5846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02000" y="6227640"/>
            <a:ext cx="3657600" cy="457200"/>
            <a:chOff x="2502000" y="6227640"/>
            <a:chExt cx="3657600" cy="457200"/>
          </a:xfrm>
        </p:grpSpPr>
        <p:sp>
          <p:nvSpPr>
            <p:cNvPr id="99" name=""/>
            <p:cNvSpPr/>
            <p:nvPr/>
          </p:nvSpPr>
          <p:spPr>
            <a:xfrm>
              <a:off x="2778480" y="63039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2000" y="62276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044800" y="3713040"/>
            <a:ext cx="482112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7080" y="3789360"/>
            <a:ext cx="51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stall &amp; test of the model in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04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45120" y="1634760"/>
            <a:ext cx="2373840" cy="4821480"/>
            <a:chOff x="6045120" y="1634760"/>
            <a:chExt cx="2373840" cy="4821480"/>
          </a:xfrm>
        </p:grpSpPr>
        <p:cxnSp>
          <p:nvCxnSpPr>
            <p:cNvPr id="110" name=""/>
            <p:cNvCxnSpPr>
              <a:stCxn id="100" idx="3"/>
              <a:endCxn id="82" idx="3"/>
            </p:cNvCxnSpPr>
            <p:nvPr/>
          </p:nvCxnSpPr>
          <p:spPr>
            <a:xfrm flipV="1">
              <a:off x="6045120" y="1634760"/>
              <a:ext cx="2160" cy="482184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"/>
            <p:cNvSpPr/>
            <p:nvPr/>
          </p:nvSpPr>
          <p:spPr>
            <a:xfrm>
              <a:off x="6283080" y="60519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6480" y="604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duced Implementation Flow Using MCAS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1080" y="1427040"/>
            <a:ext cx="544032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1427040"/>
            <a:ext cx="55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ew device Equations or Initial MATLAB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8160" y="1808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0280" y="2101680"/>
            <a:ext cx="3708720" cy="45720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54320" y="2178000"/>
            <a:ext cx="38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utomation tools (Paragon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78160" y="25700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82880" y="2951280"/>
            <a:ext cx="2895480" cy="457200"/>
            <a:chOff x="2882880" y="2951280"/>
            <a:chExt cx="2895480" cy="457200"/>
          </a:xfrm>
        </p:grpSpPr>
        <p:sp>
          <p:nvSpPr>
            <p:cNvPr id="120" name=""/>
            <p:cNvSpPr/>
            <p:nvPr/>
          </p:nvSpPr>
          <p:spPr>
            <a:xfrm>
              <a:off x="3111480" y="302724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VHDL-AMS co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82880" y="29512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78160" y="3408480"/>
            <a:ext cx="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43160" y="525312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Integration into public or commercial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38320" y="5213520"/>
            <a:ext cx="591480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8160" y="4633920"/>
            <a:ext cx="11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8160" y="5659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02000" y="6040440"/>
            <a:ext cx="3657600" cy="457200"/>
            <a:chOff x="2502000" y="6040440"/>
            <a:chExt cx="3657600" cy="457200"/>
          </a:xfrm>
        </p:grpSpPr>
        <p:sp>
          <p:nvSpPr>
            <p:cNvPr id="128" name=""/>
            <p:cNvSpPr/>
            <p:nvPr/>
          </p:nvSpPr>
          <p:spPr>
            <a:xfrm>
              <a:off x="2778480" y="611676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2000" y="604044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98920" y="3884760"/>
            <a:ext cx="1176120" cy="7380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2280" y="409104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0560" y="1808280"/>
            <a:ext cx="2819520" cy="1371600"/>
            <a:chOff x="520560" y="1808280"/>
            <a:chExt cx="2819520" cy="1371600"/>
          </a:xfrm>
        </p:grpSpPr>
        <p:sp>
          <p:nvSpPr>
            <p:cNvPr id="133" name=""/>
            <p:cNvSpPr/>
            <p:nvPr/>
          </p:nvSpPr>
          <p:spPr>
            <a:xfrm>
              <a:off x="3340080" y="180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15840" y="1960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6200" y="1960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6200" y="317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560" y="264636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"/>
          <p:cNvCxnSpPr>
            <a:stCxn id="128" idx="3"/>
            <a:endCxn id="114" idx="3"/>
          </p:cNvCxnSpPr>
          <p:nvPr/>
        </p:nvCxnSpPr>
        <p:spPr>
          <a:xfrm flipV="1">
            <a:off x="6159240" y="1611000"/>
            <a:ext cx="788040" cy="4690080"/>
          </a:xfrm>
          <a:prstGeom prst="bentConnector3">
            <a:avLst>
              <a:gd name="adj1" fmla="val 12902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283800" y="58644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ff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85920" y="3168720"/>
            <a:ext cx="1390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ethan</cp:lastModifiedBy>
  <cp:lastPrinted>2002-02-05T19:22:32Z</cp:lastPrinted>
  <dcterms:modified xsi:type="dcterms:W3CDTF">2003-06-18T18:19:30Z</dcterms:modified>
  <cp:revision>160</cp:revision>
  <dc:subject>ITC '01 Electronic presentation guide/template</dc:subject>
  <dc:title>Presentation Guide</dc:title>
</cp:coreProperties>
</file>